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06A-1666-459D-9107-84356C4E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20F-B7B3-4661-A237-8BE676D1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72A-0F4D-4F03-A0A8-C86A2E6D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962-C16F-48C6-91BD-D42A2233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6BD3-E603-4F8C-9FFC-9C4DB5A8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0FA6-B49C-481B-BC9E-0356C3C4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7D51-5B23-4A6C-93AD-1D96C2D7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2BF3-D2DA-4BDA-9929-2ABE5D5F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C9FD-8FC8-40AB-A230-B39F528C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5496-450F-462C-8A82-4E43C171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86CA-B3E2-44D7-AFEE-CB8BA9DE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25B-29E2-41ED-9972-653E1DDF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42A4-1B92-4286-B95D-F72A9E37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1DE2-B5DF-451F-A6C9-BD2E08F8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545B-22BA-4ED8-A037-FE350817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CF55-3271-4554-B50B-5F98EC9C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E7F4-6C5E-46DC-B069-6B6515BE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967-AE5E-475B-9F46-2E8A46CD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8E0-FF46-400C-B62C-9D118313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7AF-A291-4A3D-B265-A849333A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AAB-F35B-43E1-A103-EC5816B4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47E-E7A0-4D5E-AAD3-F0F954E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328-1C87-4326-9033-CBB12884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750-0CCA-4A6A-8256-280A253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5DFC-EAFC-4395-908E-CC77CE9442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C725-549A-4866-92DA-20F45918FA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7556400" cy="61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анина С.Ю.- учитель начальных классов МКОУ Валгусская СШ имени И.М.Марфин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01880" y="142920"/>
            <a:ext cx="7891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Verdana"/>
              </a:rPr>
              <a:t>Формы организации познавательной деятельности учащихся на урок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71524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здание ситуаций успеха в учении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..подбор для учеников не одного, а небольшого ряда заданий  нарастающей сложности;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.дифференцированная помощь школьникам в выполнении учебных заданий одной и той же сложност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Использование ИКТ на уроках – как средство повышения познавательной активност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26920" y="1773360"/>
            <a:ext cx="806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0066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повышает мотивацию учащихся к учению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ктивизирует познавательную деятельность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развивает мышление и творческие способности ребёнка;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формирует активную жизненную позицию в современном обществ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01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ормы обучения в школ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00040" y="1928880"/>
            <a:ext cx="83930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Урок- это такая организационная форма обучения, при которой учитель в течение точно установленного времени руководит коллективной познавательной деятельностью постоянной группы учащихся с учётом особенностей каждого из них, используя средства и формы работы, создающие благоприятные условия для того, чтобы все ученики овладели основами изучаемого предмета посредственно в ходе занятия, а также для воспитания и развития познавательной способ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дагогические технологии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26920" y="214776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ереверты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Лови ошиб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Оскол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Слово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Случай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арная мозговая ата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Разбивка на кластеры (блоки иде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Знаем, хотим узнать, узнаем и д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713880"/>
            <a:ext cx="80010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гр и игровых форм организации познавательной деятельнос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826920" y="170028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Основная цель современной школ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.создать систему обучения, которая бы удовлетворяла обучающиеся потребности каждого учащегося в соответствии с его склонностями, интересами.</a:t>
            </a:r>
            <a:br>
              <a:rPr sz="4800"/>
            </a:br>
            <a:r>
              <a:rPr b="0" lang="ru-RU" sz="48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60280"/>
            <a:ext cx="7924680" cy="640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знавательная деятельность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– это процесс, при котором происходит овладение содержанием учебных предметов и необходимыми способами или умениями и навыками, при помощи которых ученик получает образова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2"/>
          <p:cNvSpPr/>
          <p:nvPr/>
        </p:nvSpPr>
        <p:spPr>
          <a:xfrm>
            <a:off x="611280" y="41328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В формировании познавательного интереса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 школьников можно выделить три этапа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любопытство (ситуативный интерес)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любознательность (неустойчивый интерес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устойчивый познавательный интерес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755640" y="855720"/>
            <a:ext cx="79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Современная концепция обучен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.учащийся должен учиться сам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.учитель осуществляет мотивационное управление его учением ( мотивирует, организовывает, координирует, консультирует деятельность ученика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ормы обучения в школ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39640" y="2004480"/>
            <a:ext cx="8074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Индивидуальная форма работы в школ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Фронтальная форма организации учебной работ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Групповая форма организации обучени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826920" y="604440"/>
            <a:ext cx="813780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Индивидуальная форма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.Это самостоятельная деятельность учащихся по выполнению специально подобранного задания, соответствующего учебным возможностям каждого учени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.Индивидуальная форма работы предполагает подбор таких приёмов и дидактических средств обучения, которые обеспечат оптимальное развитие любого ученика в классе, как самого сильного, так и слабог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.Такая организация урока невозможна без определения учебных возможностей учени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ронтальная форма организации учебной работ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26920" y="1809720"/>
            <a:ext cx="792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-Это такой вид деятельности учителя и учащихся на уроке, когда все ученики одновременно выполняют одинаковую ,общую для всех работу. Полученные результаты обсуждаются всем классом, сравниваются и обобщаю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-Фронтальная форма организации урока позволяет добиться прекрасных результатов в развитии умения учащихся аргументированно рассужд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-Наиболее эффективна при изучении нового материала и его закреплен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84360" y="260280"/>
            <a:ext cx="80643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Главные признаки групповой формы рабо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-Класс на данном уроке разбивается на несколько групп для решения конкретных учебных зада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-Каждая группа получает определённое задание и выполняет его сообща под непосредственным руководством лидера группы или учите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-Задания выполняются таким способом. Который позволяет оценивать индивидуальный вклад каждого члена групп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-Состав группы непостоянный. Он подбирается таким образом,чтобы с максимальной эффективностью для коллектива могли реализовываться учебные возможности каждого члена обще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1:22:32Z</dcterms:created>
  <dc:creator>computer</dc:creator>
  <dc:description/>
  <dc:language>en-US</dc:language>
  <cp:lastModifiedBy>Админ</cp:lastModifiedBy>
  <dcterms:modified xsi:type="dcterms:W3CDTF">2023-02-17T17:14:35Z</dcterms:modified>
  <cp:revision>20</cp:revision>
  <dc:subject/>
  <dc:title>Формы и организация познавательной деятельности учащихся на уроках географии</dc:title>
</cp:coreProperties>
</file>