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553-0691-4D39-AB9A-649E1AFD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E2B-49B8-40A0-BE77-C458F82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0E1-90DC-4E66-ABC8-384FFD01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FA5-A3D1-4B44-9BA4-7CD8421A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53C-3F31-4872-B976-E49339CF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2584-3AD3-42B2-82ED-64A0FE21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2D2-F483-45CB-9F95-3C0BFB7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E72-9E47-4599-91FC-F4EA2056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EC32-7AA3-43D4-B153-7B10DBD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7DE-ADA2-4079-AE86-19714889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A846-55F5-4523-8412-9284550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6B7-E5EC-4C09-AA4F-F17996B8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8E9-3406-468D-BE02-A6023B4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575-EB7B-4624-8C54-E9E5A08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62A-6E88-47FC-ABD0-D68E7EF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24F-07B1-407F-B7DD-4F771A95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91F3-562D-4C4B-B3F8-A233EE4A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B71-4259-435A-8A51-DD0A50A1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196-1F15-4F1C-AC96-C7E495A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7A1-8CCA-4901-8B2D-325DE04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7C6-0C7E-47A5-9716-DC98E4A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112-886D-453F-9C2D-E580F81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D03-E4EC-4BA0-947F-9E753D9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F3C-4507-4354-8DBF-C993E76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5F06-3D92-4D69-BDC4-EAE5A829F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E19A-CB18-48FC-927F-7C2D15DC2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556400" cy="61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анина С.Ю.- учитель начальных классов МКОУ Валгусская СШ имени И.М.Марфин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01880" y="142920"/>
            <a:ext cx="7891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Формы организации познавательной деятельности учащихся на урок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7152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здание ситуаций успеха в учени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.подбор для учеников не одного, а небольшого ряда заданий  нарастающей сложности;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дифференцированная помощь школьникам в выполнении учебных заданий одной и той же сложност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спользование ИКТ на уроках – как средство повышения познавательной активност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6920" y="1773360"/>
            <a:ext cx="806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овышает мотивацию учащихся к учени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ктивизирует познавательную деятельность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развивает мышление и творческие способности ребёнка;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формирует активную жизненную позицию в современном общест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01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ормы обучения в школ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928880"/>
            <a:ext cx="8393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Урок- это такая организационная форма обучения, при которой учитель в течение точно установленного времени руководит коллективной познавательной деятельностью постоянной группы учащихся с учётом особенностей каждого из них, используя средства и формы работы, создающие благоприятные условия для того, чтобы все ученики овладели основами изучаемого предмета посредственно в ходе занятия, а также для воспитания и развития познавательной способ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ие технологии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214776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ереверты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Лови ошиб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Оско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лово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лучай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арная мозговая ата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збивка на кластеры (блоки ид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Знаем, хотим узнать, узнаем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71388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гр и игровых форм организации познавательной деятельн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826920" y="170028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Основная цель современной школ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создать систему обучения, которая бы удовлетворяла обучающиеся потребности каждого учащегося в соответствии с его склонностями, интересами.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640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навательная деятельност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– это процесс, при котором происходит овладение содержанием учебных предметов и необходимыми способами или умениями и навыками, при помощи которых ученик получает образов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11280" y="41328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В формировании познавательного интереса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школьников можно выделить три этапа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любопытство (ситуативный интерес)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любознательность (неустойчивый интерес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стойчивый познавательный интере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55640" y="85572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Современная концепция обучен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учащийся должен учиться са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учитель осуществляет мотивационное управление его учением ( мотивирует, организовывает, координирует, консультирует деятельность ученик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обучения в школ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9640" y="2004480"/>
            <a:ext cx="807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ндивидуальная форма работы в школ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Фронтальная форма организации учебной работ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Групповая форма организации обуче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826920" y="604440"/>
            <a:ext cx="81378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ндивидуальная форма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Это самостоятельная деятельность учащихся по выполнению специально подобранного задания, соответствующего учебным возможностям каждого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Индивидуальная форма работы предполагает подбор таких приёмов и дидактических средств обучения, которые обеспечат оптимальное развитие любого ученика в классе, как самого сильного, так и слаб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Такая организация урока невозможна без определения учебных возможностей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ронтальная форма организации учебной работ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6920" y="1809720"/>
            <a:ext cx="792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Это такой вид деятельности учителя и учащихся на уроке, когда все ученики одновременно выполняют одинаковую ,общую для всех работу. Полученные результаты обсуждаются всем классом, сравниваются и обобщаю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Фронтальная форма организации урока позволяет добиться прекрасных результатов в развитии умения учащихся аргументированно рассуж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Наиболее эффективна при изучении нового материала и его закрепле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260280"/>
            <a:ext cx="80643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лавные признаки групповой формы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Класс на данном уроке разбивается на несколько групп для решения конкретных учебных зада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Каждая группа получает определённое задание и выполняет его сообща под непосредственным руководством лидера группы или учи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Задания выполняются таким способом. Который позволяет оценивать индивидуальный вклад каждого члена групп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Состав группы непостоянный. Он подбирается таким образом,чтобы с максимальной эффективностью для коллектива могли реализовываться учебные возможности каждого члена об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1:22:32Z</dcterms:created>
  <dc:creator>computer</dc:creator>
  <dc:description/>
  <dc:language>en-US</dc:language>
  <cp:lastModifiedBy>Админ</cp:lastModifiedBy>
  <dcterms:modified xsi:type="dcterms:W3CDTF">2023-02-17T17:14:35Z</dcterms:modified>
  <cp:revision>20</cp:revision>
  <dc:subject/>
  <dc:title>Формы и организация познавательной деятельности учащихся на уроках географии</dc:title>
</cp:coreProperties>
</file>