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497-D50C-4726-BDBD-D053B9FE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64C-1AA6-4D3E-8E25-4A8A16B1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827-80F8-459E-A3BD-DC7018BB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37F-205B-420C-AA4F-BBF0845B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B356-AAE7-4935-8FB0-A3F5C2FB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D7DE-81C7-460D-A5D1-638EDBB4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C56-2B4D-4A93-AFBE-F1091C0E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6A5-68BF-43B8-99C6-D67F9D65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C20-3052-45BA-8441-FCB1C26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97EB-2560-43F5-9C45-F75547CC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61E-CB74-4E86-A968-09B3FC9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8CF-030A-497C-B981-3AF00656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58F1-A8E7-4DB7-B05B-F56C16F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7C7-A57F-42A9-AA4C-CF14D60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45FC-E5FC-4D44-B577-55A81E48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548D-6132-42D6-A28F-47DE0506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817-AC17-4ED5-98DB-2204ED39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022-6C2D-4A85-A671-921B7BB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FB1-C3F1-47F7-9DA1-9F7EE7A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61B-90F4-401E-935E-53E3C3D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93E-7FDB-4575-AAFC-73B9631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77C-1566-47B4-B02E-2C7363E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DCC-1071-4B0F-806D-14018FE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BD1-5AC6-4706-A4B5-6F035B3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709-FF07-482E-9D32-69CC0F175A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BA2C-3F2B-4AA9-84A4-090E466CAE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Атте-аннерен хакли çук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212640"/>
            <a:ext cx="6985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ӑн атте - Михеев Владимир Павлович ятлӑ. Вӑл инжен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ӑн анне – Михеева Нина Ивановна ятлӑ. Вӑл верентек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инквей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рпейлӗ, ыр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ратать, вӗрентет, пулӑш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нӗн-çӗрӗн пуриншӗн те пӑшӑрхан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ра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инквей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ӑйлӑ, ӑсл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Ӗçлет, пулӑшать, чуп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ӗнчене фотоаппарат витӗр курма юрат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ваплӑ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6" name="Diagram 5"/>
          <p:cNvGrpSpPr/>
          <p:nvPr/>
        </p:nvGrpSpPr>
        <p:grpSpPr>
          <a:xfrm>
            <a:off x="1739520" y="1736280"/>
            <a:ext cx="5820120" cy="4003560"/>
            <a:chOff x="1739520" y="1736280"/>
            <a:chExt cx="5820120" cy="4003560"/>
          </a:xfrm>
        </p:grpSpPr>
        <p:sp>
          <p:nvSpPr>
            <p:cNvPr id="157" name="_s1028"/>
            <p:cNvSpPr/>
            <p:nvPr/>
          </p:nvSpPr>
          <p:spPr>
            <a:xfrm flipH="1" flipV="1">
              <a:off x="3209400" y="3558960"/>
              <a:ext cx="72252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9"/>
            <p:cNvSpPr/>
            <p:nvPr/>
          </p:nvSpPr>
          <p:spPr>
            <a:xfrm>
              <a:off x="1739520" y="2852280"/>
              <a:ext cx="1509840" cy="1077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ирпейл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0"/>
            <p:cNvSpPr/>
            <p:nvPr/>
          </p:nvSpPr>
          <p:spPr>
            <a:xfrm flipH="1">
              <a:off x="3761640" y="4325760"/>
              <a:ext cx="444240" cy="43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1"/>
            <p:cNvSpPr/>
            <p:nvPr/>
          </p:nvSpPr>
          <p:spPr>
            <a:xfrm>
              <a:off x="2562840" y="4662000"/>
              <a:ext cx="1509840" cy="1077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ӗçч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5091480" y="4325760"/>
              <a:ext cx="44676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3"/>
            <p:cNvSpPr/>
            <p:nvPr/>
          </p:nvSpPr>
          <p:spPr>
            <a:xfrm>
              <a:off x="5227200" y="4662000"/>
              <a:ext cx="1509840" cy="1077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ит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 flipV="1">
              <a:off x="5365080" y="3556800"/>
              <a:ext cx="7207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5"/>
            <p:cNvSpPr/>
            <p:nvPr/>
          </p:nvSpPr>
          <p:spPr>
            <a:xfrm>
              <a:off x="6049800" y="2854080"/>
              <a:ext cx="1509840" cy="107748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ырӑ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6"/>
            <p:cNvSpPr/>
            <p:nvPr/>
          </p:nvSpPr>
          <p:spPr>
            <a:xfrm flipV="1">
              <a:off x="4648680" y="281232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7"/>
            <p:cNvSpPr/>
            <p:nvPr/>
          </p:nvSpPr>
          <p:spPr>
            <a:xfrm>
              <a:off x="3894840" y="1736280"/>
              <a:ext cx="1509840" cy="1077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ӑпай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8"/>
            <p:cNvSpPr/>
            <p:nvPr/>
          </p:nvSpPr>
          <p:spPr>
            <a:xfrm>
              <a:off x="3894840" y="3354120"/>
              <a:ext cx="1509840" cy="107748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н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9" name="Diagram 4"/>
          <p:cNvGrpSpPr/>
          <p:nvPr/>
        </p:nvGrpSpPr>
        <p:grpSpPr>
          <a:xfrm>
            <a:off x="1662480" y="1769760"/>
            <a:ext cx="5820120" cy="4003560"/>
            <a:chOff x="1662480" y="1769760"/>
            <a:chExt cx="5820120" cy="4003560"/>
          </a:xfrm>
        </p:grpSpPr>
        <p:sp>
          <p:nvSpPr>
            <p:cNvPr id="170" name="_s2052"/>
            <p:cNvSpPr/>
            <p:nvPr/>
          </p:nvSpPr>
          <p:spPr>
            <a:xfrm flipH="1" flipV="1">
              <a:off x="3132360" y="3592440"/>
              <a:ext cx="722520" cy="16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53"/>
            <p:cNvSpPr/>
            <p:nvPr/>
          </p:nvSpPr>
          <p:spPr>
            <a:xfrm>
              <a:off x="1662480" y="2885760"/>
              <a:ext cx="1509840" cy="1077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ит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4"/>
            <p:cNvSpPr/>
            <p:nvPr/>
          </p:nvSpPr>
          <p:spPr>
            <a:xfrm flipH="1">
              <a:off x="3684600" y="4359240"/>
              <a:ext cx="444240" cy="43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5"/>
            <p:cNvSpPr/>
            <p:nvPr/>
          </p:nvSpPr>
          <p:spPr>
            <a:xfrm>
              <a:off x="2485800" y="4695480"/>
              <a:ext cx="1509840" cy="1077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ӗçч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>
              <a:off x="5014440" y="4359240"/>
              <a:ext cx="44676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5150160" y="4695480"/>
              <a:ext cx="1509840" cy="1077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ӑс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2058"/>
            <p:cNvSpPr/>
            <p:nvPr/>
          </p:nvSpPr>
          <p:spPr>
            <a:xfrm flipV="1">
              <a:off x="5288040" y="3590280"/>
              <a:ext cx="7207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5972760" y="2887560"/>
              <a:ext cx="1509840" cy="107748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ырӑ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 flipV="1">
              <a:off x="4571640" y="2845800"/>
              <a:ext cx="0" cy="5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61"/>
            <p:cNvSpPr/>
            <p:nvPr/>
          </p:nvSpPr>
          <p:spPr>
            <a:xfrm>
              <a:off x="3817800" y="1769760"/>
              <a:ext cx="1509840" cy="1077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ӑйл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62"/>
            <p:cNvSpPr/>
            <p:nvPr/>
          </p:nvSpPr>
          <p:spPr>
            <a:xfrm>
              <a:off x="3817800" y="3387600"/>
              <a:ext cx="1509840" cy="107748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т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словицы-Ваттисен сӑмахӗсе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сӗр ача ик хут тӑлӑ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ӗн шухӑшӗ ачи ҫинче, ачин шухӑшӗ вӑйӑ ҫин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ӑш чӗлхипе калаҫать, ашшӗ аллипе тӑ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чи ашшӗне вӗрентм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чаш ывӑл ашшӗ пуҫне каснӑ, ачаш хӗр ача туса кайн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 — ыраш хӑмӑлӗ, анне — унӑн кӑмӑл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-анне ятне ан ҫӗ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-анне пиллени Турӑ ҫырнипе 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ҫу-аннӳ сывӑ чухне пыр та тутӑ, ҫи-пуҫ та пит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е ӑшши пурне те ҫитет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ало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Ырӑ ир, хӗрӗ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Ырӑ ир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Шкулта çитӗнӳсем мӗн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Аван. Ӗнер чӑваш чӗлхипе пиллӗк илтӗ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Маттур ача! Паян мӗнле предметсем вар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Акӑлчан чӗлхи, информатика, геометри, вырӑс чӗлхи, литерату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Паян та пиллӗксем 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- Пӗтӗмлет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ӗ телейлӗ çын. Манӑн атте те, анне те пур. Вӗсем мана юратаççӗ, ырӑ сунаçç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2:48:33Z</dcterms:created>
  <dc:creator>1</dc:creator>
  <dc:description/>
  <dc:language>en-US</dc:language>
  <cp:lastModifiedBy>мария</cp:lastModifiedBy>
  <dcterms:modified xsi:type="dcterms:W3CDTF">2023-04-13T15:50:05Z</dcterms:modified>
  <cp:revision>10</cp:revision>
  <dc:subject/>
  <dc:title>Атте-аннерен хакли çук</dc:title>
</cp:coreProperties>
</file>