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4A3-CB0B-4D24-BE34-C52AE6A5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2FA-9006-4DCD-BBBD-24ED4E00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827-26AD-4DCB-B1FE-C900458C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EDC-1949-4CA8-ACE4-DFFD30CC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DC54-2487-4635-ADF2-DEDFC647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5C01-8234-4543-B6E9-B0988495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AF63-3D83-485E-9666-F5F0189F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1821-F0B4-4428-A61D-2CCE08FC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9A31-332E-4A22-B165-9FD26F33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F58B-4AB0-4661-9349-58C43CBA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8FFB-FC65-4F25-8C58-943194F9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D20-0F91-47F8-90CB-35E6E49A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7784-D2EB-421C-9210-E0A85B5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3DA-C7C9-44FE-A0DB-C4A8B33B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ACA-5A56-4430-84E5-E3E55B7C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8F8F-635F-4C4E-9319-6CB1F9DE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4EBD-B37E-4FA3-8A14-2E6D613B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259-AAAD-4A10-922C-82642CE3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F4A-0DDB-4E67-B168-5EA576E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1EA-B45D-4878-A243-7483D560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29F-8D8B-49E6-B25E-9831956A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0DA-F1A4-42B4-855C-7760572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BDD-1FD6-4FA3-9F71-C0D3A09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862-3912-49A2-B958-C428E52B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AF7-E974-4C1A-BEAC-48F5603FAB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FB28-F491-44BD-BED4-604794B710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Атте-аннерен хакли çук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212640"/>
            <a:ext cx="6985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ӑн атте - Михеев Владимир Павлович ятлӑ. Вӑл инжен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ӑн анне – Михеева Нина Ивановна ятлӑ. Вӑл верентек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инквей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рпейлӗ, ыр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Юратать, вӗрентет, пулӑш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нӗн-çӗрӗн пуриншӗн те пӑшӑрхан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Юра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инквей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ӑйлӑ, ӑсл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Ӗçлет, пулӑшать, чуп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ӗнчене фотоаппарат витӗр курма юрат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ваплӑ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6" name="Diagram 5"/>
          <p:cNvGrpSpPr/>
          <p:nvPr/>
        </p:nvGrpSpPr>
        <p:grpSpPr>
          <a:xfrm>
            <a:off x="1739520" y="1736280"/>
            <a:ext cx="5820120" cy="4003560"/>
            <a:chOff x="1739520" y="1736280"/>
            <a:chExt cx="5820120" cy="4003560"/>
          </a:xfrm>
        </p:grpSpPr>
        <p:sp>
          <p:nvSpPr>
            <p:cNvPr id="157" name="_s1028"/>
            <p:cNvSpPr/>
            <p:nvPr/>
          </p:nvSpPr>
          <p:spPr>
            <a:xfrm flipH="1" flipV="1">
              <a:off x="3209400" y="3558960"/>
              <a:ext cx="72252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29"/>
            <p:cNvSpPr/>
            <p:nvPr/>
          </p:nvSpPr>
          <p:spPr>
            <a:xfrm>
              <a:off x="1739520" y="2852280"/>
              <a:ext cx="1509840" cy="107784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ирпейл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0"/>
            <p:cNvSpPr/>
            <p:nvPr/>
          </p:nvSpPr>
          <p:spPr>
            <a:xfrm flipH="1">
              <a:off x="3761640" y="4325760"/>
              <a:ext cx="444240" cy="43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1"/>
            <p:cNvSpPr/>
            <p:nvPr/>
          </p:nvSpPr>
          <p:spPr>
            <a:xfrm>
              <a:off x="2562840" y="4662000"/>
              <a:ext cx="1509840" cy="1077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ӗçч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2"/>
            <p:cNvSpPr/>
            <p:nvPr/>
          </p:nvSpPr>
          <p:spPr>
            <a:xfrm>
              <a:off x="5091480" y="4325760"/>
              <a:ext cx="44676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3"/>
            <p:cNvSpPr/>
            <p:nvPr/>
          </p:nvSpPr>
          <p:spPr>
            <a:xfrm>
              <a:off x="5227200" y="4662000"/>
              <a:ext cx="1509840" cy="1077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хит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 flipV="1">
              <a:off x="5365080" y="3556800"/>
              <a:ext cx="7207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5"/>
            <p:cNvSpPr/>
            <p:nvPr/>
          </p:nvSpPr>
          <p:spPr>
            <a:xfrm>
              <a:off x="6049800" y="2854080"/>
              <a:ext cx="1509840" cy="107748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ырӑ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6"/>
            <p:cNvSpPr/>
            <p:nvPr/>
          </p:nvSpPr>
          <p:spPr>
            <a:xfrm flipV="1">
              <a:off x="4648680" y="2812320"/>
              <a:ext cx="0" cy="54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37"/>
            <p:cNvSpPr/>
            <p:nvPr/>
          </p:nvSpPr>
          <p:spPr>
            <a:xfrm>
              <a:off x="3894840" y="1736280"/>
              <a:ext cx="1509840" cy="10778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ӑпайл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8"/>
            <p:cNvSpPr/>
            <p:nvPr/>
          </p:nvSpPr>
          <p:spPr>
            <a:xfrm>
              <a:off x="3894840" y="3354120"/>
              <a:ext cx="1509840" cy="107748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нн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9" name="Diagram 4"/>
          <p:cNvGrpSpPr/>
          <p:nvPr/>
        </p:nvGrpSpPr>
        <p:grpSpPr>
          <a:xfrm>
            <a:off x="1662480" y="1769760"/>
            <a:ext cx="5820120" cy="4003560"/>
            <a:chOff x="1662480" y="1769760"/>
            <a:chExt cx="5820120" cy="4003560"/>
          </a:xfrm>
        </p:grpSpPr>
        <p:sp>
          <p:nvSpPr>
            <p:cNvPr id="170" name="_s2052"/>
            <p:cNvSpPr/>
            <p:nvPr/>
          </p:nvSpPr>
          <p:spPr>
            <a:xfrm flipH="1" flipV="1">
              <a:off x="3132360" y="3592440"/>
              <a:ext cx="72252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53"/>
            <p:cNvSpPr/>
            <p:nvPr/>
          </p:nvSpPr>
          <p:spPr>
            <a:xfrm>
              <a:off x="1662480" y="2885760"/>
              <a:ext cx="1509840" cy="107784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хит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54"/>
            <p:cNvSpPr/>
            <p:nvPr/>
          </p:nvSpPr>
          <p:spPr>
            <a:xfrm flipH="1">
              <a:off x="3684600" y="4359240"/>
              <a:ext cx="444240" cy="43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2055"/>
            <p:cNvSpPr/>
            <p:nvPr/>
          </p:nvSpPr>
          <p:spPr>
            <a:xfrm>
              <a:off x="2485800" y="4695480"/>
              <a:ext cx="1509840" cy="1077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ӗçч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56"/>
            <p:cNvSpPr/>
            <p:nvPr/>
          </p:nvSpPr>
          <p:spPr>
            <a:xfrm>
              <a:off x="5014440" y="4359240"/>
              <a:ext cx="44676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7"/>
            <p:cNvSpPr/>
            <p:nvPr/>
          </p:nvSpPr>
          <p:spPr>
            <a:xfrm>
              <a:off x="5150160" y="4695480"/>
              <a:ext cx="1509840" cy="1077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ӑсл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2058"/>
            <p:cNvSpPr/>
            <p:nvPr/>
          </p:nvSpPr>
          <p:spPr>
            <a:xfrm flipV="1">
              <a:off x="5288040" y="3590280"/>
              <a:ext cx="7207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2059"/>
            <p:cNvSpPr/>
            <p:nvPr/>
          </p:nvSpPr>
          <p:spPr>
            <a:xfrm>
              <a:off x="5972760" y="2887560"/>
              <a:ext cx="1509840" cy="107748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ырӑ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2060"/>
            <p:cNvSpPr/>
            <p:nvPr/>
          </p:nvSpPr>
          <p:spPr>
            <a:xfrm flipV="1">
              <a:off x="4571640" y="2845800"/>
              <a:ext cx="0" cy="54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61"/>
            <p:cNvSpPr/>
            <p:nvPr/>
          </p:nvSpPr>
          <p:spPr>
            <a:xfrm>
              <a:off x="3817800" y="1769760"/>
              <a:ext cx="1509840" cy="10778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ӑйл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2062"/>
            <p:cNvSpPr/>
            <p:nvPr/>
          </p:nvSpPr>
          <p:spPr>
            <a:xfrm>
              <a:off x="3817800" y="3387600"/>
              <a:ext cx="1509840" cy="107748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тт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словицы-Ваттисен сӑмахӗсе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ӑшсӗр ача ик хут тӑлӑ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ӑшӗн шухӑшӗ ачи ҫинче, ачин шухӑшӗ вӑйӑ ҫин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ӑш чӗлхипе калаҫать, ашшӗ аллипе тӑ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чи ашшӗне вӗрентм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чаш ывӑл ашшӗ пуҫне каснӑ, ачаш хӗр ача туса кайн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 — ыраш хӑмӑлӗ, анне — унӑн кӑмӑл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-анне ятне ан ҫӗ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-анне пиллени Турӑ ҫырнипе 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ҫу-аннӳ сывӑ чухне пыр та тутӑ, ҫи-пуҫ та пит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е ӑшши пурне те ҫитет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иало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Ырӑ ир, хӗрӗм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Ырӑ ир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Шкулта çитӗнӳсем мӗнл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Аван. Ӗнер чӑваш чӗлхипе пиллӗк илтӗ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Маттур ача! Паян мӗнле предметсем вар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Акӑлчан чӗлхи, информатика, геометри, вырӑс чӗлхи, литерату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Паян та пиллӗксем 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- Пӗтӗмлет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пӗ телейлӗ çын. Манӑн атте те, анне те пур. Вӗсем мана юратаççӗ, ырӑ сунаçç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02:48:33Z</dcterms:created>
  <dc:creator>1</dc:creator>
  <dc:description/>
  <dc:language>en-US</dc:language>
  <cp:lastModifiedBy>мария</cp:lastModifiedBy>
  <dcterms:modified xsi:type="dcterms:W3CDTF">2023-04-13T15:50:05Z</dcterms:modified>
  <cp:revision>10</cp:revision>
  <dc:subject/>
  <dc:title>Атте-аннерен хакли çук</dc:title>
</cp:coreProperties>
</file>