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A34-CC87-4F11-AFF9-D6D30B2B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580-4DA1-426D-BDC4-B41BABAC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F0C-611C-47CD-99D0-75DB03FB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C97-5BC9-4A04-91ED-B813292F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2C29-9212-4099-B2E9-038D951B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A049-A1DE-4ECD-9235-3B3419E8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0828-C69D-465B-AD1E-1E43C81E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DD23-BD62-493F-B609-22028905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0169-CDE4-4ED1-9C84-35BE7B4B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B104-2E33-42CE-AF7E-E72D1B3E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2676-D5D6-47AC-AC1A-73436416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0E4-FAA0-42B3-BF83-3E051D08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7C14-9400-4849-BEB5-B2D48BCE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33F6-27DE-41D7-9374-67ED3CD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428B-FCC7-48D9-8734-E7E7234F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AF39-4A6E-41A0-90DF-E32A776B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7E4F-164B-4ECD-895A-874E57BA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DCA-455F-4930-9CB3-67C82097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0A8-379C-42F2-8351-A7BF210F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62E-001F-4490-A7C2-43218BAE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23F-5EA8-4F2B-9DE1-6B473A68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D20-914E-401F-8C2E-F9A6DEB4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ABA-FE4B-4FC2-8ED2-4A6B6584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D499-25CF-49DC-9797-970E0E4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387382-8D1E-40A9-952C-CEF06D850005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0882FD-6C54-4E41-8063-8BF98B871AB6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7772040" cy="51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0" lang="ru-RU" sz="4400" spc="-1" strike="noStrike" cap="all">
                <a:solidFill>
                  <a:srgbClr val="ff0000"/>
                </a:solidFill>
                <a:latin typeface="Franklin Gothic Medium"/>
              </a:rPr>
              <a:t>Моё Отечество – Россия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 cap="all">
                <a:solidFill>
                  <a:srgbClr val="7030a0"/>
                </a:solidFill>
                <a:latin typeface="Franklin Gothic Medium"/>
              </a:rPr>
              <a:t>                                 </a:t>
            </a:r>
            <a:r>
              <a:rPr b="0" lang="ru-RU" sz="1400" spc="-1" strike="noStrike" cap="all">
                <a:solidFill>
                  <a:srgbClr val="7030a0"/>
                </a:solidFill>
                <a:latin typeface="Times New Roman"/>
              </a:rPr>
              <a:t>Составила: КурманБАЕВА а.А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640" y="1628640"/>
            <a:ext cx="763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Гражданско-патриотическое 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55640" y="260640"/>
            <a:ext cx="6912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7030a0"/>
                </a:solidFill>
                <a:latin typeface="Franklin Gothic Book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492000" y="4437000"/>
            <a:ext cx="1843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Президент российской федераци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21" name="Picture 2" descr="C:\Users\Игорь\Desktop\db5005572f146e0b2a89a9f732258405.jpg"/>
          <p:cNvPicPr/>
          <p:nvPr/>
        </p:nvPicPr>
        <p:blipFill>
          <a:blip r:embed="rId1"/>
          <a:stretch/>
        </p:blipFill>
        <p:spPr>
          <a:xfrm>
            <a:off x="0" y="1340640"/>
            <a:ext cx="9143640" cy="55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Флаг российской федераци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24" name="Picture 2" descr="C:\Users\Игорь\Desktop\29956.jpg"/>
          <p:cNvPicPr/>
          <p:nvPr/>
        </p:nvPicPr>
        <p:blipFill>
          <a:blip r:embed="rId1"/>
          <a:stretch/>
        </p:blipFill>
        <p:spPr>
          <a:xfrm>
            <a:off x="0" y="1268640"/>
            <a:ext cx="9143640" cy="55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Игра «Найди и покажи флаг России»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27" name="Picture 2" descr="C:\Users\Игорь\Desktop\092b3f9d9e13c4aa98cb824d32ef3580.jpg"/>
          <p:cNvPicPr/>
          <p:nvPr/>
        </p:nvPicPr>
        <p:blipFill>
          <a:blip r:embed="rId1"/>
          <a:stretch/>
        </p:blipFill>
        <p:spPr>
          <a:xfrm>
            <a:off x="611640" y="1556640"/>
            <a:ext cx="8064360" cy="49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В какой области ты живёшь?</a:t>
            </a:r>
            <a:br>
              <a:rPr sz="3600"/>
            </a:b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Как называется город?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9" name="Picture 2" descr="C:\Users\пк\Desktop\Герб-Оренбурга.jpg"/>
          <p:cNvPicPr/>
          <p:nvPr/>
        </p:nvPicPr>
        <p:blipFill>
          <a:blip r:embed="rId1"/>
          <a:stretch/>
        </p:blipFill>
        <p:spPr>
          <a:xfrm>
            <a:off x="5508000" y="1484640"/>
            <a:ext cx="3456000" cy="475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пк\Desktop\Orenburg-vstrechaet.jpg"/>
          <p:cNvPicPr/>
          <p:nvPr/>
        </p:nvPicPr>
        <p:blipFill>
          <a:blip r:embed="rId2"/>
          <a:stretch/>
        </p:blipFill>
        <p:spPr>
          <a:xfrm>
            <a:off x="0" y="1484640"/>
            <a:ext cx="572616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Расскажи о своём городе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2" name="Picture 5" descr="C:\Users\Игорь\Desktop\69a77a85de2e952a9388cf028856e2ad.jpg"/>
          <p:cNvPicPr/>
          <p:nvPr/>
        </p:nvPicPr>
        <p:blipFill>
          <a:blip r:embed="rId1"/>
          <a:stretch/>
        </p:blipFill>
        <p:spPr>
          <a:xfrm flipH="1" rot="10800000">
            <a:off x="6372360" y="5085720"/>
            <a:ext cx="191520" cy="14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пк\Desktop\Orenburg_Ural_bridge_frontview.jpg"/>
          <p:cNvPicPr/>
          <p:nvPr/>
        </p:nvPicPr>
        <p:blipFill>
          <a:blip r:embed="rId2"/>
          <a:stretch/>
        </p:blipFill>
        <p:spPr>
          <a:xfrm>
            <a:off x="179640" y="1124640"/>
            <a:ext cx="4536000" cy="352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пк\Desktop\Без названия (1).jpg"/>
          <p:cNvPicPr/>
          <p:nvPr/>
        </p:nvPicPr>
        <p:blipFill>
          <a:blip r:embed="rId3"/>
          <a:stretch/>
        </p:blipFill>
        <p:spPr>
          <a:xfrm>
            <a:off x="4788000" y="1772640"/>
            <a:ext cx="435564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Достопримечательности Новоорс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37" name="Picture 2" descr="C:\Users\пк\Desktop\images.jpg"/>
          <p:cNvPicPr/>
          <p:nvPr/>
        </p:nvPicPr>
        <p:blipFill>
          <a:blip r:embed="rId1"/>
          <a:stretch/>
        </p:blipFill>
        <p:spPr>
          <a:xfrm>
            <a:off x="5004000" y="1845000"/>
            <a:ext cx="3744000" cy="3935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пк\Desktop\Без названия.jpg"/>
          <p:cNvPicPr/>
          <p:nvPr/>
        </p:nvPicPr>
        <p:blipFill>
          <a:blip r:embed="rId2"/>
          <a:stretch/>
        </p:blipFill>
        <p:spPr>
          <a:xfrm>
            <a:off x="395640" y="1628640"/>
            <a:ext cx="4536000" cy="41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Пословицы о Родине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«Своя земля и в горести мила»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«Родимая сторона – мать, чужая мачеха»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«Где жить, тем и слыть»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«На родной стороне и камешек знаком»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Литература: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О. В. Дыбина «Занятия по ознакомлению с окружающим миром в подготовительной к школе группе детского сада». Конспекты занятий. – М.:МОЗАИКА – СИНТЕЗ, 2011.-64с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«Родина»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Это - Родина твоя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Слышишь голос соловья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Это - Родина твоя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Видишь звёздочки Кремля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Это – Родина твоя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Школа, где твои друзья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Это – Родина твоя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Слышишь песенку ручья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Руки матери твоей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Звон дождей, и шум ветвей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И в лесу смородина –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Это тоже Родина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90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Мы живём в стране, которая носит удивительно красивое имя - Россия. Много замечательных стран на земле , везде живут люди , но для нас Россия –это мама и папа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7" name="Picture 2" descr="C:\Users\Игорь\Desktop\depositphotos_6420679-Happy-family.jpg"/>
          <p:cNvPicPr/>
          <p:nvPr/>
        </p:nvPicPr>
        <p:blipFill>
          <a:blip r:embed="rId1"/>
          <a:stretch/>
        </p:blipFill>
        <p:spPr>
          <a:xfrm>
            <a:off x="0" y="2709000"/>
            <a:ext cx="9143640" cy="41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Это лес и горы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" name="Picture 2" descr="C:\Users\Игорь\Desktop\22-990x618.jpg"/>
          <p:cNvPicPr/>
          <p:nvPr/>
        </p:nvPicPr>
        <p:blipFill>
          <a:blip r:embed="rId1"/>
          <a:stretch/>
        </p:blipFill>
        <p:spPr>
          <a:xfrm>
            <a:off x="0" y="1340640"/>
            <a:ext cx="9143640" cy="55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Это реки и моря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3" name="Picture 3" descr="C:\Users\Игорь\Desktop\img7.jpg"/>
          <p:cNvPicPr/>
          <p:nvPr/>
        </p:nvPicPr>
        <p:blipFill>
          <a:blip r:embed="rId1"/>
          <a:stretch/>
        </p:blipFill>
        <p:spPr>
          <a:xfrm>
            <a:off x="0" y="1621440"/>
            <a:ext cx="4643640" cy="5236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Игорь\Desktop\article160839.jpg"/>
          <p:cNvPicPr/>
          <p:nvPr/>
        </p:nvPicPr>
        <p:blipFill>
          <a:blip r:embed="rId2"/>
          <a:stretch/>
        </p:blipFill>
        <p:spPr>
          <a:xfrm>
            <a:off x="4644000" y="1628640"/>
            <a:ext cx="44996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Это дом, где мы родились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7" name="Picture 2" descr="C:\Users\Игорь\Desktop\original.jpg"/>
          <p:cNvPicPr/>
          <p:nvPr/>
        </p:nvPicPr>
        <p:blipFill>
          <a:blip r:embed="rId1"/>
          <a:stretch/>
        </p:blipFill>
        <p:spPr>
          <a:xfrm>
            <a:off x="0" y="1124640"/>
            <a:ext cx="4787640" cy="573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Игорь\Desktop\69a77a85de2e952a9388cf028856e2ad.jpg"/>
          <p:cNvPicPr/>
          <p:nvPr/>
        </p:nvPicPr>
        <p:blipFill>
          <a:blip r:embed="rId2"/>
          <a:stretch/>
        </p:blipFill>
        <p:spPr>
          <a:xfrm>
            <a:off x="4788000" y="1143000"/>
            <a:ext cx="435564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Карта нашей страны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1" name="Picture 2" descr="C:\Users\Игорь\Desktop\12dc272s-960.jpg"/>
          <p:cNvPicPr/>
          <p:nvPr/>
        </p:nvPicPr>
        <p:blipFill>
          <a:blip r:embed="rId1"/>
          <a:stretch/>
        </p:blipFill>
        <p:spPr>
          <a:xfrm>
            <a:off x="0" y="1340640"/>
            <a:ext cx="9143640" cy="55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Народы росси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                   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Много народов живёт в России: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русские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татары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чуваши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башкиры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мордва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буряты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калмыки и многие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други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4" name="Picture 2" descr="C:\Users\Игорь\Desktop\23161_eed61e62c8868e0b8ad2d53a299d703e.jpg"/>
          <p:cNvPicPr/>
          <p:nvPr/>
        </p:nvPicPr>
        <p:blipFill>
          <a:blip r:embed="rId1"/>
          <a:stretch/>
        </p:blipFill>
        <p:spPr>
          <a:xfrm>
            <a:off x="323640" y="1340640"/>
            <a:ext cx="5028840" cy="55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7030a0"/>
                </a:solidFill>
                <a:latin typeface="Franklin Gothic Medium"/>
              </a:rPr>
              <a:t>Кто ты по национальности?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7" name="Picture 2" descr="C:\Users\Игорь\Desktop\hello_html_m242df0a4.jpg"/>
          <p:cNvPicPr/>
          <p:nvPr/>
        </p:nvPicPr>
        <p:blipFill>
          <a:blip r:embed="rId1"/>
          <a:stretch/>
        </p:blipFill>
        <p:spPr>
          <a:xfrm>
            <a:off x="395640" y="1628640"/>
            <a:ext cx="3384000" cy="453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Игорь\Desktop\000041.jpg"/>
          <p:cNvPicPr/>
          <p:nvPr/>
        </p:nvPicPr>
        <p:blipFill>
          <a:blip r:embed="rId2"/>
          <a:stretch/>
        </p:blipFill>
        <p:spPr>
          <a:xfrm>
            <a:off x="3996000" y="1628640"/>
            <a:ext cx="482400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06</TotalTime>
  <Application>LibreOffice/7.4.7.2$Linux_X86_64 LibreOffice_project/40$Build-2</Application>
  <AppVersion>15.0000</AppVersion>
  <Words>242</Words>
  <Paragraphs>44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9T16:30:52Z</dcterms:created>
  <dc:creator>Игорь</dc:creator>
  <dc:description/>
  <dc:language>en-US</dc:language>
  <cp:lastModifiedBy>пк</cp:lastModifiedBy>
  <dcterms:modified xsi:type="dcterms:W3CDTF">2023-04-13T13:46:52Z</dcterms:modified>
  <cp:revision>27</cp:revision>
  <dc:subject/>
  <dc:title>Моё Отечество - Росс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