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CF9-3B84-420B-9050-B55E7A73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C3B-43C1-452E-BAB2-4C32A2D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DE6-AD71-46D0-B2B5-0449F35B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E5E-CB8B-4D75-AA1D-94228639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BE9B-0DCA-4736-891B-F287FF6C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3B03-B9A9-4A9F-8AA0-B42813B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414E-D1C2-498F-9F33-916C532D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FA90-F9E2-49D4-99E6-203B8677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8CA7-4643-42F4-B616-BE225BFE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640A-C6B8-4B50-A99E-8C0DC84E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DEA3-ABB7-4C5B-8290-A94681A5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66B-B4FD-4174-8F22-377D572D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19B5-F763-4917-8FF4-89CA1E8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9E61-3B83-4F75-A2E8-31A2A0C5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5BAD-45BE-4DA3-AEFB-D1811AB2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72FC-0C8C-4A33-92F0-C72C1EDA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2F7C-33B0-4F44-AFDD-1AA1397C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72A-6FA2-4E48-B3D2-E0BD7BDF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5FB-94FB-4009-8724-77F0335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7DE-9041-4B41-9D9D-B7F7B8D4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9F8-83F7-4D84-8E43-8CFA8B70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F55-A565-41CD-BCCC-0D989EF1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FB6-9B55-44D1-A624-ABFD92B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275-8EDD-47B7-ADF4-1D176545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B056BA-3078-4A87-B940-DFDBF50F7D3A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C4DE46-597F-4165-99B1-CFA97EB85193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7772040" cy="51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0" lang="ru-RU" sz="4400" spc="-1" strike="noStrike" cap="all">
                <a:solidFill>
                  <a:srgbClr val="ff0000"/>
                </a:solidFill>
                <a:latin typeface="Franklin Gothic Medium"/>
              </a:rPr>
              <a:t>Моё Отечество – Россия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cap="all">
                <a:solidFill>
                  <a:srgbClr val="7030a0"/>
                </a:solidFill>
                <a:latin typeface="Franklin Gothic Medium"/>
              </a:rPr>
              <a:t>                                 </a:t>
            </a:r>
            <a:r>
              <a:rPr b="0" lang="ru-RU" sz="1400" spc="-1" strike="noStrike" cap="all">
                <a:solidFill>
                  <a:srgbClr val="7030a0"/>
                </a:solidFill>
                <a:latin typeface="Times New Roman"/>
              </a:rPr>
              <a:t>Составила: КурманБАЕВА а.А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640" y="1628640"/>
            <a:ext cx="763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Гражданско-патриотическое 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55640" y="260640"/>
            <a:ext cx="6912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7030a0"/>
                </a:solidFill>
                <a:latin typeface="Franklin Gothic Book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492000" y="4437000"/>
            <a:ext cx="1843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Президент российской федераци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21" name="Picture 2" descr="C:\Users\Игорь\Desktop\db5005572f146e0b2a89a9f732258405.jpg"/>
          <p:cNvPicPr/>
          <p:nvPr/>
        </p:nvPicPr>
        <p:blipFill>
          <a:blip r:embed="rId1"/>
          <a:stretch/>
        </p:blipFill>
        <p:spPr>
          <a:xfrm>
            <a:off x="0" y="1340640"/>
            <a:ext cx="9143640" cy="55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Флаг российской федераци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24" name="Picture 2" descr="C:\Users\Игорь\Desktop\29956.jpg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55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Игра «Найди и покажи флаг России»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27" name="Picture 2" descr="C:\Users\Игорь\Desktop\092b3f9d9e13c4aa98cb824d32ef3580.jpg"/>
          <p:cNvPicPr/>
          <p:nvPr/>
        </p:nvPicPr>
        <p:blipFill>
          <a:blip r:embed="rId1"/>
          <a:stretch/>
        </p:blipFill>
        <p:spPr>
          <a:xfrm>
            <a:off x="611640" y="1556640"/>
            <a:ext cx="806436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В какой области ты живёшь?</a:t>
            </a:r>
            <a:br>
              <a:rPr sz="3600"/>
            </a:b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Как называется город?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9" name="Picture 2" descr="C:\Users\пк\Desktop\Герб-Оренбурга.jpg"/>
          <p:cNvPicPr/>
          <p:nvPr/>
        </p:nvPicPr>
        <p:blipFill>
          <a:blip r:embed="rId1"/>
          <a:stretch/>
        </p:blipFill>
        <p:spPr>
          <a:xfrm>
            <a:off x="5508000" y="1484640"/>
            <a:ext cx="3456000" cy="475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пк\Desktop\Orenburg-vstrechaet.jpg"/>
          <p:cNvPicPr/>
          <p:nvPr/>
        </p:nvPicPr>
        <p:blipFill>
          <a:blip r:embed="rId2"/>
          <a:stretch/>
        </p:blipFill>
        <p:spPr>
          <a:xfrm>
            <a:off x="0" y="1484640"/>
            <a:ext cx="572616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Расскажи о своём городе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2" name="Picture 5" descr="C:\Users\Игорь\Desktop\69a77a85de2e952a9388cf028856e2ad.jpg"/>
          <p:cNvPicPr/>
          <p:nvPr/>
        </p:nvPicPr>
        <p:blipFill>
          <a:blip r:embed="rId1"/>
          <a:stretch/>
        </p:blipFill>
        <p:spPr>
          <a:xfrm flipH="1" rot="10800000">
            <a:off x="6372360" y="5085720"/>
            <a:ext cx="191520" cy="14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пк\Desktop\Orenburg_Ural_bridge_frontview.jpg"/>
          <p:cNvPicPr/>
          <p:nvPr/>
        </p:nvPicPr>
        <p:blipFill>
          <a:blip r:embed="rId2"/>
          <a:stretch/>
        </p:blipFill>
        <p:spPr>
          <a:xfrm>
            <a:off x="179640" y="1124640"/>
            <a:ext cx="4536000" cy="352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пк\Desktop\Без названия (1).jpg"/>
          <p:cNvPicPr/>
          <p:nvPr/>
        </p:nvPicPr>
        <p:blipFill>
          <a:blip r:embed="rId3"/>
          <a:stretch/>
        </p:blipFill>
        <p:spPr>
          <a:xfrm>
            <a:off x="4788000" y="1772640"/>
            <a:ext cx="435564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Достопримечательности Новоорс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37" name="Picture 2" descr="C:\Users\пк\Desktop\images.jpg"/>
          <p:cNvPicPr/>
          <p:nvPr/>
        </p:nvPicPr>
        <p:blipFill>
          <a:blip r:embed="rId1"/>
          <a:stretch/>
        </p:blipFill>
        <p:spPr>
          <a:xfrm>
            <a:off x="5004000" y="1845000"/>
            <a:ext cx="3744000" cy="3935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пк\Desktop\Без названия.jpg"/>
          <p:cNvPicPr/>
          <p:nvPr/>
        </p:nvPicPr>
        <p:blipFill>
          <a:blip r:embed="rId2"/>
          <a:stretch/>
        </p:blipFill>
        <p:spPr>
          <a:xfrm>
            <a:off x="395640" y="1628640"/>
            <a:ext cx="4536000" cy="4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Пословицы о Родине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«Своя земля и в горести мила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«Родимая сторона – мать, чужая мачеха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«Где жить, тем и слыть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«На родной стороне и камешек знаком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Литература: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О. В. Дыбина «Занятия по ознакомлению с окружающим миром в подготовительной к школе группе детского сада». Конспекты занятий. – М.:МОЗАИКА – СИНТЕЗ, 2011.-64с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«Родина»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- Родина тво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лышишь голос соловья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- Родина тво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идишь звёздочки Кремля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– Родина тво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Школа, где твои друзья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– Родина тво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лышишь песенку ручья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Руки матери твоей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Звон дождей, и шум ветвей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 в лесу смородина –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тоже Родина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90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Мы живём в стране, которая носит удивительно красивое имя - Россия. Много замечательных стран на земле , везде живут люди , но для нас Россия –это мама и папа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7" name="Picture 2" descr="C:\Users\Игорь\Desktop\depositphotos_6420679-Happy-family.jpg"/>
          <p:cNvPicPr/>
          <p:nvPr/>
        </p:nvPicPr>
        <p:blipFill>
          <a:blip r:embed="rId1"/>
          <a:stretch/>
        </p:blipFill>
        <p:spPr>
          <a:xfrm>
            <a:off x="0" y="2709000"/>
            <a:ext cx="9143640" cy="41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Это лес и горы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" name="Picture 2" descr="C:\Users\Игорь\Desktop\22-990x618.jpg"/>
          <p:cNvPicPr/>
          <p:nvPr/>
        </p:nvPicPr>
        <p:blipFill>
          <a:blip r:embed="rId1"/>
          <a:stretch/>
        </p:blipFill>
        <p:spPr>
          <a:xfrm>
            <a:off x="0" y="1340640"/>
            <a:ext cx="9143640" cy="55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Это реки и моря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3" name="Picture 3" descr="C:\Users\Игорь\Desktop\img7.jpg"/>
          <p:cNvPicPr/>
          <p:nvPr/>
        </p:nvPicPr>
        <p:blipFill>
          <a:blip r:embed="rId1"/>
          <a:stretch/>
        </p:blipFill>
        <p:spPr>
          <a:xfrm>
            <a:off x="0" y="1621440"/>
            <a:ext cx="4643640" cy="523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Игорь\Desktop\article160839.jpg"/>
          <p:cNvPicPr/>
          <p:nvPr/>
        </p:nvPicPr>
        <p:blipFill>
          <a:blip r:embed="rId2"/>
          <a:stretch/>
        </p:blipFill>
        <p:spPr>
          <a:xfrm>
            <a:off x="4644000" y="1628640"/>
            <a:ext cx="44996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Это дом, где мы родились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7" name="Picture 2" descr="C:\Users\Игорь\Desktop\original.jpg"/>
          <p:cNvPicPr/>
          <p:nvPr/>
        </p:nvPicPr>
        <p:blipFill>
          <a:blip r:embed="rId1"/>
          <a:stretch/>
        </p:blipFill>
        <p:spPr>
          <a:xfrm>
            <a:off x="0" y="1124640"/>
            <a:ext cx="4787640" cy="573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Игорь\Desktop\69a77a85de2e952a9388cf028856e2ad.jpg"/>
          <p:cNvPicPr/>
          <p:nvPr/>
        </p:nvPicPr>
        <p:blipFill>
          <a:blip r:embed="rId2"/>
          <a:stretch/>
        </p:blipFill>
        <p:spPr>
          <a:xfrm>
            <a:off x="4788000" y="1143000"/>
            <a:ext cx="435564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Карта нашей страны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1" name="Picture 2" descr="C:\Users\Игорь\Desktop\12dc272s-960.jpg"/>
          <p:cNvPicPr/>
          <p:nvPr/>
        </p:nvPicPr>
        <p:blipFill>
          <a:blip r:embed="rId1"/>
          <a:stretch/>
        </p:blipFill>
        <p:spPr>
          <a:xfrm>
            <a:off x="0" y="1340640"/>
            <a:ext cx="9143640" cy="55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Народы росси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     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Много народов живёт в России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русские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татары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чуваши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башкиры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мордва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буряты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калмыки и многие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други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4" name="Picture 2" descr="C:\Users\Игорь\Desktop\23161_eed61e62c8868e0b8ad2d53a299d703e.jpg"/>
          <p:cNvPicPr/>
          <p:nvPr/>
        </p:nvPicPr>
        <p:blipFill>
          <a:blip r:embed="rId1"/>
          <a:stretch/>
        </p:blipFill>
        <p:spPr>
          <a:xfrm>
            <a:off x="323640" y="1340640"/>
            <a:ext cx="5028840" cy="55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Кто ты по национальности?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7" name="Picture 2" descr="C:\Users\Игорь\Desktop\hello_html_m242df0a4.jpg"/>
          <p:cNvPicPr/>
          <p:nvPr/>
        </p:nvPicPr>
        <p:blipFill>
          <a:blip r:embed="rId1"/>
          <a:stretch/>
        </p:blipFill>
        <p:spPr>
          <a:xfrm>
            <a:off x="395640" y="1628640"/>
            <a:ext cx="3384000" cy="453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Игорь\Desktop\000041.jpg"/>
          <p:cNvPicPr/>
          <p:nvPr/>
        </p:nvPicPr>
        <p:blipFill>
          <a:blip r:embed="rId2"/>
          <a:stretch/>
        </p:blipFill>
        <p:spPr>
          <a:xfrm>
            <a:off x="3996000" y="1628640"/>
            <a:ext cx="482400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06</TotalTime>
  <Application>LibreOffice/7.4.7.2$Linux_X86_64 LibreOffice_project/40$Build-2</Application>
  <AppVersion>15.0000</AppVersion>
  <Words>242</Words>
  <Paragraphs>44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9T16:30:52Z</dcterms:created>
  <dc:creator>Игорь</dc:creator>
  <dc:description/>
  <dc:language>en-US</dc:language>
  <cp:lastModifiedBy>пк</cp:lastModifiedBy>
  <dcterms:modified xsi:type="dcterms:W3CDTF">2023-04-13T13:46:52Z</dcterms:modified>
  <cp:revision>27</cp:revision>
  <dc:subject/>
  <dc:title>Моё Отечество - Росс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