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7AD9-9277-4937-9C35-CA1E41FE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3128-FCBA-4123-91AC-161015E8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69F-54E3-47FD-995F-6F15B6FE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5E62-F503-47CB-8D98-FBF73198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5411-F904-40A7-959C-BA87F88B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FD8F-36C5-410A-A80B-5F4C6DB4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F35D-A630-4CEF-AACC-FB3B3E07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F158-0A3B-44AE-A250-26905EAD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5A4A-D2FB-424E-BEFF-2FD89669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6F53-7ACC-45C1-B7FC-8111B812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A159-70F3-44B0-9E1D-FEB89F24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A076-50A8-4058-AB8A-E6775196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6623-73AF-42F9-AE81-FE4286B6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2ECE-42A1-4654-AA7E-B7C80CD3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FE3F-D139-4953-A613-0D03D63B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4A84-9476-4CEC-8485-7B94E9A9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013F-EA3F-4A86-B015-E8814FB7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1365E-9286-46FE-9F54-00B10A17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2EAAA-D994-4FF9-9230-03BD73A1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633A9-D128-4D20-BAC8-D07CE244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D29EE-0C06-4721-A3B1-DFA6BCFE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729A60-279B-4949-B2DC-1A1C7C70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9284-E9DC-4D3F-A830-13E270A1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B64DF1-9A6C-43A5-A5F7-B5868D2A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8B99B2-4912-470E-A115-5518997A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C95D3-9C59-4649-9D61-786351D3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2E413-4498-4F7A-9650-105A8B37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48CA3-AA50-43DD-8315-D90D062D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D4ACB-D222-403D-9B69-0EBACDC4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BF0E8-2BB5-4A8E-8C6D-9453CF18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1C265-86E7-485E-9633-AD2A9E62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C26C1-3F67-4F6D-B6A1-404838AA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6364F-B098-4283-ABA5-F367776D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935-76B4-4905-879F-37363900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E1C05-B474-4A20-AA5B-EC7AA8C6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EE0E1-C078-48AB-9364-658020A9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49AE0-57AD-4399-82A0-6338BE5B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CE88D-ECE6-46AE-B60D-55AD6DC5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28F27-85AE-4E72-A611-461E1C43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1AB3A-DB99-4F4C-BFEC-C090F770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705D4-F1C4-4D6E-A746-8EC7F3E7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1AC67-7677-403C-9D96-065512F2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619B3-0F60-40E6-AB17-0B40D838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30DC71-2135-4D38-AF48-33070645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2DB4-2B3D-48B0-A988-94634D5F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6298A7-8052-453B-B32E-93FAB9DC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7B1485-8710-4673-A695-84B895AE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ECC099-F67F-40ED-A1AE-0184CADB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5BCC92-E090-4112-89C4-328FA794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F40B8-771A-4E81-BD7C-09EE3FE0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FD8AB7-8B4A-4DAC-B6D4-62CF0A1E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F3AF8F-06FD-41CD-B90C-B91FF6B7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220F24-A3AB-4BFD-A327-4A0118B1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6F9F5B-7ECE-4751-9F7A-8F69315E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C2D587-0971-4162-A3E5-9C9EC3DB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D676-24C9-42AB-A063-4231AA0A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29C371-FCB4-4CE7-B7D1-6CCD7E56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A3CB71-B256-45D7-9E47-FEC5431E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118A77-AC3A-448D-AFA6-A06A68CC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2ACE0A-726A-4719-8298-09B87CB7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2D62B4-6E16-42C2-B127-07E80024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F9FF37-EE40-4684-A6A0-2E171EF0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D662D2-62B0-45D4-873A-0A2C50EF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661205-C20B-4C70-9380-9BAD5F98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E2DE12-C906-4EF8-AC4D-BF55E69D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1571B9-F0B4-4872-A43A-EC711111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0F3-2C3D-45E5-A2C6-5B8792BE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58711-BCE0-4A8B-A926-EFC449DB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6C7B76-D7BA-412D-806E-5A1FBFDC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F4BCA2-D7DD-436B-84C8-C48C3A72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B223A6-B882-43DF-891A-DF445C01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BF99C2-F9F6-43E8-A5C3-36064A5E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A1C002-AD9F-4948-97C3-05BCC7BC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275A97-CAF4-4790-AA1E-E11F8D20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F47A59-C09E-4A1A-85AF-F47539CC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0913EA-0F86-4344-BE91-BE3E9B9C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CF25C3-1DDC-47A2-B6D6-EFFCF014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ACE-6648-4342-8F1F-273F78AA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0132BF-A402-47E7-9D00-AA3B0C68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A82B67-0855-4C40-BCFC-3CB46917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FA9F21-B676-4CC3-9E11-4D51B1BE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9FF3AD-4F7E-4B2D-8F87-6D5FAC76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DBA8F3-33D4-48EA-8DF6-A01BFB37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B534-7281-4796-BB6C-C8BF86EA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663A-B92B-4C3B-AFE3-4BBC05AD3A0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16C3-5CD4-4BA0-B6D6-9073D90E4B3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75CD-5B17-4A28-B5C9-0E8667ED91B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7056-E299-411D-8432-580CC5A4FDD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A48E-5190-48FA-948C-79EFAB47FE3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36ED-3EF3-4B8A-A47E-B790DED8CB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405D-48C1-4545-9D60-AC1C7EBF183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8" descr="http://usiter.com/uploads/20121028/frukti+i+ovoshi+v+korzinah+korzina+fruktov+korzina+s+fruktami+foto+korzina+s+ovoshami+korzini+dlya+hraneniya+ovoshej+kartinka+korzina+s+ovoshami+korzini+pletenie+dlya+ovoshej+korzini+dlya+ovoshej+i+fruktov+ovoshi+i+frukti+eda+93123411752_6924.jpg"/>
          <p:cNvPicPr/>
          <p:nvPr/>
        </p:nvPicPr>
        <p:blipFill>
          <a:blip r:embed="rId1"/>
          <a:stretch/>
        </p:blipFill>
        <p:spPr>
          <a:xfrm>
            <a:off x="285840" y="-285840"/>
            <a:ext cx="8501040" cy="75074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4356000" y="115920"/>
            <a:ext cx="660096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entury Schoolbook"/>
              </a:rPr>
              <a:t>ПАХЧА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Century Schoolbook"/>
              </a:rPr>
              <a:t>Ç</a:t>
            </a:r>
            <a:r>
              <a:rPr b="1" lang="ru-RU" sz="8000" spc="-1" strike="noStrike">
                <a:solidFill>
                  <a:srgbClr val="000000"/>
                </a:solidFill>
                <a:latin typeface="Century Schoolbook"/>
              </a:rPr>
              <a:t>ИМ</a:t>
            </a:r>
            <a:r>
              <a:rPr b="1" lang="en-US" sz="8000" spc="-1" strike="noStrike">
                <a:solidFill>
                  <a:srgbClr val="000000"/>
                </a:solidFill>
                <a:latin typeface="Century Schoolbook"/>
              </a:rPr>
              <a:t>ĔÇ</a:t>
            </a: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entury Schoolbook"/>
              </a:rPr>
              <a:t>КАБАЧОК</a:t>
            </a: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40" descr="http://petrushki.net/uploads/posts/2011-12/1324129186_petrushki.net_kabachok-ovosch-bogatyy-mikroelementami.jpg"/>
          <p:cNvPicPr/>
          <p:nvPr/>
        </p:nvPicPr>
        <p:blipFill>
          <a:blip r:embed="rId1"/>
          <a:stretch/>
        </p:blipFill>
        <p:spPr>
          <a:xfrm>
            <a:off x="4357800" y="3786120"/>
            <a:ext cx="442908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Schoolbook"/>
              </a:rPr>
              <a:t>БАКЛАЖАН</a:t>
            </a: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68000" y="1844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3" name="Picture 12" descr="http://www.russianfood.com/dycontent/images/big_2247.jpg"/>
          <p:cNvPicPr/>
          <p:nvPr/>
        </p:nvPicPr>
        <p:blipFill>
          <a:blip r:embed="rId1"/>
          <a:stretch/>
        </p:blipFill>
        <p:spPr>
          <a:xfrm>
            <a:off x="142920" y="3571920"/>
            <a:ext cx="421488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28400" y="1428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Schoolbook"/>
              </a:rPr>
              <a:t>КĂШМАН</a:t>
            </a:r>
            <a:br>
              <a:rPr sz="8000"/>
            </a:b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6" name="Picture 26" descr="http://kuharka.ru/uploads/images/therms/c7ff0077a3a88c23d854c0ef47489a8e.gif"/>
          <p:cNvPicPr/>
          <p:nvPr/>
        </p:nvPicPr>
        <p:blipFill>
          <a:blip r:embed="rId1"/>
          <a:stretch/>
        </p:blipFill>
        <p:spPr>
          <a:xfrm>
            <a:off x="5286240" y="3714840"/>
            <a:ext cx="3429000" cy="28573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4" descr="http://ai-cdr.ucoz.ru/kartinki_7/svekla_red.gif"/>
          <p:cNvPicPr/>
          <p:nvPr/>
        </p:nvPicPr>
        <p:blipFill>
          <a:blip r:embed="rId2"/>
          <a:stretch/>
        </p:blipFill>
        <p:spPr>
          <a:xfrm>
            <a:off x="142920" y="3260880"/>
            <a:ext cx="22860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entury Schoolbook"/>
              </a:rPr>
              <a:t>ЫХРА</a:t>
            </a: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0" name="Picture 36" descr="http://www.1000listnik.ru/uploads/posts/2010-06/1276451344_chesnok_003.jpg"/>
          <p:cNvPicPr/>
          <p:nvPr/>
        </p:nvPicPr>
        <p:blipFill>
          <a:blip r:embed="rId1"/>
          <a:stretch/>
        </p:blipFill>
        <p:spPr>
          <a:xfrm>
            <a:off x="5143680" y="3929040"/>
            <a:ext cx="36604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entury Schoolbook"/>
              </a:rPr>
              <a:t>ПОМИДОР</a:t>
            </a: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3" name="Picture 22" descr="http://ona-znaet.ru/statii/3/15/a7.jpg"/>
          <p:cNvPicPr/>
          <p:nvPr/>
        </p:nvPicPr>
        <p:blipFill>
          <a:blip r:embed="rId1"/>
          <a:stretch/>
        </p:blipFill>
        <p:spPr>
          <a:xfrm>
            <a:off x="142920" y="457200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8400" y="1499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entury Schoolbook"/>
              </a:rPr>
              <a:t>КАВĂН</a:t>
            </a:r>
            <a:br>
              <a:rPr sz="8800"/>
            </a:b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6" name="Picture 46" descr="http://centr-molodosti.ru/wp-content/uploads/2011/11/chudodejstvennye-maski-iz-tykvy-molodost-i-krasota-vashej-kozhi.jpg"/>
          <p:cNvPicPr/>
          <p:nvPr/>
        </p:nvPicPr>
        <p:blipFill>
          <a:blip r:embed="rId1"/>
          <a:stretch/>
        </p:blipFill>
        <p:spPr>
          <a:xfrm>
            <a:off x="5572080" y="4079880"/>
            <a:ext cx="32860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entury Schoolbook"/>
              </a:rPr>
              <a:t>КУКУРУЗА</a:t>
            </a: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9" name="Picture 34" descr="http://www.floraprice.ru/v2/wp-content/uploads/2009/08/151.jpg"/>
          <p:cNvPicPr/>
          <p:nvPr/>
        </p:nvPicPr>
        <p:blipFill>
          <a:blip r:embed="rId1"/>
          <a:stretch/>
        </p:blipFill>
        <p:spPr>
          <a:xfrm>
            <a:off x="142920" y="407196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entury Schoolbook"/>
              </a:rPr>
              <a:t>ÇĔР  УЛМИ</a:t>
            </a: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Picture 38" descr="http://pulson.ru/wp-content/uploads/2013/06/pulson202.jpg"/>
          <p:cNvPicPr/>
          <p:nvPr/>
        </p:nvPicPr>
        <p:blipFill>
          <a:blip r:embed="rId1"/>
          <a:stretch/>
        </p:blipFill>
        <p:spPr>
          <a:xfrm>
            <a:off x="5143680" y="4214880"/>
            <a:ext cx="37512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entury Schoolbook"/>
              </a:rPr>
              <a:t>ПĂРĂÇ</a:t>
            </a: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5" name="Picture 6" descr="http://kedem.ru/photo/articles/2010/04/20100406-vegetables-01.jpg"/>
          <p:cNvPicPr/>
          <p:nvPr/>
        </p:nvPicPr>
        <p:blipFill>
          <a:blip r:embed="rId1"/>
          <a:stretch/>
        </p:blipFill>
        <p:spPr>
          <a:xfrm>
            <a:off x="142920" y="3357720"/>
            <a:ext cx="271476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entury Schoolbook"/>
              </a:rPr>
              <a:t>РЕДИС</a:t>
            </a: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7" name="Picture 18" descr="http://vsecliparti.ru/uploads/posts/2012-05/wj1ik9klms.jpeg"/>
          <p:cNvPicPr/>
          <p:nvPr/>
        </p:nvPicPr>
        <p:blipFill>
          <a:blip r:embed="rId1"/>
          <a:stretch/>
        </p:blipFill>
        <p:spPr>
          <a:xfrm>
            <a:off x="5143680" y="2071800"/>
            <a:ext cx="36558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http://pomeshhik.ru/images/news2011/2011.06.18-008.jpg"/>
          <p:cNvPicPr/>
          <p:nvPr/>
        </p:nvPicPr>
        <p:blipFill>
          <a:blip r:embed="rId1"/>
          <a:stretch/>
        </p:blipFill>
        <p:spPr>
          <a:xfrm>
            <a:off x="214200" y="857160"/>
            <a:ext cx="5715000" cy="421956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0"/>
          <p:cNvSpPr/>
          <p:nvPr/>
        </p:nvSpPr>
        <p:spPr>
          <a:xfrm>
            <a:off x="6143760" y="928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кр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1"/>
          <p:cNvSpPr/>
          <p:nvPr/>
        </p:nvSpPr>
        <p:spPr>
          <a:xfrm>
            <a:off x="6143760" y="16430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х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2"/>
          <p:cNvSpPr/>
          <p:nvPr/>
        </p:nvSpPr>
        <p:spPr>
          <a:xfrm>
            <a:off x="6143760" y="2286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х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entury Schoolbook"/>
              </a:rPr>
              <a:t>ПĂРÇА</a:t>
            </a: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9" name="Picture 48" descr="http://www.miragro.ru/photo/pea.jpg"/>
          <p:cNvPicPr/>
          <p:nvPr/>
        </p:nvPicPr>
        <p:blipFill>
          <a:blip r:embed="rId1"/>
          <a:stretch/>
        </p:blipFill>
        <p:spPr>
          <a:xfrm>
            <a:off x="6000840" y="3929040"/>
            <a:ext cx="2754360" cy="27543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http://go4.imgsmail.ru/imgpreview?key=http%3A//picantecooking.com/sites/default/files/content/recipies/2011%5F07%5F10%5Fvegetables%5FII/img%5F5470.jpg&amp;mb=imgdb_preview_70"/>
          <p:cNvPicPr/>
          <p:nvPr/>
        </p:nvPicPr>
        <p:blipFill>
          <a:blip r:embed="rId2"/>
          <a:stretch/>
        </p:blipFill>
        <p:spPr>
          <a:xfrm>
            <a:off x="142920" y="4572000"/>
            <a:ext cx="32860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57200" y="47858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 u="sng">
                <a:solidFill>
                  <a:srgbClr val="000000"/>
                </a:solidFill>
                <a:uFillTx/>
                <a:latin typeface="Century Schoolbook"/>
              </a:rPr>
              <a:t>КАРВИНГ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3" name="Picture 2" descr="http://supercook.ru/images-curving/curving03-2.jpg"/>
          <p:cNvPicPr/>
          <p:nvPr/>
        </p:nvPicPr>
        <p:blipFill>
          <a:blip r:embed="rId1"/>
          <a:stretch/>
        </p:blipFill>
        <p:spPr>
          <a:xfrm>
            <a:off x="142920" y="142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5" name="Picture 10" descr="http://lohmatik.ru/Lohmatik/Img1/zad33.jpg"/>
          <p:cNvPicPr/>
          <p:nvPr/>
        </p:nvPicPr>
        <p:blipFill>
          <a:blip r:embed="rId1"/>
          <a:stretch/>
        </p:blipFill>
        <p:spPr>
          <a:xfrm>
            <a:off x="357120" y="5191200"/>
            <a:ext cx="2500560" cy="16668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6" descr="http://pedagogic.ru/books/item/f00/s00/z0000011/pic/000004.jpg"/>
          <p:cNvPicPr/>
          <p:nvPr/>
        </p:nvPicPr>
        <p:blipFill>
          <a:blip r:embed="rId2"/>
          <a:stretch/>
        </p:blipFill>
        <p:spPr>
          <a:xfrm>
            <a:off x="2786040" y="4572000"/>
            <a:ext cx="1214640" cy="18399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" descr="http://go2.imgsmail.ru/imgpreview?key=http%3A//xn--80achd5ad.xn--p1ai/images/news/14%5F03%5F2011/8.jpg&amp;mb=imgdb_preview_1026"/>
          <p:cNvPicPr/>
          <p:nvPr/>
        </p:nvPicPr>
        <p:blipFill>
          <a:blip r:embed="rId3"/>
          <a:stretch/>
        </p:blipFill>
        <p:spPr>
          <a:xfrm>
            <a:off x="3114720" y="3193920"/>
            <a:ext cx="21524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http://ledlighting2011.typepad.com/.a/6a014e86bee496970d014e60135aa1970c-800wi"/>
          <p:cNvPicPr/>
          <p:nvPr/>
        </p:nvPicPr>
        <p:blipFill>
          <a:blip r:embed="rId1"/>
          <a:stretch/>
        </p:blipFill>
        <p:spPr>
          <a:xfrm>
            <a:off x="0" y="1000080"/>
            <a:ext cx="6948360" cy="46436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2"/>
          <p:cNvSpPr/>
          <p:nvPr/>
        </p:nvSpPr>
        <p:spPr>
          <a:xfrm>
            <a:off x="7143840" y="3214800"/>
            <a:ext cx="10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7149960" y="26431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в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ая соединительная линия 9"/>
          <p:cNvSpPr/>
          <p:nvPr/>
        </p:nvSpPr>
        <p:spPr>
          <a:xfrm flipV="1">
            <a:off x="5572080" y="2827440"/>
            <a:ext cx="1571760" cy="101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0"/>
          <p:cNvSpPr/>
          <p:nvPr/>
        </p:nvSpPr>
        <p:spPr>
          <a:xfrm>
            <a:off x="7152120" y="200016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ăш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ая соединительная линия 12"/>
          <p:cNvSpPr/>
          <p:nvPr/>
        </p:nvSpPr>
        <p:spPr>
          <a:xfrm>
            <a:off x="3714840" y="2000160"/>
            <a:ext cx="3429000" cy="18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16"/>
          <p:cNvSpPr/>
          <p:nvPr/>
        </p:nvSpPr>
        <p:spPr>
          <a:xfrm flipV="1">
            <a:off x="4000680" y="3538440"/>
            <a:ext cx="3143160" cy="17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643280" y="4292280"/>
            <a:ext cx="266400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237440" y="4076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х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2" descr="http://www.art-pen.ru/wp-content/uploads/2011/09/Cucumbers.jpg"/>
          <p:cNvPicPr/>
          <p:nvPr/>
        </p:nvPicPr>
        <p:blipFill>
          <a:blip r:embed="rId1"/>
          <a:stretch/>
        </p:blipFill>
        <p:spPr>
          <a:xfrm>
            <a:off x="357120" y="285840"/>
            <a:ext cx="1928880" cy="14461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2"/>
          <p:cNvSpPr/>
          <p:nvPr/>
        </p:nvSpPr>
        <p:spPr>
          <a:xfrm>
            <a:off x="3298320" y="571680"/>
            <a:ext cx="176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Хăя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0" descr="http://rostok-sad.ru/d/196241/d/image_132.jpg"/>
          <p:cNvPicPr/>
          <p:nvPr/>
        </p:nvPicPr>
        <p:blipFill>
          <a:blip r:embed="rId2"/>
          <a:stretch/>
        </p:blipFill>
        <p:spPr>
          <a:xfrm>
            <a:off x="357120" y="1785960"/>
            <a:ext cx="1500120" cy="1719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2" descr="http://otvetin.ru/uploads/posts/2010-03/1269260244_luk-glavnaya.jpg"/>
          <p:cNvPicPr/>
          <p:nvPr/>
        </p:nvPicPr>
        <p:blipFill>
          <a:blip r:embed="rId3"/>
          <a:stretch/>
        </p:blipFill>
        <p:spPr>
          <a:xfrm>
            <a:off x="357120" y="3571920"/>
            <a:ext cx="2214720" cy="1665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6" descr="http://www.1000listnik.ru/uploads/posts/2010-06/1276451344_chesnok_003.jpg"/>
          <p:cNvPicPr/>
          <p:nvPr/>
        </p:nvPicPr>
        <p:blipFill>
          <a:blip r:embed="rId4"/>
          <a:stretch/>
        </p:blipFill>
        <p:spPr>
          <a:xfrm>
            <a:off x="357120" y="507204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372" name="TextBox 6"/>
          <p:cNvSpPr/>
          <p:nvPr/>
        </p:nvSpPr>
        <p:spPr>
          <a:xfrm>
            <a:off x="3223080" y="1857240"/>
            <a:ext cx="29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Купă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7"/>
          <p:cNvSpPr/>
          <p:nvPr/>
        </p:nvSpPr>
        <p:spPr>
          <a:xfrm>
            <a:off x="3222720" y="3714840"/>
            <a:ext cx="212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Сух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9"/>
          <p:cNvSpPr/>
          <p:nvPr/>
        </p:nvSpPr>
        <p:spPr>
          <a:xfrm>
            <a:off x="3295800" y="5357880"/>
            <a:ext cx="18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Ых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2" descr="http://ona-znaet.ru/statii/3/15/a7.jpg"/>
          <p:cNvPicPr/>
          <p:nvPr/>
        </p:nvPicPr>
        <p:blipFill>
          <a:blip r:embed="rId1"/>
          <a:stretch/>
        </p:blipFill>
        <p:spPr>
          <a:xfrm>
            <a:off x="285840" y="0"/>
            <a:ext cx="2500200" cy="1666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http://kedem.ru/photo/articles/2010/04/20100406-vegetables-01.jpg"/>
          <p:cNvPicPr/>
          <p:nvPr/>
        </p:nvPicPr>
        <p:blipFill>
          <a:blip r:embed="rId2"/>
          <a:stretch/>
        </p:blipFill>
        <p:spPr>
          <a:xfrm>
            <a:off x="500040" y="5000760"/>
            <a:ext cx="1486080" cy="1857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http://www.russianfood.com/dycontent/images/big_2247.jpg"/>
          <p:cNvPicPr/>
          <p:nvPr/>
        </p:nvPicPr>
        <p:blipFill>
          <a:blip r:embed="rId3"/>
          <a:stretch/>
        </p:blipFill>
        <p:spPr>
          <a:xfrm>
            <a:off x="500040" y="3286080"/>
            <a:ext cx="2143080" cy="16048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http://www.kachestvo.ru/netcat_files/Image/%D0%BE%D0%B2%D0%BE%D1%89%D0%B8.%D0%BC%D0%BE%D1%80%D0%BA%D0%BE%D0%B2%D1%8C(1).jpg"/>
          <p:cNvPicPr/>
          <p:nvPr/>
        </p:nvPicPr>
        <p:blipFill>
          <a:blip r:embed="rId4"/>
          <a:stretch/>
        </p:blipFill>
        <p:spPr>
          <a:xfrm>
            <a:off x="500040" y="164304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379" name="TextBox 5"/>
          <p:cNvSpPr/>
          <p:nvPr/>
        </p:nvSpPr>
        <p:spPr>
          <a:xfrm>
            <a:off x="3373920" y="428760"/>
            <a:ext cx="30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Помид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6"/>
          <p:cNvSpPr/>
          <p:nvPr/>
        </p:nvSpPr>
        <p:spPr>
          <a:xfrm>
            <a:off x="3429000" y="1928880"/>
            <a:ext cx="232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Кишĕ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7"/>
          <p:cNvSpPr/>
          <p:nvPr/>
        </p:nvSpPr>
        <p:spPr>
          <a:xfrm>
            <a:off x="3446280" y="3571920"/>
            <a:ext cx="333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Баклаж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8"/>
          <p:cNvSpPr/>
          <p:nvPr/>
        </p:nvSpPr>
        <p:spPr>
          <a:xfrm>
            <a:off x="3583800" y="5357880"/>
            <a:ext cx="216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Пăрă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1320" y="16426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entury Schoolbook"/>
              </a:rPr>
              <a:t>ХĂЯР</a:t>
            </a:r>
            <a:br>
              <a:rPr sz="8800"/>
            </a:b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32" descr="http://www.art-pen.ru/wp-content/uploads/2011/09/Cucumbers.jpg"/>
          <p:cNvPicPr/>
          <p:nvPr/>
        </p:nvPicPr>
        <p:blipFill>
          <a:blip r:embed="rId1"/>
          <a:stretch/>
        </p:blipFill>
        <p:spPr>
          <a:xfrm>
            <a:off x="0" y="314316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0" descr="http://www.agrotorg.net/imgs/board/2/286-1s.jpg"/>
          <p:cNvPicPr/>
          <p:nvPr/>
        </p:nvPicPr>
        <p:blipFill>
          <a:blip r:embed="rId2"/>
          <a:stretch/>
        </p:blipFill>
        <p:spPr>
          <a:xfrm>
            <a:off x="4929120" y="2786040"/>
            <a:ext cx="40719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9680" y="1499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entury Schoolbook"/>
              </a:rPr>
              <a:t>КИШĔР</a:t>
            </a:r>
            <a:br>
              <a:rPr sz="8800"/>
            </a:b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4" descr="http://www.kachestvo.ru/netcat_files/Image/%D0%BE%D0%B2%D0%BE%D1%89%D0%B8.%D0%BC%D0%BE%D1%80%D0%BA%D0%BE%D0%B2%D1%8C(1).jpg"/>
          <p:cNvPicPr/>
          <p:nvPr/>
        </p:nvPicPr>
        <p:blipFill>
          <a:blip r:embed="rId1"/>
          <a:stretch/>
        </p:blipFill>
        <p:spPr>
          <a:xfrm>
            <a:off x="4786200" y="2643120"/>
            <a:ext cx="3857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99680" y="16426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entury Schoolbook"/>
              </a:rPr>
              <a:t>КУПĂСТА</a:t>
            </a:r>
            <a:br>
              <a:rPr sz="8800"/>
            </a:b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20" descr="http://rostok-sad.ru/d/196241/d/image_132.jpg"/>
          <p:cNvPicPr/>
          <p:nvPr/>
        </p:nvPicPr>
        <p:blipFill>
          <a:blip r:embed="rId1"/>
          <a:stretch/>
        </p:blipFill>
        <p:spPr>
          <a:xfrm>
            <a:off x="142920" y="3000240"/>
            <a:ext cx="321480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9680" y="15714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entury Schoolbook"/>
              </a:rPr>
              <a:t>СУХАН</a:t>
            </a:r>
            <a:br>
              <a:rPr sz="8800"/>
            </a:b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5" name="Picture 42" descr="http://otvetin.ru/uploads/posts/2010-03/1269260244_luk-glavnaya.jpg"/>
          <p:cNvPicPr/>
          <p:nvPr/>
        </p:nvPicPr>
        <p:blipFill>
          <a:blip r:embed="rId1"/>
          <a:stretch/>
        </p:blipFill>
        <p:spPr>
          <a:xfrm>
            <a:off x="0" y="4214880"/>
            <a:ext cx="3133800" cy="23572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4" descr="http://domik-v-internete.ru/wp-content/uploads/2012/02/%D0%94%D0%B5%D0%BB%D0%B0%D0%B5%D0%BC-%D1%81%D0%B2%D0%BE%D0%B8%D0%BC%D0%B8-%D1%80%D1%83%D0%BA%D0%B0%D0%BC%D0%B8-%D0%B2%D0%BC%D0%B5%D1%81%D1%82%D0%B5-%D1%81-%D0%B4%D0%B5%D1%82%D1%8C%D0%BC%D0%B8-%D0%B4%D0%B5%D1%82%D1%81%D0%BA%D1%83%D1%8E-%D0%BA%D0%B0%D1%80%D0%BD%D0%B0%D0%B2%D0%B0%D0%BB%D1%8C%D0%BD%D1%83%D1%8E-%D0%BC%D0%B0%D1%81%D0%BA%D1%83-%D0%BE%D0%B2%D0%BE%D1%89%D0%B0-%D0%BB%D1%83%D0%BA%D0%B0.-%D0%9C%D0%B0%D1%81%D0%BA%D0%B0-%D0%BB%D1%83%D0%BA.jpg"/>
          <p:cNvPicPr/>
          <p:nvPr/>
        </p:nvPicPr>
        <p:blipFill>
          <a:blip r:embed="rId2"/>
          <a:stretch/>
        </p:blipFill>
        <p:spPr>
          <a:xfrm>
            <a:off x="5643720" y="3286080"/>
            <a:ext cx="3058920" cy="3286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4" descr="http://tomato-perez.ru/rarticle_image/14_89.jpg"/>
          <p:cNvPicPr/>
          <p:nvPr/>
        </p:nvPicPr>
        <p:blipFill>
          <a:blip r:embed="rId3"/>
          <a:stretch/>
        </p:blipFill>
        <p:spPr>
          <a:xfrm>
            <a:off x="3071880" y="3143160"/>
            <a:ext cx="25178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19:02:16Z</dcterms:created>
  <dc:creator>Сергей</dc:creator>
  <dc:description/>
  <dc:language>en-US</dc:language>
  <cp:lastModifiedBy>Надежда Николаевна</cp:lastModifiedBy>
  <dcterms:modified xsi:type="dcterms:W3CDTF">2013-11-27T09:29:34Z</dcterms:modified>
  <cp:revision>26</cp:revision>
  <dc:subject/>
  <dc:title>Слайд 1</dc:title>
</cp:coreProperties>
</file>