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214-262A-4E78-840C-3261D64C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653-F6FA-425C-9251-10C106B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7B8-4BFF-4F2E-B694-536EB6F2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93C-286A-4D31-9203-C08560FD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603-9546-49CE-8332-C64FB59C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C716-052B-48FF-9D41-F6105CAA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9A6-8E88-45FB-AA71-6DA501A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D7B-F7EA-4911-9C44-69013C9F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CEE-608C-4711-9594-C6211087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F04-4CC2-4F3A-B741-7A8FE846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84DD-6C3D-4938-9D8B-D338926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C69-FCEB-4CB3-AF94-487430CB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8609-86B7-448F-8170-2586CF3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252E-8FCA-4374-8470-985A565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FF9-672F-4585-BB96-E632BB2D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0114-6827-4EE9-8375-EF9A05F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638E-51E6-4ADF-AA4D-999B98AA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5A7D3-EE1C-4831-A537-0CEFD101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76387-6456-4B5A-A3AE-1667071F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C0977-3D59-45A2-BB29-55866CEC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5CF06-26C0-4FAF-B6EE-C5AC089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9B026-68BF-4791-862A-45DD32B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304-F7D2-4944-BA2C-3CD03C1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158C6-CA45-47FB-9722-CE0D740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BEEA8-7E9D-444D-97BA-11600CF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9B811-9EFA-4FE8-94D8-E66C387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1F793-B7FC-4FEF-AC8A-80F6FA9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9140D-AB2B-4447-B92F-849ABFC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CF530-8C2A-4B40-A851-31DC2737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E600B-A033-4610-B5D9-5CB747E0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7585-B47A-4D8A-89C9-9714F488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6EFE-1C62-4497-A0A0-B10E053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DCD3-67EA-4145-9F8E-EDF6939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D47-DEF8-413E-89B9-1AE88A6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9C47-D922-4170-9C0A-E3F58D05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1E0F-7EE8-4B90-92B2-C9E04D4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4526-FC1F-4BAD-BB4A-1A8D578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BA11-9B24-4CDF-981A-FBB5DB1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C743-F493-4D05-8D4F-DC781FF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8A5E-7012-447D-B5C8-70BE590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8B8E-FC26-4A17-B3A5-8A2E9832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C443-6804-433B-901E-9C663E9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1E21-776D-4C7B-B4BD-96F4C60E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82B1E-4DB5-456C-B876-BE016B94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03F-6398-4ACD-BE7F-F91146B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50604-8E0D-4B99-B988-A2C7B0A1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DFBD1-73C3-4591-9A2B-926212B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FBD83-2B9B-4B96-A975-768C3E5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F4D60-5071-4907-951C-BD27C0F2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09E43-F914-4178-8FCF-8CEE565B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202CE-DD4E-4681-97AD-AC1D1F0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F391B-678D-4ED7-805C-3F99192F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4642C-90C7-4664-95A6-F5DA998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73CA2-B5BE-474D-871A-BB0482A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F1050-5D21-42DE-A2EF-4DCA11D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856-4CAE-48F3-AC18-5694464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45439-0886-4DF3-80EE-8E5F2CD9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66032-918D-4117-94B6-780E1192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C1263-401A-4777-8FF5-7AC3422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1F52A-A1DA-492B-85C5-87F708E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1FB96-0049-4359-8CD3-397B7112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D0AF3-4FD8-40E5-B900-9C6B38C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98C96-B10B-4B83-83D6-5FD2B0D3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822CB-3954-4B45-AFC0-5683AAD3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58284-C058-4BD2-B9B7-6F9A4C1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BF408-E417-44E6-98E0-059862D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46C-3F6C-4C7A-A0F5-811FBCF2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36DA3-EE1D-4321-ABF0-0E768AC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40ECE-7630-434A-904C-E2547512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C28AA-2BB5-4FE8-AE18-FB4289C4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0D8A2-9C9F-49B6-A2E0-5E3B1965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31501-FB6C-414E-9C4D-9E598DD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C8EC2-48F7-4853-BFCC-2C42C6C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B8E37-4D63-4B32-9E28-16DF8FB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C2A0A-CDE7-4755-B592-57B8BD02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003B6-43C8-462D-86AA-60681CB5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89B7B-DBA0-4504-A2CF-865F7B0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05B-02DC-4A77-BFD2-962F6B8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03A7B-2E9B-47E4-9E9B-5AAB068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EED36-81F6-493D-B433-D7B93F6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5D6E6-A417-4298-8E78-FB76D854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63BFE-1605-434F-B3B4-531AE463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DC094-6CC6-4345-A0ED-9798D37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D0E-C998-4EBB-8CB2-5FDF94C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6C9-0712-4A23-AFB7-84AEDEFAAC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131-2808-490F-BE16-84A3DA6DAB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AB9-7A1C-4C74-BCEA-EE2D2B9D4F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406-8F78-4B46-A036-54E997E9F6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3E2D-918F-4D4E-88C1-A5FD610ECF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091-5A5F-46A9-AF52-8B279978E7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4CE-8CCC-486D-9801-A29F9EA647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8" descr="http://usiter.com/uploads/20121028/frukti+i+ovoshi+v+korzinah+korzina+fruktov+korzina+s+fruktami+foto+korzina+s+ovoshami+korzini+dlya+hraneniya+ovoshej+kartinka+korzina+s+ovoshami+korzini+pletenie+dlya+ovoshej+korzini+dlya+ovoshej+i+fruktov+ovoshi+i+frukti+eda+93123411752_6924.jpg"/>
          <p:cNvPicPr/>
          <p:nvPr/>
        </p:nvPicPr>
        <p:blipFill>
          <a:blip r:embed="rId1"/>
          <a:stretch/>
        </p:blipFill>
        <p:spPr>
          <a:xfrm>
            <a:off x="285840" y="-285840"/>
            <a:ext cx="8501040" cy="75074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356000" y="115920"/>
            <a:ext cx="6600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ПАХЧ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Ç</a:t>
            </a: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ИМ</a:t>
            </a: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ĔÇ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АБАЧОК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0" descr="http://petrushki.net/uploads/posts/2011-12/1324129186_petrushki.net_kabachok-ovosch-bogatyy-mikroelementami.jpg"/>
          <p:cNvPicPr/>
          <p:nvPr/>
        </p:nvPicPr>
        <p:blipFill>
          <a:blip r:embed="rId1"/>
          <a:stretch/>
        </p:blipFill>
        <p:spPr>
          <a:xfrm>
            <a:off x="4357800" y="3786120"/>
            <a:ext cx="44290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БАКЛАЖАН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000" y="1844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12" descr="http://www.russianfood.com/dycontent/images/big_2247.jpg"/>
          <p:cNvPicPr/>
          <p:nvPr/>
        </p:nvPicPr>
        <p:blipFill>
          <a:blip r:embed="rId1"/>
          <a:stretch/>
        </p:blipFill>
        <p:spPr>
          <a:xfrm>
            <a:off x="142920" y="3571920"/>
            <a:ext cx="42148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КĂШМАН</a:t>
            </a:r>
            <a:br>
              <a:rPr sz="8000"/>
            </a:b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26" descr="http://kuharka.ru/uploads/images/therms/c7ff0077a3a88c23d854c0ef47489a8e.gif"/>
          <p:cNvPicPr/>
          <p:nvPr/>
        </p:nvPicPr>
        <p:blipFill>
          <a:blip r:embed="rId1"/>
          <a:stretch/>
        </p:blipFill>
        <p:spPr>
          <a:xfrm>
            <a:off x="5286240" y="371484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4" descr="http://ai-cdr.ucoz.ru/kartinki_7/svekla_red.gif"/>
          <p:cNvPicPr/>
          <p:nvPr/>
        </p:nvPicPr>
        <p:blipFill>
          <a:blip r:embed="rId2"/>
          <a:stretch/>
        </p:blipFill>
        <p:spPr>
          <a:xfrm>
            <a:off x="142920" y="3260880"/>
            <a:ext cx="2286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ЫХР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36" descr="http://www.1000listnik.ru/uploads/posts/2010-06/1276451344_chesnok_003.jpg"/>
          <p:cNvPicPr/>
          <p:nvPr/>
        </p:nvPicPr>
        <p:blipFill>
          <a:blip r:embed="rId1"/>
          <a:stretch/>
        </p:blipFill>
        <p:spPr>
          <a:xfrm>
            <a:off x="5143680" y="3929040"/>
            <a:ext cx="3660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ОМИДОР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22" descr="http://ona-znaet.ru/statii/3/15/a7.jpg"/>
          <p:cNvPicPr/>
          <p:nvPr/>
        </p:nvPicPr>
        <p:blipFill>
          <a:blip r:embed="rId1"/>
          <a:stretch/>
        </p:blipFill>
        <p:spPr>
          <a:xfrm>
            <a:off x="14292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АВĂН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46" descr="http://centr-molodosti.ru/wp-content/uploads/2011/11/chudodejstvennye-maski-iz-tykvy-molodost-i-krasota-vashej-kozhi.jpg"/>
          <p:cNvPicPr/>
          <p:nvPr/>
        </p:nvPicPr>
        <p:blipFill>
          <a:blip r:embed="rId1"/>
          <a:stretch/>
        </p:blipFill>
        <p:spPr>
          <a:xfrm>
            <a:off x="5572080" y="4079880"/>
            <a:ext cx="3286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УКУРУЗ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34" descr="http://www.floraprice.ru/v2/wp-content/uploads/2009/08/151.jpg"/>
          <p:cNvPicPr/>
          <p:nvPr/>
        </p:nvPicPr>
        <p:blipFill>
          <a:blip r:embed="rId1"/>
          <a:stretch/>
        </p:blipFill>
        <p:spPr>
          <a:xfrm>
            <a:off x="142920" y="40719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ÇĔР  УЛМИ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38" descr="http://pulson.ru/wp-content/uploads/2013/06/pulson202.jpg"/>
          <p:cNvPicPr/>
          <p:nvPr/>
        </p:nvPicPr>
        <p:blipFill>
          <a:blip r:embed="rId1"/>
          <a:stretch/>
        </p:blipFill>
        <p:spPr>
          <a:xfrm>
            <a:off x="5143680" y="421488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ĂРĂÇ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6" descr="http://kedem.ru/photo/articles/2010/04/20100406-vegetables-01.jpg"/>
          <p:cNvPicPr/>
          <p:nvPr/>
        </p:nvPicPr>
        <p:blipFill>
          <a:blip r:embed="rId1"/>
          <a:stretch/>
        </p:blipFill>
        <p:spPr>
          <a:xfrm>
            <a:off x="142920" y="3357720"/>
            <a:ext cx="271476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РЕДИС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Picture 18" descr="http://vsecliparti.ru/uploads/posts/2012-05/wj1ik9klms.jpeg"/>
          <p:cNvPicPr/>
          <p:nvPr/>
        </p:nvPicPr>
        <p:blipFill>
          <a:blip r:embed="rId1"/>
          <a:stretch/>
        </p:blipFill>
        <p:spPr>
          <a:xfrm>
            <a:off x="5143680" y="2071800"/>
            <a:ext cx="3655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pomeshhik.ru/images/news2011/2011.06.18-008.jpg"/>
          <p:cNvPicPr/>
          <p:nvPr/>
        </p:nvPicPr>
        <p:blipFill>
          <a:blip r:embed="rId1"/>
          <a:stretch/>
        </p:blipFill>
        <p:spPr>
          <a:xfrm>
            <a:off x="214200" y="857160"/>
            <a:ext cx="5715000" cy="42195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0"/>
          <p:cNvSpPr/>
          <p:nvPr/>
        </p:nvSpPr>
        <p:spPr>
          <a:xfrm>
            <a:off x="6143760" y="928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1"/>
          <p:cNvSpPr/>
          <p:nvPr/>
        </p:nvSpPr>
        <p:spPr>
          <a:xfrm>
            <a:off x="6143760" y="1643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6143760" y="2286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ĂРÇ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Picture 48" descr="http://www.miragro.ru/photo/pea.jpg"/>
          <p:cNvPicPr/>
          <p:nvPr/>
        </p:nvPicPr>
        <p:blipFill>
          <a:blip r:embed="rId1"/>
          <a:stretch/>
        </p:blipFill>
        <p:spPr>
          <a:xfrm>
            <a:off x="6000840" y="3929040"/>
            <a:ext cx="2754360" cy="275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http://go4.imgsmail.ru/imgpreview?key=http%3A//picantecooking.com/sites/default/files/content/recipies/2011%5F07%5F10%5Fvegetables%5FII/img%5F5470.jpg&amp;mb=imgdb_preview_70"/>
          <p:cNvPicPr/>
          <p:nvPr/>
        </p:nvPicPr>
        <p:blipFill>
          <a:blip r:embed="rId2"/>
          <a:stretch/>
        </p:blipFill>
        <p:spPr>
          <a:xfrm>
            <a:off x="142920" y="4572000"/>
            <a:ext cx="3286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57200" y="4785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Century Schoolbook"/>
              </a:rPr>
              <a:t>КАРВИНГ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http://supercook.ru/images-curving/curving03-2.jpg"/>
          <p:cNvPicPr/>
          <p:nvPr/>
        </p:nvPicPr>
        <p:blipFill>
          <a:blip r:embed="rId1"/>
          <a:stretch/>
        </p:blipFill>
        <p:spPr>
          <a:xfrm>
            <a:off x="142920" y="142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10" descr="http://lohmatik.ru/Lohmatik/Img1/zad33.jpg"/>
          <p:cNvPicPr/>
          <p:nvPr/>
        </p:nvPicPr>
        <p:blipFill>
          <a:blip r:embed="rId1"/>
          <a:stretch/>
        </p:blipFill>
        <p:spPr>
          <a:xfrm>
            <a:off x="357120" y="5191200"/>
            <a:ext cx="2500560" cy="1666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6" descr="http://pedagogic.ru/books/item/f00/s00/z0000011/pic/000004.jpg"/>
          <p:cNvPicPr/>
          <p:nvPr/>
        </p:nvPicPr>
        <p:blipFill>
          <a:blip r:embed="rId2"/>
          <a:stretch/>
        </p:blipFill>
        <p:spPr>
          <a:xfrm>
            <a:off x="2786040" y="4572000"/>
            <a:ext cx="1214640" cy="1839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http://go2.imgsmail.ru/imgpreview?key=http%3A//xn--80achd5ad.xn--p1ai/images/news/14%5F03%5F2011/8.jpg&amp;mb=imgdb_preview_1026"/>
          <p:cNvPicPr/>
          <p:nvPr/>
        </p:nvPicPr>
        <p:blipFill>
          <a:blip r:embed="rId3"/>
          <a:stretch/>
        </p:blipFill>
        <p:spPr>
          <a:xfrm>
            <a:off x="3114720" y="3193920"/>
            <a:ext cx="2152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ledlighting2011.typepad.com/.a/6a014e86bee496970d014e60135aa1970c-800wi"/>
          <p:cNvPicPr/>
          <p:nvPr/>
        </p:nvPicPr>
        <p:blipFill>
          <a:blip r:embed="rId1"/>
          <a:stretch/>
        </p:blipFill>
        <p:spPr>
          <a:xfrm>
            <a:off x="0" y="1000080"/>
            <a:ext cx="6948360" cy="4643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7143840" y="32148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7149960" y="2643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в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9"/>
          <p:cNvSpPr/>
          <p:nvPr/>
        </p:nvSpPr>
        <p:spPr>
          <a:xfrm flipV="1">
            <a:off x="5572080" y="2827440"/>
            <a:ext cx="157176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7152120" y="2000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ăш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2"/>
          <p:cNvSpPr/>
          <p:nvPr/>
        </p:nvSpPr>
        <p:spPr>
          <a:xfrm>
            <a:off x="3714840" y="2000160"/>
            <a:ext cx="34290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6"/>
          <p:cNvSpPr/>
          <p:nvPr/>
        </p:nvSpPr>
        <p:spPr>
          <a:xfrm flipV="1">
            <a:off x="4000680" y="3538440"/>
            <a:ext cx="314316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3280" y="4292280"/>
            <a:ext cx="2664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37440" y="4076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2" descr="http://www.art-pen.ru/wp-content/uploads/2011/09/Cucumbers.jpg"/>
          <p:cNvPicPr/>
          <p:nvPr/>
        </p:nvPicPr>
        <p:blipFill>
          <a:blip r:embed="rId1"/>
          <a:stretch/>
        </p:blipFill>
        <p:spPr>
          <a:xfrm>
            <a:off x="357120" y="28584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298320" y="571680"/>
            <a:ext cx="17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Хăя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0" descr="http://rostok-sad.ru/d/196241/d/image_132.jpg"/>
          <p:cNvPicPr/>
          <p:nvPr/>
        </p:nvPicPr>
        <p:blipFill>
          <a:blip r:embed="rId2"/>
          <a:stretch/>
        </p:blipFill>
        <p:spPr>
          <a:xfrm>
            <a:off x="357120" y="1785960"/>
            <a:ext cx="1500120" cy="17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2" descr="http://otvetin.ru/uploads/posts/2010-03/1269260244_luk-glavnaya.jpg"/>
          <p:cNvPicPr/>
          <p:nvPr/>
        </p:nvPicPr>
        <p:blipFill>
          <a:blip r:embed="rId3"/>
          <a:stretch/>
        </p:blipFill>
        <p:spPr>
          <a:xfrm>
            <a:off x="357120" y="3571920"/>
            <a:ext cx="2214720" cy="166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6" descr="http://www.1000listnik.ru/uploads/posts/2010-06/1276451344_chesnok_003.jpg"/>
          <p:cNvPicPr/>
          <p:nvPr/>
        </p:nvPicPr>
        <p:blipFill>
          <a:blip r:embed="rId4"/>
          <a:stretch/>
        </p:blipFill>
        <p:spPr>
          <a:xfrm>
            <a:off x="357120" y="507204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3223080" y="185724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упă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3222720" y="371484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ух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"/>
          <p:cNvSpPr/>
          <p:nvPr/>
        </p:nvSpPr>
        <p:spPr>
          <a:xfrm>
            <a:off x="3295800" y="535788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2" descr="http://ona-znaet.ru/statii/3/15/a7.jpg"/>
          <p:cNvPicPr/>
          <p:nvPr/>
        </p:nvPicPr>
        <p:blipFill>
          <a:blip r:embed="rId1"/>
          <a:stretch/>
        </p:blipFill>
        <p:spPr>
          <a:xfrm>
            <a:off x="285840" y="0"/>
            <a:ext cx="2500200" cy="1666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kedem.ru/photo/articles/2010/04/20100406-vegetables-01.jpg"/>
          <p:cNvPicPr/>
          <p:nvPr/>
        </p:nvPicPr>
        <p:blipFill>
          <a:blip r:embed="rId2"/>
          <a:stretch/>
        </p:blipFill>
        <p:spPr>
          <a:xfrm>
            <a:off x="500040" y="5000760"/>
            <a:ext cx="1486080" cy="1857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http://www.russianfood.com/dycontent/images/big_2247.jpg"/>
          <p:cNvPicPr/>
          <p:nvPr/>
        </p:nvPicPr>
        <p:blipFill>
          <a:blip r:embed="rId3"/>
          <a:stretch/>
        </p:blipFill>
        <p:spPr>
          <a:xfrm>
            <a:off x="500040" y="3286080"/>
            <a:ext cx="2143080" cy="1604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www.kachestvo.ru/netcat_files/Image/%D0%BE%D0%B2%D0%BE%D1%89%D0%B8.%D0%BC%D0%BE%D1%80%D0%BA%D0%BE%D0%B2%D1%8C(1).jpg"/>
          <p:cNvPicPr/>
          <p:nvPr/>
        </p:nvPicPr>
        <p:blipFill>
          <a:blip r:embed="rId4"/>
          <a:stretch/>
        </p:blipFill>
        <p:spPr>
          <a:xfrm>
            <a:off x="500040" y="164304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3373920" y="42876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мид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3429000" y="1928880"/>
            <a:ext cx="232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ишĕ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3446280" y="357192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Баклаж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583800" y="535788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ăрă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1642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ХĂЯР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2" descr="http://www.art-pen.ru/wp-content/uploads/2011/09/Cucumbers.jpg"/>
          <p:cNvPicPr/>
          <p:nvPr/>
        </p:nvPicPr>
        <p:blipFill>
          <a:blip r:embed="rId1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0" descr="http://www.agrotorg.net/imgs/board/2/286-1s.jpg"/>
          <p:cNvPicPr/>
          <p:nvPr/>
        </p:nvPicPr>
        <p:blipFill>
          <a:blip r:embed="rId2"/>
          <a:stretch/>
        </p:blipFill>
        <p:spPr>
          <a:xfrm>
            <a:off x="4929120" y="278604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ИШĔР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http://www.kachestvo.ru/netcat_files/Image/%D0%BE%D0%B2%D0%BE%D1%89%D0%B8.%D0%BC%D0%BE%D1%80%D0%BA%D0%BE%D0%B2%D1%8C(1).jpg"/>
          <p:cNvPicPr/>
          <p:nvPr/>
        </p:nvPicPr>
        <p:blipFill>
          <a:blip r:embed="rId1"/>
          <a:stretch/>
        </p:blipFill>
        <p:spPr>
          <a:xfrm>
            <a:off x="4786200" y="26431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9680" y="1642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УПĂСТА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0" descr="http://rostok-sad.ru/d/196241/d/image_132.jpg"/>
          <p:cNvPicPr/>
          <p:nvPr/>
        </p:nvPicPr>
        <p:blipFill>
          <a:blip r:embed="rId1"/>
          <a:stretch/>
        </p:blipFill>
        <p:spPr>
          <a:xfrm>
            <a:off x="142920" y="3000240"/>
            <a:ext cx="32148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9680" y="1571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СУХАН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42" descr="http://otvetin.ru/uploads/posts/2010-03/1269260244_luk-glavnaya.jpg"/>
          <p:cNvPicPr/>
          <p:nvPr/>
        </p:nvPicPr>
        <p:blipFill>
          <a:blip r:embed="rId1"/>
          <a:stretch/>
        </p:blipFill>
        <p:spPr>
          <a:xfrm>
            <a:off x="0" y="4214880"/>
            <a:ext cx="3133800" cy="2357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http://domik-v-internete.ru/wp-content/uploads/2012/02/%D0%94%D0%B5%D0%BB%D0%B0%D0%B5%D0%BC-%D1%81%D0%B2%D0%BE%D0%B8%D0%BC%D0%B8-%D1%80%D1%83%D0%BA%D0%B0%D0%BC%D0%B8-%D0%B2%D0%BC%D0%B5%D1%81%D1%82%D0%B5-%D1%81-%D0%B4%D0%B5%D1%82%D1%8C%D0%BC%D0%B8-%D0%B4%D0%B5%D1%82%D1%81%D0%BA%D1%83%D1%8E-%D0%BA%D0%B0%D1%80%D0%BD%D0%B0%D0%B2%D0%B0%D0%BB%D1%8C%D0%BD%D1%83%D1%8E-%D0%BC%D0%B0%D1%81%D0%BA%D1%83-%D0%BE%D0%B2%D0%BE%D1%89%D0%B0-%D0%BB%D1%83%D0%BA%D0%B0.-%D0%9C%D0%B0%D1%81%D0%BA%D0%B0-%D0%BB%D1%83%D0%BA.jpg"/>
          <p:cNvPicPr/>
          <p:nvPr/>
        </p:nvPicPr>
        <p:blipFill>
          <a:blip r:embed="rId2"/>
          <a:stretch/>
        </p:blipFill>
        <p:spPr>
          <a:xfrm>
            <a:off x="5643720" y="3286080"/>
            <a:ext cx="30589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4" descr="http://tomato-perez.ru/rarticle_image/14_89.jpg"/>
          <p:cNvPicPr/>
          <p:nvPr/>
        </p:nvPicPr>
        <p:blipFill>
          <a:blip r:embed="rId3"/>
          <a:stretch/>
        </p:blipFill>
        <p:spPr>
          <a:xfrm>
            <a:off x="3071880" y="314316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9:02:16Z</dcterms:created>
  <dc:creator>Сергей</dc:creator>
  <dc:description/>
  <dc:language>en-US</dc:language>
  <cp:lastModifiedBy>Надежда Николаевна</cp:lastModifiedBy>
  <dcterms:modified xsi:type="dcterms:W3CDTF">2013-11-27T09:29:34Z</dcterms:modified>
  <cp:revision>26</cp:revision>
  <dc:subject/>
  <dc:title>Слайд 1</dc:title>
</cp:coreProperties>
</file>