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918-036A-4231-9AF0-88DA10BA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C16-90CC-4038-87CC-8444FB01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A56-D48A-41AD-B309-2A1334AD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3F9-7D73-42D6-8A77-8A2DBBC7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18E-D4A7-4587-933B-F6710A32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968-A880-44E1-BF68-E4A2A1BE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E4A-8152-4851-975B-139CAA43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93E-8655-4DFD-9B96-08EE45C4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D9A-D293-4B70-83D4-212A87B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391-AE42-40F5-A4B8-73069D5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583-CB1E-4790-9D2A-EC00E13B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5FA-22D6-4030-8207-C946DFF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C314-ED37-4649-A162-011009E69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ДОУ д/с № 10 «Дюймов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ОД по речевому разви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ма «Дружная Семей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рдынеева.А.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шла курочка гул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курица"/>
          <p:cNvPicPr/>
          <p:nvPr/>
        </p:nvPicPr>
        <p:blipFill>
          <a:blip r:embed="rId1"/>
          <a:stretch/>
        </p:blipFill>
        <p:spPr>
          <a:xfrm>
            <a:off x="1143000" y="1981080"/>
            <a:ext cx="60865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776640" y="380520"/>
            <a:ext cx="1909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Ro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Rod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шла курочка гулять, свежей травки пощип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урица1"/>
          <p:cNvPicPr/>
          <p:nvPr/>
        </p:nvPicPr>
        <p:blipFill>
          <a:blip r:embed="rId1"/>
          <a:stretch/>
        </p:blipFill>
        <p:spPr>
          <a:xfrm>
            <a:off x="304920" y="380880"/>
            <a:ext cx="6472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24480" y="914040"/>
            <a:ext cx="2362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 за ней ребятки, желтые цыпля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цыплята"/>
          <p:cNvPicPr/>
          <p:nvPr/>
        </p:nvPicPr>
        <p:blipFill>
          <a:blip r:embed="rId1"/>
          <a:stretch/>
        </p:blipFill>
        <p:spPr>
          <a:xfrm>
            <a:off x="380880" y="914400"/>
            <a:ext cx="6096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3080" y="914040"/>
            <a:ext cx="2438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КО-КО-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О-КО-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е ходите далеко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курица и цыплята2"/>
          <p:cNvPicPr/>
          <p:nvPr/>
        </p:nvPicPr>
        <p:blipFill>
          <a:blip r:embed="rId1"/>
          <a:stretch/>
        </p:blipFill>
        <p:spPr>
          <a:xfrm>
            <a:off x="457200" y="762120"/>
            <a:ext cx="6019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00440" y="456840"/>
            <a:ext cx="2514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ПКАМИ ГРЕБИТЕ, ЗЕРНЫШКИ ИЩ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цыплята кушают"/>
          <p:cNvPicPr/>
          <p:nvPr/>
        </p:nvPicPr>
        <p:blipFill>
          <a:blip r:embed="rId1"/>
          <a:stretch/>
        </p:blipFill>
        <p:spPr>
          <a:xfrm>
            <a:off x="304920" y="457200"/>
            <a:ext cx="6019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11:28:05Z</dcterms:created>
  <dc:creator>ligiu</dc:creator>
  <dc:description/>
  <dc:language>en-US</dc:language>
  <cp:lastModifiedBy>Home</cp:lastModifiedBy>
  <dcterms:modified xsi:type="dcterms:W3CDTF">2020-07-23T03:14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