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897-76C0-4A7E-B514-8BB913C7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12E-3B2F-483B-AAE8-6E506BCD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0A4-1053-4FA7-834E-EB602444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7BD-F412-4C18-BFA4-9E136897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05A-804F-46FA-B7F8-092999E3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D9D-E98A-4C77-9588-C57A8804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358-F5AF-41FD-99E8-88969089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0AA-C3BE-475F-A84D-680B6019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EF3-AB7D-4416-A95C-45EFF989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526-5308-42EB-A0AD-185411E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A2C-621C-462D-8E9A-2A4047DE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54D-1147-4934-9A72-B6EA3B0B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9301-0F9E-4A44-AE61-4B92EA11D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ДОУ д/с № 10 «Дюймов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ОД по речевому разви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ма «Дружная Семей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рдынеева.А.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шла курочка гул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курица"/>
          <p:cNvPicPr/>
          <p:nvPr/>
        </p:nvPicPr>
        <p:blipFill>
          <a:blip r:embed="rId1"/>
          <a:stretch/>
        </p:blipFill>
        <p:spPr>
          <a:xfrm>
            <a:off x="1143000" y="1981080"/>
            <a:ext cx="60865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776640" y="380520"/>
            <a:ext cx="1909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Ro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Rod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шла курочка гулять, свежей травки пощип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урица1"/>
          <p:cNvPicPr/>
          <p:nvPr/>
        </p:nvPicPr>
        <p:blipFill>
          <a:blip r:embed="rId1"/>
          <a:stretch/>
        </p:blipFill>
        <p:spPr>
          <a:xfrm>
            <a:off x="304920" y="380880"/>
            <a:ext cx="6472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24480" y="914040"/>
            <a:ext cx="2362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 за ней ребятки, желтые цыпля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цыплята"/>
          <p:cNvPicPr/>
          <p:nvPr/>
        </p:nvPicPr>
        <p:blipFill>
          <a:blip r:embed="rId1"/>
          <a:stretch/>
        </p:blipFill>
        <p:spPr>
          <a:xfrm>
            <a:off x="380880" y="914400"/>
            <a:ext cx="6096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3080" y="914040"/>
            <a:ext cx="2438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КО-КО-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О-КО-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е ходите далеко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курица и цыплята2"/>
          <p:cNvPicPr/>
          <p:nvPr/>
        </p:nvPicPr>
        <p:blipFill>
          <a:blip r:embed="rId1"/>
          <a:stretch/>
        </p:blipFill>
        <p:spPr>
          <a:xfrm>
            <a:off x="457200" y="762120"/>
            <a:ext cx="6019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00440" y="456840"/>
            <a:ext cx="2514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ПКАМИ ГРЕБИТЕ, ЗЕРНЫШКИ ИЩ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цыплята кушают"/>
          <p:cNvPicPr/>
          <p:nvPr/>
        </p:nvPicPr>
        <p:blipFill>
          <a:blip r:embed="rId1"/>
          <a:stretch/>
        </p:blipFill>
        <p:spPr>
          <a:xfrm>
            <a:off x="304920" y="457200"/>
            <a:ext cx="6019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11:28:05Z</dcterms:created>
  <dc:creator>ligiu</dc:creator>
  <dc:description/>
  <dc:language>en-US</dc:language>
  <cp:lastModifiedBy>Home</cp:lastModifiedBy>
  <dcterms:modified xsi:type="dcterms:W3CDTF">2020-07-23T03:14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