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07A51-E220-4604-8842-9BCDE72856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6C848-3DFD-473A-B544-4AC0C4E692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2E201-5A7C-4D52-A152-33081533F1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26D03-E46A-418D-9086-5B51636EE7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DB7D4-0CBD-4C62-BF07-A7EE26DD61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01E00-B048-4C1C-BE7E-E197EFEAA2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231EC-567E-4135-B7AB-A5CECC453F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2BB4B-B102-458B-8FB2-47C3251570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B4F35-386A-4EF0-9FF1-FD391495EF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37D7-0877-474C-B849-F8FC1D7B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308-705D-476D-A8CC-1CEED438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CE6-B841-4A3E-A4C2-B18C8259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9699-A74A-4BE0-8541-08BC9E1B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6FB5-97B4-43DE-ADF3-2DC5CE2C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D3C-57B1-4138-A6C8-7CF83091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7E7-CEDB-4EBC-8ECD-6B1E0BC0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DF75-741C-4071-A8B4-F257EE38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234-06B5-4C82-A440-A493EACB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8543-D0CA-4E00-A472-B37F6321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EAB3-C88D-40CB-9A59-1C0BE8B6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724-30F3-44FE-BC91-CCB191E1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9FE6D-6438-4DD5-B5D5-F16C7DF173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79200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мволы Чувашской Республики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73120" y="2747880"/>
            <a:ext cx="2451240" cy="2220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272280" y="2808360"/>
            <a:ext cx="3159000" cy="207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3672000" y="4176720"/>
            <a:ext cx="1728720" cy="20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6840"/>
            <a:ext cx="10080720" cy="79772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рб Чувашской Республик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й герб Чувашской Республики представляет собой окаймлённый вырезной геральдический щит, поделённый на жёлтое (вверху) и красное (внизу) поля. В гербовом поле расположена только одна гербовая фигура — красный символ мирового дерева, являющийся одним из элементов чувашского орнамен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ит увенчан другим элементом чувашского орнамента — золотой, окаймлённой красным эмблемой «Три солнца», состоящей из трёх восьмиконечных звезд. Снизу щит обрамлён красной лентой с надписью золотыми буквами «Чăваш Республики — Чувашская Республика», завершающейся стилизованным изображением золотых листьев и шишек хмеля, символизирующих традиционный чувашский обрядовый и праздничный напиток — пиво, которое чуваши издревле варят в домашних условиях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884760" y="4392720"/>
            <a:ext cx="2450880" cy="22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152000" cy="75596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тория герба Чувашской Республики.</a:t>
            </a:r>
            <a:br>
              <a:rPr sz="26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863640" y="2952720"/>
            <a:ext cx="2438280" cy="2400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4176720" y="2952720"/>
            <a:ext cx="2376360" cy="230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7477200" y="2960640"/>
            <a:ext cx="2170080" cy="22226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863640" y="5661000"/>
            <a:ext cx="2448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б Чувашской АССР от 192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248000" y="5616720"/>
            <a:ext cx="23450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б Чувашской АССР от 193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520040" y="5602320"/>
            <a:ext cx="2200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б Чувашской АССР от 193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144720"/>
            <a:ext cx="10080720" cy="77756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аг Чувашской Республи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а государственного флага — жёлтый (золото) и пурпуровый (сандалово-красный) — традиционные цвета чувашского народа. Жёлтый (сара) цвет в чувашском фольклоре наделён понятием самого красивого цвета, олицетворяющего все самое прекрасное и светлое. Золото в геральдическом толковании — богатство, справедливость, милосердие, великодушие, постоянство, сила, верность. Пурпуровый цвет — один из самых распространённых у чувашей цветов, которым выполнялись основные элементы народного орнамента. Пурпур в геральдическом толковании — достоинство, могущество, мужество, сил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448000" y="3743280"/>
            <a:ext cx="540072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77040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флага Чувашской республики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47640" y="1871640"/>
            <a:ext cx="2808360" cy="1800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768240" y="3828960"/>
            <a:ext cx="2471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флаг ЧАС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4176720" y="1944720"/>
            <a:ext cx="2448000" cy="1727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4248000" y="3860640"/>
            <a:ext cx="2376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аг ЧАССР образца 1927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7121520" y="2016000"/>
            <a:ext cx="2382840" cy="1614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7169040" y="3757680"/>
            <a:ext cx="2335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аг ЧАССР образца 1931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4"/>
          <a:stretch/>
        </p:blipFill>
        <p:spPr>
          <a:xfrm>
            <a:off x="576360" y="4680000"/>
            <a:ext cx="2808360" cy="1655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576360" y="6637320"/>
            <a:ext cx="27352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аг ЧАССР образца 1937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5"/>
          <a:stretch/>
        </p:blipFill>
        <p:spPr>
          <a:xfrm>
            <a:off x="4168800" y="4680000"/>
            <a:ext cx="259884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4125960" y="6564240"/>
            <a:ext cx="2786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аг образца 1954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2" descr=""/>
          <p:cNvPicPr/>
          <p:nvPr/>
        </p:nvPicPr>
        <p:blipFill>
          <a:blip r:embed="rId6"/>
          <a:stretch/>
        </p:blipFill>
        <p:spPr>
          <a:xfrm>
            <a:off x="7199280" y="4608360"/>
            <a:ext cx="2592360" cy="1656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3"/>
          <p:cNvSpPr/>
          <p:nvPr/>
        </p:nvSpPr>
        <p:spPr>
          <a:xfrm>
            <a:off x="7272360" y="6564240"/>
            <a:ext cx="25192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аг ЧАССР образца 1978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99536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гимна Чувашской Республики.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ой гимна послужила песня «Тăван Çĕршыв» (Родная страна), написанная ещё в середине XX века заслуженным деятелем искусств Чувашии и Российской Федерации Германом Степановичем Лебедевым. Композитор создал её для пьесы Петра Осипова «В родном краю», которая была поставлена в Чувашском академическом театре в сезоне 1944—1945 годах. Уже первое исполнение было восторженно воспринято залом. Впервые свой статус неофициального гимна Чувашии песня приобрела во время знаменательного события 30 октября 1950 года. Тогда в Колонном зале Дома Союзов в Москве отмечали 30-летие Чувашской АССР. На этом торжественном вечере Чувашский государственный ансамбль песни и танца исполнил песню в сопровождении симфонического оркестра. Свой официальный статус гимна песня приобрела после принятия 1 июля 1997 года Государственным Советом Чувашской Республики Закона «О государственных символах Чувашской Республики», подписанного Президентом Чувашии Н. В. Федоровым 14 июля 1997 года. 29 апреля в Чувашской Республике является Днём государственных символов республики — гимна, герба и флага, который отмечается с 2004 года. Он был введён Указом Президента Чувашской Республики от 8 апреля 2004 г. № 24 «О Дне государственных символов Чувашской Республики» и законом Чувашской Республики от 19 апреля 2004 г. № 1 «О Дне государственных символов Чувашской Республики»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3480"/>
            <a:ext cx="10080720" cy="91044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гимна Чувашской Республик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Çурхи тěнче вăраннă чух:                   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Хаваслă кун шăраннă чух,      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ун савăнать: чěре сикет,        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Çěршывăм çинчен юрлас килет.                                                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ăван çěршыв,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ăван çěршыв,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сран кайми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Юратнă çěршыв.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ăван çěршыв,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ăван çěршыв,  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ухтав сана,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Çуралнă çěршыв!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шсем-херсем вылянă чух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те-анне ăс панă чух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н савăнать: чěре сике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тах та нумай пурнас киле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ăвансемпе пěрлешнě чух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ăваш тěнчи çěкленнě чух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н савăнать: чěре сике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тах та хастар пулас килет.</a:t>
            </a:r>
            <a:br>
              <a:rPr sz="4000"/>
            </a:b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75596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504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Спасибо за внимание.</a:t>
            </a: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8T15:08:29Z</dcterms:created>
  <dc:creator> Юлия Яшкова</dc:creator>
  <dc:description/>
  <dc:language>en-US</dc:language>
  <cp:lastModifiedBy>Дом</cp:lastModifiedBy>
  <dcterms:modified xsi:type="dcterms:W3CDTF">2018-10-28T18:51:46Z</dcterms:modified>
  <cp:revision>3</cp:revision>
  <dc:subject/>
  <dc:title>Символы Чувашской Республики.        </dc:title>
</cp:coreProperties>
</file>