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61C4E-3701-4144-9AE3-C50F9E832D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144E6-4A34-4D34-8355-D449B30066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DB8C2-D7F8-4C33-B1C9-EA1C83EB19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B2C54-3903-40A8-97E4-E5CC1B345D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13C41-8378-45DE-8A0B-FB5A88CBF7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EA7C0-6762-41E0-9FBB-BDC588084A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AB74A-4C34-44C9-92C6-E4D5967C93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703CA-AE0B-492D-B5E0-682FB82915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94863-F15B-4EAA-9C24-9ED0CA41B2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18F-6094-4C5A-B2E3-1DA32139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F1A-E005-4D8D-83DB-6F8574CB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596-BB2D-428F-8A55-4C845AE1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D7E-6B2F-44DA-AA5D-B818DAD7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9BCD-B356-4776-83AB-E26C1317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E6E-DB9B-454E-8DC5-E52D28CE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AF4-547C-4C63-91FF-FD1ED856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EB8-0BA2-440F-B98B-C15A3C3E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035E-EDA3-43E5-BC68-8F1E70A0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2B05-0BDD-405E-A6C0-7842ABBC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258-C933-4FA4-AFAE-79DD0AE7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7577-226E-47B3-BD3D-55FD68AA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26F3F-A4E4-4461-8014-82F1BB0EC1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79200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мволы Чувашской Республики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73120" y="2747880"/>
            <a:ext cx="2451240" cy="2220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272280" y="2808360"/>
            <a:ext cx="3159000" cy="207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3672000" y="4176720"/>
            <a:ext cx="1728720" cy="20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6840"/>
            <a:ext cx="10080720" cy="79772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рб Чувашской Республик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й герб Чувашской Республики представляет собой окаймлённый вырезной геральдический щит, поделённый на жёлтое (вверху) и красное (внизу) поля. В гербовом поле расположена только одна гербовая фигура — красный символ мирового дерева, являющийся одним из элементов чувашского орнамен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ит увенчан другим элементом чувашского орнамента — золотой, окаймлённой красным эмблемой «Три солнца», состоящей из трёх восьмиконечных звезд. Снизу щит обрамлён красной лентой с надписью золотыми буквами «Чăваш Республики — Чувашская Республика», завершающейся стилизованным изображением золотых листьев и шишек хмеля, символизирующих традиционный чувашский обрядовый и праздничный напиток — пиво, которое чуваши издревле варят в домашних условиях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884760" y="4392720"/>
            <a:ext cx="2450880" cy="22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152000" cy="75596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тория герба Чувашской Республики.</a:t>
            </a:r>
            <a:br>
              <a:rPr sz="26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863640" y="2952720"/>
            <a:ext cx="2438280" cy="2400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4176720" y="2952720"/>
            <a:ext cx="2376360" cy="230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7477200" y="2960640"/>
            <a:ext cx="2170080" cy="22226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863640" y="5661000"/>
            <a:ext cx="2448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б Чувашской АССР от 192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248000" y="5616720"/>
            <a:ext cx="23450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б Чувашской АССР от 193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520040" y="5602320"/>
            <a:ext cx="2200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б Чувашской АССР от 193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144720"/>
            <a:ext cx="10080720" cy="77756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аг Чувашской Республи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а государственного флага — жёлтый (золото) и пурпуровый (сандалово-красный) — традиционные цвета чувашского народа. Жёлтый (сара) цвет в чувашском фольклоре наделён понятием самого красивого цвета, олицетворяющего все самое прекрасное и светлое. Золото в геральдическом толковании — богатство, справедливость, милосердие, великодушие, постоянство, сила, верность. Пурпуровый цвет — один из самых распространённых у чувашей цветов, которым выполнялись основные элементы народного орнамента. Пурпур в геральдическом толковании — достоинство, могущество, мужество, сил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448000" y="3743280"/>
            <a:ext cx="540072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77040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флага Чувашской республики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47640" y="1871640"/>
            <a:ext cx="2808360" cy="1800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768240" y="3828960"/>
            <a:ext cx="2471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флаг ЧАС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4176720" y="1944720"/>
            <a:ext cx="2448000" cy="1727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4248000" y="3860640"/>
            <a:ext cx="2376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аг ЧАССР образца 1927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7121520" y="2016000"/>
            <a:ext cx="2382840" cy="1614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7169040" y="3757680"/>
            <a:ext cx="2335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аг ЧАССР образца 1931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4"/>
          <a:stretch/>
        </p:blipFill>
        <p:spPr>
          <a:xfrm>
            <a:off x="576360" y="4680000"/>
            <a:ext cx="2808360" cy="1655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576360" y="6637320"/>
            <a:ext cx="27352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аг ЧАССР образца 1937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5"/>
          <a:stretch/>
        </p:blipFill>
        <p:spPr>
          <a:xfrm>
            <a:off x="4168800" y="4680000"/>
            <a:ext cx="259884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4125960" y="6564240"/>
            <a:ext cx="2786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аг образца 1954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2" descr=""/>
          <p:cNvPicPr/>
          <p:nvPr/>
        </p:nvPicPr>
        <p:blipFill>
          <a:blip r:embed="rId6"/>
          <a:stretch/>
        </p:blipFill>
        <p:spPr>
          <a:xfrm>
            <a:off x="7199280" y="4608360"/>
            <a:ext cx="2592360" cy="1656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3"/>
          <p:cNvSpPr/>
          <p:nvPr/>
        </p:nvSpPr>
        <p:spPr>
          <a:xfrm>
            <a:off x="7272360" y="6564240"/>
            <a:ext cx="25192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аг ЧАССР образца 1978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99536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гимна Чувашской Республики.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ой гимна послужила песня «Тăван Çĕршыв» (Родная страна), написанная ещё в середине XX века заслуженным деятелем искусств Чувашии и Российской Федерации Германом Степановичем Лебедевым. Композитор создал её для пьесы Петра Осипова «В родном краю», которая была поставлена в Чувашском академическом театре в сезоне 1944—1945 годах. Уже первое исполнение было восторженно воспринято залом. Впервые свой статус неофициального гимна Чувашии песня приобрела во время знаменательного события 30 октября 1950 года. Тогда в Колонном зале Дома Союзов в Москве отмечали 30-летие Чувашской АССР. На этом торжественном вечере Чувашский государственный ансамбль песни и танца исполнил песню в сопровождении симфонического оркестра. Свой официальный статус гимна песня приобрела после принятия 1 июля 1997 года Государственным Советом Чувашской Республики Закона «О государственных символах Чувашской Республики», подписанного Президентом Чувашии Н. В. Федоровым 14 июля 1997 года. 29 апреля в Чувашской Республике является Днём государственных символов республики — гимна, герба и флага, который отмечается с 2004 года. Он был введён Указом Президента Чувашской Республики от 8 апреля 2004 г. № 24 «О Дне государственных символов Чувашской Республики» и законом Чувашской Республики от 19 апреля 2004 г. № 1 «О Дне государственных символов Чувашской Республики»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3480"/>
            <a:ext cx="10080720" cy="91044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гимна Чувашской Республик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Çурхи тěнче вăраннă чух:                   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Хаваслă кун шăраннă чух,      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ун савăнать: чěре сикет,        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Çěршывăм çинчен юрлас килет.                                                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ăван çěршыв,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ăван çěршыв,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сран кайми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Юратнă çěршыв.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ăван çěршыв,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ăван çěршыв,  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ухтав сана,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Çуралнă çěршыв!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шсем-херсем вылянă чух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те-анне ăс панă чух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н савăнать: чěре сике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тах та нумай пурнас киле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ăвансемпе пěрлешнě чух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ăваш тěнчи çěкленнě чух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н савăнать: чěре сике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тах та хастар пулас килет.</a:t>
            </a:r>
            <a:br>
              <a:rPr sz="4000"/>
            </a:b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75596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504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Спасибо за внимание.</a:t>
            </a: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8T15:08:29Z</dcterms:created>
  <dc:creator> Юлия Яшкова</dc:creator>
  <dc:description/>
  <dc:language>en-US</dc:language>
  <cp:lastModifiedBy>Дом</cp:lastModifiedBy>
  <dcterms:modified xsi:type="dcterms:W3CDTF">2018-10-28T18:51:46Z</dcterms:modified>
  <cp:revision>3</cp:revision>
  <dc:subject/>
  <dc:title>Символы Чувашской Республики.        </dc:title>
</cp:coreProperties>
</file>