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7571-4AFF-42A4-9B55-9834A9C5C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2CE2-5764-416B-9921-EB7D5DE49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88B0-22A8-46AD-AF99-7B76B41AE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012F-6500-48B0-B72A-EA1FCB8DF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98F3-A22C-4538-88EC-7D6B87D139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7E38-0C48-40BC-8512-04BE8EED8B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0918-3AD1-40B3-A9D8-7A9423FAE9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F8D6-FE57-426E-98E6-29E82DA661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6FDC-AC9E-4282-975F-D4BEB32EF4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780C-91AD-4DD5-B96A-129CA4E45F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C813-36B3-4B3D-B839-C08812002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A22C-9286-4994-B39F-2B3D7272F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4F6F-3C59-4144-9686-1F1C4F85DF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B6B0-3FA3-4ED7-9706-9F29B639F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6C36-9B65-43AE-B9B1-A899878B6D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89C3-747C-4B2B-81E3-5471672655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62FE-F9EA-4A8B-B8B0-74A6BB38E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B115-EA88-4F99-A486-1D666F6B8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2C37-BFFB-4A12-A704-6947AAB53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11E0-0336-4B7A-BA11-8FAA43388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7ED8-B4E5-46A5-9E8B-FD25D7EAE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E33A-80B0-478A-A1E4-58118D06A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3A0D-7CF0-450E-B1A4-F1CE71F3A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8FD4-C4BD-491A-B139-D639CE16B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Oval 5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6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8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9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5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Oval 17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8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19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0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1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2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3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4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5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Freeform 36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1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2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7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8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0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1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2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3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Freeform 54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7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8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0468F1-54BB-4AA9-B18B-E8136205A8F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Freeform 2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5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Oval 16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7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6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2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Freeform 53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4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0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Oval 61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2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76F38-D2CD-4714-A75E-1884BEE8025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История создания стекл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для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его дошкольного возра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зулина Е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2819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4448160" y="304920"/>
            <a:ext cx="4695840" cy="2292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228600" y="2971800"/>
            <a:ext cx="3533760" cy="3359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464688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832040" cy="2502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2209680" y="0"/>
            <a:ext cx="4116600" cy="3081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2432160" cy="243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6429240" y="22860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5"/>
          <a:stretch/>
        </p:blipFill>
        <p:spPr>
          <a:xfrm>
            <a:off x="2666880" y="4191120"/>
            <a:ext cx="5283360" cy="243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6"/>
          <a:stretch/>
        </p:blipFill>
        <p:spPr>
          <a:xfrm>
            <a:off x="655308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2000" cy="160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4254480" cy="2846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152280" y="182880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4"/>
          <a:stretch/>
        </p:blipFill>
        <p:spPr>
          <a:xfrm>
            <a:off x="4349880" y="3124080"/>
            <a:ext cx="4794120" cy="3195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5"/>
          <a:stretch/>
        </p:blipFill>
        <p:spPr>
          <a:xfrm>
            <a:off x="-380880" y="4290840"/>
            <a:ext cx="47401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Спасибо </a:t>
            </a:r>
            <a:br>
              <a:rPr sz="8000"/>
            </a:b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за </a:t>
            </a:r>
            <a:br>
              <a:rPr sz="8000"/>
            </a:b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внимани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684360" y="304920"/>
            <a:ext cx="77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жды, в давние времена, моряки причалили к чужому берег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и вышли на сушу, развели на песке костер и завели разговор. Чтобы костер не погас, они обложили его комками соды. Ночь и усталость взяли свое, моряки заснули крепким сном. Каково же было их удивление, когда утром вокруг костра они нашли блестящие камушки – камни, которые образовались из спла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ска и сод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и было стек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C:\Documents and Settings\Администратор\Рабочий стол\img12.jpg"/>
          <p:cNvPicPr/>
          <p:nvPr/>
        </p:nvPicPr>
        <p:blipFill>
          <a:blip r:embed="rId1"/>
          <a:stretch/>
        </p:blipFill>
        <p:spPr>
          <a:xfrm>
            <a:off x="1692360" y="2781360"/>
            <a:ext cx="566712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люди, которые начали производить стекло, делали это из натуральной соды и пес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191120" cy="314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39625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изводство стек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5228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стоящее время стекло изготавливают специальные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ок, соду и мел перемешивают и помещают в печь, разогретую до очень высокой темп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смешанные вещества превратятся в жидкую массу, которая при охлаждении обретет форму стек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81280" cy="254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4876920" y="4114800"/>
            <a:ext cx="355284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вод по производству стек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од на котором производят стекло называется стеколь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149640" cy="236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27528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здание стеклодувной тру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евними людьми была изобретена стеклодувная трубка, которая позволила легко и быстро создавать простые и разнообразные по форме сосу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2932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293364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то такие стеклодув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57200" y="3886200"/>
            <a:ext cx="82296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ловека, умеющего обрабатывать разогретую массу стекла, называют стеклодув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1114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е позднее появились первые зеркала с использованием стекла, цветные стекла, увеличительные стекла, микроскопы и телескопы. Сегодня сложно представить себе сферу жизнедеятельности человека, в которой бы не использовалось стек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4606920" cy="345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3809880" cy="28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4"/>
          <a:stretch/>
        </p:blipFill>
        <p:spPr>
          <a:xfrm>
            <a:off x="0" y="762120"/>
            <a:ext cx="3257640" cy="246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9T11:34:56Z</dcterms:created>
  <dc:creator>Валентин</dc:creator>
  <dc:description/>
  <cp:keywords/>
  <dc:language>en-US</dc:language>
  <cp:lastModifiedBy>hadavar</cp:lastModifiedBy>
  <dcterms:modified xsi:type="dcterms:W3CDTF">2019-02-13T05:02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