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C251-20C7-49CB-8233-FCD38A7F8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D091-FED1-4F02-89A8-B7B2FD57D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AC6B-0F66-4D37-ACC8-A51681CDF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6E49-9708-4CFE-B9A4-038128B20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5ADB-889A-4FC9-A5F0-0408C8D07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C687-1954-4CC0-816D-1827E5CFD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8F5F-0BD9-4686-A1CC-AE126D6D0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335F-EA94-4F96-8734-6E0F38C76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77BA-EE2E-47B3-8C3E-36B309242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8763-5C81-4854-9D0E-ED207A680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ED8F-F3B3-4439-A781-3C6D219CDC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03AE-616B-43EE-9EEA-2747CE7D2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242C-E4F1-47CB-83CB-BF6799B415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F385-9E7B-49CD-84BE-504B134715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C34D-774D-43B9-A462-9FA8A3BA65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DFD0-AD2E-43DE-8B3A-891C8CA4B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2B49-5713-4AC9-B44A-4D5E1765C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2CFB-E7A5-4078-A009-7C849B927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2CC7-E9E8-48B8-8A71-C3F680546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8EC6-B589-41FD-8088-0BF379817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6740-B24D-4922-83A9-10EF86A4C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94ED-9512-4305-BAF8-776800E16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CDA2-581C-482A-9F88-FCD9531A6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741-9834-4F61-A572-851EAE8B4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4FC3F9-3ADB-415F-902B-E298B82525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762BE-CC87-4DF4-94B3-5B98AAFC364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История создания стекл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дл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зулина Е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2819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448160" y="304920"/>
            <a:ext cx="4695840" cy="2292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3533760" cy="3359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64688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832040" cy="2502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209680" y="0"/>
            <a:ext cx="4116600" cy="308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2432160" cy="243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6429240" y="2286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5"/>
          <a:stretch/>
        </p:blipFill>
        <p:spPr>
          <a:xfrm>
            <a:off x="2666880" y="4191120"/>
            <a:ext cx="5283360" cy="243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6"/>
          <a:stretch/>
        </p:blipFill>
        <p:spPr>
          <a:xfrm>
            <a:off x="655308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254480" cy="2846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4349880" y="3124080"/>
            <a:ext cx="4794120" cy="3195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-380880" y="4290840"/>
            <a:ext cx="47401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за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внима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684360" y="30492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жды, в давние времена, моряки причалили к чужому бере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вышли на сушу, развели на песке костер и завели разговор. Чтобы костер не погас, они обложили его комками соды. Ночь и усталость взяли свое, моряки заснули крепким сном. Каково же было их удивление, когда утром вокруг костра они нашли блестящие камушки – камни, которые образовались из спла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ка и с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и было стек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C:\Documents and Settings\Администратор\Рабочий стол\img12.jpg"/>
          <p:cNvPicPr/>
          <p:nvPr/>
        </p:nvPicPr>
        <p:blipFill>
          <a:blip r:embed="rId1"/>
          <a:stretch/>
        </p:blipFill>
        <p:spPr>
          <a:xfrm>
            <a:off x="1692360" y="2781360"/>
            <a:ext cx="566712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люди, которые начали производить стекло, делали это из натуральной соды и пес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191120" cy="314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9625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изводство стек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522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ее время стекло изготавливают специальные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ок, соду и мел перемешивают и помещают в печь, разогретую до очень высокой темп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смешанные вещества превратятся в жидкую массу, которая при охлаждении обретет форму стек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81280" cy="254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4876920" y="4114800"/>
            <a:ext cx="355284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вод по производству стек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од на котором производят стекло называется стеколь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149640" cy="236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27528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здание стеклодувной тру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ими людьми была изобретена стеклодувная трубка, которая позволила легко и быстро создавать простые и разнообразные по форме сосу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2932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293364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ие стеклодув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388620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ловека, умеющего обрабатывать разогретую массу стекла, называют стеклодув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1114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позднее появились первые зеркала с использованием стекла, цветные стекла, увеличительные стекла, микроскопы и телескопы. Сегодня сложно представить себе сферу жизнедеятельности человека, в которой бы не использовалось стек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3809880" cy="28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4"/>
          <a:stretch/>
        </p:blipFill>
        <p:spPr>
          <a:xfrm>
            <a:off x="0" y="762120"/>
            <a:ext cx="3257640" cy="24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11:34:56Z</dcterms:created>
  <dc:creator>Валентин</dc:creator>
  <dc:description/>
  <cp:keywords/>
  <dc:language>en-US</dc:language>
  <cp:lastModifiedBy>hadavar</cp:lastModifiedBy>
  <dcterms:modified xsi:type="dcterms:W3CDTF">2019-02-13T05:02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