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871-77C0-4FB8-B410-577B8137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2CF-489A-4028-A85F-C7E6E50D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C19-1345-4AA6-8C95-A7077E6B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698-2DC0-4785-8EE5-6044DABD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22C9-8419-4517-864C-6DA7965D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7AD5-91DC-4CFC-8F04-A8CE0EBB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4A3-DB1C-4B4B-8724-4F3531AE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5F07-C3FA-4698-8FF4-86BE63F1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D03A-1068-4ED6-BAA7-E9F3249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E7B5-40A7-4808-8E0C-C50E880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82EF-8465-4ED8-BE02-272C63D5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4F8-DF84-4EA2-A1A3-1A9293ED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9D12-C37C-4E4D-96ED-87910EAA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FC99-A8CE-417C-8FFA-B268A0C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6FD1-4300-4F90-8E15-A2C94548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31FF-7138-4873-BDDF-2349F0ED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6D8-BE28-471C-B6DC-60F8A6B0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7B6E-CD92-4C84-A438-2D73116D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92E7-837A-4A1C-85C3-A733188D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456B-E3A0-41A7-A90D-1E5E699C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C00E-379D-407D-B2C3-599D7F63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6563-7335-4500-AEE0-6B0F0BCC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C67-1CD4-4D70-9891-E90E4F2B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6B9E-7363-4F3E-9788-7E73A968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2F13-E962-4B94-BB44-2812A10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1627-8E7A-4FEA-A33B-989EE8D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BE77-1657-40EB-B4DF-C9FF27B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7766-5AE6-48AC-9246-C27FF44E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51A3-5DA7-4351-AD19-A41A9103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5FFF-52C1-4F68-AB51-9C152C1D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8F59E-DEE2-47F1-9B0A-F21A4E1B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1559-18B1-4F82-845C-40F43B86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B54F-AD31-4FAC-8B45-264486B4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26F-E7CC-4700-9553-38840062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CA5D-0798-440D-ADBF-FDD7603A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C826-B655-4C2B-8F18-7BBD64F6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69AA-5880-41F5-B4F7-A4EF84E8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5238-D34F-4E45-A109-1442B847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AD4A-B021-4C25-BB95-A919AB4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58AD1-12ED-48CC-B88E-4FC440F5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480C-55B0-41CB-BDA0-AC27DA23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AF0F-E703-4BDF-AAED-2825D752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44B2-EE54-4AC8-8406-E20AA8C2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04570-826C-4C3F-B147-A87C22D8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DC3-1CB8-4061-A92C-EDF947E5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6062-A27A-469A-A447-627DADAC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8C61-B4C0-4BC3-9632-9A62EB4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C797-89C8-4EDB-B36B-1FC19572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0CCC-5D02-400C-A5C3-607F98CC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0387-D347-4A13-ACC0-380E126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E0A6-A95B-48C0-863D-97BC0438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06B6-1053-42A6-BF86-5BE1753E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97E7B-6A5A-42C2-8CEF-C67B596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902F-2642-44C4-B37A-7901AFA3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70C12-3DF6-45D8-8569-FB9D71FD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137-3567-4BE2-808E-BFC1A8EE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EDC8F-6B5C-4A86-9A25-559DD2E1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CF0-79A1-4F97-8085-A49718BD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C68-DE3B-4B16-83D7-2D09A83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785-309C-4C45-9ED9-B4D4269C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062C-49DA-41E4-9D1B-17B8470FF5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5F57-A0A9-4D63-8C00-A6AFAE78E94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225F-CF50-48A6-8D74-658185EA85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D695-9BD7-4FF4-AC75-2EE7A975CA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1B38-AD16-42CF-8030-B2D716D3A8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ulture.ru/lectures/movies/religious" TargetMode="External"/><Relationship Id="rId3" Type="http://schemas.openxmlformats.org/officeDocument/2006/relationships/hyperlink" Target="https://www.culture.ru/materials/153905/kulturnyi-gid-po-velikomu-novgorodu" TargetMode="External"/><Relationship Id="rId4" Type="http://schemas.openxmlformats.org/officeDocument/2006/relationships/hyperlink" Target="https://www.culture.ru/materials/52574/kulturnyi-gid-po-smolensku" TargetMode="External"/><Relationship Id="rId5" Type="http://schemas.openxmlformats.org/officeDocument/2006/relationships/hyperlink" Target="https://www.culture.ru/materials/178386/gorod-muzei-suzdal" TargetMode="External"/><Relationship Id="rId6" Type="http://schemas.openxmlformats.org/officeDocument/2006/relationships/hyperlink" Target="https://www.culture.ru/s/goroda/kursk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ulture.ru/lectures/movies/astronomy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ulture.ru/institutes/13669/zdanie-akademii-nau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2"/>
          <a:stretch/>
        </p:blipFill>
        <p:spPr>
          <a:xfrm>
            <a:off x="390600" y="1822320"/>
            <a:ext cx="8620200" cy="20606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371240" y="487656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дник М.В.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ктор по физической культур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Screenshot_20230310_210112_Chrome"/>
          <p:cNvPicPr/>
          <p:nvPr/>
        </p:nvPicPr>
        <p:blipFill>
          <a:blip r:embed="rId2"/>
          <a:stretch/>
        </p:blipFill>
        <p:spPr>
          <a:xfrm>
            <a:off x="228600" y="30492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creenshot_20230310_210129_Chrome"/>
          <p:cNvPicPr/>
          <p:nvPr/>
        </p:nvPicPr>
        <p:blipFill>
          <a:blip r:embed="rId3"/>
          <a:stretch/>
        </p:blipFill>
        <p:spPr>
          <a:xfrm>
            <a:off x="5105520" y="380880"/>
            <a:ext cx="3809880" cy="3164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Screenshot_20230310_210135_Chrome"/>
          <p:cNvPicPr/>
          <p:nvPr/>
        </p:nvPicPr>
        <p:blipFill>
          <a:blip r:embed="rId4"/>
          <a:stretch/>
        </p:blipFill>
        <p:spPr>
          <a:xfrm>
            <a:off x="5815080" y="3924360"/>
            <a:ext cx="1704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704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Образование в XIX веке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802 году император Александр I учредил Министерство народного просвещения. Его основными принципами были бессословность (за исключением крепостных) и бесплатность начального образования, а также преемственность учебных програм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804 году при церковных приходах стали открывать начальные школы, куда ходили в основном крестьянские де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 1803 года главные народные училища стали преобразовывать в гимназии (первая женская гимназия открылась через 55 лет, в 1858 году, в Петербург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811 году состоялся первый набор в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мператорский Царскосельский лиц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 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Screenshot_20230310_210148_Chrome"/>
          <p:cNvPicPr/>
          <p:nvPr/>
        </p:nvPicPr>
        <p:blipFill>
          <a:blip r:embed="rId2"/>
          <a:stretch/>
        </p:blipFill>
        <p:spPr>
          <a:xfrm>
            <a:off x="0" y="457200"/>
            <a:ext cx="4489560" cy="5638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Screenshot_20230310_210154_Chrome"/>
          <p:cNvPicPr/>
          <p:nvPr/>
        </p:nvPicPr>
        <p:blipFill>
          <a:blip r:embed="rId3"/>
          <a:stretch/>
        </p:blipFill>
        <p:spPr>
          <a:xfrm>
            <a:off x="4724280" y="304920"/>
            <a:ext cx="4197600" cy="3227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Screenshot_20230310_210201_Chrome"/>
          <p:cNvPicPr/>
          <p:nvPr/>
        </p:nvPicPr>
        <p:blipFill>
          <a:blip r:embed="rId4"/>
          <a:stretch/>
        </p:blipFill>
        <p:spPr>
          <a:xfrm>
            <a:off x="5789520" y="3924360"/>
            <a:ext cx="1755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Советская школа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 Октябрьской революции 1917 года нужны были квалифицированные рабочие, поэтому в стране стали открываться трудовые школ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0-е годы прошли под знаком экспериментов. Отменили домашние задания, уроки истории заменили политграмотой и обществоведением. На местах пытались ввести американскую модель: дети могли сами выбирать предметы и сдавать по ним проекты. Такое обучение приближало учеников к практи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ако в 1927 году правительство обозначило уже не примерные, а обязательные программы и учебные планы. Больше всего учебных часов отводилось на уроки математики, русского и родного языка, обязательными стали Конституция СССР, чистописание, черчение, химия, труд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 разное время в отечественных школах преподавали уроки грамоты и черчения, физики и логики, астрономии и греческог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Занятия вели сначала духовные лица, а позже — учителя-предметн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704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Bernard MT Condensed"/>
              </a:rPr>
              <a:t>Первые школы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крещения Руси в 988 году перед государством встала задача «привить» новую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религию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 для этого было необходимо научить население грамоте. Появилась славянская азбука — ее создали специально для перевода церковных текстов греки Кирилл и Мефод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 Киеве,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3"/>
              </a:rPr>
              <a:t>Новгоро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4"/>
              </a:rPr>
              <a:t>Смоленс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5"/>
              </a:rPr>
              <a:t>Сузда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6"/>
              </a:rPr>
              <a:t>Курске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рылись первые школы. Ученые установили, что понадобилось от 50 до 100 лет, чтобы письменность широко распространилась среди знати, духовенства, отдельных купцов и ремесленников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8" descr="Screenshot_20230310_205904_Chrome"/>
          <p:cNvPicPr/>
          <p:nvPr/>
        </p:nvPicPr>
        <p:blipFill>
          <a:blip r:embed="rId2"/>
          <a:stretch/>
        </p:blipFill>
        <p:spPr>
          <a:xfrm>
            <a:off x="228600" y="990720"/>
            <a:ext cx="4057560" cy="5105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Screenshot_20230310_205917_Chrome"/>
          <p:cNvPicPr/>
          <p:nvPr/>
        </p:nvPicPr>
        <p:blipFill>
          <a:blip r:embed="rId3"/>
          <a:stretch/>
        </p:blipFill>
        <p:spPr>
          <a:xfrm>
            <a:off x="4419720" y="333216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Screenshot_20230310_205924_Chrome"/>
          <p:cNvPicPr/>
          <p:nvPr/>
        </p:nvPicPr>
        <p:blipFill>
          <a:blip r:embed="rId4"/>
          <a:stretch/>
        </p:blipFill>
        <p:spPr>
          <a:xfrm>
            <a:off x="5943600" y="228600"/>
            <a:ext cx="284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Учение в допетровской Руси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 XVII веке училища для мальчиков 8–12 лет держали духовные лица. Обучение шло неспешно: зубрили азбуку, потом начинали читать Часослов, Псалтирь, Деяния апостолов и Евангелие, затем переходили к пись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 старших классах осваивали «семь свободных художеств»: грамматику, диалектику, риторику, церковное пение, арифметику, землемерие, включавшее сведения по геометрии и географии, и звездознание, то есть 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астроном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 иностранных языков в почете были лишь латынь и греческий — их преподавали будущим церковным служителям, чиновникам и дипломат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Screenshot_20230310_210007_Chrome"/>
          <p:cNvPicPr/>
          <p:nvPr/>
        </p:nvPicPr>
        <p:blipFill>
          <a:blip r:embed="rId2"/>
          <a:stretch/>
        </p:blipFill>
        <p:spPr>
          <a:xfrm>
            <a:off x="228600" y="1143000"/>
            <a:ext cx="4402080" cy="5410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Screenshot_20230310_210013_Chrome"/>
          <p:cNvPicPr/>
          <p:nvPr/>
        </p:nvPicPr>
        <p:blipFill>
          <a:blip r:embed="rId3"/>
          <a:stretch/>
        </p:blipFill>
        <p:spPr>
          <a:xfrm>
            <a:off x="4724280" y="342900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Screenshot_20230310_210019_Chrome"/>
          <p:cNvPicPr/>
          <p:nvPr/>
        </p:nvPicPr>
        <p:blipFill>
          <a:blip r:embed="rId4"/>
          <a:stretch/>
        </p:blipFill>
        <p:spPr>
          <a:xfrm>
            <a:off x="5257800" y="380880"/>
            <a:ext cx="319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Школы при Петре I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р I понимал необходимость профессионального образования. Поэтому в 1701 году в Москве по его указу открыли Школу математических и навигацких наук. Учились в ней юноши разных сословий в возрасте от 12 до 20 ле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освоения грамоты, арифметики, геометрии и тригонометрии ученики низкого происхождения, как правило, поступали на службу, а отпрыски знатных фамилий переходили в «верхнюю школу», где изучали немецкий язык, астрономию, географию, навигацию, фортифик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 1714 году появились начальные цифирные школы — упор в них делали на арифметику и геометр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 последних детищ Петра стала 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Академия на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е император учредил в 1724 году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Screenshot_20230310_210040_Chrome"/>
          <p:cNvPicPr/>
          <p:nvPr/>
        </p:nvPicPr>
        <p:blipFill>
          <a:blip r:embed="rId2"/>
          <a:stretch/>
        </p:blipFill>
        <p:spPr>
          <a:xfrm>
            <a:off x="152280" y="609480"/>
            <a:ext cx="4527720" cy="5486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Screenshot_20230310_210052_Chrome"/>
          <p:cNvPicPr/>
          <p:nvPr/>
        </p:nvPicPr>
        <p:blipFill>
          <a:blip r:embed="rId3"/>
          <a:stretch/>
        </p:blipFill>
        <p:spPr>
          <a:xfrm>
            <a:off x="4800600" y="228600"/>
            <a:ext cx="4114800" cy="3157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Screenshot_20230310_210057_Chrome"/>
          <p:cNvPicPr/>
          <p:nvPr/>
        </p:nvPicPr>
        <p:blipFill>
          <a:blip r:embed="rId4"/>
          <a:stretch/>
        </p:blipFill>
        <p:spPr>
          <a:xfrm>
            <a:off x="5778360" y="3924360"/>
            <a:ext cx="1778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Bernard MT Condensed"/>
              </a:rPr>
              <a:t>Реформа образования Екатерины II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ое учебное заведение для девушек было открыто во время царствования Екатерины I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764 году императрица учредила Воспитательное общество благородных девиц. В историю оно вошло как Смольный институт. Институт просуществовал до 1917 год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енское образование значительно отличалось от мужского. Основанный еще в 1732 году Шляхетский сухопутный кадетский корпус при Екатерине II получил новый устав. В корпусе учились с пятилетнего возраста до 21 года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0T18:05:12Z</dcterms:created>
  <dc:creator>Руслан</dc:creator>
  <dc:description/>
  <dc:language>en-US</dc:language>
  <cp:lastModifiedBy>Руслан</cp:lastModifiedBy>
  <dcterms:modified xsi:type="dcterms:W3CDTF">2023-04-14T12:03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