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F6CA-3D5B-4F97-A957-4B5B6A1CA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4BE8-3D92-405D-AFA5-6124D559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0166-DDAB-4C36-A277-B7C0E5A47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1B75-74E2-4FE6-8ECC-4A586F9D6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DC86-4955-4A2E-AA1B-7EF7928B8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C7F9-2A51-4534-A3E5-66889139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09E7-9672-4DBD-BD4A-6A3F6FAF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9F4E-DB90-4ABD-8F44-CC50979A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1172-1CF6-418A-B4AA-EF5BE3D2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3786-F9AF-4A20-B988-AE5558F6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999D-0CDA-4489-A599-3CD1DEB0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3F9B-EE1A-4FE2-A2ED-3AC91E14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435B-DBAF-4342-9D5F-89E8FBB4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37DF-7106-495A-8F6F-9F931EF2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EB37-3ACC-4BD8-8B4C-59E43EB3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41AC-13F9-4BE5-A981-C03C5C61D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F885-A635-4AB1-87C2-B814F97C0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94981-6F64-4E17-A027-C618E0274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987D0-0FE3-4ECB-A523-B36D97B2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0111B-3B8F-4461-942C-DAC3DC8F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F7679-8A88-44FE-894B-911EB7D3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58B30-1EDF-48A9-9CD8-F8B22444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C849-7482-4D58-A482-680DE83B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2D7A6-4527-47A1-BAA6-561596EB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34580-4CCF-4E3F-81D5-6CA25EDB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3C26A-9922-40C5-9F35-35B93C19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94364-21A0-49CB-8654-6CF77EA1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DA3A7-E907-41E8-B931-B2E2A1D4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7D886-0CFD-4EC4-A9AB-E131E7BE5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5244A-1081-4399-A0B1-AA804A45D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0D04B-9965-4D88-9473-11D873AEA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30FAC-8EDC-4C75-B188-2DB5D1AF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BEA8F-48E5-4740-A2FB-030D0DB5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189A-A63B-40D8-A9DE-E820C5CD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64ADC-F5D9-4F84-BBEF-DD0FD0B3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11B24-BBC4-43A1-8717-07D6A957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82C3E-9702-4A1C-B5F6-A56D8D18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69336-FB30-4C66-92ED-343E7C39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CF5B9-96D2-4E69-8BF9-2BC296D7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F6DED-344D-48FC-8F3C-2893BA2A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62354-F984-4206-B49D-5BE268DD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37AFD-1522-4495-9D95-513E834C3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61DBE-7486-46C1-9F29-4A0BA45A9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4E2AC-088C-40D8-916E-CE888B3ED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C345-03E6-473F-A96E-AC611125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BE1F2-D4EE-4C15-8367-E2DC2D5E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A6897-D743-408E-8E7C-14C464F7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89FC0-1501-4604-817A-824BB62D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08A62-9A7D-4804-9B3F-40653B1B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4C35A-3748-4F34-9C39-55548FC8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EECF3-E9D9-4C5C-BB25-E268E77D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71F80-F0B7-4CB1-84F0-998F7781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79372-E692-44C1-B558-3E38AA7A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9295B-AB5D-4FB8-87C4-909CCE23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3C4C4-56D2-4FBC-A350-9AF83527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61DE-AC24-495E-8C3F-2B724C09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23607-6CE5-4031-87D5-D4227BE47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D449-12C2-472F-976C-10B46019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B289-EF52-4FA6-8D29-5C12170B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683C-785B-4899-B685-DEBAC665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F582-F51F-4345-A9FB-F521DE104F3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DAAA-6DAB-453F-B3E2-CF9596F0A04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1BCF-2256-45F3-B4E9-FEBD3363CBC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A979-0273-4CFD-A53C-FAD8AE279F2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E8D4-3D6D-4522-B36E-3DCED2D22D7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www.culture.ru/lectures/movies/religious" TargetMode="External"/><Relationship Id="rId3" Type="http://schemas.openxmlformats.org/officeDocument/2006/relationships/hyperlink" Target="https://www.culture.ru/materials/153905/kulturnyi-gid-po-velikomu-novgorodu" TargetMode="External"/><Relationship Id="rId4" Type="http://schemas.openxmlformats.org/officeDocument/2006/relationships/hyperlink" Target="https://www.culture.ru/materials/52574/kulturnyi-gid-po-smolensku" TargetMode="External"/><Relationship Id="rId5" Type="http://schemas.openxmlformats.org/officeDocument/2006/relationships/hyperlink" Target="https://www.culture.ru/materials/178386/gorod-muzei-suzdal" TargetMode="External"/><Relationship Id="rId6" Type="http://schemas.openxmlformats.org/officeDocument/2006/relationships/hyperlink" Target="https://www.culture.ru/s/goroda/kursk/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www.culture.ru/lectures/movies/astronomy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www.culture.ru/institutes/13669/zdanie-akademii-nauk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2" descr=""/>
          <p:cNvPicPr/>
          <p:nvPr/>
        </p:nvPicPr>
        <p:blipFill>
          <a:blip r:embed="rId2"/>
          <a:stretch/>
        </p:blipFill>
        <p:spPr>
          <a:xfrm>
            <a:off x="390600" y="1822320"/>
            <a:ext cx="8620200" cy="20606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371240" y="4876560"/>
            <a:ext cx="7467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готовила: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рдник М.В.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структор по физической культуре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8" descr="Screenshot_20230310_210112_Chrome"/>
          <p:cNvPicPr/>
          <p:nvPr/>
        </p:nvPicPr>
        <p:blipFill>
          <a:blip r:embed="rId2"/>
          <a:stretch/>
        </p:blipFill>
        <p:spPr>
          <a:xfrm>
            <a:off x="228600" y="304920"/>
            <a:ext cx="4643280" cy="5715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Screenshot_20230310_210129_Chrome"/>
          <p:cNvPicPr/>
          <p:nvPr/>
        </p:nvPicPr>
        <p:blipFill>
          <a:blip r:embed="rId3"/>
          <a:stretch/>
        </p:blipFill>
        <p:spPr>
          <a:xfrm>
            <a:off x="5105520" y="380880"/>
            <a:ext cx="3809880" cy="31640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" descr="Screenshot_20230310_210135_Chrome"/>
          <p:cNvPicPr/>
          <p:nvPr/>
        </p:nvPicPr>
        <p:blipFill>
          <a:blip r:embed="rId4"/>
          <a:stretch/>
        </p:blipFill>
        <p:spPr>
          <a:xfrm>
            <a:off x="5815080" y="3924360"/>
            <a:ext cx="170496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704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Bernard MT Condensed"/>
              </a:rPr>
              <a:t>Образование в XIX веке.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 1802 году император Александр I учредил Министерство народного просвещения. Его основными принципами были бессословность (за исключением крепостных) и бесплатность начального образования, а также преемственность учебных программ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 1804 году при церковных приходах стали открывать начальные школы, куда ходили в основном крестьянские де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 1803 года главные народные училища стали преобразовывать в гимназии (первая женская гимназия открылась через 55 лет, в 1858 году, в Петербурге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 1811 году состоялся первый набор в 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мператорский Царскосельский лице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 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8" descr="Screenshot_20230310_210148_Chrome"/>
          <p:cNvPicPr/>
          <p:nvPr/>
        </p:nvPicPr>
        <p:blipFill>
          <a:blip r:embed="rId2"/>
          <a:stretch/>
        </p:blipFill>
        <p:spPr>
          <a:xfrm>
            <a:off x="0" y="457200"/>
            <a:ext cx="4489560" cy="56386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Screenshot_20230310_210154_Chrome"/>
          <p:cNvPicPr/>
          <p:nvPr/>
        </p:nvPicPr>
        <p:blipFill>
          <a:blip r:embed="rId3"/>
          <a:stretch/>
        </p:blipFill>
        <p:spPr>
          <a:xfrm>
            <a:off x="4724280" y="304920"/>
            <a:ext cx="4197600" cy="32274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" descr="Screenshot_20230310_210201_Chrome"/>
          <p:cNvPicPr/>
          <p:nvPr/>
        </p:nvPicPr>
        <p:blipFill>
          <a:blip r:embed="rId4"/>
          <a:stretch/>
        </p:blipFill>
        <p:spPr>
          <a:xfrm>
            <a:off x="5789520" y="3924360"/>
            <a:ext cx="175572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Bernard MT Condensed"/>
              </a:rPr>
              <a:t>Советская школа.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сле Октябрьской революции 1917 года нужны были квалифицированные рабочие, поэтому в стране стали открываться трудовые школ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20-е годы прошли под знаком экспериментов. Отменили домашние задания, уроки истории заменили политграмотой и обществоведением. На местах пытались ввести американскую модель: дети могли сами выбирать предметы и сдавать по ним проекты. Такое обучение приближало учеников к практике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днако в 1927 году правительство обозначило уже не примерные, а обязательные программы и учебные планы. Больше всего учебных часов отводилось на уроки математики, русского и родного языка, обязательными стали Конституция СССР, чистописание, черчение, химия, труд.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 разное время в отечественных школах преподавали уроки грамоты и черчения, физики и логики, астрономии и греческог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Занятия вели сначала духовные лица, а позже — учителя-предметник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704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Bernard MT Condensed"/>
              </a:rPr>
              <a:t>Первые школы.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560" y="13712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ле крещения Руси в 988 году перед государством встала задача «привить» новую </a:t>
            </a:r>
            <a:r>
              <a:rPr b="0" lang="ru-RU" sz="2800" spc="-1" strike="noStrike" u="sng">
                <a:solidFill>
                  <a:srgbClr val="e2d700"/>
                </a:solidFill>
                <a:uFillTx/>
                <a:latin typeface="Times New Roman"/>
                <a:hlinkClick r:id="rId2"/>
              </a:rPr>
              <a:t>религию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а для этого было необходимо научить население грамоте. Появилась славянская азбука — ее создали специально для перевода церковных текстов греки Кирилл и Мефоди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 Киеве, </a:t>
            </a:r>
            <a:r>
              <a:rPr b="0" lang="ru-RU" sz="2800" spc="-1" strike="noStrike" u="sng">
                <a:solidFill>
                  <a:srgbClr val="e2d700"/>
                </a:solidFill>
                <a:uFillTx/>
                <a:latin typeface="Times New Roman"/>
                <a:hlinkClick r:id="rId3"/>
              </a:rPr>
              <a:t>Новгород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 </a:t>
            </a:r>
            <a:r>
              <a:rPr b="0" lang="ru-RU" sz="2800" spc="-1" strike="noStrike" u="sng">
                <a:solidFill>
                  <a:srgbClr val="e2d700"/>
                </a:solidFill>
                <a:uFillTx/>
                <a:latin typeface="Times New Roman"/>
                <a:hlinkClick r:id="rId4"/>
              </a:rPr>
              <a:t>Смоленск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 </a:t>
            </a:r>
            <a:r>
              <a:rPr b="0" lang="ru-RU" sz="2800" spc="-1" strike="noStrike" u="sng">
                <a:solidFill>
                  <a:srgbClr val="e2d700"/>
                </a:solidFill>
                <a:uFillTx/>
                <a:latin typeface="Times New Roman"/>
                <a:hlinkClick r:id="rId5"/>
              </a:rPr>
              <a:t>Суздал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 </a:t>
            </a:r>
            <a:r>
              <a:rPr b="0" lang="ru-RU" sz="2800" spc="-1" strike="noStrike" u="sng">
                <a:solidFill>
                  <a:srgbClr val="e2d700"/>
                </a:solidFill>
                <a:uFillTx/>
                <a:latin typeface="Times New Roman"/>
                <a:hlinkClick r:id="rId6"/>
              </a:rPr>
              <a:t>Курске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крылись первые школы. Ученые установили, что понадобилось от 50 до 100 лет, чтобы письменность широко распространилась среди знати, духовенства, отдельных купцов и ремесленников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8" descr="Screenshot_20230310_205904_Chrome"/>
          <p:cNvPicPr/>
          <p:nvPr/>
        </p:nvPicPr>
        <p:blipFill>
          <a:blip r:embed="rId2"/>
          <a:stretch/>
        </p:blipFill>
        <p:spPr>
          <a:xfrm>
            <a:off x="228600" y="990720"/>
            <a:ext cx="4057560" cy="51051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Screenshot_20230310_205917_Chrome"/>
          <p:cNvPicPr/>
          <p:nvPr/>
        </p:nvPicPr>
        <p:blipFill>
          <a:blip r:embed="rId3"/>
          <a:stretch/>
        </p:blipFill>
        <p:spPr>
          <a:xfrm>
            <a:off x="4419720" y="3332160"/>
            <a:ext cx="4038480" cy="3525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0" descr="Screenshot_20230310_205924_Chrome"/>
          <p:cNvPicPr/>
          <p:nvPr/>
        </p:nvPicPr>
        <p:blipFill>
          <a:blip r:embed="rId4"/>
          <a:stretch/>
        </p:blipFill>
        <p:spPr>
          <a:xfrm>
            <a:off x="5943600" y="228600"/>
            <a:ext cx="28414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Bernard MT Condensed"/>
              </a:rPr>
              <a:t>Учение в допетровской Руси.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 XVII веке училища для мальчиков 8–12 лет держали духовные лица. Обучение шло неспешно: зубрили азбуку, потом начинали читать Часослов, Псалтирь, Деяния апостолов и Евангелие, затем переходили к письм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 старших классах осваивали «семь свободных художеств»: грамматику, диалектику, риторику, церковное пение, арифметику, землемерие, включавшее сведения по геометрии и географии, и звездознание, то есть 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Times New Roman"/>
                <a:hlinkClick r:id="rId2"/>
              </a:rPr>
              <a:t>астрономи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 иностранных языков в почете были лишь латынь и греческий — их преподавали будущим церковным служителям, чиновникам и дипломата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8" descr="Screenshot_20230310_210007_Chrome"/>
          <p:cNvPicPr/>
          <p:nvPr/>
        </p:nvPicPr>
        <p:blipFill>
          <a:blip r:embed="rId2"/>
          <a:stretch/>
        </p:blipFill>
        <p:spPr>
          <a:xfrm>
            <a:off x="228600" y="1143000"/>
            <a:ext cx="4402080" cy="5410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Screenshot_20230310_210013_Chrome"/>
          <p:cNvPicPr/>
          <p:nvPr/>
        </p:nvPicPr>
        <p:blipFill>
          <a:blip r:embed="rId3"/>
          <a:stretch/>
        </p:blipFill>
        <p:spPr>
          <a:xfrm>
            <a:off x="4724280" y="3429000"/>
            <a:ext cx="4114800" cy="30877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0" descr="Screenshot_20230310_210019_Chrome"/>
          <p:cNvPicPr/>
          <p:nvPr/>
        </p:nvPicPr>
        <p:blipFill>
          <a:blip r:embed="rId4"/>
          <a:stretch/>
        </p:blipFill>
        <p:spPr>
          <a:xfrm>
            <a:off x="5257800" y="380880"/>
            <a:ext cx="3193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Bernard MT Condensed"/>
              </a:rPr>
              <a:t>Школы при Петре I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тр I понимал необходимость профессионального образования. Поэтому в 1701 году в Москве по его указу открыли Школу математических и навигацких наук. Учились в ней юноши разных сословий в возрасте от 12 до 20 лет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 освоения грамоты, арифметики, геометрии и тригонометрии ученики низкого происхождения, как правило, поступали на службу, а отпрыски знатных фамилий переходили в «верхнюю школу», где изучали немецкий язык, астрономию, географию, навигацию, фортификацию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 1714 году появились начальные цифирные школы — упор в них делали на арифметику и геометрию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им из последних детищ Петра стала 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Times New Roman"/>
                <a:hlinkClick r:id="rId2"/>
              </a:rPr>
              <a:t>Академия нау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Ее император учредил в 1724 году. 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8" descr="Screenshot_20230310_210040_Chrome"/>
          <p:cNvPicPr/>
          <p:nvPr/>
        </p:nvPicPr>
        <p:blipFill>
          <a:blip r:embed="rId2"/>
          <a:stretch/>
        </p:blipFill>
        <p:spPr>
          <a:xfrm>
            <a:off x="152280" y="609480"/>
            <a:ext cx="4527720" cy="5486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Screenshot_20230310_210052_Chrome"/>
          <p:cNvPicPr/>
          <p:nvPr/>
        </p:nvPicPr>
        <p:blipFill>
          <a:blip r:embed="rId3"/>
          <a:stretch/>
        </p:blipFill>
        <p:spPr>
          <a:xfrm>
            <a:off x="4800600" y="228600"/>
            <a:ext cx="4114800" cy="3157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0" descr="Screenshot_20230310_210057_Chrome"/>
          <p:cNvPicPr/>
          <p:nvPr/>
        </p:nvPicPr>
        <p:blipFill>
          <a:blip r:embed="rId4"/>
          <a:stretch/>
        </p:blipFill>
        <p:spPr>
          <a:xfrm>
            <a:off x="5778360" y="3924360"/>
            <a:ext cx="17780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Bernard MT Condensed"/>
              </a:rPr>
              <a:t>Реформа образования Екатерины II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вое учебное заведение для девушек было открыто во время царствования Екатерины II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 1764 году императрица учредила Воспитательное общество благородных девиц. В историю оно вошло как Смольный институт. Институт просуществовал до 1917 год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Женское образование значительно отличалось от мужского. Основанный еще в 1732 году Шляхетский сухопутный кадетский корпус при Екатерине II получил новый устав. В корпусе учились с пятилетнего возраста до 21 года. 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10T18:05:12Z</dcterms:created>
  <dc:creator>Руслан</dc:creator>
  <dc:description/>
  <dc:language>en-US</dc:language>
  <cp:lastModifiedBy>Руслан</cp:lastModifiedBy>
  <dcterms:modified xsi:type="dcterms:W3CDTF">2023-04-14T12:03:3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