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BD9-2EEE-4EE2-BF51-395A549E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F88-1978-4647-96CF-E2D17DD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008-FB83-4A0A-977E-A37E6DE1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F3B-1FC7-435C-9011-353353D4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8C9-2D73-46F2-8AE7-B43E6FD6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FCA-C62F-4A16-BAFC-2C60FA5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3A8-8D24-43B2-9076-E6D60F0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431-6CEF-43E7-AE70-C5C3BD5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322-E3F8-49A4-8909-DB4CC5BA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0FC-CCA9-4976-AE30-27A0F36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0CF-F4EB-48AF-9742-E45FC14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7BB-7929-4536-88F7-FB0B3C2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D99-41F6-4A07-80B1-61A5725B76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Экология и физика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чем шведские ученые предложили красить рельсы в белый цв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MP900202209[1]"/>
          <p:cNvPicPr/>
          <p:nvPr/>
        </p:nvPicPr>
        <p:blipFill>
          <a:blip r:embed="rId1"/>
          <a:stretch/>
        </p:blipFill>
        <p:spPr>
          <a:xfrm>
            <a:off x="5181480" y="1447920"/>
            <a:ext cx="284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биолога это среда обитания живых существ, для физика –диэлектрик, для связиста – эфир. Что это для обыкновенного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P900255586[1]"/>
          <p:cNvPicPr/>
          <p:nvPr/>
        </p:nvPicPr>
        <p:blipFill>
          <a:blip r:embed="rId1"/>
          <a:stretch/>
        </p:blipFill>
        <p:spPr>
          <a:xfrm>
            <a:off x="5122800" y="1676520"/>
            <a:ext cx="3243240" cy="213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P900442174[1]"/>
          <p:cNvPicPr/>
          <p:nvPr/>
        </p:nvPicPr>
        <p:blipFill>
          <a:blip r:embed="rId2"/>
          <a:stretch/>
        </p:blipFill>
        <p:spPr>
          <a:xfrm>
            <a:off x="5138640" y="3963960"/>
            <a:ext cx="3211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остранный термин В. И. Даль предлагает заменить русским словом «колоземица» или «мироколица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атмосфера2"/>
          <p:cNvPicPr/>
          <p:nvPr/>
        </p:nvPicPr>
        <p:blipFill>
          <a:blip r:embed="rId1"/>
          <a:stretch/>
        </p:blipFill>
        <p:spPr>
          <a:xfrm>
            <a:off x="4840200" y="19828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лиц - опро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ещество, без которого нельзя жить, оно у нас в к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го выделяют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 трубе задерживает дым, пыль; есть в сигаретах             4. Черный воздух, облако, как пыль; бывает, когда то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ят печку                                                                                         5. Это — когда не бывает дождя, жарко, как в пустыне            6. Бежит по проводам, бывает электр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Мы его выдыхаем, от него гибнет все живо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То, что нас везде и всегда окружает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То, что идет от солнца, включаем вечером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«Легкие планеты», а в сказке «дремучий»...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 Маленькие санитары природы, мы их не вид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обанова З.М. Экология и защита би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еры: Учебное пособие. – Барнаул: Изд-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тГТУ, 2000 – 238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еремьянова О. Формирование у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 экологической культуры. - Барнаул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ИПКРО, 199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урдикулов Э.А. Экологическое образ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ие и воспитание учащихся в процессе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ке. – М.: Просвещение, 1988. – 126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Философские проблемы глобальной э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гии. – М.: Изд-во «Наука», 1983. – 352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Интернет-сайт «Фестиваль «Открытый ур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метеорит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большинство метеоритов сгорает в атмосфере Земли, и только самые крупные долетают до поверхности?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766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начение паровоза и электровоза одинаково. Почему электровозы вытеснили паровозы с железных дорог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тепловоз"/>
          <p:cNvPicPr/>
          <p:nvPr/>
        </p:nvPicPr>
        <p:blipFill>
          <a:blip r:embed="rId1"/>
          <a:stretch/>
        </p:blipFill>
        <p:spPr>
          <a:xfrm>
            <a:off x="0" y="2971800"/>
            <a:ext cx="468936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паровоз"/>
          <p:cNvPicPr/>
          <p:nvPr/>
        </p:nvPicPr>
        <p:blipFill>
          <a:blip r:embed="rId2"/>
          <a:stretch/>
        </p:blipFill>
        <p:spPr>
          <a:xfrm>
            <a:off x="4800600" y="3940200"/>
            <a:ext cx="4343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" y="1066680"/>
            <a:ext cx="9067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их детях быстрее движутся молекулы: в здоровых или простуженных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больной"/>
          <p:cNvPicPr/>
          <p:nvPr/>
        </p:nvPicPr>
        <p:blipFill>
          <a:blip r:embed="rId1"/>
          <a:srcRect l="1538" t="2062" r="2031" b="14272"/>
          <a:stretch/>
        </p:blipFill>
        <p:spPr>
          <a:xfrm>
            <a:off x="1828800" y="2133720"/>
            <a:ext cx="59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кулон нельзя повесить на ше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кулон"/>
          <p:cNvPicPr/>
          <p:nvPr/>
        </p:nvPicPr>
        <p:blipFill>
          <a:blip r:embed="rId1"/>
          <a:stretch/>
        </p:blipFill>
        <p:spPr>
          <a:xfrm>
            <a:off x="3048120" y="2362320"/>
            <a:ext cx="41940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труб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842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заводские трубы делают как можно более высоким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918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ело способно совершить работу, но не хочет. Другое тело хочет, но неспособно. Какое из этих тел обладает энергией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3" descr="Памятник Змею Горынычу и Кощею Бессмертному в Новосибирске"/>
          <p:cNvPicPr/>
          <p:nvPr/>
        </p:nvPicPr>
        <p:blipFill>
          <a:blip r:embed="rId1"/>
          <a:stretch/>
        </p:blipFill>
        <p:spPr>
          <a:xfrm>
            <a:off x="5327640" y="3468600"/>
            <a:ext cx="3809880" cy="338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тюлень"/>
          <p:cNvPicPr/>
          <p:nvPr/>
        </p:nvPicPr>
        <p:blipFill>
          <a:blip r:embed="rId2"/>
          <a:stretch/>
        </p:blipFill>
        <p:spPr>
          <a:xfrm>
            <a:off x="0" y="2819520"/>
            <a:ext cx="4797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 на конкурсе ведьм она заняла первое место. Какое физическое явление произошло с её волос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волосы наэлектр"/>
          <p:cNvPicPr/>
          <p:nvPr/>
        </p:nvPicPr>
        <p:blipFill>
          <a:blip r:embed="rId1"/>
          <a:stretch/>
        </p:blipFill>
        <p:spPr>
          <a:xfrm>
            <a:off x="4952880" y="14479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89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жит на земле: ни закрасить, ни соскоблить, ни завал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тень собакиjpg"/>
          <p:cNvPicPr/>
          <p:nvPr/>
        </p:nvPicPr>
        <p:blipFill>
          <a:blip r:embed="rId1"/>
          <a:stretch/>
        </p:blipFill>
        <p:spPr>
          <a:xfrm>
            <a:off x="2819520" y="2514600"/>
            <a:ext cx="4432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Воробьева</cp:lastModifiedBy>
  <dcterms:modified xsi:type="dcterms:W3CDTF">2023-04-12T17:33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