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521-E2C5-4E2D-B6CD-2DB9298B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E46-43C5-4842-AF5C-32994D2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153-F22A-43A0-9986-6F262CA6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5EE-7560-4FC5-8754-956BA898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44A-3BDF-445C-B5DE-4298D96F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B9D-CF82-448A-95D9-4C96B12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FE3-36AE-4D8B-ADFD-6D7B664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032-1451-4CF0-8275-CFD12E2C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973-9C54-4832-A099-679A230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0EE-657E-433E-92FA-355ED29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80E-FA1E-4AD6-B7CB-53EA3DE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39E-E295-4FB1-BBBB-67CE084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0020-208B-4E67-B969-D24E35E02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5640" y="1601280"/>
            <a:ext cx="61894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s://sites.google.com/site/bondarlyubow/_/rsrc/1400483674361/cikavinki-dla-roboti/web-quest/%D0%B7%D0%B0%D0%B3%D1%80%D1%83%D0%B6%D0%B5%D0%BD%D0%BD%D0%BE%D0%B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-настоящему побеждает тот, кто, одержав победу, побеждает 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at victoria cu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беда любит заботу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bi victoria, ubi concor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м победа, где соглас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te victoriam ne canas triumh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кричи о триумфе до поб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i vis vincere, disce p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Quadro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Quest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Home\Desktop\3.jpg"/>
          <p:cNvPicPr/>
          <p:nvPr/>
        </p:nvPicPr>
        <p:blipFill>
          <a:blip r:embed="rId1"/>
          <a:stretch/>
        </p:blipFill>
        <p:spPr>
          <a:xfrm>
            <a:off x="1403280" y="1874880"/>
            <a:ext cx="626292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чешь побеждать — учись терпени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343240" y="804960"/>
            <a:ext cx="4457520" cy="524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071800" y="0"/>
            <a:ext cx="534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ый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Home\Desktop\0290e928ae6e9a4798691cb99eb8a923.jpg"/>
          <p:cNvPicPr/>
          <p:nvPr/>
        </p:nvPicPr>
        <p:blipFill>
          <a:blip r:embed="rId1"/>
          <a:stretch/>
        </p:blipFill>
        <p:spPr>
          <a:xfrm>
            <a:off x="1285920" y="2286000"/>
            <a:ext cx="583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этап выразительное чт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g-fotki.yandex.ru/get/6833/136468307.2b/0_f2460_57bf18d1_orig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 vincere aut m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мереть или победить;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беда или смерть;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 щитом или на щ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 vincit, qui se vincit in vic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5T14:17:36Z</dcterms:created>
  <dc:creator>Home</dc:creator>
  <dc:description/>
  <dc:language>en-US</dc:language>
  <cp:lastModifiedBy>Admin</cp:lastModifiedBy>
  <dcterms:modified xsi:type="dcterms:W3CDTF">2019-10-09T10:25:39Z</dcterms:modified>
  <cp:revision>75</cp:revision>
  <dc:subject/>
  <dc:title>Слайд 1</dc:title>
</cp:coreProperties>
</file>