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AFF-3BD3-4E7F-860A-8D3926AE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49E-2CA4-49F5-8F67-07B5F65A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E9C-C919-4300-A3A8-E99232B4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EDC-7DC7-44E3-B914-BC1112A1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DF2-5B52-4ADF-853B-F2164679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E97-06C0-430D-9BE9-F845FA81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185-A411-4822-A195-2D546E60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208-F973-4131-9AE0-93717869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520-12CE-4C46-ADBD-645A3F1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E49-E3EA-42A2-8066-DE5FD51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F51-694A-4EAB-9C71-2E7A124F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F54-9DE5-4FDD-81D1-643669F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9952-80F2-44F2-9023-2D3DE2CE1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5640" y="1601280"/>
            <a:ext cx="61894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s://sites.google.com/site/bondarlyubow/_/rsrc/1400483674361/cikavinki-dla-roboti/web-quest/%D0%B7%D0%B0%D0%B3%D1%80%D1%83%D0%B6%D0%B5%D0%BD%D0%BD%D0%BE%D0%B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-настоящему побеждает тот, кто, одержав победу, побеждает 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at victoria cu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беда любит заботу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bi victoria, ubi concor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м победа, где соглас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te victoriam ne canas triumh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кричи о триумфе до поб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i vis vincere, disce p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Quadro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Quest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Home\Desktop\3.jpg"/>
          <p:cNvPicPr/>
          <p:nvPr/>
        </p:nvPicPr>
        <p:blipFill>
          <a:blip r:embed="rId1"/>
          <a:stretch/>
        </p:blipFill>
        <p:spPr>
          <a:xfrm>
            <a:off x="1403280" y="1874880"/>
            <a:ext cx="626292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чешь побеждать — учись терпени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343240" y="804960"/>
            <a:ext cx="4457520" cy="524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071800" y="0"/>
            <a:ext cx="534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ый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Home\Desktop\0290e928ae6e9a4798691cb99eb8a923.jpg"/>
          <p:cNvPicPr/>
          <p:nvPr/>
        </p:nvPicPr>
        <p:blipFill>
          <a:blip r:embed="rId1"/>
          <a:stretch/>
        </p:blipFill>
        <p:spPr>
          <a:xfrm>
            <a:off x="1285920" y="2286000"/>
            <a:ext cx="583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этап выразительное чт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g-fotki.yandex.ru/get/6833/136468307.2b/0_f2460_57bf18d1_orig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 vincere aut m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мереть или победить;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беда или смерть;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 щитом или на щ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 vincit, qui se vincit in vic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5T14:17:36Z</dcterms:created>
  <dc:creator>Home</dc:creator>
  <dc:description/>
  <dc:language>en-US</dc:language>
  <cp:lastModifiedBy>Admin</cp:lastModifiedBy>
  <dcterms:modified xsi:type="dcterms:W3CDTF">2019-10-09T10:25:39Z</dcterms:modified>
  <cp:revision>75</cp:revision>
  <dc:subject/>
  <dc:title>Слайд 1</dc:title>
</cp:coreProperties>
</file>