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B37-2406-4458-8078-C02C0369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2003-41EE-4F7B-AC2D-0318364D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CC4-F228-4649-AA44-0DC865D9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DD5A-A43E-4518-A718-099FE4C3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BAA-DC23-4665-A042-597E7F1F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117E-330D-4CC7-BC13-3D1B285B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1978-F066-43F2-95E4-EB529CB0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77F-B73E-4725-8D7F-8BDB54FF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2FB-01DE-4168-93BD-CD3F3FA0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8E2-3FB8-46FA-B430-C8BC64E1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D261-6156-4AEC-9A38-28D1B0DF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3C3-5A2F-4C6B-8239-A71F7B7E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857A-988E-4381-BB97-7366ACAC1816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molsk.ru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0" y="1427040"/>
            <a:ext cx="9144000" cy="9813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571680" y="50007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студентка группы  Т-1-2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Батраченк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Екатерина Алексе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5357880" y="500076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Савчен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Любовь Ильинич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8" descr="http://www.smolsk.ru/img/smolbuidcolledg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35712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0"/>
          <p:cNvSpPr/>
          <p:nvPr/>
        </p:nvSpPr>
        <p:spPr>
          <a:xfrm>
            <a:off x="1785960" y="28584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D:\ЕЛЕНА\картинки\Гербы Смоленска\Герб Смоленска красный.bmp"/>
          <p:cNvPicPr/>
          <p:nvPr/>
        </p:nvPicPr>
        <p:blipFill>
          <a:blip r:embed="rId4"/>
          <a:stretch/>
        </p:blipFill>
        <p:spPr>
          <a:xfrm>
            <a:off x="7786800" y="285840"/>
            <a:ext cx="1154160" cy="146376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2" descr=""/>
          <p:cNvPicPr/>
          <p:nvPr/>
        </p:nvPicPr>
        <p:blipFill>
          <a:blip r:embed="rId5"/>
          <a:stretch/>
        </p:blipFill>
        <p:spPr>
          <a:xfrm>
            <a:off x="500040" y="2786040"/>
            <a:ext cx="8283600" cy="21463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3304440" y="787680"/>
            <a:ext cx="231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43.02.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з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Александрова А.Ю. Международный туризм. М: Аспект-Пресс, 200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Александрова А.Ю. География туризма. М: КНОРУС, 200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Бабкин А.В. Специальные виды туризма М: Советский спорт, 200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Балабанов И.Т., Балабанов А.И. Экономика туризма. М., Финансы и статистика , 20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Биржаков М.Б. Введение в туризм. - СПб., 2001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Бриггс С. Маркетинг в туризме, М.,Финансы и статистика 200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Головлева Е.Л. Основы рекламы, Р-н-Д, Феникс, 20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Сенин В.С. Организация международного туризма: Учебник. - М.: Финансы и статистика, 200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. Экономика и организация туризма: международный туризм / Под ред. И.А. Рябовой, Ю.В. Забаева, Е.Л. Драчевой. - М.: КНОРУС, 2005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. Сайт - Областной центр народного творч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6:22:59Z</dcterms:created>
  <dc:creator>Luk</dc:creator>
  <dc:description/>
  <dc:language>en-US</dc:language>
  <cp:lastModifiedBy>Admin</cp:lastModifiedBy>
  <dcterms:modified xsi:type="dcterms:W3CDTF">2023-04-15T10:28:18Z</dcterms:modified>
  <cp:revision>143</cp:revision>
  <dc:subject/>
  <dc:title>Технология устройства отделочных покрытий</dc:title>
</cp:coreProperties>
</file>