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7E5-E191-4D60-BF22-66F494C1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93B-D465-4836-8765-A3AAF958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768-D052-45C2-9C00-5B0B413D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009-6458-40C0-AB81-5EB3F3E3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54F-3932-4706-B4F7-43A9692A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E73-5AC7-450A-B299-4267574A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C48-7BD5-4AC8-8E5E-16DA1A36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A0C-B1D0-45A2-AF7B-13293DE4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2C9-2F17-4A85-B593-8A6803AF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8E1-7489-44D6-91E6-D119C343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CF3-065F-44CA-A067-00F10D71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D9D-2DAD-4539-AC32-31DED44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209F-EA25-448B-8BCF-C95D7A466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molsk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vspirina@palmarytravel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http://www.smolsk.ru/img/smolbuidcolled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5480" y="244440"/>
            <a:ext cx="873000" cy="1047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Герб Смоленской области — Википедия"/>
          <p:cNvPicPr/>
          <p:nvPr/>
        </p:nvPicPr>
        <p:blipFill>
          <a:blip r:embed="rId3"/>
          <a:stretch/>
        </p:blipFill>
        <p:spPr>
          <a:xfrm>
            <a:off x="7434360" y="285840"/>
            <a:ext cx="1008000" cy="1123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6012000" y="50007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авчен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Любовь Иль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71680" y="50007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тудентка группы  Т-1-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ол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алерия Стани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4"/>
          <a:stretch/>
        </p:blipFill>
        <p:spPr>
          <a:xfrm>
            <a:off x="1116000" y="2925720"/>
            <a:ext cx="6699240" cy="1438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3413880" y="785880"/>
            <a:ext cx="231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43.02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285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1117440" y="1496880"/>
            <a:ext cx="690912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ая квалификационная работ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ДИПЛОМН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rnival's Seaside Theatre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 палубе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Борис\Desktop\cruise9.jpg"/>
          <p:cNvPicPr/>
          <p:nvPr/>
        </p:nvPicPr>
        <p:blipFill>
          <a:blip r:embed="rId1"/>
          <a:stretch/>
        </p:blipFill>
        <p:spPr>
          <a:xfrm>
            <a:off x="285840" y="857160"/>
            <a:ext cx="8582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rnival Waterworks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 палубе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Борис\Desktop\cruise6.jpg"/>
          <p:cNvPicPr/>
          <p:nvPr/>
        </p:nvPicPr>
        <p:blipFill>
          <a:blip r:embed="rId1"/>
          <a:stretch/>
        </p:blipFill>
        <p:spPr>
          <a:xfrm>
            <a:off x="271440" y="857160"/>
            <a:ext cx="8601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нутренняя каю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Борис\Desktop\inner cabin.jpg"/>
          <p:cNvPicPr/>
          <p:nvPr/>
        </p:nvPicPr>
        <p:blipFill>
          <a:blip r:embed="rId1"/>
          <a:stretch/>
        </p:blipFill>
        <p:spPr>
          <a:xfrm>
            <a:off x="257040" y="819000"/>
            <a:ext cx="86011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ижняя каюта с балко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Борис\Desktop\low balcony cabin.jpg"/>
          <p:cNvPicPr/>
          <p:nvPr/>
        </p:nvPicPr>
        <p:blipFill>
          <a:blip r:embed="rId1"/>
          <a:stretch/>
        </p:blipFill>
        <p:spPr>
          <a:xfrm>
            <a:off x="290520" y="847800"/>
            <a:ext cx="8562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тоимость круиза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arnival Ma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7120" y="857160"/>
          <a:ext cx="8501040" cy="3286080"/>
        </p:xfrm>
        <a:graphic>
          <a:graphicData uri="http://schemas.openxmlformats.org/drawingml/2006/table">
            <a:tbl>
              <a:tblPr/>
              <a:tblGrid>
                <a:gridCol w="3627360"/>
                <a:gridCol w="1182960"/>
                <a:gridCol w="1180800"/>
                <a:gridCol w="1214640"/>
                <a:gridCol w="1295280"/>
              </a:tblGrid>
              <a:tr h="785880"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каю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к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изный Тари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оры и нал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цена круи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 вз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70040">
                <a:tc>
                  <a:txBody>
                    <a:bodyPr lIns="29880" rIns="2988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юта внутренняя, палуба 6 </a:t>
                      </a: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PP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 4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к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29880" rIns="2988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юта нижняя с балконом, палуба 1 Main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тегория 7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к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29880" rIns="2988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юта верхняя с балконом, палуба Verandah 8, категория 8</a:t>
                      </a: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к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Заголовок 1"/>
          <p:cNvSpPr/>
          <p:nvPr/>
        </p:nvSpPr>
        <p:spPr>
          <a:xfrm>
            <a:off x="428760" y="4357800"/>
            <a:ext cx="82296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оимость круиза вх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вание в каюте выбранной категории, портовые сборы, правительственные налоги, многоразовое питание на лайнере - по системе "все включено", все развлекательные и спортивные программы, детские программы, пользование бассейном, тренажерным залом, библиотекой, кинотеатры, дискотека, шоу программы и многое другое. А также приглашение от круизной компании для оформления многоразовой Шенген визы в посоль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ключено в стоимост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ные напитки, ресторан предварительного заказа, услуги Спа - центра, услуги прачечной, другие услуги личного, персонального характера. Круизная компания может установить Топливный сбор в случае если стоимость нефти марки light sweet на Нью-Йоркской бирже NYMEX превысит цену 70$ за баррель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дельно оплачивает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иаперелет до Барселоны, экскурсии в портах захода, трансферы, страховой полис, консульский сбор за Шенген визу, подготовка и подача документов в посольство, чаевые (90$ с 1 человека снимается на борту), дополнительны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Борис\Desktop\ImageHandler.jpg"/>
          <p:cNvPicPr/>
          <p:nvPr/>
        </p:nvPicPr>
        <p:blipFill>
          <a:blip r:embed="rId1"/>
          <a:stretch/>
        </p:blipFill>
        <p:spPr>
          <a:xfrm>
            <a:off x="17640" y="1285920"/>
            <a:ext cx="9126360" cy="1182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положение кают на палуб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14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Палуба 6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Upper,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категория 4Е – каюты зелен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Users\Борис\Desktop\ImageHandlerCAFJ1TMD.jpg"/>
          <p:cNvPicPr/>
          <p:nvPr/>
        </p:nvPicPr>
        <p:blipFill>
          <a:blip r:embed="rId2"/>
          <a:stretch/>
        </p:blipFill>
        <p:spPr>
          <a:xfrm>
            <a:off x="50760" y="3214800"/>
            <a:ext cx="9021960" cy="1157040"/>
          </a:xfrm>
          <a:prstGeom prst="rect">
            <a:avLst/>
          </a:prstGeom>
          <a:ln w="0">
            <a:noFill/>
          </a:ln>
        </p:spPr>
      </p:pic>
      <p:sp>
        <p:nvSpPr>
          <p:cNvPr id="87" name="Заголовок 1"/>
          <p:cNvSpPr/>
          <p:nvPr/>
        </p:nvSpPr>
        <p:spPr>
          <a:xfrm>
            <a:off x="142920" y="264312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алуба 1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Main,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категория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7C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– каюты сиренев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Users\Борис\Desktop\ImageHandlerCA4MVK2K.jpg"/>
          <p:cNvPicPr/>
          <p:nvPr/>
        </p:nvPicPr>
        <p:blipFill>
          <a:blip r:embed="rId3"/>
          <a:stretch/>
        </p:blipFill>
        <p:spPr>
          <a:xfrm>
            <a:off x="0" y="5214960"/>
            <a:ext cx="9180360" cy="146520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1"/>
          <p:cNvSpPr/>
          <p:nvPr/>
        </p:nvSpPr>
        <p:spPr>
          <a:xfrm>
            <a:off x="285840" y="471492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Палуба 8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Verandah, 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категория 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</a:rPr>
              <a:t>8D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 – каюты зелен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плата круи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357120" y="857160"/>
            <a:ext cx="8501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уиз можно оплатить полностью или частями, согласно таблице ни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аютах возможно размещение третьего и четвертого пассажира, стоимость зависит от категории каюты и варьируется от 7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 9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Такие каюты необходимо бронировать сразу с указанием количества мес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полной опла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оимость за третьего и четвертого пассажира не зависит от возраста пассажира! (ребенок или взросл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на лайнер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nival Magi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пускаются с 1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42960" y="3000240"/>
          <a:ext cx="7929720" cy="3286440"/>
        </p:xfrm>
        <a:graphic>
          <a:graphicData uri="http://schemas.openxmlformats.org/drawingml/2006/table">
            <a:tbl>
              <a:tblPr/>
              <a:tblGrid>
                <a:gridCol w="2187720"/>
                <a:gridCol w="1366560"/>
                <a:gridCol w="1366920"/>
                <a:gridCol w="1549440"/>
                <a:gridCol w="1459080"/>
              </a:tblGrid>
              <a:tr h="785880"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каю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ая 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ая о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1.11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0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тья о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11 – 31.03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770040">
                <a:tc>
                  <a:txBody>
                    <a:bodyPr lIns="29880" rIns="2988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юта внутрення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алуба 6 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PPER</a:t>
                      </a: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тегория 4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700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29880" rIns="2988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юта нижняя с балконом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алуба 1 Main, категория 7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00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29880" rIns="2988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аюта верхняя с балконом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алуба Verandah 8, категория 8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000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плата круи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Заголовок 1"/>
          <p:cNvSpPr/>
          <p:nvPr/>
        </p:nvSpPr>
        <p:spPr>
          <a:xfrm>
            <a:off x="214200" y="642960"/>
            <a:ext cx="8786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ая сумма с депозита, которая может быть использована в оплате за круиз – 175 ев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old Certifica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 оплате круиза оценивается как 650 долла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lver Certifica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 оплате круиза оценивается как 350 долла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полнительное место в каюте (третье и четвертое место для ребенка или взрослого) оплачивается только наличными, без использования депоз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28840" y="2214720"/>
          <a:ext cx="6429240" cy="1928520"/>
        </p:xfrm>
        <a:graphic>
          <a:graphicData uri="http://schemas.openxmlformats.org/drawingml/2006/table">
            <a:tbl>
              <a:tblPr/>
              <a:tblGrid>
                <a:gridCol w="1834920"/>
                <a:gridCol w="2482920"/>
                <a:gridCol w="2111400"/>
              </a:tblGrid>
              <a:tr h="657000"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642960"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700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USD</a:t>
                      </a: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= 519 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 USD = 345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USD = 370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00 USD = 741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 USD = 567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29880" rIns="2988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USD = 593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4320">
                      <a:solidFill>
                        <a:srgbClr val="777777"/>
                      </a:solidFill>
                    </a:lnL>
                    <a:lnR w="4320">
                      <a:solidFill>
                        <a:srgbClr val="777777"/>
                      </a:solidFill>
                    </a:lnR>
                    <a:lnT w="4320">
                      <a:solidFill>
                        <a:srgbClr val="777777"/>
                      </a:solidFill>
                    </a:lnT>
                    <a:lnB w="4320">
                      <a:solidFill>
                        <a:srgbClr val="7777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Заголовок 1"/>
          <p:cNvSpPr/>
          <p:nvPr/>
        </p:nvSpPr>
        <p:spPr>
          <a:xfrm>
            <a:off x="357120" y="4286160"/>
            <a:ext cx="8643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лата за бронирование круиза наличными осуществля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в евро только с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ASH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чет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ур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н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SH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е недостаточно денег, то оплата осуществляется толь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в долларах на долларовый счет компан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бы отправить банковский перевод в компанию, зайдите в свой виртуальный кошелек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против счет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arnival Cruise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жмите на кнопку Пополнит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Далее впишите сумму в долларах, которую вы хотите отправить и распечатайте инвойс для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оплаты через банк, пришлите копию вашего перевода на емейл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spirina@palmarytravel.com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с указанием категории каюты, вашим именем и логи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Бонус за заказ круиза в структ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14240" y="1000080"/>
          <a:ext cx="7929720" cy="3214800"/>
        </p:xfrm>
        <a:graphic>
          <a:graphicData uri="http://schemas.openxmlformats.org/drawingml/2006/table">
            <a:tbl>
              <a:tblPr/>
              <a:tblGrid>
                <a:gridCol w="3357720"/>
                <a:gridCol w="1458720"/>
                <a:gridCol w="1522440"/>
                <a:gridCol w="1590840"/>
              </a:tblGrid>
              <a:tr h="10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тегория заказанной каю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лата круиза без депоз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лата круи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 депози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 ев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лата круи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 депози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5 ев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Каюта внутренняя 4</a:t>
                      </a: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Каюта нижняя с балконом 7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Каюта верхняя с балконом 8</a:t>
                      </a: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Заголовок 1"/>
          <p:cNvSpPr/>
          <p:nvPr/>
        </p:nvSpPr>
        <p:spPr>
          <a:xfrm>
            <a:off x="357120" y="4429080"/>
            <a:ext cx="85726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уизный бонус начисляется максимум на 10 поколений струк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круизный счет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rnival Cru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бы получать круизный бонус с 10 поколений вашей структуры – на вашем круизном счете должна быть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ная оплата за любую кают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бы получать круизный бонус с 5 поколений вашей структуры – достаточно иметь тольк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оплату за любую кают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ы пока не забронировали круиз, то в начислении круизного бонуса вы не участвует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026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ОНД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almary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в июле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85840" y="928800"/>
            <a:ext cx="85723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Января по Июль 2011 года Фонд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mary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удет накапливать бонусы от новых регистраций в компании по всему миру, от заказа повторных путешествий туристов, от заказа кру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июле 2011 года в Фонд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lmary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могут участвовать все партнер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ы впервые участвуете в разделении Фонд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и в июле 201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ваша квалификация на получение Фон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ашем первом уровне есть 10 лично приглашенных партн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лично ездили в круиз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nival Cruise c Palmary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юте с балк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е человек с вашего первого уровня также ездили в круиз в каюте с балк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ы уже участвовали ранее в разделении Фонда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ваша квалифик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лично ездили в круиз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nival Cruise c Palmary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юте с балк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ь человек с вашего первого уровня также ездили в круиз в каюте с балк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чание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уиз должен быть заказан именно на ваш контракт. Если вы использу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ртификат или депозит другого партнера, то поездка засчитывается владельцу сертифик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ли депоз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из по Средиземному морю вместе с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lmary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лайнере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nival Magic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одготовил презентацию Божженков Ан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C:\Users\Борис\Desktop\ImageHandlerCA3XD6X4.jpg"/>
          <p:cNvPicPr/>
          <p:nvPr/>
        </p:nvPicPr>
        <p:blipFill>
          <a:blip r:embed="rId1"/>
          <a:stretch/>
        </p:blipFill>
        <p:spPr>
          <a:xfrm>
            <a:off x="1101600" y="1341360"/>
            <a:ext cx="72424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285840" y="428760"/>
            <a:ext cx="857232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mary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бронировала на лайнер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nival Magic 15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ют тре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уиз оплачивается нашими партнерами в долларах, поэтому стоимость может периодически меняться в зависимости от курса доллара к ев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только все 150 кают будут выкуплены нашими партнерами, т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mary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старается забронировать дополнительные каюты для желающих туристов. Однако цена может быть выше. Поэтому заказывайте каюты заранее по выгодной цене уже сейча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курсии в портах захода не входят в стоимость круиза. Ближе к началу круиза компания предложит вам пакет экскурсий, который вы сможете заранее оплатить по выгодной цен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ументы для оформления Шенген мульти визы в посольстве присылаются  туристу за 2 – 1,5 месяца до начала круиза, и только после полной 100% опл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жде чем заказывать круиз, убедитесь, что у вас есть возможность открыть Шенген визу: ваш заграничный паспорт имеет длительный срок действия, в вашем паспорте нет штампов, которые могут помешать работникам посольства открыть визу, ваши данные не находятся в «черном списке» и другие возможные ограничения, которые вы узнаете в посольстве или визовом центре вашего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чему круиз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rnival Magic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alma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285840" y="928800"/>
            <a:ext cx="857232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Компания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Palmary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сотрудничает с известным круизным оператором, который много лет успешно занимается продажей круизов, и предоставляет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Palmary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особые условия бронирования и ц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Стоимость круиза с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Palmary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не отличается от официально представленной цены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Carnival Mag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Для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Palmary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лайнер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Carnival Magic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предложил лучшие категории кают, которые обычно раскупаются в первую очере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Щадящий способ оплаты по частям, который вам предложат только в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Palm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 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Возможность накопить нужную сумму на круиз благодаря бонусной программе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Palm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Если вы едете в круиз с друзьями, то у вас появляется реальный шанс участвовать в разделении Фонда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Palmary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в июле 2011 года – эти деньги вы сможете получить наличными или потратить на другое путешеств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 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В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Palmary</a:t>
            </a:r>
            <a:r>
              <a:rPr b="0" lang="ru-RU" sz="1400" spc="-1" strike="noStrike">
                <a:solidFill>
                  <a:srgbClr val="0070c0"/>
                </a:solidFill>
                <a:latin typeface="Verdana"/>
                <a:ea typeface="Arial"/>
              </a:rPr>
              <a:t> вы можете познакомиться с интересными и позитивными людьми из разных стран мира, обрести много новых друзе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ршрут круиза пройдет по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ивейшим городам Евро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Борис\Desktop\cruise plan.jpg"/>
          <p:cNvPicPr/>
          <p:nvPr/>
        </p:nvPicPr>
        <p:blipFill>
          <a:blip r:embed="rId1"/>
          <a:stretch/>
        </p:blipFill>
        <p:spPr>
          <a:xfrm>
            <a:off x="1104840" y="1197000"/>
            <a:ext cx="72421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arnival Magic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отплывает из Барселоны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3 июня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Борис\Desktop\cruise time.jpg"/>
          <p:cNvPicPr/>
          <p:nvPr/>
        </p:nvPicPr>
        <p:blipFill>
          <a:blip r:embed="rId1"/>
          <a:stretch/>
        </p:blipFill>
        <p:spPr>
          <a:xfrm>
            <a:off x="299880" y="1486080"/>
            <a:ext cx="8544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arnival Ma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500040" y="114300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arnival Magic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овый круизный лайнер, построенный в Ита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орабль рассчитан на 4,200 пассажиров, всего имеет 17 палуб, 1820 к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лайнере 8 ресторанов и кафе, 12 баров; 4 бассейна (из них - два с раздвижной крышей), аквапарк, 10 джакузи, солярий на открытых палубах; тренажерный зал, спортивная площадка (баскетбол, волейбол, теннис), беговая дорожка на открытой палубе, мини-гольф; SPA-центр (3.000 кв. м), салон красоты, парикмахер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А также казино, театр, ночной клуб, дискотека, кинотеатр на открытой палубе, интернет-кафе, библиотека, картинная галерея, медицинский центр, торговая галер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ля детей: 3 мини-клуба, детский бассейн, видео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ido Restaurant &amp; Gr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Борис\Desktop\cruise3.jpg"/>
          <p:cNvPicPr/>
          <p:nvPr/>
        </p:nvPicPr>
        <p:blipFill>
          <a:blip r:embed="rId1"/>
          <a:stretch/>
        </p:blipFill>
        <p:spPr>
          <a:xfrm>
            <a:off x="285840" y="857160"/>
            <a:ext cx="85820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70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еатр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in Show Lou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Борис\Desktop\cruise8.jpg"/>
          <p:cNvPicPr/>
          <p:nvPr/>
        </p:nvPicPr>
        <p:blipFill>
          <a:blip r:embed="rId1"/>
          <a:stretch/>
        </p:blipFill>
        <p:spPr>
          <a:xfrm>
            <a:off x="285840" y="809640"/>
            <a:ext cx="85723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омплекс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loud 9 S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Борис\Desktop\cruise5.jpg"/>
          <p:cNvPicPr/>
          <p:nvPr/>
        </p:nvPicPr>
        <p:blipFill>
          <a:blip r:embed="rId1"/>
          <a:stretch/>
        </p:blipFill>
        <p:spPr>
          <a:xfrm>
            <a:off x="285840" y="866880"/>
            <a:ext cx="85820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ассейн на палубе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Борис\Desktop\cruise7.jpg"/>
          <p:cNvPicPr/>
          <p:nvPr/>
        </p:nvPicPr>
        <p:blipFill>
          <a:blip r:embed="rId1"/>
          <a:stretch/>
        </p:blipFill>
        <p:spPr>
          <a:xfrm>
            <a:off x="304920" y="785880"/>
            <a:ext cx="85532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8:45:52Z</dcterms:created>
  <dc:creator>MAESTRO</dc:creator>
  <dc:description/>
  <dc:language>en-US</dc:language>
  <cp:lastModifiedBy>Admin</cp:lastModifiedBy>
  <dcterms:modified xsi:type="dcterms:W3CDTF">2023-04-15T11:15:06Z</dcterms:modified>
  <cp:revision>80</cp:revision>
  <dc:subject/>
  <dc:title>Carnival Magic</dc:title>
</cp:coreProperties>
</file>