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F70-6F36-4C41-9443-EEA9F08F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3A1-0174-40AF-9000-54C18CB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BE6-55B5-47F1-979B-4FF0D1F7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078-9A19-4B21-A3FC-5D7F064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FDCD-C794-4655-9F9E-53D5640D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7269-DC1D-4E04-AF4C-A3431C1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41DE-4B30-4331-B6FF-4EC3101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67A-535D-4A48-9464-A826DB4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426D-941A-4FA2-BD6D-B601733C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FCF-BAB7-4EB0-A6B6-300FF66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AD9-E039-4AF4-97C7-423C457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464-1A60-47E2-BDB2-0A6E748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443F-2AE4-4941-AC46-F07A8DA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53EE-C07D-4315-AEFB-1E52A19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32E7-E759-445E-B1C8-475AAA1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9D0E-FECE-49EE-81DA-8FE00F1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FFD9-EE4A-4697-B690-AC46150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4484-D820-4360-B019-9C38853E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7565-26C4-4993-B97D-2CA03F7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E4ED-B6B4-476D-B5F2-8AB58EDB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BB53-B7C7-4609-941A-1C46E703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C2F3-8977-45BF-8592-E8605CBF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ECC-5F55-4567-9AD6-A724C932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FD21-3358-490E-92B5-4D1E8C98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5F66-92D5-4357-9927-A6E244E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B2AB-165A-4C35-84D2-E9FC5C6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A9D3-FD84-46CC-9580-5D58E27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F3BE4-6665-413E-A440-12EA3F3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B0C1-513C-4D09-8A24-6C210AFF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B145-F126-4F66-862B-C7A3379B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27A-2622-4A58-9E38-FA57669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6C5-168F-4294-9B83-D45BE48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8F3-267F-4419-9B39-9E217424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50-311F-4C89-A664-DE25FB0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1ED-7E5E-4807-9899-68AB4F2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AA1-2C19-4EF9-B12E-6FA4A63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FD027-EB87-4886-A733-AA4D8030236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09AF4A-736D-4DF1-8868-30C7FBB0ACD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4BCB2-77DC-4299-A637-78C7EC349D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molsk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5"/>
          <p:cNvSpPr/>
          <p:nvPr/>
        </p:nvSpPr>
        <p:spPr>
          <a:xfrm>
            <a:off x="2095560" y="5000760"/>
            <a:ext cx="442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</a:rPr>
              <a:t>студентка группы  Т-1-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</a:rPr>
              <a:t>Валерия Ста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7536240" y="5000760"/>
            <a:ext cx="302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</a:rPr>
              <a:t>Савче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22a35"/>
                </a:solidFill>
                <a:latin typeface="Times New Roman"/>
              </a:rPr>
              <a:t>Любовь Иль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8" descr="http://www.smolsk.ru/img/smolbuidcolled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0080" y="244080"/>
            <a:ext cx="871200" cy="1047960"/>
          </a:xfrm>
          <a:prstGeom prst="rect">
            <a:avLst/>
          </a:prstGeom>
          <a:ln w="9525">
            <a:noFill/>
          </a:ln>
        </p:spPr>
      </p:pic>
      <p:sp>
        <p:nvSpPr>
          <p:cNvPr id="126" name="Прямоугольник 10"/>
          <p:cNvSpPr/>
          <p:nvPr/>
        </p:nvSpPr>
        <p:spPr>
          <a:xfrm>
            <a:off x="1523880" y="2858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642040" y="3245400"/>
            <a:ext cx="6532200" cy="12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  <a:scene3d>
              <a:camera prst="orthographicFront"/>
              <a:lightRig rig="threePt" dir="t"/>
            </a:scene3d>
            <a:sp3d prstMaterial="softEdge">
              <a:bevelT w="38100" h="38100"/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Развитие туризма в Беларус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4933080" y="787320"/>
            <a:ext cx="2325240" cy="57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43.02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Герб Смоленской области — Википедия"/>
          <p:cNvPicPr/>
          <p:nvPr/>
        </p:nvPicPr>
        <p:blipFill>
          <a:blip r:embed="rId3"/>
          <a:stretch/>
        </p:blipFill>
        <p:spPr>
          <a:xfrm>
            <a:off x="8957880" y="285840"/>
            <a:ext cx="1007640" cy="112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2040" y="1497600"/>
            <a:ext cx="6907680" cy="154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ускная квалификационная работ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А ДИПЛОМНОГО ПРОЕК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0680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3800" y="87480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ая остановка: Минск – Музей В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бъект 2"/>
          <p:cNvSpPr/>
          <p:nvPr/>
        </p:nvSpPr>
        <p:spPr>
          <a:xfrm>
            <a:off x="210240" y="2260080"/>
            <a:ext cx="1083960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2000"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закончим мы наше путешествие в Минске в музее ВОВ. Основан 30 сентября 1943 года по постановлению Бюро ЦК КП(б)Б. Открыт 7 ноября 1944 года.2 июля 2014 года музей переехал в новое здание.Новое здание музея в комплексе с обелиском «Минск — город-герой» составляет единый архитектурный ансамбль. Главный фасад здания музея выполнен в виде символических лучей салюта Победы. На каждом луче — скульптурные рельефы о событиях войны.Музей в архитектурном плане состоит из 4 блоков по количеству военных лет. Блоки объединяет экспозиционная галерея «Дорога войны». В музее 10 экспозиционных залов и зал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594360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2" descr="http://s1.fotokto.ru/concurs/photo/full/8/86828.jpg"/>
          <p:cNvPicPr/>
          <p:nvPr/>
        </p:nvPicPr>
        <p:blipFill>
          <a:blip r:embed="rId1"/>
          <a:stretch/>
        </p:blipFill>
        <p:spPr>
          <a:xfrm>
            <a:off x="422280" y="3628800"/>
            <a:ext cx="4822200" cy="302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s://pp.userapi.com/c834203/v834203939/10c448/vNCfGUX5sTQ.jpg"/>
          <p:cNvPicPr/>
          <p:nvPr/>
        </p:nvPicPr>
        <p:blipFill>
          <a:blip r:embed="rId2"/>
          <a:stretch/>
        </p:blipFill>
        <p:spPr>
          <a:xfrm>
            <a:off x="6348960" y="3628800"/>
            <a:ext cx="49316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9996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3888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ая остановка: Минск –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бъект 2"/>
          <p:cNvSpPr/>
          <p:nvPr/>
        </p:nvSpPr>
        <p:spPr>
          <a:xfrm>
            <a:off x="255240" y="2206800"/>
            <a:ext cx="1133784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осещения музея можно прогуляться по ночному Минску. Он особенно красив в это время. От музея ВОВ можно пешком добраться до цента города и увидеть красоту Мин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94360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http://img-1.photosight.ru/5b8/5160966_xlarge.jpg"/>
          <p:cNvPicPr/>
          <p:nvPr/>
        </p:nvPicPr>
        <p:blipFill>
          <a:blip r:embed="rId1"/>
          <a:stretch/>
        </p:blipFill>
        <p:spPr>
          <a:xfrm>
            <a:off x="7795800" y="4019760"/>
            <a:ext cx="4151880" cy="2768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s://cdn.photoclub.by/images/main38/384130_main.jpg"/>
          <p:cNvPicPr/>
          <p:nvPr/>
        </p:nvPicPr>
        <p:blipFill>
          <a:blip r:embed="rId2"/>
          <a:stretch/>
        </p:blipFill>
        <p:spPr>
          <a:xfrm>
            <a:off x="82080" y="4019760"/>
            <a:ext cx="3970080" cy="276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vilenia.com/wp-content/uploads/2014/05/bel_0021.jpg"/>
          <p:cNvPicPr/>
          <p:nvPr/>
        </p:nvPicPr>
        <p:blipFill>
          <a:blip r:embed="rId3"/>
          <a:stretch/>
        </p:blipFill>
        <p:spPr>
          <a:xfrm>
            <a:off x="4122360" y="4019760"/>
            <a:ext cx="36259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9880" y="3286080"/>
            <a:ext cx="6640200" cy="34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ристический потенциал Беларуси заключается в многообразии и красоте природы, уникальности историко-культурного наследия. В республике насчитывается более 15 тыс. объектов, имеющих историческую, культурную, архитектурную значимость, а также памятных мест, связанных с именами выдающихся деятелей мировой истории и культур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http://www.shampan.by/upload/medialibrary/f14/f14df0453614ebf59117126d5c740a40.jpg"/>
          <p:cNvPicPr/>
          <p:nvPr/>
        </p:nvPicPr>
        <p:blipFill>
          <a:blip r:embed="rId1"/>
          <a:stretch/>
        </p:blipFill>
        <p:spPr>
          <a:xfrm>
            <a:off x="6919920" y="3429000"/>
            <a:ext cx="5271840" cy="342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s://avatars.mds.yandex.net/get-pdb/251121/2d974fa4-aa19-4753-ade7-608929bb9cb1/s1200?webp=false"/>
          <p:cNvPicPr/>
          <p:nvPr/>
        </p:nvPicPr>
        <p:blipFill>
          <a:blip r:embed="rId2"/>
          <a:stretch/>
        </p:blipFill>
        <p:spPr>
          <a:xfrm>
            <a:off x="-416160" y="-25560"/>
            <a:ext cx="4941360" cy="289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s://thetrip.ru/media/3142167.jpg"/>
          <p:cNvPicPr/>
          <p:nvPr/>
        </p:nvPicPr>
        <p:blipFill>
          <a:blip r:embed="rId3"/>
          <a:stretch/>
        </p:blipFill>
        <p:spPr>
          <a:xfrm>
            <a:off x="4146120" y="-25560"/>
            <a:ext cx="4304520" cy="289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g-0.photosight.ru/4a7/4824894_large.jpg"/>
          <p:cNvPicPr/>
          <p:nvPr/>
        </p:nvPicPr>
        <p:blipFill>
          <a:blip r:embed="rId4"/>
          <a:stretch/>
        </p:blipFill>
        <p:spPr>
          <a:xfrm>
            <a:off x="8451000" y="-25560"/>
            <a:ext cx="37407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1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888480" y="2510280"/>
            <a:ext cx="3639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:all b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888480" y="3278160"/>
            <a:ext cx="4709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:My 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http://puzzleit.ru/files/puzzles/12/11941/_original.jpg"/>
          <p:cNvPicPr/>
          <p:nvPr/>
        </p:nvPicPr>
        <p:blipFill>
          <a:blip r:embed="rId1"/>
          <a:stretch/>
        </p:blipFill>
        <p:spPr>
          <a:xfrm>
            <a:off x="7453440" y="202320"/>
            <a:ext cx="4613760" cy="1721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luckytrvl.com/wp-content/uploads/2017/01/kultura.jpg"/>
          <p:cNvPicPr/>
          <p:nvPr/>
        </p:nvPicPr>
        <p:blipFill>
          <a:blip r:embed="rId2"/>
          <a:stretch/>
        </p:blipFill>
        <p:spPr>
          <a:xfrm>
            <a:off x="426600" y="3985200"/>
            <a:ext cx="3830040" cy="287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s://thinktanks.by/files/401/602/welcom_to_belarus.jpg"/>
          <p:cNvPicPr/>
          <p:nvPr/>
        </p:nvPicPr>
        <p:blipFill>
          <a:blip r:embed="rId3"/>
          <a:stretch/>
        </p:blipFill>
        <p:spPr>
          <a:xfrm>
            <a:off x="4667400" y="2095560"/>
            <a:ext cx="7524360" cy="4762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49120" y="202320"/>
            <a:ext cx="7079400" cy="37825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txBody>
          <a:bodyPr anchor="t">
            <a:normAutofit fontScale="68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уризма является одним из приоритетных направлений социально-экономического развития Республики Беларусь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ристский потенциал Беларуси базируется, главным образом, на многообразии, красоте и первозданности природы страны, уникальности историко-культурного наследия и состоит из более чем 15 тысяч объектов, имеющих историческую, культурную, архитектурную значимость, памятных мест, связанных с именами выдающихся деятелей мировой истории и культуры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, Беларусь имеет выгодное географическое положение. Говорят, что человеку, который захочет побывать в географическом центре Европы, надо просто купить билет до Минска – столицы Республики Беларус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s://im0-tub-by.yandex.net/i?id=814c23ab4b746e166b87ab106d36c952&amp;n=13"/>
          <p:cNvPicPr/>
          <p:nvPr/>
        </p:nvPicPr>
        <p:blipFill>
          <a:blip r:embed="rId1"/>
          <a:stretch/>
        </p:blipFill>
        <p:spPr>
          <a:xfrm>
            <a:off x="7817760" y="2484000"/>
            <a:ext cx="4373640" cy="4373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76480" y="204120"/>
            <a:ext cx="7707240" cy="364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rmAutofit fontScale="69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ая Национальная программа развития туризма в Республике Беларусь была принята в 2004 году. Итогом ее выполнения стал значительный рост экспорта туристических услуг, развитие туристической инфраструктуры в стране, упрощение въездного режима и условий пребывания иностранных граждан на территории Беларуси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 в Беларуси реализуется ряд госпрограмм, в которых предусмотрены меры и средства по созданию современной инфраструктуры туризма в различных регионах страны. Государственная программа "Беларусь гостеприимная" на 2016-2020 годы направлена на формирование и развитие современного конкурентоспособного туристического комплекса, увеличение вклада туризма в развитие национальной экономи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http://smoktravel.by/upload/resize_cache/iblock/321/1400_622_101a9461d51526113595f057e89280f5a/sputnik2.jpg"/>
          <p:cNvPicPr/>
          <p:nvPr/>
        </p:nvPicPr>
        <p:blipFill>
          <a:blip r:embed="rId2"/>
          <a:stretch/>
        </p:blipFill>
        <p:spPr>
          <a:xfrm>
            <a:off x="276480" y="3989880"/>
            <a:ext cx="7420680" cy="286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s://trofei.by/img/article/F3s1pbO2RSwIl5Sx.jpg?s=ebb833ef12fe22a2042f955b556d0223"/>
          <p:cNvPicPr/>
          <p:nvPr/>
        </p:nvPicPr>
        <p:blipFill>
          <a:blip r:embed="rId3"/>
          <a:stretch/>
        </p:blipFill>
        <p:spPr>
          <a:xfrm>
            <a:off x="8354160" y="204120"/>
            <a:ext cx="3561120" cy="22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30320" y="51120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тдых на любой вкус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 Беларуси уделяется внимание развитию 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600" y="4617360"/>
            <a:ext cx="3685680" cy="1996560"/>
          </a:xfrm>
          <a:prstGeom prst="rect">
            <a:avLst/>
          </a:prstGeom>
          <a:solidFill>
            <a:schemeClr val="accent2"/>
          </a:solidFill>
          <a:ln w="7632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оэкотуризма. Сегодня туристов готовы принять около 2 тыс. сельских усадеб. Все они абсолютно разные и по-своему колоритны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бъект 2"/>
          <p:cNvSpPr/>
          <p:nvPr/>
        </p:nvSpPr>
        <p:spPr>
          <a:xfrm>
            <a:off x="8077320" y="4617360"/>
            <a:ext cx="3993480" cy="1996560"/>
          </a:xfrm>
          <a:prstGeom prst="rect">
            <a:avLst/>
          </a:prstGeom>
          <a:solidFill>
            <a:schemeClr val="accent2">
              <a:alpha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лигиозного туризма. Верующие приезжают поклониться чудотворным иконам и нетленным мощам белорусских святых: Евфросинии Полоцкой, праведной княгини Слуцкой 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10"/>
          <p:cNvCxnSpPr/>
          <p:nvPr/>
        </p:nvCxnSpPr>
        <p:spPr>
          <a:xfrm flipH="1">
            <a:off x="3936960" y="1540080"/>
            <a:ext cx="2159280" cy="514080"/>
          </a:xfrm>
          <a:prstGeom prst="straightConnector1">
            <a:avLst/>
          </a:prstGeom>
          <a:ln w="76200">
            <a:solidFill>
              <a:srgbClr val="5b9bd5"/>
            </a:solidFill>
            <a:tailEnd len="med" type="triangle" w="med"/>
          </a:ln>
        </p:spPr>
      </p:cxnSp>
      <p:cxnSp>
        <p:nvCxnSpPr>
          <p:cNvPr id="143" name="Прямая со стрелкой 13"/>
          <p:cNvCxnSpPr/>
          <p:nvPr/>
        </p:nvCxnSpPr>
        <p:spPr>
          <a:xfrm>
            <a:off x="6095880" y="1540080"/>
            <a:ext cx="1670040" cy="514080"/>
          </a:xfrm>
          <a:prstGeom prst="straightConnector1">
            <a:avLst/>
          </a:prstGeom>
          <a:ln w="76200">
            <a:solidFill>
              <a:srgbClr val="5b9bd5"/>
            </a:solidFill>
            <a:tailEnd len="med" type="triangle" w="med"/>
          </a:ln>
        </p:spPr>
      </p:cxnSp>
      <p:cxnSp>
        <p:nvCxnSpPr>
          <p:cNvPr id="144" name="Прямая со стрелкой 15"/>
          <p:cNvCxnSpPr/>
          <p:nvPr/>
        </p:nvCxnSpPr>
        <p:spPr>
          <a:xfrm>
            <a:off x="6095880" y="1540080"/>
            <a:ext cx="360" cy="1341720"/>
          </a:xfrm>
          <a:prstGeom prst="straightConnector1">
            <a:avLst/>
          </a:prstGeom>
          <a:ln w="76200">
            <a:solidFill>
              <a:srgbClr val="5b9bd5"/>
            </a:solidFill>
            <a:tailEnd len="med" type="triangle" w="med"/>
          </a:ln>
        </p:spPr>
      </p:cxnSp>
      <p:cxnSp>
        <p:nvCxnSpPr>
          <p:cNvPr id="145" name="Прямая со стрелкой 19"/>
          <p:cNvCxnSpPr/>
          <p:nvPr/>
        </p:nvCxnSpPr>
        <p:spPr>
          <a:xfrm flipH="1">
            <a:off x="3140640" y="1540080"/>
            <a:ext cx="2955600" cy="2859840"/>
          </a:xfrm>
          <a:prstGeom prst="straightConnector1">
            <a:avLst/>
          </a:prstGeom>
          <a:ln w="76200">
            <a:solidFill>
              <a:srgbClr val="5b9bd5"/>
            </a:solidFill>
            <a:tailEnd len="med" type="triangle" w="med"/>
          </a:ln>
        </p:spPr>
      </p:cxnSp>
      <p:cxnSp>
        <p:nvCxnSpPr>
          <p:cNvPr id="146" name="Прямая со стрелкой 21"/>
          <p:cNvCxnSpPr/>
          <p:nvPr/>
        </p:nvCxnSpPr>
        <p:spPr>
          <a:xfrm>
            <a:off x="6095880" y="1540080"/>
            <a:ext cx="2465280" cy="2846520"/>
          </a:xfrm>
          <a:prstGeom prst="straightConnector1">
            <a:avLst/>
          </a:prstGeom>
          <a:ln w="76200">
            <a:solidFill>
              <a:srgbClr val="5b9bd5"/>
            </a:solidFill>
            <a:tailEnd len="med" type="triangle" w="med"/>
          </a:ln>
        </p:spPr>
      </p:cxnSp>
      <p:sp>
        <p:nvSpPr>
          <p:cNvPr id="147" name="Объект 2"/>
          <p:cNvSpPr/>
          <p:nvPr/>
        </p:nvSpPr>
        <p:spPr>
          <a:xfrm>
            <a:off x="3937320" y="3140640"/>
            <a:ext cx="3993480" cy="2475000"/>
          </a:xfrm>
          <a:prstGeom prst="rect">
            <a:avLst/>
          </a:prstGeom>
          <a:solidFill>
            <a:schemeClr val="accent2">
              <a:alpha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леных маршрутов, которые создаются вдоль естественных зеленых коридоров, долин рек, исторических торговых путей и старых железных дорог. Среди них - маршрут по Лепельскому району Витебской области, так же марштуты по рекам Гривда, Щара и Нем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120600" y="1542240"/>
            <a:ext cx="3685680" cy="2475000"/>
          </a:xfrm>
          <a:prstGeom prst="rect">
            <a:avLst/>
          </a:prstGeom>
          <a:solidFill>
            <a:schemeClr val="accent2">
              <a:alpha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6000"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о-историческому туризму. Люди приезжают в Беларусь из разных концов света, чтобы посетить памятные места, где вершилась история. О событиях прошлого напоминают замки и храмы оборонительного типа, памятники и стелы, установленные в честь знаменитых би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ъект 2"/>
          <p:cNvSpPr/>
          <p:nvPr/>
        </p:nvSpPr>
        <p:spPr>
          <a:xfrm>
            <a:off x="8077320" y="1540080"/>
            <a:ext cx="3993480" cy="2475000"/>
          </a:xfrm>
          <a:prstGeom prst="rect">
            <a:avLst/>
          </a:prstGeom>
          <a:solidFill>
            <a:schemeClr val="accent2">
              <a:alpha val="50000"/>
            </a:schemeClr>
          </a:solidFill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чебно-оздоровительного туризма. Отдых и оздоровление предлагают гостям 481 санаторно-курортная, оздоровительная организация и другие специализированные средства размещения., в том числе 76 санаториев и 2 пансио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069560"/>
            <a:ext cx="10877400" cy="144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В качестве путешествия на автомобиле мы предлагаем поехать по маршруту: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 Минск - Коссово - Ружаны - Сынковичи - Слоним - Минск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99200" y="2202840"/>
            <a:ext cx="6021000" cy="327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жде чем куда-то ехать за границу, нужно посмотреть достопримечательности в родной Беларус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бъект 2"/>
          <p:cNvSpPr/>
          <p:nvPr/>
        </p:nvSpPr>
        <p:spPr>
          <a:xfrm>
            <a:off x="409320" y="4044960"/>
            <a:ext cx="576108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рога туда-обратно составляет около 527 километров и занимает более шести часов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trofei.by/img/article/iWvvtIbhAEw27k6R.jpg?s=35b63cda8be89b2dbdb9b1ab27e0346a"/>
          <p:cNvPicPr/>
          <p:nvPr/>
        </p:nvPicPr>
        <p:blipFill>
          <a:blip r:embed="rId1"/>
          <a:stretch/>
        </p:blipFill>
        <p:spPr>
          <a:xfrm>
            <a:off x="6212520" y="3944160"/>
            <a:ext cx="5720760" cy="27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itd3.mycdn.me/image?id=804136456945&amp;t=20&amp;plc=WEB&amp;tkn=*3VbRvbneixQiExOxGKa4TG20Wvk"/>
          <p:cNvPicPr/>
          <p:nvPr/>
        </p:nvPicPr>
        <p:blipFill>
          <a:blip r:embed="rId2"/>
          <a:stretch/>
        </p:blipFill>
        <p:spPr>
          <a:xfrm>
            <a:off x="451080" y="2066040"/>
            <a:ext cx="54594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129240"/>
            <a:ext cx="12191760" cy="19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0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6600" y="897120"/>
            <a:ext cx="12525120" cy="12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ая остановка: Косово - Дворец Пусловски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бъект 2"/>
          <p:cNvSpPr/>
          <p:nvPr/>
        </p:nvSpPr>
        <p:spPr>
          <a:xfrm>
            <a:off x="263520" y="1975320"/>
            <a:ext cx="112179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орец построил воевода Казимир Пусловский. Его начали возводить в 1838 году. Здание создано в стиле неоготика и состоит из 12 башен, которые символизируют месяцы года. Говорят, что в здании был стеклянный пол, а под ним аквариум с рыбами, охранял здание живой ле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того как в 1863 году подавили восстание Кастуся Калиновского, дворец конфисковали и отдали московским аристократам. После Первой мировой войны его сильно разрушили, затем реконструировали и использовали в качестве административных помещений. Во время Второй мировой войны фашисты во дворце сделали гетто, в конце войны часть здания уничтожил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ttp://brest-region.gov.by/3D/Kossovo/img/1/1.jpg"/>
          <p:cNvPicPr/>
          <p:nvPr/>
        </p:nvPicPr>
        <p:blipFill>
          <a:blip r:embed="rId1"/>
          <a:stretch/>
        </p:blipFill>
        <p:spPr>
          <a:xfrm>
            <a:off x="712800" y="3777480"/>
            <a:ext cx="4807800" cy="294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alisman.brest.by/images/photos/medium/6c5f38894b2f3b652a56636b9fafbe74.jpg"/>
          <p:cNvPicPr/>
          <p:nvPr/>
        </p:nvPicPr>
        <p:blipFill>
          <a:blip r:embed="rId2"/>
          <a:stretch/>
        </p:blipFill>
        <p:spPr>
          <a:xfrm>
            <a:off x="6644160" y="3777480"/>
            <a:ext cx="4807800" cy="294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464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0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04120" y="865440"/>
            <a:ext cx="9014400" cy="11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торая остановка: Ружаны - Ружанский дворец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бъект 2"/>
          <p:cNvSpPr/>
          <p:nvPr/>
        </p:nvSpPr>
        <p:spPr>
          <a:xfrm>
            <a:off x="322920" y="1633680"/>
            <a:ext cx="1154556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ющий пункт путешествия – Ружаны. В начале XVII века город Ружаны принадлежал Льву Сапеге и   имел Магдебургское право. Недалеко от города находится Ружанский дворец, где жила семья Сапегов. Сегодня там идет реставр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bestbelarus.by/upload/iblock/c76/c76467d022c40c5c7bf52bb8840b3919.jpg"/>
          <p:cNvPicPr/>
          <p:nvPr/>
        </p:nvPicPr>
        <p:blipFill>
          <a:blip r:embed="rId1"/>
          <a:stretch/>
        </p:blipFill>
        <p:spPr>
          <a:xfrm>
            <a:off x="390960" y="3331800"/>
            <a:ext cx="5419800" cy="328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planetabelarus.by/upload/iblock/d29/d29394b43176415d616e8c0329695a40.jpg"/>
          <p:cNvPicPr/>
          <p:nvPr/>
        </p:nvPicPr>
        <p:blipFill>
          <a:blip r:embed="rId2"/>
          <a:stretch/>
        </p:blipFill>
        <p:spPr>
          <a:xfrm>
            <a:off x="6387480" y="3331800"/>
            <a:ext cx="541980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29520" y="815760"/>
            <a:ext cx="121917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0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200" y="815760"/>
            <a:ext cx="110862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тья остановка: Сынковичи – Церковь св. Архангела Михаил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бъект 2"/>
          <p:cNvSpPr/>
          <p:nvPr/>
        </p:nvSpPr>
        <p:spPr>
          <a:xfrm>
            <a:off x="199800" y="2183760"/>
            <a:ext cx="1188684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лее направляемся в Зельвенский район в Сынковичскую церковь. Это оборонительная церковь святого Архангела Михаила, построенная в стиле белорусской готики. Крепостной характер церкви подчеркивают четыре угловые башни. Винтовые лестницы в каждой из них соединяют интерьер храма с чердаком, где размещается главный оборонный ярус постройки. Сынковичская церковь за свою долгую историю послужила и православным, и униатам, и католикам. Долгое время в советские годы храм не действовал – в нем находилось овощехранилище. Верующим древнюю святыню вернули в 1993-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ttp://ntravel.by/wp-content/uploads/2016/11/2_synkovichi.jpg"/>
          <p:cNvPicPr/>
          <p:nvPr/>
        </p:nvPicPr>
        <p:blipFill>
          <a:blip r:embed="rId1"/>
          <a:stretch/>
        </p:blipFill>
        <p:spPr>
          <a:xfrm>
            <a:off x="231840" y="3662280"/>
            <a:ext cx="5512680" cy="31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www.fotobel.by/images/zelva/synkovichi_13.jpg"/>
          <p:cNvPicPr/>
          <p:nvPr/>
        </p:nvPicPr>
        <p:blipFill>
          <a:blip r:embed="rId2"/>
          <a:stretch/>
        </p:blipFill>
        <p:spPr>
          <a:xfrm>
            <a:off x="6341040" y="3662280"/>
            <a:ext cx="5618520" cy="31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1219176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0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инск - Коссово - Ружаны - Сынковичи - Слоним - Минс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600" y="1288800"/>
            <a:ext cx="10601640" cy="6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твёртая остановка: Слоним - Костела Святого апостола Андре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http://itd3.mycdn.me/image?id=851431318496&amp;t=20&amp;plc=WEB&amp;tkn=*OkDl97NfxyimV622JxUJar063TU"/>
          <p:cNvPicPr/>
          <p:nvPr/>
        </p:nvPicPr>
        <p:blipFill>
          <a:blip r:embed="rId1"/>
          <a:stretch/>
        </p:blipFill>
        <p:spPr>
          <a:xfrm>
            <a:off x="218880" y="3429000"/>
            <a:ext cx="5697360" cy="3182400"/>
          </a:xfrm>
          <a:prstGeom prst="rect">
            <a:avLst/>
          </a:prstGeom>
          <a:ln w="0">
            <a:noFill/>
          </a:ln>
        </p:spPr>
      </p:pic>
      <p:sp>
        <p:nvSpPr>
          <p:cNvPr id="173" name="Объект 2"/>
          <p:cNvSpPr/>
          <p:nvPr/>
        </p:nvSpPr>
        <p:spPr>
          <a:xfrm>
            <a:off x="218880" y="1757520"/>
            <a:ext cx="11764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тел Святого апостола Андрея, построен в стиле рококо. Во время Второй мировой войны костел уничтожили, с начала 90-х годов XX века его начали восстанавливать. Сейчас в нишах перед входом в костел помещены деревянные скульптуры апостолов Петра и Павла. Из алтаря на зрителей взирают скульптурная композиция «Распятие» и образ Божией Матери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s://www.holiday.by/files/sights/slonim_kosciol_andreya_c4eba8a66f015fd001bff3a0b8a65448859-thumb-900x600-proportional-w.jpg"/>
          <p:cNvPicPr/>
          <p:nvPr/>
        </p:nvPicPr>
        <p:blipFill>
          <a:blip r:embed="rId2"/>
          <a:stretch/>
        </p:blipFill>
        <p:spPr>
          <a:xfrm>
            <a:off x="6275160" y="3429000"/>
            <a:ext cx="569736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  <Words>602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6:19:12Z</dcterms:created>
  <dc:creator>Andrew</dc:creator>
  <dc:description/>
  <dc:language>en-US</dc:language>
  <cp:lastModifiedBy>Admin</cp:lastModifiedBy>
  <dcterms:modified xsi:type="dcterms:W3CDTF">2023-04-15T11:09:38Z</dcterms:modified>
  <cp:revision>24</cp:revision>
  <dc:subject/>
  <dc:title>Туризм в Бела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