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A5B04E-3055-461A-B4B7-C6EFEC2A0B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BA9CE7-1E8F-49AD-8EC4-EF87C73466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ите для добавления зам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94FFC94-2DCC-498A-A6B4-D93AE592F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7C66D0-7A62-42CA-9673-75249FCE27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25BBA6-0CA8-4F2B-BC04-1A107D669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1F5BA2-85BC-46E8-B1FC-247337C85B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я уроков должны быть крат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3CD8432-B747-4C1C-8651-CF247D063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полезна эта презентация для аудитории: предмет презентации больше заинтересует обучающихся, если они будут знать, почему он так важен для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компетенции ведущего презентации в данной области: кратко опишите свой опыт работы в этой сфере и уровень своей квалификации как преподав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510-FD2A-41E3-B7EB-26953525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544-C14C-4B39-8D84-8791D240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972-A997-448E-AE05-977EF1A5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475-D0F4-4798-BC65-FD6AF189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5944-1D0C-4C1A-92CC-4412977B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470F-2F57-4B00-9EE5-F98D3E01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E10-8B0C-4E8B-ADA3-F017690C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0A1C-588A-4C9F-9751-9DF8A9FC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DFF9-FF9B-4207-9CDD-09701420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57DC-007E-4764-A34C-A961478D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60BF-152F-4D57-8F17-59B54E2D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059-ED84-4763-B169-64E6673D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9909-9823-4F55-8A00-8AF4E45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BE16-FC78-4473-BDFF-E41CF70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8358-97C6-4C6D-87BD-D4C74ED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B50E-CE8E-4A2F-995F-651A03EB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8990-6121-45BB-A87C-7B93A708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0126-E5DB-4204-A5EA-38988605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49D7A-166A-4429-A426-53FD1EF4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C08BA-D264-464A-9E6A-0DCCC0BD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9DA2-4591-4753-90A9-9AE12AB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9533-AC50-47BE-910C-536AAEF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4E3-C870-442F-80FD-73264806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A96D-F788-46A0-A845-AA83C930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6F0C-AD9C-48C1-8325-EB77811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B6B8-25BE-4F6E-A3F8-5F4B4A6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11FC6-7E8C-446D-8E24-F8658FCF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2494F-1F67-4D01-BBA5-7364A036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CFA7-21AC-4A77-88DD-73861257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5DCF-2BD3-4D23-8409-3E2C94BD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EC68B-965A-4E18-827C-CCF2F12B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08BE-D76B-4F1B-81B4-D95F1DDA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CFAC-EEEE-4DA5-9732-9858AF5D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AB58-0800-4436-8D42-D71AFE8D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107B-EE27-44A1-A218-07645AF8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86D56-4DC0-416E-9004-C0709D88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B358-1FFE-4854-8243-7C8E011E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F5EEB-B83D-4F3A-832C-B697D08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89AC-4741-4F8E-B904-C56C5B7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E1DC7-C41C-44B2-A9AF-B473AA5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95D3-5C98-4E6F-B6A5-C4B380C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2F62D-1A5F-43BE-9C40-E9A7F6C0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8A0A-85E7-43DB-9634-A096BB70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228D1-C2CE-4DD1-A495-3901E095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D25-5C58-48BD-8431-0BB78674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DC8D7-8ACD-4061-8608-051C7268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A5370-224F-44FB-B489-8DE6B42B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5F33-A628-4AAF-B6FC-737A9F22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F2C8F-CE92-4AE8-8D9C-C52BA4A0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6E0CC-5EB5-48ED-AF0A-2F0362F9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C34F-A86B-4A11-AB93-C1418B8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E863-18C9-4951-886F-556C9F4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1E943-72AF-4E41-8ED6-4BB0C954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7FA2A-4E78-4462-A70E-85C7DF0E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40FC4-BF82-442D-8D18-D97205CC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2E5-2381-4467-B0BE-89F0E9F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19DDE-227A-4A11-885C-217EF00B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554-946B-4B19-813A-C57BFDF6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AC2C-F69E-416D-9621-ADFD25CD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9AE-5F35-41F9-9C89-C8B27FEA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5202-BC9D-4338-B3B1-4267022AA80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985E-000C-4D2C-9D4B-3976A515181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28E-34BC-4027-A735-CEBDE24B7E7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AD66-0B97-472F-8C2A-42DA579A02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3FF-2A8E-4C56-ABEE-A871BF8DB13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07280" cy="273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Отчет о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средней группы общеразвивающей направленности № 2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«Дружные ребята»</a:t>
            </a:r>
            <a:br>
              <a:rPr sz="2200"/>
            </a:br>
            <a:r>
              <a:rPr b="1" lang="ru-RU" sz="4100" spc="-1" strike="noStrike">
                <a:solidFill>
                  <a:srgbClr val="ff8d3e"/>
                </a:solidFill>
                <a:latin typeface="Times New Roman"/>
                <a:ea typeface="Times New Roman"/>
              </a:rPr>
              <a:t>за 2015-2016 учебный год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355640" y="4149360"/>
            <a:ext cx="4357800" cy="1996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Воспитатели: Дербилова А.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79766f"/>
                </a:solidFill>
                <a:latin typeface="Times New Roman"/>
                <a:ea typeface="Times New Roman"/>
              </a:rPr>
              <a:t>Фирюлина О.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68360" y="1268280"/>
          <a:ext cx="8207280" cy="4608720"/>
        </p:xfrm>
        <a:graphic>
          <a:graphicData uri="http://schemas.openxmlformats.org/drawingml/2006/table">
            <a:tbl>
              <a:tblPr/>
              <a:tblGrid>
                <a:gridCol w="1596960"/>
                <a:gridCol w="66103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равственно-патриотических чувств детей старшего дошкольного возраста через ознакомление с историей своей малой родин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eecc"/>
                    </a:solidFill>
                  </a:tcPr>
                </a:tc>
              </a:tr>
              <a:tr h="6321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 nsportal.ru http://nsportal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uli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san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ge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ee"/>
                    </a:solidFill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Организационная деятельность воспитателя коррекционных групп». (2013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ФГОС дошкольного образования» (2014г)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27129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одская конференция: «Развитие воспитательного и образовательного потенциала замещающей семьи как мера профилактики вторичного сиротств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Об основах системы профилактики безнадзорности и правонарушений несовершеннолетних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Взаимодействие органов и учреждений системы профилактики по профилактике употребления и распространения психотропных, наркотических и одурманивающих вещест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щание: «Регламент межведомственного взаимодействия: изменения, оформление материалов, сроки предоставления отчетов». (2016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200"/>
            </a:br>
            <a:r>
              <a:rPr b="1" lang="ru-RU" sz="2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Фирюлина Оксана Сергеевна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916280"/>
          <a:ext cx="8271000" cy="2230200"/>
        </p:xfrm>
        <a:graphic>
          <a:graphicData uri="http://schemas.openxmlformats.org/drawingml/2006/table">
            <a:tbl>
              <a:tblPr/>
              <a:tblGrid>
                <a:gridCol w="1515960"/>
                <a:gridCol w="6755040"/>
              </a:tblGrid>
              <a:tr h="831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 по познавательному развит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тека сюжетно – ролевы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: «Развитие эмоционального интеллект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«Театральная шкатулк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ответственным по социальной работе, наставником молодого специалиста Земляковой Н. 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8360" y="404280"/>
            <a:ext cx="75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 и проектов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Прямоугольник 2"/>
          <p:cNvSpPr/>
          <p:nvPr/>
        </p:nvSpPr>
        <p:spPr>
          <a:xfrm>
            <a:off x="468360" y="1341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развития муниципального автономного дошкольного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ая программа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чая программа группы общеразвивающей направленности для детей среднего возраста (4-5л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ционно – развивающая программа сопровождения ребенка с О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а кружковой работы по экспериментированию с детьми среднего до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Жизнь моей семьи» (семья Ивашики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Сохрани здоровье са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ан и реализован педагогический проект: «Будущие защитни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Реализация мероприятий, обеспечивающих взаимодействие с родителями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Прямоугольник 2"/>
          <p:cNvSpPr/>
          <p:nvPr/>
        </p:nvSpPr>
        <p:spPr>
          <a:xfrm>
            <a:off x="468360" y="1052640"/>
            <a:ext cx="8209080" cy="49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3 родительских собра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гра в средней группе», «Взаимодействие семьи и детского сада в укреплении здоровья дошкольников», «Грипп у маленьких детей», «Профилактика гриппа», «Без закаливания не обойтись»,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торожно! Тонкий лед», «Профилактика простудных заболеваний», «Как рассказать ребенку о бродячих собаках», и т.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городских соревнования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родителей в выставка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кетир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вместных мероприятий с родителями: «День матери»; «Осенняя ярмар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использование ИКТ технологий (21участни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2124000" y="4046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468360" y="866880"/>
            <a:ext cx="8280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меньшить заболеваемость детей на 1%, повысить индекс здоровья на 0,5%, увеличить посещаемость за счет комплекса профилактических меропри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изучить общеобразовательную программу дошкольного образования: «От рождения до школы». Под редакцией Н.Е. Верак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пройти курсы повышения квалификации по теме: «Современные подходы к организации образовательной деятельности и планированию образовательного процесса в ДОО в условиях реализации ФГОС дошкольного образов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едагогам аттестоваться на высшую квалификационную катег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участию в конкурсах различного уровня и спортивных мероприят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влекать родителей к активному использованию интернет-ресурсов. (сайт ДОУ, сайты педагог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еспечить охват детей спортивными секциями и кружками не менее 20% (5 дете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331640" y="2205000"/>
            <a:ext cx="6264360" cy="1008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</a:t>
            </a:r>
            <a:endParaRPr b="1" lang="en-US" sz="2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9640" y="141264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количество - 26 дете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мальчиков; 13 девоче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работу по обеспечению устойчивого развития ДОУ, доступности и безопасности воспитанников, всестороннее формировать личность ребенка с учетом его психофизического и социального развития, индивидуальных возможностей и склонностей, корректировать и компенсировать нарушения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95280" y="333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 их эмоционального благополучия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в период дошкольного детства, 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.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для развития детей в соответствии с их возрастными и индивидуальными особенностями.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развития их социальных, нравственных, эстетических, интеллектуальных, физических качеств, самостоятельности ребенка.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оциокультурной среды, соответствующей возрастным, индивидуальным, психологическим и физиологическим особенностям детей;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just">
              <a:lnSpc>
                <a:spcPct val="100000"/>
              </a:lnSpc>
              <a:spcBef>
                <a:spcPts val="249"/>
              </a:spcBef>
              <a:buClr>
                <a:srgbClr val="3300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владения воспитанниками необходимыми навыками и умениями по основным образовательным областям в соответствии с требованиями ФГОС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0" y="836280"/>
            <a:ext cx="4038480" cy="259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ец г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Объект 1" descr=""/>
          <p:cNvPicPr/>
          <p:nvPr/>
        </p:nvPicPr>
        <p:blipFill>
          <a:blip r:embed="rId1"/>
          <a:stretch/>
        </p:blipFill>
        <p:spPr>
          <a:xfrm>
            <a:off x="488880" y="1217520"/>
            <a:ext cx="4062600" cy="23338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6" descr=""/>
          <p:cNvPicPr/>
          <p:nvPr/>
        </p:nvPicPr>
        <p:blipFill>
          <a:blip r:embed="rId2"/>
          <a:stretch/>
        </p:blipFill>
        <p:spPr>
          <a:xfrm>
            <a:off x="4592520" y="1217520"/>
            <a:ext cx="3990960" cy="23338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7" descr=""/>
          <p:cNvPicPr/>
          <p:nvPr/>
        </p:nvPicPr>
        <p:blipFill>
          <a:blip r:embed="rId3"/>
          <a:stretch/>
        </p:blipFill>
        <p:spPr>
          <a:xfrm>
            <a:off x="1476360" y="3789360"/>
            <a:ext cx="6005520" cy="266400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2"/>
          <p:cNvSpPr/>
          <p:nvPr/>
        </p:nvSpPr>
        <p:spPr>
          <a:xfrm>
            <a:off x="2340000" y="342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11280" y="83664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посещаемости: 79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азатель заболеваемости: 7 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декс здоровья: 4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4"/>
          <p:cNvSpPr/>
          <p:nvPr/>
        </p:nvSpPr>
        <p:spPr>
          <a:xfrm>
            <a:off x="468360" y="981000"/>
            <a:ext cx="82072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из природного материала «Золотая ос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Природе края строки посвяща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чтецов «Югре – 8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Новогодней игрушк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, посвященный 85-летию ХМАО-Ю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рисунков и газет по пожар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Весенние рад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рисунков: «Мы выбираем здоровь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фотографий «Мой папа самый лучш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Кросс н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евнования «Лыжня для всех 201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Самотлорские роднич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атлетический кросс «Пробег Серебреннико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6"/>
          <p:cNvSpPr/>
          <p:nvPr/>
        </p:nvSpPr>
        <p:spPr>
          <a:xfrm>
            <a:off x="684360" y="2602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спитанников в смотрах, выставках, конкурсах, соревнованиях различн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68000" y="62028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гиональны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листовок и буклетов «Сохраним наш лес» живым!» в акц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рш парков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оделок «Мир заповедной природы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, посвященная 85-летию со Дня образования ХМАО-Юг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авторских фотографий «Эковзгляд» в акции «Марш парков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российский уровень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ечтай! Исследуй! Размышляй!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Космическое притяжение» (3 человека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сероссийский интерактивный конкурс «Весенние радости» 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сероссийский интерактивный конкурс «Мы выбираем здоровье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Мир безопасности», проект «Кругозор» (24 человек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«Зимняя сказка» (диплом 1степени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53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95280" y="1052640"/>
          <a:ext cx="8353440" cy="5421240"/>
        </p:xfrm>
        <a:graphic>
          <a:graphicData uri="http://schemas.openxmlformats.org/drawingml/2006/table">
            <a:tbl>
              <a:tblPr/>
              <a:tblGrid>
                <a:gridCol w="1655640"/>
                <a:gridCol w="669780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 по самообраз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оисково – исследовательской деятельности дошкольников в процессе эксперимент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сеть работников образован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://nsportal.ru/derbilova-anastasiya-vladimirov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урок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tt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/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uro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ru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rbilova-anastasiya-vladimirov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ФГОС дошкольного образования». (2014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: «Организация работы в ДОУ по изучению ПДД и снижению детского дорожно – транспортного травматизма»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методы коррекционно-развивающей работы с детьми дошкольного возраста в рамках ДОУ». (2015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, участие в ГМО И РМ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азвитие кадрового потенциал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нновационные средства обучения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R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расширение границ современного образовательного пространств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индром детских патологических страх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«Запомни правила пожарной безопасност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и огонь. Пожар в до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ка: «Что делать, если вы обнаружили пожа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для развития мелкой мотор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ация для родителей: «Играем пальчиками - развиваем реч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Обучение раннему слоговому чтению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ПОУ  «Коррекция звукопроизношения у дет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258560" y="54900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Информация о воспитателях группы: </a:t>
            </a:r>
            <a:br>
              <a:rPr sz="2000"/>
            </a:br>
            <a:r>
              <a:rPr b="1" lang="ru-RU" sz="2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Дербилова Анастасия Владимиров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9640" y="1413000"/>
          <a:ext cx="8271000" cy="1025280"/>
        </p:xfrm>
        <a:graphic>
          <a:graphicData uri="http://schemas.openxmlformats.org/drawingml/2006/table">
            <a:tbl>
              <a:tblPr/>
              <a:tblGrid>
                <a:gridCol w="8271000"/>
              </a:tblGrid>
              <a:tr h="102528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ется казначеем первичной профсоюзной организации, наставником молодого специалиста Ярцевой Е.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12:27Z</dcterms:created>
  <dc:creator>Solodchenko</dc:creator>
  <dc:description/>
  <dc:language>en-US</dc:language>
  <cp:lastModifiedBy>Пользователь Windows</cp:lastModifiedBy>
  <dcterms:modified xsi:type="dcterms:W3CDTF">2020-02-09T09:49:51Z</dcterms:modified>
  <cp:revision>110</cp:revision>
  <dc:subject/>
  <dc:title>Название учебной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888081049</vt:lpwstr>
  </property>
</Properties>
</file>