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91D4BE-6850-4C29-A1EC-B687111EE2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FAF5A5-EB9A-4B96-971A-A1CB5C35C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для добавления зам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84772C-226D-4E30-83C1-304FC30AD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D33FAB-CF3A-4F41-B946-0E6094D1A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полезна эта презентация для аудитории: предмет презентации больше заинтересует обучающихся, если они будут знать, почему он так важен для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компетенции ведущего презентации в данной области: кратко опишите свой опыт работы в этой сфере и уровень своей квалификации как препода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FCE0BA-6E00-4EC6-9C59-D9BB16A80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полезна эта презентация для аудитории: предмет презентации больше заинтересует обучающихся, если они будут знать, почему он так важен для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компетенции ведущего презентации в данной области: кратко опишите свой опыт работы в этой сфере и уровень своей квалификации как препода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C54D3D-EC1C-4DF6-B480-D2E4190EB3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я уроков должны быть кратк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1C843B-AD72-4D02-97ED-D8B15D2EA7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полезна эта презентация для аудитории: предмет презентации больше заинтересует обучающихся, если они будут знать, почему он так важен для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компетенции ведущего презентации в данной области: кратко опишите свой опыт работы в этой сфере и уровень своей квалификации как препода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A43-1395-4B38-94DA-575FB329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D23-7089-40B8-89FE-8B3B16E8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9A4-1B91-4F37-B713-9EBEC9C0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5C3-733B-4218-81BC-3645ADD7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C4BD-962B-4450-AE7C-E611A361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D8B6-7EAA-48D9-A409-45150A98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F443-BE85-4D1A-80EF-B711C6A5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E1D4-7AB4-448B-97DF-29947176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695B-1D8A-4234-9BEE-63BF8912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C40A-1FEA-411E-93A2-74EE81D7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21F9-B900-4399-B1AF-D0236D7C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17E-A64D-4271-A21F-B3509047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86A4-C62D-435E-B357-D3403671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3D48-B193-4714-8DE4-12C246C8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C83F-783D-4DCA-B8D9-8851CF46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80FE-6625-462A-8C78-E9ACF9BC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55F0-6FFF-4568-B05B-36071FEB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41F7-EA52-4C91-A60A-5A47A387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1DCB4-55B5-4A56-ADC8-53DBFD4B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BDD8-5EB5-4FE8-B2AE-D998D28C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47F15-B69A-4FF5-B15C-73930055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BB7D-FC62-475C-85F5-E2A68947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B9E-D35D-47A4-BA3F-02E27A92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A6B3E-C366-499D-8365-FF20195E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F54BA-97B9-446D-93AA-5E0DA000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5AF4C-5033-4EFD-92E2-9151AB18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1BAB-9885-449A-98A5-50CDD4BD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51EF-AD3F-440E-89C3-3F9C7FD3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446C-A47E-4230-A53F-2CFC961B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98F91-D825-481B-87A2-05947DB4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C866-CD24-4726-B85E-F616B9E0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9E6CB-2F64-4BF7-88C8-39023778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3B302-7614-4FA3-BD58-F95360E4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D2C-2654-4565-BAD2-F49D834F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CA4DA-5209-4DDC-AAE6-45562771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8E9FC-906D-4AB3-B727-0069C46F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81D2-6226-4A37-9929-41A4EF8D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4F133-D96D-4A1F-AA1E-068A2A62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06E93-BF94-4F5A-A60B-70F80668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5A7CD-DC4F-4FE1-9326-1C0993BE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B3A36-CBC1-438C-B6D3-91DA2390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4417F-857F-4AE6-A6A9-FD065D20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86E5C-9C36-41B3-A1B0-9D918046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BA9CE-157B-4001-9146-F8534C05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AD1-A73D-467B-9A58-07FCD36E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474B8-DDCB-401C-B1D9-893DD3DD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E3B4E-85AC-4FCF-83C6-4375504D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71FE-AA59-4692-AB2D-9DE183AF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FC977-CE7D-4089-8CEA-EA569730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2CC3A-F610-455B-92D9-71164D42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A13E6-1087-4AEC-932B-9DA13CCA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1F3B4-4250-49B6-9281-58AC4BA5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E968D-99A7-4881-A398-FB3DECD4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443DD-D80F-450C-9B8C-59D92F41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835FC-36D4-49D7-8FC0-3AFE746F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FEE-5DB1-424F-A182-4ED4D500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DB6AF-C15C-4625-B2F1-8E34F98C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505-EBA8-496D-9035-D97DC667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E4B-E3A5-4156-A3D6-30DCD32F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7EE-10C3-4E7E-81A6-640C6DAC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1230-E3E0-473E-9BB8-9B83325A7FA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36B0-7AF5-4843-8A65-EBB7F47A967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B62E-A8B9-4DD0-80BE-5CABFF288F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BA1C-253F-4CC7-8A1D-1E71FA409E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7B4E-1825-47C6-93CA-06E74FDB6D6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07280" cy="27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Отчет о деятельности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редней группы общеразвивающей направленности № 2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«Дружные ребята»</a:t>
            </a:r>
            <a:br>
              <a:rPr sz="2200"/>
            </a:br>
            <a:r>
              <a:rPr b="1" lang="ru-RU" sz="41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 2015-2016 учебный год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355640" y="4149360"/>
            <a:ext cx="4357800" cy="19969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оспитатели: Дербилова А.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Фирюлина О.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3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Информация о воспитателях группы: </a:t>
            </a: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Фирюлина Оксана Сергеевна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8360" y="1268280"/>
          <a:ext cx="8207280" cy="4608720"/>
        </p:xfrm>
        <a:graphic>
          <a:graphicData uri="http://schemas.openxmlformats.org/drawingml/2006/table">
            <a:tbl>
              <a:tblPr/>
              <a:tblGrid>
                <a:gridCol w="1596960"/>
                <a:gridCol w="661032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по самообраз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e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равственно-патриотических чувств детей старшего дошкольного возраста через ознакомление с историей своей малой роди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ecc"/>
                    </a:solidFill>
                  </a:tcPr>
                </a:tc>
              </a:tr>
              <a:tr h="632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сай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сеть работников образования nsportal.ru http://nsportal.ru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uli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sa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ge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ee"/>
                    </a:solidFill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Организационная деятельность воспитателя коррекционных групп». (2013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ФГОС дошкольного образования» (2014г)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27129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, участие в ГМО И РМ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одская конференция: «Развитие воспитательного и образовательного потенциала замещающей семьи как мера профилактики вторичного сиротства» (2015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щание: «Об основах системы профилактики безнадзорности и правонарушений несовершеннолетних». (2016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щание: «Взаимодействие органов и учреждений системы профилактики по профилактике употребления и распространения психотропных, наркотических и одурманивающих веществ». (2016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щание: «Регламент межведомственного взаимодействия: изменения, оформление материалов, сроки предоставления отчетов». (2016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3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Информация о воспитателях группы: </a:t>
            </a: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Фирюлина Оксана Сергеевна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916280"/>
          <a:ext cx="8271000" cy="2230200"/>
        </p:xfrm>
        <a:graphic>
          <a:graphicData uri="http://schemas.openxmlformats.org/drawingml/2006/table">
            <a:tbl>
              <a:tblPr/>
              <a:tblGrid>
                <a:gridCol w="1515960"/>
                <a:gridCol w="6755040"/>
              </a:tblGrid>
              <a:tr h="831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 по познавательному развит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тека сюжетно – ролевых и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: «Развитие эмоционального интеллект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ПОУ «Театральная шкатулк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ответственным по социальной работе, наставником молодого специалиста Земляковой Н.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8360" y="404280"/>
            <a:ext cx="7543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 и проектов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468360" y="134136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развития муниципального автономного дошкольного 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ая программа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программа группы общеразвивающей направленности для детей среднего возраста (4-5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о – развивающая программа сопровождения ребенка с ОВ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кружковой работы по экспериментированию с детьми среднего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н и реализован педагогический проект: «Жизнь моей семьи» (семья Ивашики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н и реализован педагогический проект: «Сохрани здоровье са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н и реализован педагогический проект: «Будущие защитни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Реализация мероприятий, обеспечивающих взаимодействие с родителями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468360" y="1052640"/>
            <a:ext cx="820908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ы 3 родительских собра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Игра в средней группе», «Взаимодействие семьи и детского сада в укреплении здоровья дошкольников», «Грипп у маленьких детей», «Профилактика гриппа», «Без закаливания не обойтись»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торожно! Тонкий лед», «Профилактика простудных заболеваний», «Как рассказать ребенку о бродячих собаках», и т.д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ородских соревнованиях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атлетический кросс «Кросс нации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я «Лыжня для всех 2016»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атлетический кросс «Пробег Серебренниковых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дителей в выставках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 из природного материала «Золотая осень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Новогодней игрушки»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, посвященный 85-летию ХМАО-Юг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рисунков и газет по пожарной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фотографий «Мой папа самый лучший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кетир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вместных мероприятий с родителями: «День матери»; «Осенняя ярмар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использование ИКТ технологий (21участни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2124000" y="404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468360" y="866880"/>
            <a:ext cx="8280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меньшить заболеваемость детей на 1%, повысить индекс здоровья на 0,5%, увеличить посещаемость за счет комплекса профилактически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ам изучить общеобразовательную программу дошкольного образования: «От рождения до школы». Под редакцией Н.Е. Верак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ам пройти курсы повышения квалификации по теме: «Современные подходы к организации образовательной деятельности и планированию образовательного процесса в ДОО в условиях реализации ФГОС дошкольно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ам аттестоваться на высшую квалификационную катего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влекать родителей к участию в конкурсах различного уровня и спортивных мероприя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влекать родителей к активному использованию интернет-ресурсов. (сайт ДОУ, сайты педагог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беспечить охват детей спортивными секциями и кружками не менее 20% (5 де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331640" y="220500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543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группе</a:t>
            </a:r>
            <a:endParaRPr b="1" lang="en-US" sz="2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9640" y="1412640"/>
            <a:ext cx="8064720" cy="4319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количество - 26 дете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мальчиков; 13 девоч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работу по обеспечению устойчивого развития ДОУ, доступности и безопасности воспитанников, всестороннее формировать личность ребенка с учетом его психофизического и социального развития, индивидуальных возможностей и склонностей, корректировать и компенсировать нарушения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33300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и укрепление физического и психического здоровья детей их эмоционального благополучия.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равных возможностей для полноценного развития каждого ребенка в период дошкольного детства,  независимо от места жительства, пола, нации, языка, социального статуса, психофизиологических и других особенностей (в том числе ограниченных возможностей здоровья).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для развития детей в соответствии с их возрастными и индивидуальными особенностями.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 личности детей, развития их социальных, нравственных, эстетических, интеллектуальных, физических качеств, самостоятельности ребенка.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оциокультурной среды, соответствующей возрастным, индивидуальным, психологическим и физиологическим особенностям детей;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я компетентности родителей в вопросах развития и образования, охраны и укрепления здоровья де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владения воспитанниками необходимыми навыками и умениями по основным образовательным областям в соответствии с требованиями ФГОС</a:t>
            </a: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0" y="83628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ец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Объект 1" descr=""/>
          <p:cNvPicPr/>
          <p:nvPr/>
        </p:nvPicPr>
        <p:blipFill>
          <a:blip r:embed="rId1"/>
          <a:stretch/>
        </p:blipFill>
        <p:spPr>
          <a:xfrm>
            <a:off x="488880" y="1217520"/>
            <a:ext cx="4062600" cy="233388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6" descr=""/>
          <p:cNvPicPr/>
          <p:nvPr/>
        </p:nvPicPr>
        <p:blipFill>
          <a:blip r:embed="rId2"/>
          <a:stretch/>
        </p:blipFill>
        <p:spPr>
          <a:xfrm>
            <a:off x="4592520" y="1217520"/>
            <a:ext cx="3990960" cy="23338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7" descr=""/>
          <p:cNvPicPr/>
          <p:nvPr/>
        </p:nvPicPr>
        <p:blipFill>
          <a:blip r:embed="rId3"/>
          <a:stretch/>
        </p:blipFill>
        <p:spPr>
          <a:xfrm>
            <a:off x="1476360" y="3789360"/>
            <a:ext cx="6005520" cy="2664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12"/>
          <p:cNvSpPr/>
          <p:nvPr/>
        </p:nvSpPr>
        <p:spPr>
          <a:xfrm>
            <a:off x="2340000" y="3429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11280" y="83664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ь посещаемости: 79 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ь заболеваемости: 7 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декс здоровья: 4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4"/>
          <p:cNvSpPr/>
          <p:nvPr/>
        </p:nvSpPr>
        <p:spPr>
          <a:xfrm>
            <a:off x="468360" y="981000"/>
            <a:ext cx="82072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 из природного материала «Золотая ос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чтецов «Природе края строки посвяща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чтецов «Югре – 8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Новогодней игруш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, посвященный 85-летию ХМАО-Ю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рисунков и газет по пожар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: «Весенние рад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: «Мы выбираем здоровь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фотографий «Мой папа самый лучш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атлетический кросс «Кросс н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я «Лыжня для всех 2016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Самотлорские родни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атлетический кросс «Пробег Серебренников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684360" y="2602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оспитанников в смотрах, выставках, конкурсах, соревнованиях различн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8000" y="62028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иональный уровень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листовок и буклетов «Сохраним наш лес» живым!» в ак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рш парков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 «Мир заповедной природы» в акции «Марш парк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я, посвященная 85-летию со Дня образования ХМАО-Юг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авторских фотографий «Эковзгляд» в акции «Марш парк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российский уровень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Мечтай! Исследуй! Размышляй!» (20 челове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Космическое притяжение» (3 человек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сероссийский интерактивный конкурс «Весенние радости» (20 челове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сероссийский интерактивный конкурс «Мы выбираем здоровье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 челове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Мир безопасности», проект «Кругозор» (24 челове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Зимняя сказка» (диплом 1степен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3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Информация о воспитателях группы: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Дербилова Анастасия Владимировна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95280" y="1052640"/>
          <a:ext cx="8353440" cy="5421240"/>
        </p:xfrm>
        <a:graphic>
          <a:graphicData uri="http://schemas.openxmlformats.org/drawingml/2006/table">
            <a:tbl>
              <a:tblPr/>
              <a:tblGrid>
                <a:gridCol w="1655640"/>
                <a:gridCol w="669780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по самообраз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поисково – исследовательской деятельности дошкольников в процессе эксперимент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сай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сеть работников образован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://nsportal.ru/derbilova-anastasiya-vladimirov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урок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/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urok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ru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bilova-anastasiya-vladimirov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ФГОС дошкольного образования». (2014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: «Организация работы в ДОУ по изучению ПДД и снижению детского дорожно – транспортного травматизма» (2015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нновационные методы коррекционно-развивающей работы с детьми дошкольного возраста в рамках ДОУ». (2015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, участие в ГМО И РМ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звитие кадрового потенциал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нновационные средства обучени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R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расширение границ современного образовательного пространств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ндром детских патологических страх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«Запомни правила пожарной безопасно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и огонь. Пожар в до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ка: «Что делать, если вы обнаружили пожа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для развития мелкой мотор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для родителей: «Играем пальчиками - развиваем речь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ПОУ  «Обучение раннему слоговому чтению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ПОУ  «Коррекция звукопроизношения у дет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258560" y="54900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Информация о воспитателях группы: </a:t>
            </a:r>
            <a:br>
              <a:rPr sz="2000"/>
            </a:br>
            <a:r>
              <a:rPr b="1" lang="ru-RU" sz="20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Дербилова Анастасия Владимир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413000"/>
          <a:ext cx="8271000" cy="1025280"/>
        </p:xfrm>
        <a:graphic>
          <a:graphicData uri="http://schemas.openxmlformats.org/drawingml/2006/table">
            <a:tbl>
              <a:tblPr/>
              <a:tblGrid>
                <a:gridCol w="8271000"/>
              </a:tblGrid>
              <a:tr h="1025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казначеем первичной профсоюзной организации, наставником молодого специалиста Ярцевой Е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7:12:27Z</dcterms:created>
  <dc:creator>Solodchenko</dc:creator>
  <dc:description/>
  <dc:language>en-US</dc:language>
  <cp:lastModifiedBy>Пользователь Windows</cp:lastModifiedBy>
  <dcterms:modified xsi:type="dcterms:W3CDTF">2020-02-09T09:49:51Z</dcterms:modified>
  <cp:revision>110</cp:revision>
  <dc:subject/>
  <dc:title>Название учебной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8081049</vt:lpwstr>
  </property>
</Properties>
</file>