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DF7CA7-F605-4E44-AA43-53BB47FB7C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2B401F-5ACE-4E45-B05C-14B4A884A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для добавления зам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8D7621-79B7-4F0B-976D-61E694EAA3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6940C7-1EA0-4F4D-B8C7-BD6BA97BF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полезна эта презентация для аудитории: предмет презентации больше заинтересует обучающихся, если они будут знать, почему он так важен для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компетенции ведущего презентации в данной области: кратко опишите свой опыт работы в этой сфере и уровень своей квалификации как препода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979A01-6196-42B4-9A56-FE4C0C6AD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полезна эта презентация для аудитории: предмет презентации больше заинтересует обучающихся, если они будут знать, почему он так важен для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компетенции ведущего презентации в данной области: кратко опишите свой опыт работы в этой сфере и уровень своей квалификации как препода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B403D4-25EC-464F-9D80-6DE4C46C7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я уроков должны быть кратк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8FBFEB-FDCD-4D98-A1F1-AE6FFE851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полезна эта презентация для аудитории: предмет презентации больше заинтересует обучающихся, если они будут знать, почему он так важен для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компетенции ведущего презентации в данной области: кратко опишите свой опыт работы в этой сфере и уровень своей квалификации как препода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8AE-5961-4091-8EF5-10A57C3F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64B-46F1-491E-A149-024F1A29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B45-3253-450A-ACF1-FCB6E369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825-C16B-4BC3-A01F-52FD0A2F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49DB-03F7-4438-99FB-AEC36527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3CB3-4BFC-4D4A-8C78-9ED5BF04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7EEE-017D-48FE-95E5-4E21BEE4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A9D1-F896-4B60-A4E4-8664FA39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0743-D116-4ECD-B582-B2EDFFD1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7137-2C01-41B7-B0C0-F3C7EF89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00B5-EFDF-4A3E-8F47-A0008F62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36F-898D-4A59-ADF5-2CF5B103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5F36-C74D-4C7C-8706-2698B5BC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7344-9B7D-4BE9-B7D4-63DEFBA8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8CFF-369E-4269-8DFF-2EB32D0D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FA1E-BD2E-4C1D-A975-CB18B8C8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6D73-D265-45E6-A057-824D6D40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0C29-1FE9-4B01-AD80-354E8E8B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D4229-B0E9-40A4-B36B-1059F373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EB7C-27BA-4DE6-8C9F-29D74897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F259-0298-407A-8491-A21DD962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7D696-BE9F-4B7B-9A57-9DA1C1EE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DF7-F179-4EC5-A6CB-002D0DBD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B21B0-835E-4E5A-BB25-71EC8CBE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954B-A12A-4EB7-8010-FD09EC9D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6646-EE84-45D6-A842-19623766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DD40C-962A-49B8-BB2D-E686AE17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D90E-FACD-4F1A-A9B6-727477AC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BBF09-AF0A-4CE1-839A-F3C81918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5EBD5-4CCF-4E63-B7CA-6E08BB7A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7166A-02C9-47E2-B823-AF82E99D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F7147-C448-479F-A69A-991F8CED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B121-C795-4A26-8BCD-866F259F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D1C-C707-46AA-A01F-005267EA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853B1-E12B-42D1-B2C3-77EEDA3A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52C2-CB16-452E-B0F1-F5E272FD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E5CF0-6D63-476F-B8AC-1586753E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5560C-1315-4103-9EC6-D81400A3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583AA-ED0A-4D5D-980E-012D2A4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A97BB-B20E-4DD0-9C42-7020D215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3211E-40EE-442D-8079-ACF55C39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8686C-87C9-4A44-AA0E-1AD363D2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5DA33-7871-4B34-9553-2D1E74FD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9BD44-CF28-43DA-A5B5-BA98B176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858-F47B-4914-97FC-7A3D0C6A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A19EB-7215-427C-BDA9-AB46D580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C19C9-4694-49A7-8F71-A43905AA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5ADE9-F04F-4152-B8FD-4D0D79F2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8FF91-911B-4096-B98D-42F22926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3A7CA-09A5-40AB-888A-DDFE5D98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C7F61-4D8B-4B89-A5BC-D78BFB25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656B9-6247-448B-B5D8-9B5DF2BB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390B8-CBE3-4A01-B429-B4805B70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B0726-9092-4761-A916-A068CE7D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4552B-3C21-4A52-9B13-C0D1CAD2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6BC-F662-4484-96B9-B99011C5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37F32-2A4D-420B-BE98-558279C2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2C6-B7CD-43CE-BAE3-6826474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15E-28D5-40EA-8DF7-9BD214DD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815-BCF4-4197-8A78-5D77A454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DE13-0089-42A2-88FD-3192A6339D5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B835-5B5F-4CE3-87FB-B09312B4259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DD3A-9651-4C7D-AFDB-8D1D8501C7D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D7F4-FDC8-4719-B1F0-5DA91CA36AD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38DE-B0B2-4F38-964E-D700D5BD893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07280" cy="27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Отчет о деятельности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редней группы общеразвивающей направленности № 2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«Дружные ребята»</a:t>
            </a:r>
            <a:br>
              <a:rPr sz="2200"/>
            </a:br>
            <a:r>
              <a:rPr b="1" lang="ru-RU" sz="41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 2015-2016 учебный год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355640" y="4149360"/>
            <a:ext cx="4357800" cy="19969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оспитатели: Дербилова А.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Фирюлина О.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3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Информация о воспитателях группы: </a:t>
            </a: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Фирюлина Оксана Сергеевна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8360" y="1268280"/>
          <a:ext cx="8207280" cy="4608720"/>
        </p:xfrm>
        <a:graphic>
          <a:graphicData uri="http://schemas.openxmlformats.org/drawingml/2006/table">
            <a:tbl>
              <a:tblPr/>
              <a:tblGrid>
                <a:gridCol w="1596960"/>
                <a:gridCol w="661032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по самообраз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e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равственно-патриотических чувств детей старшего дошкольного возраста через ознакомление с историей своей малой роди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ecc"/>
                    </a:solidFill>
                  </a:tcPr>
                </a:tc>
              </a:tr>
              <a:tr h="632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сай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сеть работников образования nsportal.ru http://nsportal.ru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uli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sa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ge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ee"/>
                    </a:solidFill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Организационная деятельность воспитателя коррекционных групп». (2013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ФГОС дошкольного образования» (2014г)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27129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, участие в ГМО И РМ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одская конференция: «Развитие воспитательного и образовательного потенциала замещающей семьи как мера профилактики вторичного сиротства» (2015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щание: «Об основах системы профилактики безнадзорности и правонарушений несовершеннолетних». (2016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щание: «Взаимодействие органов и учреждений системы профилактики по профилактике употребления и распространения психотропных, наркотических и одурманивающих веществ». (2016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щание: «Регламент межведомственного взаимодействия: изменения, оформление материалов, сроки предоставления отчетов». (2016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3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Информация о воспитателях группы: </a:t>
            </a: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Фирюлина Оксана Сергеевна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916280"/>
          <a:ext cx="8271000" cy="2230200"/>
        </p:xfrm>
        <a:graphic>
          <a:graphicData uri="http://schemas.openxmlformats.org/drawingml/2006/table">
            <a:tbl>
              <a:tblPr/>
              <a:tblGrid>
                <a:gridCol w="1515960"/>
                <a:gridCol w="6755040"/>
              </a:tblGrid>
              <a:tr h="8316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 по познавательному развит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тека сюжетно – ролевых и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: «Развитие эмоционального интеллект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ПОУ «Театральная шкатулк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ответственным по социальной работе, наставником молодого специалиста Земляковой Н.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8360" y="404280"/>
            <a:ext cx="7543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 и проектов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468360" y="134136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развития муниципального автономного дошкольного 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ая программа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программа группы общеразвивающей направленности для детей среднего возраста (4-5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о – развивающая программа сопровождения ребенка с ОВ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кружковой работы по экспериментированию с детьми среднего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н и реализован педагогический проект: «Жизнь моей семьи» (семья Ивашики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н и реализован педагогический проект: «Сохрани здоровье са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н и реализован педагогический проект: «Будущие защитни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Реализация мероприятий, обеспечивающих взаимодействие с родителями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468360" y="1052640"/>
            <a:ext cx="820908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ы 3 родительских собра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Игра в средней группе», «Взаимодействие семьи и детского сада в укреплении здоровья дошкольников», «Грипп у маленьких детей», «Профилактика гриппа», «Без закаливания не обойтись»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торожно! Тонкий лед», «Профилактика простудных заболеваний», «Как рассказать ребенку о бродячих собаках», и т.д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городских соревнованиях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атлетический кросс «Кросс нации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я «Лыжня для всех 2016»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атлетический кросс «Пробег Серебренниковых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родителей в выставках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 из природного материала «Золотая осень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Новогодней игрушки»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, посвященный 85-летию ХМАО-Юг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рисунков и газет по пожарной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фотографий «Мой папа самый лучший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кетир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вместных мероприятий с родителями: «День матери»; «Осенняя ярмар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использование ИКТ технологий (21участни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2124000" y="404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3"/>
          <p:cNvSpPr/>
          <p:nvPr/>
        </p:nvSpPr>
        <p:spPr>
          <a:xfrm>
            <a:off x="468360" y="866880"/>
            <a:ext cx="8280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меньшить заболеваемость детей на 1%, повысить индекс здоровья на 0,5%, увеличить посещаемость за счет комплекса профилактически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ам изучить общеобразовательную программу дошкольного образования: «От рождения до школы». Под редакцией Н.Е. Верак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ам пройти курсы повышения квалификации по теме: «Современные подходы к организации образовательной деятельности и планированию образовательного процесса в ДОО в условиях реализации ФГОС дошкольного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ам аттестоваться на высшую квалификационную катего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влекать родителей к участию в конкурсах различного уровня и спортивных мероприя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влекать родителей к активному использованию интернет-ресурсов. (сайт ДОУ, сайты педагог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беспечить охват детей спортивными секциями и кружками не менее 20% (5 де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331640" y="220500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543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группе</a:t>
            </a:r>
            <a:endParaRPr b="1" lang="en-US" sz="2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9640" y="1412640"/>
            <a:ext cx="8064720" cy="4319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количество - 26 дете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мальчиков; 13 девоч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работу по обеспечению устойчивого развития ДОУ, доступности и безопасности воспитанников, всестороннее формировать личность ребенка с учетом его психофизического и социального развития, индивидуальных возможностей и склонностей, корректировать и компенсировать нарушения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33300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и укрепление физического и психического здоровья детей их эмоционального благополучия.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равных возможностей для полноценного развития каждого ребенка в период дошкольного детства,  независимо от места жительства, пола, нации, языка, социального статуса, психофизиологических и других особенностей (в том числе ограниченных возможностей здоровья).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для развития детей в соответствии с их возрастными и индивидуальными особенностями.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 личности детей, развития их социальных, нравственных, эстетических, интеллектуальных, физических качеств, самостоятельности ребенка.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оциокультурной среды, соответствующей возрастным, индивидуальным, психологическим и физиологическим особенностям детей;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я компетентности родителей в вопросах развития и образования, охраны и укрепления здоровья дет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владения воспитанниками необходимыми навыками и умениями по основным образовательным областям в соответствии с требованиями ФГОС</a:t>
            </a: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0" y="83628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ец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Объект 1" descr=""/>
          <p:cNvPicPr/>
          <p:nvPr/>
        </p:nvPicPr>
        <p:blipFill>
          <a:blip r:embed="rId1"/>
          <a:stretch/>
        </p:blipFill>
        <p:spPr>
          <a:xfrm>
            <a:off x="488880" y="1217520"/>
            <a:ext cx="4062600" cy="233388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6" descr=""/>
          <p:cNvPicPr/>
          <p:nvPr/>
        </p:nvPicPr>
        <p:blipFill>
          <a:blip r:embed="rId2"/>
          <a:stretch/>
        </p:blipFill>
        <p:spPr>
          <a:xfrm>
            <a:off x="4592520" y="1217520"/>
            <a:ext cx="3990960" cy="23338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7" descr=""/>
          <p:cNvPicPr/>
          <p:nvPr/>
        </p:nvPicPr>
        <p:blipFill>
          <a:blip r:embed="rId3"/>
          <a:stretch/>
        </p:blipFill>
        <p:spPr>
          <a:xfrm>
            <a:off x="1476360" y="3789360"/>
            <a:ext cx="6005520" cy="2664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12"/>
          <p:cNvSpPr/>
          <p:nvPr/>
        </p:nvSpPr>
        <p:spPr>
          <a:xfrm>
            <a:off x="2340000" y="3429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11280" y="83664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ь посещаемости: 79 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ь заболеваемости: 7 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декс здоровья: 4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4"/>
          <p:cNvSpPr/>
          <p:nvPr/>
        </p:nvSpPr>
        <p:spPr>
          <a:xfrm>
            <a:off x="468360" y="981000"/>
            <a:ext cx="82072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 из природного материала «Золотая ос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чтецов «Природе края строки посвяща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чтецов «Югре – 8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Новогодней игруш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, посвященный 85-летию ХМАО-Ю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рисунков и газет по пожар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: «Весенние рад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: «Мы выбираем здоровь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фотографий «Мой папа самый лучш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атлетический кросс «Кросс н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я «Лыжня для всех 2016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Самотлорские родни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атлетический кросс «Пробег Серебренников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684360" y="2602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оспитанников в смотрах, выставках, конкурсах, соревнованиях различн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8000" y="62028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иональный уровень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листовок и буклетов «Сохраним наш лес» живым!» в ак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рш парков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 «Мир заповедной природы» в акции «Марш парк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я, посвященная 85-летию со Дня образования ХМАО-Юг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авторских фотографий «Эковзгляд» в акции «Марш парк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российский уровень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Мечтай! Исследуй! Размышляй!» (20 челове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Космическое притяжение» (3 человек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сероссийский интерактивный конкурс «Весенние радости» (20 челове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сероссийский интерактивный конкурс «Мы выбираем здоровье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 челове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Мир безопасности», проект «Кругозор» (24 челове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Зимняя сказка» (диплом 1степен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3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Информация о воспитателях группы: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Дербилова Анастасия Владимировна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95280" y="1052640"/>
          <a:ext cx="8353440" cy="5421240"/>
        </p:xfrm>
        <a:graphic>
          <a:graphicData uri="http://schemas.openxmlformats.org/drawingml/2006/table">
            <a:tbl>
              <a:tblPr/>
              <a:tblGrid>
                <a:gridCol w="1655640"/>
                <a:gridCol w="669780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по самообраз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поисково – исследовательской деятельности дошкольников в процессе эксперимент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сай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сеть работников образования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://nsportal.ru/derbilova-anastasiya-vladimirov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урок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/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urok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ru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bilova-anastasiya-vladimirov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ФГОС дошкольного образования». (2014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: «Организация работы в ДОУ по изучению ПДД и снижению детского дорожно – транспортного травматизма» (2015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нновационные методы коррекционно-развивающей работы с детьми дошкольного возраста в рамках ДОУ». (2015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, участие в ГМО И РМ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звитие кадрового потенциал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нновационные средства обучени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R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расширение границ современного образовательного пространств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ндром детских патологических страхо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«Запомни правила пожарной безопасно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и огонь. Пожар в до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ка: «Что делать, если вы обнаружили пожа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для развития мелкой мотор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для родителей: «Играем пальчиками - развиваем речь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ПОУ  «Обучение раннему слоговому чтению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ПОУ  «Коррекция звукопроизношения у дет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258560" y="54900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Информация о воспитателях группы: </a:t>
            </a:r>
            <a:br>
              <a:rPr sz="2000"/>
            </a:br>
            <a:r>
              <a:rPr b="1" lang="ru-RU" sz="20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Дербилова Анастасия Владимир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413000"/>
          <a:ext cx="8271000" cy="1025280"/>
        </p:xfrm>
        <a:graphic>
          <a:graphicData uri="http://schemas.openxmlformats.org/drawingml/2006/table">
            <a:tbl>
              <a:tblPr/>
              <a:tblGrid>
                <a:gridCol w="8271000"/>
              </a:tblGrid>
              <a:tr h="1025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казначеем первичной профсоюзной организации, наставником молодого специалиста Ярцевой Е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7:12:27Z</dcterms:created>
  <dc:creator>Solodchenko</dc:creator>
  <dc:description/>
  <dc:language>en-US</dc:language>
  <cp:lastModifiedBy>Пользователь Windows</cp:lastModifiedBy>
  <dcterms:modified xsi:type="dcterms:W3CDTF">2020-02-09T09:49:51Z</dcterms:modified>
  <cp:revision>110</cp:revision>
  <dc:subject/>
  <dc:title>Название учебной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8081049</vt:lpwstr>
  </property>
</Properties>
</file>