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B0593-A474-4123-93B9-A4C7BB6DA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AC502-F06A-4140-8A3A-7C4F5130A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EF10A-7E5A-4D04-885D-E1D0B3D19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56FCF-3A0D-427E-B35D-655F26B0E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75D7E-9FD2-445E-8BBC-4BEE7BF98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7F1EA-6811-4FD5-8FD2-6E2FCE1BE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B3C2C-44F7-4C36-85B7-0BB9B156A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9532C-4A79-4EEA-AE4C-A5E74FDDA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E72F4-0488-4CEC-B930-374287B29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7BB21-3977-49DB-BAA7-0E98E5958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5A917-5A44-4DCE-8184-F8430E560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E7128-5FC8-450C-B671-7C06D1CF0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2CF31-5AF6-4B9D-8FCA-B12954B78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58D8F-4CF2-4E38-8722-28A16D24A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2AB5D-2AE2-42FA-85ED-DDEE9DD88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8FECD-A237-446B-952D-D7EE7B551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08240-0E81-41B6-8ACB-01A907942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3B853-AA63-49E6-8147-04CBB1FE9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B4B5E-A984-4E0D-9610-D2F6B4DF5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4B239-86CD-4B23-A1A5-8B4137DC8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FFE4E-76DA-4946-9792-00D46B66C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9F32D-BB5D-4215-B981-23FE2AD09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CD208-B9AA-4108-B541-A2817153E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29D9D-CD99-4515-B8C4-72C11E987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B0F21-0096-4809-A4BD-A41BD06B76F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79F4D-973A-429C-A1E2-47D5471D83C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Arial Black"/>
              </a:rPr>
              <a:t>Образ Василия Теркина – защитника</a:t>
            </a:r>
            <a:br>
              <a:rPr sz="4400"/>
            </a:br>
            <a:r>
              <a:rPr b="0" lang="ru-RU" sz="4400" spc="-1" strike="noStrike">
                <a:solidFill>
                  <a:srgbClr val="c00000"/>
                </a:solidFill>
                <a:latin typeface="Arial Black"/>
              </a:rPr>
              <a:t>родной страны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c00000"/>
                </a:solidFill>
                <a:latin typeface="Calibri"/>
              </a:rPr>
              <a:t>Презентация к уроку литературы в 8 классе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c00000"/>
                </a:solidFill>
                <a:latin typeface="Calibri"/>
              </a:rPr>
              <a:t>Автор : Халикова Рушания Рифхатовна, учитель русского языка и литературы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c00000"/>
                </a:solidFill>
                <a:latin typeface="Calibri"/>
              </a:rPr>
              <a:t>МАОУ «Лайтамакская СОШ»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4" descr="C:\Users\Татьяна\Desktop\16.jpg"/>
          <p:cNvPicPr/>
          <p:nvPr/>
        </p:nvPicPr>
        <p:blipFill>
          <a:blip r:embed="rId1"/>
          <a:stretch/>
        </p:blipFill>
        <p:spPr>
          <a:xfrm>
            <a:off x="2340000" y="189000"/>
            <a:ext cx="2519280" cy="16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00"/>
                </a:solidFill>
                <a:uFillTx/>
                <a:latin typeface="Calibri"/>
              </a:rPr>
              <a:t>Домашнее задание </a:t>
            </a:r>
            <a:br>
              <a:rPr sz="4400"/>
            </a:br>
            <a:r>
              <a:rPr b="1" lang="ru-RU" sz="4400" spc="-1" strike="noStrike" u="sng">
                <a:solidFill>
                  <a:srgbClr val="000000"/>
                </a:solidFill>
                <a:uFillTx/>
                <a:latin typeface="Calibri"/>
              </a:rPr>
              <a:t>(на выбор)</a:t>
            </a:r>
            <a:r>
              <a:rPr b="0" lang="ru-RU" sz="4400" spc="-1" strike="noStrike" u="sng">
                <a:solidFill>
                  <a:srgbClr val="000000"/>
                </a:solidFill>
                <a:uFillTx/>
                <a:latin typeface="Calibri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700280"/>
            <a:ext cx="8229600" cy="44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Написать письмо герою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Спроектировать и сделать буклет «Защитнику Отечества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94920" y="1988640"/>
            <a:ext cx="8062920" cy="381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Arial Black"/>
              </a:rPr>
              <a:t>Спасибо за урок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371600" y="2491920"/>
            <a:ext cx="6400800" cy="27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c00000"/>
              </a:solidFill>
              <a:latin typeface="Calibri"/>
            </a:endParaRPr>
          </a:p>
        </p:txBody>
      </p:sp>
      <p:pic>
        <p:nvPicPr>
          <p:cNvPr id="117" name="Рисунок 1" descr=""/>
          <p:cNvPicPr/>
          <p:nvPr/>
        </p:nvPicPr>
        <p:blipFill>
          <a:blip r:embed="rId1"/>
          <a:stretch/>
        </p:blipFill>
        <p:spPr>
          <a:xfrm>
            <a:off x="2050920" y="1035000"/>
            <a:ext cx="4897440" cy="24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94920" y="1988640"/>
            <a:ext cx="8062920" cy="381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Arial Black"/>
              </a:rPr>
              <a:t>Добрый день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2491920"/>
            <a:ext cx="6400800" cy="27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c00000"/>
              </a:solidFill>
              <a:latin typeface="Calibri"/>
            </a:endParaRPr>
          </a:p>
        </p:txBody>
      </p:sp>
      <p:pic>
        <p:nvPicPr>
          <p:cNvPr id="87" name="Рисунок 1" descr=""/>
          <p:cNvPicPr/>
          <p:nvPr/>
        </p:nvPicPr>
        <p:blipFill>
          <a:blip r:embed="rId1"/>
          <a:stretch/>
        </p:blipFill>
        <p:spPr>
          <a:xfrm>
            <a:off x="2050920" y="1035000"/>
            <a:ext cx="4897440" cy="24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C:\Users\Татьяна\Desktop\img2.jpg"/>
          <p:cNvPicPr/>
          <p:nvPr/>
        </p:nvPicPr>
        <p:blipFill>
          <a:blip r:embed="rId1"/>
          <a:stretch/>
        </p:blipFill>
        <p:spPr>
          <a:xfrm>
            <a:off x="0" y="0"/>
            <a:ext cx="2760840" cy="3860640"/>
          </a:xfrm>
          <a:prstGeom prst="rect">
            <a:avLst/>
          </a:prstGeom>
          <a:ln w="0">
            <a:noFill/>
          </a:ln>
        </p:spPr>
      </p:pic>
      <p:sp>
        <p:nvSpPr>
          <p:cNvPr id="89" name="TextBox 3"/>
          <p:cNvSpPr/>
          <p:nvPr/>
        </p:nvSpPr>
        <p:spPr>
          <a:xfrm>
            <a:off x="0" y="3933720"/>
            <a:ext cx="59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Иллюстрация художника  О. Верейск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3" descr="C:\Users\Татьяна\Desktop\img8.jpg"/>
          <p:cNvPicPr/>
          <p:nvPr/>
        </p:nvPicPr>
        <p:blipFill>
          <a:blip r:embed="rId2"/>
          <a:stretch/>
        </p:blipFill>
        <p:spPr>
          <a:xfrm>
            <a:off x="2700360" y="0"/>
            <a:ext cx="3130560" cy="3860640"/>
          </a:xfrm>
          <a:prstGeom prst="rect">
            <a:avLst/>
          </a:prstGeom>
          <a:ln w="0">
            <a:noFill/>
          </a:ln>
        </p:spPr>
      </p:pic>
      <p:sp>
        <p:nvSpPr>
          <p:cNvPr id="91" name="TextBox 6"/>
          <p:cNvSpPr/>
          <p:nvPr/>
        </p:nvSpPr>
        <p:spPr>
          <a:xfrm>
            <a:off x="2843280" y="18900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 Black"/>
              </a:rPr>
              <a:t>Глава «Гармонь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C:\Users\Татьяна\Desktop\img13.jpg"/>
          <p:cNvPicPr/>
          <p:nvPr/>
        </p:nvPicPr>
        <p:blipFill>
          <a:blip r:embed="rId3"/>
          <a:stretch/>
        </p:blipFill>
        <p:spPr>
          <a:xfrm>
            <a:off x="5796000" y="0"/>
            <a:ext cx="3348000" cy="3860640"/>
          </a:xfrm>
          <a:prstGeom prst="rect">
            <a:avLst/>
          </a:prstGeom>
          <a:ln w="0">
            <a:noFill/>
          </a:ln>
        </p:spPr>
      </p:pic>
      <p:sp>
        <p:nvSpPr>
          <p:cNvPr id="93" name="TextBox 8"/>
          <p:cNvSpPr/>
          <p:nvPr/>
        </p:nvSpPr>
        <p:spPr>
          <a:xfrm>
            <a:off x="5580000" y="3933720"/>
            <a:ext cx="43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Иллюстрация художн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И. Бру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9"/>
          <p:cNvSpPr/>
          <p:nvPr/>
        </p:nvSpPr>
        <p:spPr>
          <a:xfrm>
            <a:off x="5940360" y="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 Black"/>
              </a:rPr>
              <a:t>Глава «Два солдат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Goman_Aleksejj_-_Russkijj_paren_1432992.mp3" descr=""/>
          <p:cNvPicPr/>
          <p:nvPr/>
        </p:nvPicPr>
        <p:blipFill>
          <a:blip r:embed="rId4"/>
          <a:stretch/>
        </p:blipFill>
        <p:spPr>
          <a:xfrm>
            <a:off x="4267080" y="31240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95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95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http://sov.opredelim.com/tw_files2/urls_1365/1/d-946/img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Формулируем тему урока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Прямоугольник 2"/>
          <p:cNvSpPr/>
          <p:nvPr/>
        </p:nvSpPr>
        <p:spPr>
          <a:xfrm>
            <a:off x="611280" y="1700280"/>
            <a:ext cx="8208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 Black"/>
              </a:rPr>
              <a:t>«Образ Василия Теркина – защитника родной страны в поэм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 Black"/>
              </a:rPr>
              <a:t>А. Т. Твардовског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 Black"/>
              </a:rPr>
              <a:t>«Василий Теркин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2" descr="C:\Users\Татьяна\Desktop\img2.jpg"/>
          <p:cNvPicPr/>
          <p:nvPr/>
        </p:nvPicPr>
        <p:blipFill>
          <a:blip r:embed="rId1"/>
          <a:stretch/>
        </p:blipFill>
        <p:spPr>
          <a:xfrm>
            <a:off x="5796000" y="2421000"/>
            <a:ext cx="2716200" cy="380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" dur="2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" dur="2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" dur="2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Определяем цель уро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-181440" y="1600200"/>
            <a:ext cx="9325080" cy="17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 Black"/>
              </a:rPr>
              <a:t>Дать всестороннюю характеристику  Василию  Теркину – защитнику  родной  стран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Rectangle 1"/>
          <p:cNvSpPr/>
          <p:nvPr/>
        </p:nvSpPr>
        <p:spPr>
          <a:xfrm>
            <a:off x="0" y="304488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Arial Black"/>
                <a:ea typeface="Calibri"/>
              </a:rPr>
              <a:t>Что нужно знать, чтобы дать характеристику литературному персонажу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2"/>
          <p:cNvSpPr/>
          <p:nvPr/>
        </p:nvSpPr>
        <p:spPr>
          <a:xfrm>
            <a:off x="0" y="433188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 Black"/>
                <a:ea typeface="Calibri"/>
              </a:rPr>
              <a:t>- содержание поэм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 Black"/>
                <a:ea typeface="Calibri"/>
              </a:rPr>
              <a:t>- план характеристики литературного персонаж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 Black"/>
                <a:ea typeface="Calibri"/>
              </a:rPr>
              <a:t>- уметь работать с тексто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" dur="2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2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00"/>
                </a:solidFill>
                <a:uFillTx/>
                <a:latin typeface="Calibri"/>
              </a:rPr>
              <a:t>Алгоритм характеристики литературного персонажа</a:t>
            </a:r>
            <a:r>
              <a:rPr b="0" lang="ru-RU" sz="4400" spc="-1" strike="noStrike" u="sng">
                <a:solidFill>
                  <a:srgbClr val="000000"/>
                </a:solidFill>
                <a:uFillTx/>
                <a:latin typeface="Calibri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700280"/>
            <a:ext cx="8229600" cy="44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1. Место, занимаемое героем в произведени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2. Обстановка, в которой он живет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3. Портрет – описание внешност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4. Манера держатьс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5. Речь геро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6. Поступки, особенности поведения, деятельность, влияние на окружающих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7. Понимание героем цели в жизн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8. Чувства и мысли литературного героя, его взаимоотношения с другими людьм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9. Отношение автора к герою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10. Значение героя в раскрытии идеи  произведени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Ментальная карта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Объект 11" descr=""/>
          <p:cNvPicPr/>
          <p:nvPr/>
        </p:nvPicPr>
        <p:blipFill>
          <a:blip r:embed="rId1"/>
          <a:stretch/>
        </p:blipFill>
        <p:spPr>
          <a:xfrm>
            <a:off x="268200" y="1596960"/>
            <a:ext cx="8607600" cy="4529160"/>
          </a:xfrm>
          <a:prstGeom prst="rect">
            <a:avLst/>
          </a:prstGeom>
          <a:ln w="0">
            <a:noFill/>
          </a:ln>
        </p:spPr>
      </p:pic>
      <p:sp>
        <p:nvSpPr>
          <p:cNvPr id="109" name="Стрелка вправо 14"/>
          <p:cNvSpPr/>
          <p:nvPr/>
        </p:nvSpPr>
        <p:spPr>
          <a:xfrm>
            <a:off x="5651640" y="3621240"/>
            <a:ext cx="865080" cy="485640"/>
          </a:xfrm>
          <a:prstGeom prst="rightArrow">
            <a:avLst>
              <a:gd name="adj1" fmla="val 50000"/>
              <a:gd name="adj2" fmla="val 50009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Стрелка влево 15"/>
          <p:cNvSpPr/>
          <p:nvPr/>
        </p:nvSpPr>
        <p:spPr>
          <a:xfrm>
            <a:off x="2279520" y="3621240"/>
            <a:ext cx="852480" cy="485640"/>
          </a:xfrm>
          <a:prstGeom prst="leftArrow">
            <a:avLst>
              <a:gd name="adj1" fmla="val 50000"/>
              <a:gd name="adj2" fmla="val 5001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Arial Black"/>
              </a:rPr>
              <a:t>Памятник </a:t>
            </a:r>
            <a:br>
              <a:rPr sz="3600"/>
            </a:br>
            <a:r>
              <a:rPr b="0" lang="ru-RU" sz="3600" spc="-1" strike="noStrike">
                <a:solidFill>
                  <a:srgbClr val="c00000"/>
                </a:solidFill>
                <a:latin typeface="Arial Black"/>
              </a:rPr>
              <a:t>Александру Твардовскому и Василию Теркину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Picture 2" descr="C:\Users\Татьяна\Desktop\992_58076dscn0102.jpg"/>
          <p:cNvPicPr/>
          <p:nvPr/>
        </p:nvPicPr>
        <p:blipFill>
          <a:blip r:embed="rId1"/>
          <a:stretch/>
        </p:blipFill>
        <p:spPr>
          <a:xfrm>
            <a:off x="814320" y="1628640"/>
            <a:ext cx="7515360" cy="430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2T21:44:05Z</dcterms:created>
  <dc:creator>Федотова Виктория Александровна</dc:creator>
  <dc:description/>
  <dc:language>en-US</dc:language>
  <cp:lastModifiedBy>Учетная запись Майкрософт</cp:lastModifiedBy>
  <dcterms:modified xsi:type="dcterms:W3CDTF">2023-04-16T08:04:40Z</dcterms:modified>
  <cp:revision>40</cp:revision>
  <dc:subject/>
  <dc:title>Слайд 1</dc:title>
</cp:coreProperties>
</file>