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7858-9F62-4EAC-8D01-B731D93F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4D0-D53D-4DBD-BD98-6510C458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BF1-685D-4297-9149-9BB31481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931-4EEC-4734-ACB4-9A1AE7DF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402E-FACE-4307-A25B-CDAB739D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52A1-ABFD-4BD1-91F6-B132DA59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B5F8-78C5-4AFE-93A9-E984F9A8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555D-C959-4E0B-8887-34F5D377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7685-9D04-48D9-91CE-EC8411DE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40CA-8FCC-4638-A8F8-B67E0D07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37C8-DCBA-4826-AB1A-63FB299E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AE9C-F2C1-469A-B588-27D9DE57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5681-1827-4209-A3B9-3E983402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FCF1-0B97-4FA6-81DA-0EB4FF14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AD97-906B-4722-B282-E3110B9F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D86A-AE97-4F17-8681-894F037D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BD61-D731-4C7E-B689-062428E7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AA8D-9C15-425B-9508-9883EA1C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D9B-0D0F-44D8-A9BB-BFBBABA1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8BA-FFD4-43D0-BB15-D6EBDAA4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7F1E-1705-4CAA-8328-29E4A00A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76CE-D5CE-4597-881E-90D59F11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700-D4F4-49B5-9306-122A7155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C057-585A-40A7-BC6D-34985002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2615-E458-4D00-A48F-58C07AA650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9AB0-AC98-4BDE-BE55-E717B93CD6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Образ Василия Теркина – защитника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родной стран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Презентация к уроку литературы в 8 классе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Автор : Халикова Рушания Рифхатовна, учитель русского языка и литературы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МАОУ «Лайтамакская СОШ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:\Users\Татьяна\Desktop\16.jpg"/>
          <p:cNvPicPr/>
          <p:nvPr/>
        </p:nvPicPr>
        <p:blipFill>
          <a:blip r:embed="rId1"/>
          <a:stretch/>
        </p:blipFill>
        <p:spPr>
          <a:xfrm>
            <a:off x="2340000" y="189000"/>
            <a:ext cx="251928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Домашнее задание </a:t>
            </a:r>
            <a:br>
              <a:rPr sz="4400"/>
            </a:b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(на выбор)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писать письмо геро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проектировать и сделать буклет «Защитнику Отечест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1988640"/>
            <a:ext cx="80629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2491920"/>
            <a:ext cx="6400800" cy="27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17" name="Рисунок 1" descr=""/>
          <p:cNvPicPr/>
          <p:nvPr/>
        </p:nvPicPr>
        <p:blipFill>
          <a:blip r:embed="rId1"/>
          <a:stretch/>
        </p:blipFill>
        <p:spPr>
          <a:xfrm>
            <a:off x="2050920" y="1035000"/>
            <a:ext cx="489744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1988640"/>
            <a:ext cx="80629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Добрый ден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2491920"/>
            <a:ext cx="6400800" cy="27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2050920" y="1035000"/>
            <a:ext cx="489744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Татьяна\Desktop\img2.jpg"/>
          <p:cNvPicPr/>
          <p:nvPr/>
        </p:nvPicPr>
        <p:blipFill>
          <a:blip r:embed="rId1"/>
          <a:stretch/>
        </p:blipFill>
        <p:spPr>
          <a:xfrm>
            <a:off x="0" y="0"/>
            <a:ext cx="2760840" cy="3860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0" y="393372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ллюстрация художника  О. Верей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C:\Users\Татьяна\Desktop\img8.jpg"/>
          <p:cNvPicPr/>
          <p:nvPr/>
        </p:nvPicPr>
        <p:blipFill>
          <a:blip r:embed="rId2"/>
          <a:stretch/>
        </p:blipFill>
        <p:spPr>
          <a:xfrm>
            <a:off x="2700360" y="0"/>
            <a:ext cx="3130560" cy="386064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2843280" y="1890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Black"/>
              </a:rPr>
              <a:t>Глава «Гармо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C:\Users\Татьяна\Desktop\img13.jpg"/>
          <p:cNvPicPr/>
          <p:nvPr/>
        </p:nvPicPr>
        <p:blipFill>
          <a:blip r:embed="rId3"/>
          <a:stretch/>
        </p:blipFill>
        <p:spPr>
          <a:xfrm>
            <a:off x="5796000" y="0"/>
            <a:ext cx="3348000" cy="3860640"/>
          </a:xfrm>
          <a:prstGeom prst="rect">
            <a:avLst/>
          </a:prstGeom>
          <a:ln w="0">
            <a:noFill/>
          </a:ln>
        </p:spPr>
      </p:pic>
      <p:sp>
        <p:nvSpPr>
          <p:cNvPr id="93" name="TextBox 8"/>
          <p:cNvSpPr/>
          <p:nvPr/>
        </p:nvSpPr>
        <p:spPr>
          <a:xfrm>
            <a:off x="5580000" y="39337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ллюстрация худож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. Бру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5940360" y="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Black"/>
              </a:rPr>
              <a:t>Глава «Два солда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Goman_Aleksejj_-_Russkijj_paren_1432992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ov.opredelim.com/tw_files2/urls_1365/1/d-946/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Формулируем тему урока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611280" y="170028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«Образ Василия Теркина – защитника родной страны в поэ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А. Т. Твардов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«Василий Терки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Татьяна\Desktop\img2.jpg"/>
          <p:cNvPicPr/>
          <p:nvPr/>
        </p:nvPicPr>
        <p:blipFill>
          <a:blip r:embed="rId1"/>
          <a:stretch/>
        </p:blipFill>
        <p:spPr>
          <a:xfrm>
            <a:off x="5796000" y="2421000"/>
            <a:ext cx="271620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Определяем цель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181440" y="1600200"/>
            <a:ext cx="93250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Дать всестороннюю характеристику  Василию  Теркину – защитнику  родной  стра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0" y="3044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  <a:ea typeface="Calibri"/>
              </a:rPr>
              <a:t>Что нужно знать, чтобы дать характеристику литературному персонаж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4331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Black"/>
                <a:ea typeface="Calibri"/>
              </a:rPr>
              <a:t>- содержание поэ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Black"/>
                <a:ea typeface="Calibri"/>
              </a:rPr>
              <a:t>- план характеристики литературного персонаж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Black"/>
                <a:ea typeface="Calibri"/>
              </a:rPr>
              <a:t>- уметь работать с текс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Алгоритм характеристики литературного персонажа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. Место, занимаемое героем в произвед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. Обстановка, в которой он жив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. Портрет – описание внеш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4. Манера держа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5. Речь геро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6. Поступки, особенности поведения, деятельность, влияние на окружающ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7. Понимание героем цели в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8. Чувства и мысли литературного героя, его взаимоотношения с другими людь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9. Отношение автора к геро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0. Значение героя в раскрытии идеи  произве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нтальная кар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Объект 11" descr=""/>
          <p:cNvPicPr/>
          <p:nvPr/>
        </p:nvPicPr>
        <p:blipFill>
          <a:blip r:embed="rId1"/>
          <a:stretch/>
        </p:blipFill>
        <p:spPr>
          <a:xfrm>
            <a:off x="268200" y="1596960"/>
            <a:ext cx="8607600" cy="4529160"/>
          </a:xfrm>
          <a:prstGeom prst="rect">
            <a:avLst/>
          </a:prstGeom>
          <a:ln w="0">
            <a:noFill/>
          </a:ln>
        </p:spPr>
      </p:pic>
      <p:sp>
        <p:nvSpPr>
          <p:cNvPr id="109" name="Стрелка вправо 14"/>
          <p:cNvSpPr/>
          <p:nvPr/>
        </p:nvSpPr>
        <p:spPr>
          <a:xfrm>
            <a:off x="5651640" y="3621240"/>
            <a:ext cx="865080" cy="4856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лево 15"/>
          <p:cNvSpPr/>
          <p:nvPr/>
        </p:nvSpPr>
        <p:spPr>
          <a:xfrm>
            <a:off x="2279520" y="3621240"/>
            <a:ext cx="852480" cy="48564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амятник 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Александру Твардовскому и Василию Теркин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Татьяна\Desktop\992_58076dscn0102.jpg"/>
          <p:cNvPicPr/>
          <p:nvPr/>
        </p:nvPicPr>
        <p:blipFill>
          <a:blip r:embed="rId1"/>
          <a:stretch/>
        </p:blipFill>
        <p:spPr>
          <a:xfrm>
            <a:off x="814320" y="1628640"/>
            <a:ext cx="75153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21:44:05Z</dcterms:created>
  <dc:creator>Федотова Виктория Александровна</dc:creator>
  <dc:description/>
  <dc:language>en-US</dc:language>
  <cp:lastModifiedBy>Учетная запись Майкрософт</cp:lastModifiedBy>
  <dcterms:modified xsi:type="dcterms:W3CDTF">2023-04-16T08:04:40Z</dcterms:modified>
  <cp:revision>40</cp:revision>
  <dc:subject/>
  <dc:title>Слайд 1</dc:title>
</cp:coreProperties>
</file>