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23.png" ContentType="image/png"/>
  <Override PartName="/ppt/media/image22.gif" ContentType="image/gif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C644-DBF6-48CE-BCF4-D41E8E670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EDDE-FC78-4293-BF10-99CF537A05C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2396-FDBB-41F4-B745-A3CD93085B3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6F3-202D-4AE2-AB70-136D8D3C50D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E62-B344-449F-9BF9-1B7DBE371AA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F3C-65D7-4C82-B853-6B955DB0E03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628-F2E8-4124-A8EA-9C91F89F3A8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1B74-C428-4F34-A949-A80707FDBF5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7EC8-2210-4355-BF06-14F49FD8B06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2B77-BB4B-4307-8415-194C7205551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897-1C28-48A3-B3E7-A1E55CE403D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41F-8A8B-440F-8047-18ACD333267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06E-06E8-4574-AD14-F5FB01F9CA8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5C3C-BF5B-4AD5-80F0-088CFF278F8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B09-3CAD-4D92-9F04-33A7FC74CF3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BB3D-4718-4712-B091-5324EA3DA0A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745-BB13-4FFC-8E76-9EE28B98947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7B0-B4EF-4083-99D4-A7D570AB408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FE32-D708-404F-83D0-F688693A568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07B-68C1-4044-A461-A2D1EF72D10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79E-81E7-4913-8EEA-D6A48FBC7EB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963-90AC-4BAB-B400-5B6FD29A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0A0-A0C2-4694-9494-1E09FB4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880-3948-4DD8-BFCC-389033AB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52-40B4-4044-ABA0-CD75D3DC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CAE-B9DD-467B-B93C-6CA67F47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C7D-EBE0-4815-8CC4-DB60A17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215-3DDC-4F87-BEF2-DA2AF78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231-20BE-4DF0-8B49-97D7B62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5BB-B7A9-49A8-8299-10D5AF6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C31-9AE7-4227-AB22-880C69A9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771-BA17-4EE2-98C4-B616EFBC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12D-BFF3-4ADB-A9B2-BD90F693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124C1-BF78-4E66-9059-C0216A2C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ADCAA-37CE-482C-9F19-2B3D815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5192-2609-4B50-805B-CC255E4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E208-1A16-4B7A-83E9-3A707F1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DC2AC-08D8-4ED2-A360-5785D553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FE128-3F76-4DB8-A344-05A19348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D7D40-204B-4E13-A440-8E781A5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9CA3-FFC8-44BB-93BC-52BD963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6597-BADD-4DAE-AB87-1107237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0415-1708-4E78-875B-B55D0320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F835-A9D0-49AA-963D-AB2AB031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F85E-7115-46DD-AC24-41DEC33A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D756-086B-4125-AD03-8F589E63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6F2F-31EA-4A97-A91E-E4D375D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4D6B-29CD-4A3F-9177-19DDBA4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50BB-9B64-46A7-A739-28C40D22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3E03-5189-4C7A-BCF5-A98E7D3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C925-E2E5-4026-B445-FC995BD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A82A-7CE7-43CD-B35B-E1CF573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D010-F10A-4B60-B416-B4D05D4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B99E-277F-4230-826D-05709C2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9C25-BE14-4BC7-9198-82DC3763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815F-CC7A-4998-8DC0-2081FE8E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5AFF-21D1-4A88-88F8-2BC97FE4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2D3D-FC09-4FF2-844C-A1762B25466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1718-3A6C-44DC-A63A-54539CDA1D8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0" y="414828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7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F26-0E4C-473D-B821-5AB4D94B8D6B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tc.tgl.ru/" TargetMode="External"/><Relationship Id="rId2" Type="http://schemas.openxmlformats.org/officeDocument/2006/relationships/hyperlink" Target="http://itc.tgl.ru/" TargetMode="External"/><Relationship Id="rId3" Type="http://schemas.openxmlformats.org/officeDocument/2006/relationships/hyperlink" Target="http://itc.tgl.ru/" TargetMode="External"/><Relationship Id="rId4" Type="http://schemas.openxmlformats.org/officeDocument/2006/relationships/hyperlink" Target="http://itc.tgl.ru/" TargetMode="External"/><Relationship Id="rId5" Type="http://schemas.openxmlformats.org/officeDocument/2006/relationships/hyperlink" Target="http://itc.tgl.ru/" TargetMode="External"/><Relationship Id="rId6" Type="http://schemas.openxmlformats.org/officeDocument/2006/relationships/hyperlink" Target="http://itc.tgl.ru/" TargetMode="External"/><Relationship Id="rId7" Type="http://schemas.openxmlformats.org/officeDocument/2006/relationships/hyperlink" Target="http://itc.tgl.ru/" TargetMode="External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tfond.org/images/news/1958/Medvedev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1258920" y="2492280"/>
            <a:ext cx="662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Методика модульного обучен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как средство развит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самостоятельности учащихся на примере выполнени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ngsanaUPC"/>
              </a:rPr>
              <a:t>работ физического практикум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751280" y="5013360"/>
            <a:ext cx="43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ngsanaUPC"/>
              </a:rPr>
              <a:t>Автор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педагог дополнительного образования</a:t>
            </a: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МБОУ ДО «Станция юных техников»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МР Абзелиловский район РБ</a:t>
            </a: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1000" indent="-332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ngsanaUPC"/>
              </a:rPr>
              <a:t>  </a:t>
            </a:r>
            <a:r>
              <a:rPr b="1" lang="ru-RU" sz="1600" spc="-1" strike="noStrike">
                <a:solidFill>
                  <a:srgbClr val="0000cc"/>
                </a:solidFill>
                <a:latin typeface="AngsanaUPC"/>
              </a:rPr>
              <a:t>Уметбаева А. И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ершенствование методики преподавания и методов обучения непрерывно связано с вопросами развития самосто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САМОСТОЯТЕЛЬНОСТЬ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- это качество личности, которое характеризуется сознательным выбором действия и решительностью в его осуществлен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00036211"/>
          <p:cNvPicPr/>
          <p:nvPr/>
        </p:nvPicPr>
        <p:blipFill>
          <a:blip r:embed="rId1"/>
          <a:stretch/>
        </p:blipFill>
        <p:spPr>
          <a:xfrm>
            <a:off x="1332000" y="1844640"/>
            <a:ext cx="2319120" cy="295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00036235"/>
          <p:cNvPicPr/>
          <p:nvPr/>
        </p:nvPicPr>
        <p:blipFill>
          <a:blip r:embed="rId2"/>
          <a:stretch/>
        </p:blipFill>
        <p:spPr>
          <a:xfrm>
            <a:off x="3708360" y="1844640"/>
            <a:ext cx="1965240" cy="29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00036164"/>
          <p:cNvPicPr/>
          <p:nvPr/>
        </p:nvPicPr>
        <p:blipFill>
          <a:blip r:embed="rId3"/>
          <a:stretch/>
        </p:blipFill>
        <p:spPr>
          <a:xfrm>
            <a:off x="5724360" y="1844640"/>
            <a:ext cx="2040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20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2898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1" descr="home_home_037"/>
          <p:cNvPicPr/>
          <p:nvPr/>
        </p:nvPicPr>
        <p:blipFill>
          <a:blip r:embed="rId2"/>
          <a:stretch/>
        </p:blipFill>
        <p:spPr>
          <a:xfrm>
            <a:off x="2700360" y="522936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2" descr="home_home_home_740363562"/>
          <p:cNvPicPr/>
          <p:nvPr/>
        </p:nvPicPr>
        <p:blipFill>
          <a:blip r:embed="rId3"/>
          <a:stretch/>
        </p:blipFill>
        <p:spPr>
          <a:xfrm>
            <a:off x="684360" y="5157720"/>
            <a:ext cx="20145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guestbook_1051025657"/>
          <p:cNvPicPr/>
          <p:nvPr/>
        </p:nvPicPr>
        <p:blipFill>
          <a:blip r:embed="rId1"/>
          <a:stretch/>
        </p:blipFill>
        <p:spPr>
          <a:xfrm>
            <a:off x="179280" y="4365720"/>
            <a:ext cx="1812960" cy="23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619308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ДЫ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53080" cy="3182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ome_home_home_740363562"/>
          <p:cNvPicPr/>
          <p:nvPr/>
        </p:nvPicPr>
        <p:blipFill>
          <a:blip r:embed="rId2"/>
          <a:stretch/>
        </p:blipFill>
        <p:spPr>
          <a:xfrm>
            <a:off x="468360" y="5157720"/>
            <a:ext cx="2147760" cy="132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home_home_037"/>
          <p:cNvPicPr/>
          <p:nvPr/>
        </p:nvPicPr>
        <p:blipFill>
          <a:blip r:embed="rId3"/>
          <a:stretch/>
        </p:blipFill>
        <p:spPr>
          <a:xfrm>
            <a:off x="2771640" y="5229360"/>
            <a:ext cx="12240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9" descr="guestbook_1051025657"/>
          <p:cNvPicPr/>
          <p:nvPr/>
        </p:nvPicPr>
        <p:blipFill>
          <a:blip r:embed="rId1"/>
          <a:stretch/>
        </p:blipFill>
        <p:spPr>
          <a:xfrm>
            <a:off x="0" y="2565360"/>
            <a:ext cx="1812960" cy="230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guestbook_1051025657"/>
          <p:cNvPicPr/>
          <p:nvPr/>
        </p:nvPicPr>
        <p:blipFill>
          <a:blip r:embed="rId2"/>
          <a:stretch/>
        </p:blipFill>
        <p:spPr>
          <a:xfrm>
            <a:off x="0" y="2565360"/>
            <a:ext cx="181296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7210440" cy="5400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держание СР работ при классификаци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основной дидактической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 развития самостоятельности учащихся использую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111"/>
          <p:cNvPicPr/>
          <p:nvPr/>
        </p:nvPicPr>
        <p:blipFill>
          <a:blip r:embed="rId1"/>
          <a:stretch/>
        </p:blipFill>
        <p:spPr>
          <a:xfrm>
            <a:off x="468360" y="2060640"/>
            <a:ext cx="7496280" cy="2552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0" y="2276640"/>
            <a:ext cx="4330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уровневые самостоятельны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-исследования (творческого характ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е дикт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«на довер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Arial"/>
              </a:rPr>
              <a:t>Физические практику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561636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ыполнении работ физического практикума учащиеся должны научиться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именять полученные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самостоятельно работать с прибо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оводить необходимые измерения, правильно снимать показания измерительных приб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уметь проводить анализ полученных результатов, делать вывод по результатам экспери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рационально выполнять математические расчёты, пользоваться графическим методом обработк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уметь оценивать полученные результаты, вычислять абсолютную и относительную погрешность результатов измерени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956210291"/>
          <p:cNvPicPr/>
          <p:nvPr/>
        </p:nvPicPr>
        <p:blipFill>
          <a:blip r:embed="rId1"/>
          <a:stretch/>
        </p:blipFill>
        <p:spPr>
          <a:xfrm>
            <a:off x="6156360" y="549360"/>
            <a:ext cx="27874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916000" y="90792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ЕАЛИЗАЦИЯ ИДЕЙ МОДУЛЬНОГО ОБУЧ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04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Модульный урок физического практикума по теме «Изучение резонанса в электрическом колебательном контуре» (11 клас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Конспект урока по физике в 9 классе по теме «Первый и второй законы Ньютона» / Модуль М3. Обобщенный (три уровня сложности; с учетом когнитивных стилей мышления и уровня дифференциации усвоения физических знаний; по учебнику Перышкина А.В., Гутника Е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imSun-ExtB"/>
              </a:rPr>
              <a:t>Элективный курс по физике «Вычисление погрешностей при выполнении работ физического практикума» (для учащихся  10 кла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740366354"/>
          <p:cNvPicPr/>
          <p:nvPr/>
        </p:nvPicPr>
        <p:blipFill>
          <a:blip r:embed="rId1"/>
          <a:stretch/>
        </p:blipFill>
        <p:spPr>
          <a:xfrm>
            <a:off x="395280" y="765000"/>
            <a:ext cx="22366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280" y="3284280"/>
            <a:ext cx="8425080" cy="32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силась мотивация учащихся в освоении знаний, умений и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илась возможность обучения в индивидуальном темпе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выбора уровня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висимость от уровня усвояемости других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арантированность достижения результатов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осла способность самооценки, самокоррекции, самоконтроля и самообразования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700360" y="620640"/>
            <a:ext cx="611964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Используя в своей педагогической работе технологию модульного обучения, анализируя знания учащихся различными видами контроля, педагогического наблюдения, аттестацией, можно отметить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3" name="Picture 5" descr="рис 4"/>
          <p:cNvPicPr/>
          <p:nvPr/>
        </p:nvPicPr>
        <p:blipFill>
          <a:blip r:embed="rId1"/>
          <a:stretch/>
        </p:blipFill>
        <p:spPr>
          <a:xfrm>
            <a:off x="539640" y="692280"/>
            <a:ext cx="24480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ИСОК ИСПОЛЬЗОВА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Булавина-Топоркова М.В. Педагогические технологии. Учебное пособие. / А.В. Духавина и др. – Ростов - на Дону: Март, 2007. - 23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Вечканова Е.А. Особенности модульной системы обучения на уроках физики с ориентацией на личностно-развивающий фактор в средней школе. [Текст] / Е.А. Вечканова // Материалы V Международной научной конференции «Физическое образование: проблемы и перспективы развития» (часть 2).  М.: МПГУ, 2006. - С. 69-7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Головощёкина Л.П. Модульная технология обучения. Методические рекомендации. - М.: Владос, 2003. – 167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Кирик Л.А. Физика. Разноуровневые самостоятельные и контрольные работы. – М.: Илекса, 2005.  - 17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Марон А.Е. Физика. 10 класс: дидактические материалы. – М.: Дрофа, 2005. – 15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Немов Р.С. Психология. Книга 2. Психология образования. М.: Владос, 2001. - 608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актикум по физике в средней школе. Дидактический материал. Под редакцией А.А. Покровского. М.: Просвещение, 1997. - 192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актикум по физике в средней школе: дидактический материал: Пособие для учителя / Л.И. Анциферов, В.А. Буров, Ю.И. Дик и др. - М.: Просвещение, 2008. – 191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рограммы для общеобразоват. учреждений: Физика. Астрономия. 7 – 11 кл. / Сост. Ю.И. Дик, В.А. Коровин. - М.: Дрофа, 2010. – 25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оливанова К.Н. Психология. Учебное пособие. М.: Просвещение, 2000. - 184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Рындак В.Г. Педагогика, Учебное пособие. М.: Высшая школа, 2006. - 496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Селевако Г.К. Педагогические технологии на основе дидактического и методического усовершенствования УВП. Энциклопедия образовательных технологий. М.: НИИ школьных технологий, 2005. - 288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Черненко О.Н. Информационные технологии в учебном процессе: нормативное обеспечение, рекомендации из опыта работы. – Волгоград: Учитель, 2007. – 135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Ежова Н. С. Средства реализации компетентностно-ориентированного подхода. 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1"/>
              </a:rPr>
              <a:t>http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2"/>
              </a:rPr>
              <a:t>://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3"/>
              </a:rPr>
              <a:t>itc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4"/>
              </a:rPr>
              <a:t>.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5"/>
              </a:rPr>
              <a:t>tgl</a:t>
            </a:r>
            <a:r>
              <a:rPr b="0" lang="ru-RU" sz="1000" spc="-1" strike="noStrike" u="sng">
                <a:solidFill>
                  <a:srgbClr val="666699"/>
                </a:solidFill>
                <a:uFillTx/>
                <a:latin typeface="Sylfaen"/>
                <a:hlinkClick r:id="rId6"/>
              </a:rPr>
              <a:t>.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Sylfaen"/>
                <a:hlinkClick r:id="rId7"/>
              </a:rPr>
              <a:t>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Орлов В.А. Школьный курс физики: тесты и задания. – М.: Школа- Пресс, 1996. – С. 3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Орлов А.А. Мониторинг инновационных процессов в образовании. Педагогика. М.: Просвещение, 1996. – С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Пидкасистый П.И. Самостоятельная деятельность учащихся в обучении. - М.: Просвещение, 2004. – 145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Селевко Г.К. Современные образовательные технологии. - М.: Просвещение, 2008. – С. 8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Усанова А.В. Формирование у учащихся учебных умений. – М.: Просвещение, 1987. – 120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ylfaen"/>
              </a:rPr>
              <a:t>Щукина Г.И. Педагогические проблемы формирования познавательных интересов учащихся. - М.: Просвещение, 1986. - 215 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image009"/>
          <p:cNvPicPr/>
          <p:nvPr/>
        </p:nvPicPr>
        <p:blipFill>
          <a:blip r:embed="rId8"/>
          <a:stretch/>
        </p:blipFill>
        <p:spPr>
          <a:xfrm>
            <a:off x="7026120" y="5264280"/>
            <a:ext cx="21178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4932360" y="260280"/>
            <a:ext cx="3887640" cy="79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d4d4d"/>
                </a:solidFill>
                <a:latin typeface="Sylfaen"/>
                <a:ea typeface="Arial"/>
              </a:rPr>
              <a:t>«Смысл и суть проекта </a:t>
            </a:r>
            <a:r>
              <a:rPr b="1" lang="ru-RU" sz="2200" spc="-1" strike="noStrike">
                <a:solidFill>
                  <a:srgbClr val="ff0000"/>
                </a:solidFill>
                <a:latin typeface="Sylfaen"/>
                <a:ea typeface="Arial"/>
              </a:rPr>
              <a:t>«Наша новая школа»</a:t>
            </a:r>
            <a:r>
              <a:rPr b="1" lang="ru-RU" sz="2200" spc="-1" strike="noStrike">
                <a:solidFill>
                  <a:srgbClr val="4d4d4d"/>
                </a:solidFill>
                <a:latin typeface="Sylfaen"/>
                <a:ea typeface="Arial"/>
              </a:rPr>
              <a:t> – в создании школы, способной раскрыть личностный потенциал детей, воспитать в них интерес к учёбе и знаниям, стремление к духовному росту и здоровому образу жизни, подготовить ребят к профессиональной деятельности с учётом задач модернизации и инновационного развития страны. Это не краткосрочный проект, а стратегическая политика в сфере образования РФ»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Sylfaen"/>
                <a:ea typeface="Arial"/>
              </a:rPr>
              <a:t>Президент РФ Д.А. Медведев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5" name="Picture 6" descr="Картинка 3 из 92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1" descr=""/>
          <p:cNvPicPr/>
          <p:nvPr/>
        </p:nvPicPr>
        <p:blipFill>
          <a:blip r:embed="rId1"/>
          <a:stretch/>
        </p:blipFill>
        <p:spPr>
          <a:xfrm>
            <a:off x="3240" y="404640"/>
            <a:ext cx="9144000" cy="6615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3240" y="4454640"/>
            <a:ext cx="61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Как учить результативно??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4365360"/>
            <a:ext cx="896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바탕"/>
              </a:rPr>
              <a:t>Отечественная и зарубежная практика показывает перспективность принципиально иного по организации и технологии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바탕"/>
              </a:rPr>
              <a:t>модульно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</a:rPr>
              <a:t>, реализующего идеи личностно-ориентированного подхода в системе самостоятельной познавательной деятельности школьников.</a:t>
            </a:r>
            <a:r>
              <a:rPr b="1" lang="ru-RU" sz="3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ADMIN000"/>
          <p:cNvPicPr/>
          <p:nvPr/>
        </p:nvPicPr>
        <p:blipFill>
          <a:blip r:embed="rId1"/>
          <a:stretch/>
        </p:blipFill>
        <p:spPr>
          <a:xfrm>
            <a:off x="2843280" y="1268280"/>
            <a:ext cx="3141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4920" y="2565000"/>
            <a:ext cx="83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Модульное обучение исследовалось в работах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П.А. Юцявичене,  И.С. Карасовой, А.В. Карпушева, Н.А. Клещевой, И.Н. Николаевой и др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Организация самостоятельной познавательной деятельности учащихся исследовалась в дидактике физики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И.Л. Беленок, В.А. Беликовым, Ю.И. Диком, М.Д. Даммер, Л.Я. Зориной, В.И. Земцовой, С.Е. Каменецким, КС. Карасовой, И.Я. Ланиной, В.В. Мултановским, Н.С. Пурышевой, А.И. Подольским, В.Г. Разумовским, Н.Н. Гулькибаевой, А.В. Усовой, JT.C. Хижняковой, Т.Н. Шамало и др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Разработке</a:t>
            </a: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Sylfaen"/>
              </a:rPr>
              <a:t>психолого-дидактических основ самостоятельности учащихся в учебно-познавательной деятельности посвящены работы</a:t>
            </a: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 Ю.К. Бабанского, А.А. Боброва, З.А. Вологодской, А.Н. Звягина, А.И. Крутского, И.Я. Лернера, Г.И. Китайгородской, И.И. Малкина, М.И. Махмутова, В.С, Мерлина, В.А. Онищук, Е.В. Оспенниковой, Н.С. Пурышевой, М.Н. Скаткина, Н.Н. Тулькибаевой, А.В. Усовой, В.А. Черкасова, П.И. Чернецова, А.А. Шаповалова, И.С. Якиманской и др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0" name="Picture 4" descr="981543671"/>
          <p:cNvPicPr/>
          <p:nvPr/>
        </p:nvPicPr>
        <p:blipFill>
          <a:blip r:embed="rId1"/>
          <a:stretch/>
        </p:blipFill>
        <p:spPr>
          <a:xfrm>
            <a:off x="324000" y="2637000"/>
            <a:ext cx="307800" cy="307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981543671"/>
          <p:cNvPicPr/>
          <p:nvPr/>
        </p:nvPicPr>
        <p:blipFill>
          <a:blip r:embed="rId2"/>
          <a:stretch/>
        </p:blipFill>
        <p:spPr>
          <a:xfrm>
            <a:off x="324000" y="3429000"/>
            <a:ext cx="307800" cy="307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981543671"/>
          <p:cNvPicPr/>
          <p:nvPr/>
        </p:nvPicPr>
        <p:blipFill>
          <a:blip r:embed="rId3"/>
          <a:stretch/>
        </p:blipFill>
        <p:spPr>
          <a:xfrm>
            <a:off x="324000" y="5084640"/>
            <a:ext cx="307800" cy="3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86920" y="289872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 показать применение модульной технологии в развитии самостоятельности учащихся общеобразовательных учреждений при выполнении работ физического практикум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Актуальность разработки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о-первых,  применение технологии модульного обучения позволяет увеличить время на индивидуальную работу с учащимися, отработку формируемых знаний и умений;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о-вторых, проблема содействия развитию самостоятельности учащихся и динамизм, вариативность обучения, отражающиеся в технологии модульного обучения, отвечают современным тенденциям развития общества;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lfa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в-третьих, актуальность решения этой проблемы была потребностью времени, когда процесс обучения и воспитания направлен на развитие индивида, талантов, умственных способностей в самом полном объеме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4" name="Picture 4" descr="981543671"/>
          <p:cNvPicPr/>
          <p:nvPr/>
        </p:nvPicPr>
        <p:blipFill>
          <a:blip r:embed="rId1"/>
          <a:stretch/>
        </p:blipFill>
        <p:spPr>
          <a:xfrm>
            <a:off x="1042920" y="2997360"/>
            <a:ext cx="316080" cy="315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981543671"/>
          <p:cNvPicPr/>
          <p:nvPr/>
        </p:nvPicPr>
        <p:blipFill>
          <a:blip r:embed="rId2"/>
          <a:stretch/>
        </p:blipFill>
        <p:spPr>
          <a:xfrm>
            <a:off x="1042920" y="3860640"/>
            <a:ext cx="316080" cy="3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611280" y="33336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Elephant"/>
                <a:ea typeface="Arial"/>
              </a:rPr>
              <a:t>В чем состоит принципиальное различие этой технологии от других технологий обучения?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84360" y="1773360"/>
            <a:ext cx="8064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Содержание обучения представляется в законченных самостоятельных комплексах - «модулях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Цель формируется конкретно для обучающегося и содержит в себе не только указание на объем изучаемого материала, но и на уровень его усво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Изменяется форма общения учителя и ученика. Ученик максимум времени работает самостоятельно, учится целеполаганию, самоорганизации и самоконтролю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30200" y="508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ущность модульного обуч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— ученик самостоятельно (или с некоторой помощью педагога) достигает конкретных целей познавательной учебной деятельности в процессе работы с модуле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9" name="Picture 11" descr="1str2"/>
          <p:cNvPicPr/>
          <p:nvPr/>
        </p:nvPicPr>
        <p:blipFill>
          <a:blip r:embed="rId1"/>
          <a:stretch/>
        </p:blipFill>
        <p:spPr>
          <a:xfrm>
            <a:off x="324000" y="184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1str2"/>
          <p:cNvPicPr/>
          <p:nvPr/>
        </p:nvPicPr>
        <p:blipFill>
          <a:blip r:embed="rId2"/>
          <a:stretch/>
        </p:blipFill>
        <p:spPr>
          <a:xfrm>
            <a:off x="324000" y="184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1str2"/>
          <p:cNvPicPr/>
          <p:nvPr/>
        </p:nvPicPr>
        <p:blipFill>
          <a:blip r:embed="rId3"/>
          <a:stretch/>
        </p:blipFill>
        <p:spPr>
          <a:xfrm>
            <a:off x="324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1str2"/>
          <p:cNvPicPr/>
          <p:nvPr/>
        </p:nvPicPr>
        <p:blipFill>
          <a:blip r:embed="rId4"/>
          <a:stretch/>
        </p:blipFill>
        <p:spPr>
          <a:xfrm>
            <a:off x="32400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6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eiryo"/>
              </a:rPr>
              <a:t>ВЕДУЩИЕ ПРИНЦИПЫ МОДУЛЬНО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моду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структуризации содержания на обособленные эле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динами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гиб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осознанной перспекти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ы разносторонности консультир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76400" indent="-363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2514600"/>
                <a:tab algn="l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принцип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guestbook_1051025657"/>
          <p:cNvPicPr/>
          <p:nvPr/>
        </p:nvPicPr>
        <p:blipFill>
          <a:blip r:embed="rId1"/>
          <a:stretch/>
        </p:blipFill>
        <p:spPr>
          <a:xfrm>
            <a:off x="179280" y="836640"/>
            <a:ext cx="1812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guestbook_1051025657"/>
          <p:cNvPicPr/>
          <p:nvPr/>
        </p:nvPicPr>
        <p:blipFill>
          <a:blip r:embed="rId1"/>
          <a:stretch/>
        </p:blipFill>
        <p:spPr>
          <a:xfrm>
            <a:off x="7093080" y="4149720"/>
            <a:ext cx="1812960" cy="2303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АВИЛА ПОСТРОЕНИЯ МОДУЛ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64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перед каждым модулем проводится входно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обязательно осуществляется текущий и промежуточный контроль (чаще всего это мягкий контроль, самоконтроль, взаимоконтроль, сверка с образцом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необходимо осуществлять дифференциацию учебного содержания, выделяя уровень знаний обязательной подготовки и уровень выше обязательн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48400"/>
                <a:tab algn="l" pos="5878440"/>
                <a:tab algn="l" pos="6134040"/>
                <a:tab algn="l" pos="6389640"/>
                <a:tab algn="l" pos="6645240"/>
                <a:tab algn="l" pos="6900840"/>
                <a:tab algn="l" pos="7156440"/>
                <a:tab algn="l" pos="7412040"/>
                <a:tab algn="l" pos="7667640"/>
                <a:tab algn="l" pos="7923240"/>
                <a:tab algn="l" pos="8178840"/>
                <a:tab algn="l" pos="8434440"/>
                <a:tab algn="l" pos="8690040"/>
                <a:tab algn="l" pos="8945640"/>
                <a:tab algn="l" pos="9201240"/>
                <a:tab algn="l" pos="9456840"/>
                <a:tab algn="l" pos="9712440"/>
                <a:tab algn="l" pos="9968040"/>
                <a:tab algn="l" pos="10223640"/>
                <a:tab algn="l" pos="10479240"/>
                <a:tab algn="l" pos="10734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заканчивается модуль выходным 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ylfaen"/>
              </a:rPr>
              <a:t>Технология обучения по проектно-модуль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02160" cy="6021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guestbook_1051025657"/>
          <p:cNvPicPr/>
          <p:nvPr/>
        </p:nvPicPr>
        <p:blipFill>
          <a:blip r:embed="rId2"/>
          <a:stretch/>
        </p:blipFill>
        <p:spPr>
          <a:xfrm>
            <a:off x="179280" y="836640"/>
            <a:ext cx="1812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2:14:59Z</dcterms:created>
  <dc:creator>Alex</dc:creator>
  <dc:description/>
  <dc:language>en-US</dc:language>
  <cp:lastModifiedBy>Пользователь</cp:lastModifiedBy>
  <dcterms:modified xsi:type="dcterms:W3CDTF">2023-03-31T00:33:46Z</dcterms:modified>
  <cp:revision>12</cp:revision>
  <dc:subject/>
  <dc:title>Методика модульного обучения  как средство развития  самостоятельности учащихся на примере выполнения  работ физического практикума</dc:title>
</cp:coreProperties>
</file>