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403FA-9048-4314-B12B-90BF693BDF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196D1-AC6C-435A-83CD-3CE4E753B1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D3E-DCE9-41F9-8956-8C2BDD46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42A6-8674-4A06-9DC5-784BCCE8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A5B-7083-4FBE-906D-3CB8414C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3B8-F882-4108-A12E-A2D48F32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7D86-A430-4D17-9563-49A27259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07AB-1E59-4376-9FED-75918DD6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6966-A30C-45ED-9EC6-71D4CE6C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9D1F-D851-42E3-85A0-7746B1BB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E509-2A13-4609-ADEA-BB6F4FF5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FF5C-E491-477D-88CF-D01DCE6D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2435-8942-4754-843F-5F5D9996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38B8-CDCF-4894-96D1-8CFC382C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B34D-6C6A-45F0-93D2-DD5F3423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98D3-CCC1-45CC-9D93-39C31901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EDE8-DE63-463D-B898-CC706013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C43C-C417-4F82-9926-3181470B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C627-D863-4EC9-8DAD-80E986DD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15812-35B6-410E-ADBC-6043A95F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DCE80-4710-444E-AD59-E1B9EA9B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2C05F-8AC6-4C80-B479-79AE5108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DA552-9B14-407B-92EE-E85CCCAE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7815B-2115-43A1-8CFC-D3579FE4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9AF-3A7D-4789-80A3-E1B66761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AEB48-F052-4813-A650-C4AAE5B7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8E68-7667-4B8F-A5F2-BD3A96AC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17B05-093F-4423-8FED-C588038A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58578-63FB-4EA7-920E-647B8642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69A74-47BF-4AA8-903D-57D36A2C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7DFC2-7064-4F3F-BC6A-1E17A5C2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05D20-B772-4123-97CF-35136B28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FE3E9-063F-4E8E-8AEE-BA5CE038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8D2F1-F46A-46ED-9DC9-F6A9B703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C35DE-080E-4DC5-8EF7-091D8126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46F-7D43-42DB-87BA-3B3A0343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8EC88-365B-452F-8E7F-EEA98014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A6540-5AEA-457E-B947-67D3DF6A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9C8E2-F62E-4982-B3B9-5FA327E8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5344A-C636-4249-BE20-983DF957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40899-BCDA-42AE-A551-CF17C853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E52E8-74A6-4192-BFD2-1B1FB2D4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68A83-DD7D-411A-A53E-DF8D18D8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77D98-B901-4A3A-A653-85572BA1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0790B-AA5C-4B8B-BBEB-752BF040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BD06B-AF37-4E38-9D4A-1D06604C17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92A-899D-45EF-9980-1CF14AFD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8EAD1-6A45-4B52-AE58-C7550327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93202-34C7-4B9B-9FA2-19BD02B9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8AAA5-A17D-4632-890B-9C734F59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2D5556-6533-4F2B-91E0-2D32FE15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B0D0DE-C595-4215-852F-938CFCD9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82B9B4-DB97-46AD-A6A1-54717855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9F9E7-3BBB-4455-989B-917755E3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6EE66-5197-4EBC-A5AE-6A8C8540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E3170E-7310-4290-B045-3F4E257B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3CBDA-7DFA-4064-8FD3-1AF58802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30F-67C4-476C-A309-486BB9BC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AC557-438C-4650-8A8A-244505CD9F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158-7FE7-4E3E-A383-EBB6973D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9C65-F14A-4F7E-B799-51C3587B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D996-7EE6-4D6D-BE63-8BF0072B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37052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37052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87200" y="6272280"/>
            <a:ext cx="63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1401560" y="6229440"/>
            <a:ext cx="457200" cy="457200"/>
            <a:chOff x="11401560" y="6229440"/>
            <a:chExt cx="457200" cy="457200"/>
          </a:xfrm>
        </p:grpSpPr>
        <p:grpSp>
          <p:nvGrpSpPr>
            <p:cNvPr id="5" name="Oval 7"/>
            <p:cNvGrpSpPr/>
            <p:nvPr/>
          </p:nvGrpSpPr>
          <p:grpSpPr>
            <a:xfrm>
              <a:off x="11401560" y="6229440"/>
              <a:ext cx="457200" cy="457200"/>
              <a:chOff x="11401560" y="6229440"/>
              <a:chExt cx="457200" cy="457200"/>
            </a:xfrm>
          </p:grpSpPr>
          <p:pic>
            <p:nvPicPr>
              <p:cNvPr id="6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01560" y="62294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"/>
              <p:cNvSpPr/>
              <p:nvPr/>
            </p:nvSpPr>
            <p:spPr>
              <a:xfrm>
                <a:off x="11470320" y="6295680"/>
                <a:ext cx="32328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8" name="Oval 8"/>
            <p:cNvSpPr/>
            <p:nvPr/>
          </p:nvSpPr>
          <p:spPr>
            <a:xfrm>
              <a:off x="11432520" y="6257880"/>
              <a:ext cx="398880" cy="39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11310480" y="6272280"/>
            <a:ext cx="63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A4151-E0C1-42F6-9E37-51D7E7F584A6}" type="slidenum">
              <a:rPr b="1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Rectangle 6"/>
          <p:cNvGrpSpPr/>
          <p:nvPr/>
        </p:nvGrpSpPr>
        <p:grpSpPr>
          <a:xfrm>
            <a:off x="920880" y="1347840"/>
            <a:ext cx="10223280" cy="79200"/>
            <a:chOff x="920880" y="1347840"/>
            <a:chExt cx="10223280" cy="79200"/>
          </a:xfrm>
        </p:grpSpPr>
        <p:pic>
          <p:nvPicPr>
            <p:cNvPr id="47" name="Rectangle 6" descr=""/>
            <p:cNvPicPr/>
            <p:nvPr/>
          </p:nvPicPr>
          <p:blipFill>
            <a:blip r:embed="rId2"/>
            <a:stretch/>
          </p:blipFill>
          <p:spPr>
            <a:xfrm>
              <a:off x="920880" y="1349280"/>
              <a:ext cx="10223280" cy="7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920880" y="1347840"/>
              <a:ext cx="1022328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49" name="Rectangle 7"/>
          <p:cNvGrpSpPr/>
          <p:nvPr/>
        </p:nvGrpSpPr>
        <p:grpSpPr>
          <a:xfrm>
            <a:off x="920880" y="4297320"/>
            <a:ext cx="10223280" cy="85680"/>
            <a:chOff x="920880" y="4297320"/>
            <a:chExt cx="10223280" cy="85680"/>
          </a:xfrm>
        </p:grpSpPr>
        <p:pic>
          <p:nvPicPr>
            <p:cNvPr id="50" name="Rectangle 7" descr=""/>
            <p:cNvPicPr/>
            <p:nvPr/>
          </p:nvPicPr>
          <p:blipFill>
            <a:blip r:embed="rId3"/>
            <a:stretch/>
          </p:blipFill>
          <p:spPr>
            <a:xfrm>
              <a:off x="920880" y="4297320"/>
              <a:ext cx="102232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920880" y="4299120"/>
              <a:ext cx="1022328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2" name="Rectangle 8"/>
          <p:cNvGrpSpPr/>
          <p:nvPr/>
        </p:nvGrpSpPr>
        <p:grpSpPr>
          <a:xfrm>
            <a:off x="920880" y="1487520"/>
            <a:ext cx="10223280" cy="2742840"/>
            <a:chOff x="920880" y="1487520"/>
            <a:chExt cx="10223280" cy="2742840"/>
          </a:xfrm>
        </p:grpSpPr>
        <p:pic>
          <p:nvPicPr>
            <p:cNvPr id="53" name="Rectangle 8" descr=""/>
            <p:cNvPicPr/>
            <p:nvPr/>
          </p:nvPicPr>
          <p:blipFill>
            <a:blip r:embed="rId4"/>
            <a:stretch/>
          </p:blipFill>
          <p:spPr>
            <a:xfrm>
              <a:off x="920880" y="1490400"/>
              <a:ext cx="10223280" cy="27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20880" y="1487520"/>
              <a:ext cx="10223280" cy="27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5" name="Group 9"/>
          <p:cNvGrpSpPr/>
          <p:nvPr/>
        </p:nvGrpSpPr>
        <p:grpSpPr>
          <a:xfrm>
            <a:off x="9648720" y="4068720"/>
            <a:ext cx="1081080" cy="1081080"/>
            <a:chOff x="9648720" y="4068720"/>
            <a:chExt cx="1081080" cy="1081080"/>
          </a:xfrm>
        </p:grpSpPr>
        <p:grpSp>
          <p:nvGrpSpPr>
            <p:cNvPr id="56" name="Oval 10"/>
            <p:cNvGrpSpPr/>
            <p:nvPr/>
          </p:nvGrpSpPr>
          <p:grpSpPr>
            <a:xfrm>
              <a:off x="9648720" y="4068720"/>
              <a:ext cx="1081080" cy="1081080"/>
              <a:chOff x="9648720" y="4068720"/>
              <a:chExt cx="1081080" cy="1081080"/>
            </a:xfrm>
          </p:grpSpPr>
          <p:pic>
            <p:nvPicPr>
              <p:cNvPr id="57" name="Oval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9648720" y="4068720"/>
                <a:ext cx="108108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9806040" y="4228920"/>
                <a:ext cx="76608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59" name="Oval 11"/>
            <p:cNvSpPr/>
            <p:nvPr/>
          </p:nvSpPr>
          <p:spPr>
            <a:xfrm>
              <a:off x="9755640" y="4178880"/>
              <a:ext cx="866520" cy="8618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37052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37052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1087200" y="6272280"/>
            <a:ext cx="63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9593280" y="4289040"/>
            <a:ext cx="1193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28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99592-4178-4422-A284-70742A218F0C}" type="slidenum">
              <a:rPr b="1" lang="ru-RU" sz="28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Rectangle 6"/>
          <p:cNvGrpSpPr/>
          <p:nvPr/>
        </p:nvGrpSpPr>
        <p:grpSpPr>
          <a:xfrm>
            <a:off x="0" y="4919760"/>
            <a:ext cx="12192120" cy="1938240"/>
            <a:chOff x="0" y="4919760"/>
            <a:chExt cx="12192120" cy="1938240"/>
          </a:xfrm>
        </p:grpSpPr>
        <p:pic>
          <p:nvPicPr>
            <p:cNvPr id="102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4921200"/>
              <a:ext cx="12192120" cy="19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4919760"/>
              <a:ext cx="1219212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04" name="Group 7"/>
          <p:cNvGrpSpPr/>
          <p:nvPr/>
        </p:nvGrpSpPr>
        <p:grpSpPr>
          <a:xfrm>
            <a:off x="896760" y="2325600"/>
            <a:ext cx="1081440" cy="1081080"/>
            <a:chOff x="896760" y="2325600"/>
            <a:chExt cx="1081440" cy="1081080"/>
          </a:xfrm>
        </p:grpSpPr>
        <p:grpSp>
          <p:nvGrpSpPr>
            <p:cNvPr id="105" name="Oval 8"/>
            <p:cNvGrpSpPr/>
            <p:nvPr/>
          </p:nvGrpSpPr>
          <p:grpSpPr>
            <a:xfrm>
              <a:off x="896760" y="2325600"/>
              <a:ext cx="1081440" cy="1081080"/>
              <a:chOff x="896760" y="2325600"/>
              <a:chExt cx="1081440" cy="1081080"/>
            </a:xfrm>
          </p:grpSpPr>
          <p:pic>
            <p:nvPicPr>
              <p:cNvPr id="106" name="Oval 8" descr=""/>
              <p:cNvPicPr/>
              <p:nvPr/>
            </p:nvPicPr>
            <p:blipFill>
              <a:blip r:embed="rId3"/>
              <a:stretch/>
            </p:blipFill>
            <p:spPr>
              <a:xfrm>
                <a:off x="896760" y="2325600"/>
                <a:ext cx="108144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1056240" y="2481120"/>
                <a:ext cx="766080" cy="76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08" name="Oval 9"/>
            <p:cNvSpPr/>
            <p:nvPr/>
          </p:nvSpPr>
          <p:spPr>
            <a:xfrm>
              <a:off x="1005840" y="2430720"/>
              <a:ext cx="866880" cy="866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8593200" y="6272280"/>
            <a:ext cx="264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37052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37052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182680" y="6272280"/>
            <a:ext cx="632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43120" y="2506680"/>
            <a:ext cx="1188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28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E82FF-4657-43AD-A179-C32B0E504C4D}" type="slidenum">
              <a:rPr b="1" lang="ru-RU" sz="28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Rectangle 7"/>
          <p:cNvGrpSpPr/>
          <p:nvPr/>
        </p:nvGrpSpPr>
        <p:grpSpPr>
          <a:xfrm>
            <a:off x="8302680" y="0"/>
            <a:ext cx="3889440" cy="6858000"/>
            <a:chOff x="8302680" y="0"/>
            <a:chExt cx="3889440" cy="6858000"/>
          </a:xfrm>
        </p:grpSpPr>
        <p:pic>
          <p:nvPicPr>
            <p:cNvPr id="151" name="Rectangle 7" descr=""/>
            <p:cNvPicPr/>
            <p:nvPr/>
          </p:nvPicPr>
          <p:blipFill>
            <a:blip r:embed="rId2"/>
            <a:stretch/>
          </p:blipFill>
          <p:spPr>
            <a:xfrm>
              <a:off x="8302680" y="0"/>
              <a:ext cx="3889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304120" y="0"/>
              <a:ext cx="388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53" name="Group 8"/>
          <p:cNvGrpSpPr/>
          <p:nvPr/>
        </p:nvGrpSpPr>
        <p:grpSpPr>
          <a:xfrm>
            <a:off x="11401560" y="6229440"/>
            <a:ext cx="457200" cy="457200"/>
            <a:chOff x="11401560" y="6229440"/>
            <a:chExt cx="457200" cy="457200"/>
          </a:xfrm>
        </p:grpSpPr>
        <p:grpSp>
          <p:nvGrpSpPr>
            <p:cNvPr id="154" name="Oval 9"/>
            <p:cNvGrpSpPr/>
            <p:nvPr/>
          </p:nvGrpSpPr>
          <p:grpSpPr>
            <a:xfrm>
              <a:off x="11401560" y="6229440"/>
              <a:ext cx="457200" cy="457200"/>
              <a:chOff x="11401560" y="6229440"/>
              <a:chExt cx="457200" cy="457200"/>
            </a:xfrm>
          </p:grpSpPr>
          <p:pic>
            <p:nvPicPr>
              <p:cNvPr id="155" name="Oval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01560" y="62294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11470320" y="6295680"/>
                <a:ext cx="32328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57" name="Oval 10"/>
            <p:cNvSpPr/>
            <p:nvPr/>
          </p:nvSpPr>
          <p:spPr>
            <a:xfrm>
              <a:off x="11432520" y="6257880"/>
              <a:ext cx="398880" cy="39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37052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37052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1087200" y="6272280"/>
            <a:ext cx="63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11310480" y="6272280"/>
            <a:ext cx="63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EB193-C05F-434F-85DD-88D00F35941F}" type="slidenum">
              <a:rPr b="1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Rectangle 10"/>
          <p:cNvGrpSpPr/>
          <p:nvPr/>
        </p:nvGrpSpPr>
        <p:grpSpPr>
          <a:xfrm>
            <a:off x="8302680" y="0"/>
            <a:ext cx="3889440" cy="6858000"/>
            <a:chOff x="8302680" y="0"/>
            <a:chExt cx="3889440" cy="6858000"/>
          </a:xfrm>
        </p:grpSpPr>
        <p:pic>
          <p:nvPicPr>
            <p:cNvPr id="200" name="Rectangle 10" descr=""/>
            <p:cNvPicPr/>
            <p:nvPr/>
          </p:nvPicPr>
          <p:blipFill>
            <a:blip r:embed="rId2"/>
            <a:stretch/>
          </p:blipFill>
          <p:spPr>
            <a:xfrm>
              <a:off x="8302680" y="0"/>
              <a:ext cx="3889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8304120" y="0"/>
              <a:ext cx="388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202" name="Group 7"/>
          <p:cNvGrpSpPr/>
          <p:nvPr/>
        </p:nvGrpSpPr>
        <p:grpSpPr>
          <a:xfrm>
            <a:off x="11401560" y="6229440"/>
            <a:ext cx="457200" cy="457200"/>
            <a:chOff x="11401560" y="6229440"/>
            <a:chExt cx="457200" cy="457200"/>
          </a:xfrm>
        </p:grpSpPr>
        <p:grpSp>
          <p:nvGrpSpPr>
            <p:cNvPr id="203" name="Oval 8"/>
            <p:cNvGrpSpPr/>
            <p:nvPr/>
          </p:nvGrpSpPr>
          <p:grpSpPr>
            <a:xfrm>
              <a:off x="11401560" y="6229440"/>
              <a:ext cx="457200" cy="457200"/>
              <a:chOff x="11401560" y="6229440"/>
              <a:chExt cx="457200" cy="457200"/>
            </a:xfrm>
          </p:grpSpPr>
          <p:pic>
            <p:nvPicPr>
              <p:cNvPr id="204" name="Oval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01560" y="62294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11470320" y="6295680"/>
                <a:ext cx="32328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206" name="Oval 9"/>
            <p:cNvSpPr/>
            <p:nvPr/>
          </p:nvSpPr>
          <p:spPr>
            <a:xfrm>
              <a:off x="11432520" y="6257880"/>
              <a:ext cx="398880" cy="39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ab620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37052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37052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4"/>
          </p:nvPr>
        </p:nvSpPr>
        <p:spPr>
          <a:xfrm>
            <a:off x="11310480" y="6272280"/>
            <a:ext cx="63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68422-9123-4367-8029-D0C49C193BFD}" type="slidenum">
              <a:rPr b="1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smolsk.ru/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1523880" y="1494000"/>
            <a:ext cx="9144000" cy="9936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5"/>
          <p:cNvSpPr/>
          <p:nvPr/>
        </p:nvSpPr>
        <p:spPr>
          <a:xfrm>
            <a:off x="1095480" y="5000760"/>
            <a:ext cx="5000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группы  МСП-1-21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мил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енков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я Отчеств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 Андреевич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6" name="Прямоугольник 7"/>
          <p:cNvSpPr/>
          <p:nvPr/>
        </p:nvSpPr>
        <p:spPr>
          <a:xfrm>
            <a:off x="7132680" y="5000760"/>
            <a:ext cx="37846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енков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 Андреевич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57" name="Рисунок 8" descr="http://www.smolsk.ru/img/smolbuidcolledg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80920" y="285840"/>
            <a:ext cx="1285920" cy="15890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0"/>
          <p:cNvSpPr/>
          <p:nvPr/>
        </p:nvSpPr>
        <p:spPr>
          <a:xfrm>
            <a:off x="3381480" y="35712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59" name="Picture 9" descr="D:\ЕЛЕНА\картинки\Гербы Смоленска\Герб Смоленска красный.bmp"/>
          <p:cNvPicPr/>
          <p:nvPr/>
        </p:nvPicPr>
        <p:blipFill>
          <a:blip r:embed="rId4"/>
          <a:stretch/>
        </p:blipFill>
        <p:spPr>
          <a:xfrm>
            <a:off x="9975960" y="236520"/>
            <a:ext cx="1154160" cy="16606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2"/>
          <p:cNvSpPr/>
          <p:nvPr/>
        </p:nvSpPr>
        <p:spPr>
          <a:xfrm>
            <a:off x="825480" y="2359080"/>
            <a:ext cx="103536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 ТЕМА, ВСЕ ПРОПИСНЫ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. ТЕМА, ВСЕ ПРОПИСНЫЕ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2316240" y="688320"/>
            <a:ext cx="74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: 08.01.24 Мастер столярно-плотничных, паркетных и стекольных работ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-360" y="1537920"/>
            <a:ext cx="1219212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 </a:t>
            </a:r>
            <a:r>
              <a:rPr b="1" lang="ru-RU" sz="5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, ВСЕ ПРОПИСНЫЕ</a:t>
            </a:r>
            <a:endParaRPr b="0" lang="en-US" sz="5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Содержимое 4"/>
          <p:cNvSpPr/>
          <p:nvPr/>
        </p:nvSpPr>
        <p:spPr>
          <a:xfrm>
            <a:off x="0" y="1538280"/>
            <a:ext cx="121921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. </a:t>
            </a:r>
            <a:r>
              <a:rPr b="1" lang="ru-RU" sz="5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, ВСЕ ПРОПИСНЫЕ</a:t>
            </a:r>
            <a:endParaRPr b="0" lang="en-US" sz="5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655280" y="1275840"/>
            <a:ext cx="878364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члены 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й 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ой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и!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9T06:09:38Z</dcterms:created>
  <dc:creator>Admin</dc:creator>
  <dc:description/>
  <dc:language>en-US</dc:language>
  <cp:lastModifiedBy>Student</cp:lastModifiedBy>
  <dcterms:modified xsi:type="dcterms:W3CDTF">2022-09-19T06:55:10Z</dcterms:modified>
  <cp:revision>9</cp:revision>
  <dc:subject/>
  <dc:title>ВЫПУСКНАЯ  КВАЛИФИКАЦИОННАЯ РАБОТА</dc:title>
</cp:coreProperties>
</file>