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61959-165F-462F-84C1-28C63A31A3E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C9F09-6282-4991-9770-72F14D11EFE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5802-7C19-4D54-81E8-638CCD755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7F59-9F07-4EC2-AB7C-A4C361EF0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DC89-764F-4CC3-9FFF-22042B9C0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205D-86D0-4995-AE45-B8FAA81FA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0CFF-370D-4BD6-B14B-DC919A04D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409D-D3D1-47FF-9511-2854E1B76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716E-89DF-4FA1-9386-D302926A1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CE66-74B5-4740-8117-6AACB9F0E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3EDF-4EC8-4993-A5CA-4AFD24A9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0B08-F0A7-488B-9067-C30FF973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E0B4-1AC6-4211-9448-FD22730E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8E59-5C85-4BC3-B8A7-EB433FA4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125FA-1B15-4A2B-9BC2-F7ACCE1EEA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path path="rect">
              <a:fillToRect l="50000" t="50000" r="50000" b="50000"/>
            </a:path>
          </a:gradFill>
          <a:ln w="10152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Georgia"/>
              </a:rPr>
              <a:t>ПОДРОСТО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Georgia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Georgia"/>
              </a:rPr>
              <a:t>СУИЦИД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00"/>
                </a:solidFill>
                <a:latin typeface="Georgia"/>
              </a:rPr>
              <a:t>     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3582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lin ang="2700000"/>
          </a:gra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Georgia"/>
              </a:rPr>
              <a:t>                                                       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Признаки  готовящегося  суицида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Arial"/>
              </a:rPr>
              <a:t>: </a:t>
            </a:r>
            <a:br>
              <a:rPr sz="2500"/>
            </a:br>
            <a:br>
              <a:rPr sz="2200"/>
            </a:br>
            <a:r>
              <a:rPr b="0" lang="en-US" sz="2200" spc="-1" strike="noStrike">
                <a:solidFill>
                  <a:srgbClr val="ff0000"/>
                </a:solidFill>
                <a:latin typeface="Georgia"/>
              </a:rPr>
              <a:t>                                                                      </a:t>
            </a:r>
            <a:r>
              <a:rPr b="0" lang="en-US" sz="2200" spc="-1" strike="noStrike" u="sng">
                <a:solidFill>
                  <a:srgbClr val="eeece1"/>
                </a:solidFill>
                <a:uFillTx/>
                <a:latin typeface="Calibri"/>
              </a:rPr>
              <a:t>Словесные признаки:</a:t>
            </a:r>
            <a:br>
              <a:rPr sz="2200"/>
            </a:br>
            <a:r>
              <a:rPr b="0" lang="en-US" sz="2200" spc="-1" strike="noStrike">
                <a:solidFill>
                  <a:srgbClr val="c00000"/>
                </a:solidFill>
                <a:latin typeface="Georgia"/>
              </a:rPr>
              <a:t>                            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Georgia"/>
              </a:rPr>
              <a:t>ч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асто говорит о своем душевном состоянии;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                                                шутит на тему самоубийства;                                                                                  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                                                проявляет заинтересованность  к  вопросу  см                                            смерти.</a:t>
            </a:r>
            <a:br>
              <a:rPr sz="2200"/>
            </a:br>
            <a:r>
              <a:rPr b="0" lang="en-US" sz="2200" spc="-1" strike="noStrike">
                <a:solidFill>
                  <a:srgbClr val="ffff00"/>
                </a:solidFill>
                <a:latin typeface="Calibri"/>
              </a:rPr>
              <a:t>                        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alibri"/>
              </a:rPr>
              <a:t>Поведенческие признаки:</a:t>
            </a:r>
            <a:br>
              <a:rPr sz="2200"/>
            </a:br>
            <a:r>
              <a:rPr b="0" lang="en-US" sz="2200" spc="-1" strike="noStrike">
                <a:solidFill>
                  <a:srgbClr val="884eb8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Calibri"/>
              </a:rPr>
              <a:t>        </a:t>
            </a:r>
            <a:r>
              <a:rPr b="0" lang="en-US" sz="2000" spc="-1" strike="noStrike">
                <a:solidFill>
                  <a:srgbClr val="ffff00"/>
                </a:solidFill>
                <a:latin typeface="Calibri"/>
                <a:ea typeface="Times New Roman"/>
              </a:rPr>
              <a:t>безвозмездная  раздача  вещей, имеющих  высокую  значимость;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alibri"/>
                <a:ea typeface="Times New Roman"/>
              </a:rPr>
              <a:t>                        налаживание отношений с непримиримыми врагами;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alibri"/>
                <a:ea typeface="Times New Roman"/>
              </a:rPr>
              <a:t>                        отсутствие  желание ухаживать за собой;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alibri"/>
                <a:ea typeface="Times New Roman"/>
              </a:rPr>
              <a:t>                        пропуск школьных занятий, потеря интереса к привычным увлечениям;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alibri"/>
                <a:ea typeface="Times New Roman"/>
              </a:rPr>
              <a:t>                        частое уединение, проявление  замкнутости и угрюмости;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alibri"/>
                <a:ea typeface="Times New Roman"/>
              </a:rPr>
              <a:t>                        безразличие к окружающему миру.</a:t>
            </a:r>
            <a:br>
              <a:rPr sz="1800"/>
            </a:b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alibri"/>
              </a:rPr>
              <a:t>Ситуационные признаки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:</a:t>
            </a:r>
            <a:br>
              <a:rPr sz="2200"/>
            </a:br>
            <a:r>
              <a:rPr b="0" lang="en-US" sz="2200" spc="-1" strike="noStrike">
                <a:solidFill>
                  <a:srgbClr val="884eb8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ffff00"/>
                </a:solidFill>
                <a:latin typeface="Calibri"/>
              </a:rPr>
              <a:t>подросток  социально  изолирован;</a:t>
            </a:r>
            <a:br>
              <a:rPr sz="2200"/>
            </a:br>
            <a:r>
              <a:rPr b="0" lang="en-US" sz="2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ffff00"/>
                </a:solidFill>
                <a:latin typeface="Calibri"/>
              </a:rPr>
              <a:t>живет  в  нестабильном  состоянии;</a:t>
            </a:r>
            <a:br>
              <a:rPr sz="2200"/>
            </a:br>
            <a:r>
              <a:rPr b="0" lang="en-US" sz="2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ffff00"/>
                </a:solidFill>
                <a:latin typeface="Calibri"/>
              </a:rPr>
              <a:t>ощущает  себя  жертвой  насилия;</a:t>
            </a:r>
            <a:br>
              <a:rPr sz="2200"/>
            </a:br>
            <a:r>
              <a:rPr b="0" lang="en-US" sz="2200" spc="-1" strike="noStrike">
                <a:solidFill>
                  <a:srgbClr val="ffff00"/>
                </a:solidFill>
                <a:latin typeface="Calibri"/>
              </a:rPr>
              <a:t>               перенес  тяжелую  потерю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3" descr="причины детского суицида"/>
          <p:cNvPicPr/>
          <p:nvPr/>
        </p:nvPicPr>
        <p:blipFill>
          <a:blip r:embed="rId1"/>
          <a:stretch/>
        </p:blipFill>
        <p:spPr>
          <a:xfrm>
            <a:off x="0" y="285840"/>
            <a:ext cx="324000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42984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2700000"/>
          </a:gra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Из любой трудной жизненной ситуации можно найти </a:t>
            </a:r>
            <a:r>
              <a:rPr b="1" lang="en-US" sz="4000" spc="-1" strike="noStrike">
                <a:solidFill>
                  <a:srgbClr val="ff0000"/>
                </a:solidFill>
                <a:latin typeface="Georgia"/>
              </a:rPr>
              <a:t>ВЫХОД!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1" descr="выход всегда есть.jpg"/>
          <p:cNvPicPr/>
          <p:nvPr/>
        </p:nvPicPr>
        <p:blipFill>
          <a:blip r:embed="rId1"/>
          <a:stretch/>
        </p:blipFill>
        <p:spPr>
          <a:xfrm>
            <a:off x="1714680" y="1857240"/>
            <a:ext cx="6083280" cy="4235760"/>
          </a:xfrm>
          <a:prstGeom prst="rect">
            <a:avLst/>
          </a:prstGeom>
          <a:ln w="9360">
            <a:solidFill>
              <a:srgbClr val="00206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285840" y="0"/>
            <a:ext cx="942984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lin ang="2700000"/>
          </a:gra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             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Существует несколько советов                                                                       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      для родителей по  профилактике подросткового суицида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1. Открыто обсуждайте семейные и внутренние проблемы детей.       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    2. Помогайте своим детям строить реальные цели в жизни и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        стремиться к ним.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    3. Обязательно содействуйте в преодолении препятствий.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    4.  Любые стоящие положительные начинания молодых людей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         одобряйте словом и делом.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   5.  Ни при каких обстоятельствах не применяйте физические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        наказания.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   6.  Больше любите своих подрастающих детей, будьте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        внимательными и, что особенно важно, деликатными с ними.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    7.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Постарайтесь акцентировать внимание ребенка на позитивных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        моментах  жизни.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   8.  Придайте уверенность ребенку, объясните ему, что вместе  вы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        обязательно    справитесь  со своими  проблем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42984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lin ang="2700000"/>
          </a:gra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Подросток должен                                                                       помнить том,                                                                                                что в трудной                                                                       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 жизненной  ситуации                                                                                   он может                                                                                                  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 обратиться к людям,                                                                                                                         которым доверяет:   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родителям, друзьям,                                                                                 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     классному руководителю,                                            психологу.</a:t>
            </a:r>
            <a:br>
              <a:rPr sz="2800"/>
            </a:br>
            <a:r>
              <a:rPr b="0" i="1" lang="en-US" sz="3600" spc="-1" strike="noStrike">
                <a:solidFill>
                  <a:srgbClr val="ffff00"/>
                </a:solidFill>
                <a:latin typeface="Calibri"/>
              </a:rPr>
              <a:t>Важно, чтобы ребёнок знал:                                          что его любят таким, какой он есть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Рисунок 1" descr="мама.jpg"/>
          <p:cNvPicPr/>
          <p:nvPr/>
        </p:nvPicPr>
        <p:blipFill>
          <a:blip r:embed="rId1"/>
          <a:stretch/>
        </p:blipFill>
        <p:spPr>
          <a:xfrm>
            <a:off x="6681960" y="407880"/>
            <a:ext cx="2511360" cy="74199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C:\Users\Пользователь\Documents\1284278360_krizisy_razvitiya_v_period_vzrosleniya_rebenka.jpg"/>
          <p:cNvPicPr/>
          <p:nvPr/>
        </p:nvPicPr>
        <p:blipFill>
          <a:blip r:embed="rId2"/>
          <a:stretch/>
        </p:blipFill>
        <p:spPr>
          <a:xfrm>
            <a:off x="285840" y="857160"/>
            <a:ext cx="270036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2700000"/>
          </a:gra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Суицид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– это осознанный акт ухода из жизни под  воздействием острых психотравмирующих ситуаций, при которых собственная жизнь теряет смысл .  Убивая себя, человек отказывается признавать, что он часть окружающего мира, и тем самым привлекает к своей персоне, пусть посмертно, пристальное внимание того самого социума, которым столь решительно пренебрегал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Заголовок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135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Суицид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это осознанный акт ухода из жизни под  воздействием острых психотравмирующих ситуаций, при которых собственная жизнь теряет смысл .  Убивая себя, человек отказывается признавать, что он часть окружающего мира, и тем самым привлекает к себе, пусть посмертно, пристальное внимание того самого социума, которым столь решительно пренебрегал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9" descr="Презентация подростковый суицид"/>
          <p:cNvPicPr/>
          <p:nvPr/>
        </p:nvPicPr>
        <p:blipFill>
          <a:blip r:embed="rId1"/>
          <a:stretch/>
        </p:blipFill>
        <p:spPr>
          <a:xfrm>
            <a:off x="2071800" y="285840"/>
            <a:ext cx="50036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Заголовок 1"/>
          <p:cNvGrpSpPr/>
          <p:nvPr/>
        </p:nvGrpSpPr>
        <p:grpSpPr>
          <a:xfrm>
            <a:off x="-42840" y="-42840"/>
            <a:ext cx="9236160" cy="6950160"/>
            <a:chOff x="-42840" y="-42840"/>
            <a:chExt cx="9236160" cy="6950160"/>
          </a:xfrm>
        </p:grpSpPr>
        <p:pic>
          <p:nvPicPr>
            <p:cNvPr id="54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42840" y="-42840"/>
              <a:ext cx="9236160" cy="695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     </a:t>
              </a: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* </a:t>
              </a:r>
              <a:r>
                <a:rPr b="0" lang="en-US" sz="2000" spc="-1" strike="noStrike">
                  <a:solidFill>
                    <a:srgbClr val="ffff00"/>
                  </a:solidFill>
                  <a:latin typeface="Calibri"/>
                </a:rPr>
                <a:t>За последнее десятилетие число                                                                самоубийств среди  молодёжи возросло                                                                                         в 3 раза.</a:t>
              </a:r>
              <a:br>
                <a:rPr sz="2000"/>
              </a:b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Calibri"/>
                </a:rPr>
                <a:t>      * Среди причин смерти подростков                                                                                    суицид  занимает второе место.</a:t>
              </a:r>
              <a:br>
                <a:rPr sz="2000"/>
              </a:b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Calibri"/>
                </a:rPr>
                <a:t>      *  Ежегодно каждый двенадцатый                                                                                       подросток  в возрасте 13-17 лет пытается                                                                                                      совершить попытку самоубийства. </a:t>
              </a:r>
              <a:br>
                <a:rPr sz="2000"/>
              </a:b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Calibri"/>
                </a:rPr>
                <a:t>      * Число законченных суицидов                                                                                                         среди  юношей в 3 раза больше                                                                                                                  чем среди  девушек.</a:t>
              </a:r>
              <a:br>
                <a:rPr sz="2000"/>
              </a:b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Calibri"/>
                </a:rPr>
                <a:t>      * С другой стороны девушки                                                                                     пытаются  покончить  с  собой в 4 раза чаще,                                                                 чем юноши,  но выбирают «щадящие»                                                                    способы, которые реже приводят к смерти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6" name="Picture 2" descr="C:\Users\Пользователь\Documents\123176x184.jpg"/>
          <p:cNvPicPr/>
          <p:nvPr/>
        </p:nvPicPr>
        <p:blipFill>
          <a:blip r:embed="rId2"/>
          <a:stretch/>
        </p:blipFill>
        <p:spPr>
          <a:xfrm>
            <a:off x="4000680" y="3643200"/>
            <a:ext cx="2388960" cy="1584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Пользователь\Documents\284585x184.jpg"/>
          <p:cNvPicPr/>
          <p:nvPr/>
        </p:nvPicPr>
        <p:blipFill>
          <a:blip r:embed="rId3"/>
          <a:stretch/>
        </p:blipFill>
        <p:spPr>
          <a:xfrm>
            <a:off x="6143760" y="4714920"/>
            <a:ext cx="2660400" cy="1763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Пользователь\Documents\1297098742_metody_i_priemy_vospitaniya_ix_klassifikaciya.jpg"/>
          <p:cNvPicPr/>
          <p:nvPr/>
        </p:nvPicPr>
        <p:blipFill>
          <a:blip r:embed="rId4"/>
          <a:stretch/>
        </p:blipFill>
        <p:spPr>
          <a:xfrm>
            <a:off x="6762600" y="0"/>
            <a:ext cx="2381400" cy="1905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Users\Пользователь\Documents\podrostki-detsk-obidy.jpg"/>
          <p:cNvPicPr/>
          <p:nvPr/>
        </p:nvPicPr>
        <p:blipFill>
          <a:blip r:embed="rId5"/>
          <a:stretch/>
        </p:blipFill>
        <p:spPr>
          <a:xfrm>
            <a:off x="4572000" y="1143000"/>
            <a:ext cx="2735280" cy="1741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Пользователь\Documents\podrostki-doverie.jpg"/>
          <p:cNvPicPr/>
          <p:nvPr/>
        </p:nvPicPr>
        <p:blipFill>
          <a:blip r:embed="rId6"/>
          <a:stretch/>
        </p:blipFill>
        <p:spPr>
          <a:xfrm>
            <a:off x="6443640" y="2571840"/>
            <a:ext cx="27003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50112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lin ang="2700000"/>
          </a:gra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1" lang="en-US" sz="2200" spc="-1" strike="noStrike">
                <a:solidFill>
                  <a:srgbClr val="ffff00"/>
                </a:solidFill>
                <a:latin typeface="Calibri"/>
              </a:rPr>
              <a:t>  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1" lang="en-US" sz="2200" spc="-1" strike="noStrike">
                <a:solidFill>
                  <a:srgbClr val="ffff00"/>
                </a:solidFill>
                <a:latin typeface="Calibri"/>
              </a:rPr>
              <a:t>      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Можно выделить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три формы суицидального поведения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:                   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ffff00"/>
                </a:solidFill>
                <a:latin typeface="Calibri"/>
              </a:rPr>
              <a:t>                     1. 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демонстративное;                                                                                     </a:t>
            </a:r>
            <a:br>
              <a:rPr sz="2800"/>
            </a:br>
            <a:br>
              <a:rPr sz="2200"/>
            </a:b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         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2.   аффективное;                                                                                                                   </a:t>
            </a:r>
            <a:br>
              <a:rPr sz="2800"/>
            </a:br>
            <a:br>
              <a:rPr sz="2200"/>
            </a:br>
            <a:r>
              <a:rPr b="1" lang="en-US" sz="2200" spc="-1" strike="noStrike">
                <a:solidFill>
                  <a:srgbClr val="ffff00"/>
                </a:solidFill>
                <a:latin typeface="Calibri"/>
              </a:rPr>
              <a:t>         3</a:t>
            </a:r>
            <a:r>
              <a:rPr b="0" lang="en-US" sz="2200" spc="-1" strike="noStrike">
                <a:solidFill>
                  <a:srgbClr val="ffff00"/>
                </a:solidFill>
                <a:latin typeface="Calibri"/>
              </a:rPr>
              <a:t>. 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истинное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ffff00"/>
                </a:solidFill>
                <a:latin typeface="Calibri"/>
              </a:rPr>
              <a:t> 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3" descr=""/>
          <p:cNvPicPr/>
          <p:nvPr/>
        </p:nvPicPr>
        <p:blipFill>
          <a:blip r:embed="rId1"/>
          <a:stretch/>
        </p:blipFill>
        <p:spPr>
          <a:xfrm>
            <a:off x="4143240" y="1857240"/>
            <a:ext cx="2484720" cy="198756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3" descr="детский и подростковый суицид"/>
          <p:cNvPicPr/>
          <p:nvPr/>
        </p:nvPicPr>
        <p:blipFill>
          <a:blip r:embed="rId2"/>
          <a:stretch/>
        </p:blipFill>
        <p:spPr>
          <a:xfrm>
            <a:off x="6786720" y="1143000"/>
            <a:ext cx="2592360" cy="2160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1323701942241841698"/>
          <p:cNvPicPr/>
          <p:nvPr/>
        </p:nvPicPr>
        <p:blipFill>
          <a:blip r:embed="rId3"/>
          <a:stretch/>
        </p:blipFill>
        <p:spPr>
          <a:xfrm>
            <a:off x="3429000" y="4071960"/>
            <a:ext cx="2833560" cy="205272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6" descr="суи.jpg"/>
          <p:cNvPicPr/>
          <p:nvPr/>
        </p:nvPicPr>
        <p:blipFill>
          <a:blip r:embed="rId4"/>
          <a:stretch/>
        </p:blipFill>
        <p:spPr>
          <a:xfrm>
            <a:off x="311040" y="3614760"/>
            <a:ext cx="2913120" cy="5724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Пользователь\Documents\podrostok samoutverditsja.jpg"/>
          <p:cNvPicPr/>
          <p:nvPr/>
        </p:nvPicPr>
        <p:blipFill>
          <a:blip r:embed="rId5"/>
          <a:stretch/>
        </p:blipFill>
        <p:spPr>
          <a:xfrm>
            <a:off x="6786720" y="3643200"/>
            <a:ext cx="238284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3582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2700000"/>
          </a:gra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00"/>
                </a:solidFill>
                <a:uFillTx/>
                <a:latin typeface="Calibri"/>
              </a:rPr>
              <a:t>Демонстративное  поведение </a:t>
            </a:r>
            <a:br>
              <a:rPr sz="3600"/>
            </a:b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В основе этого типа суицидального поведения лежит стремление подростка обратить внимание на себя и свои проблемы, показать, как ему трудно справляться в жизненными ситуациями. Это своего рода просьба о помощи. Как правило, демонстративные суицидальные действия совершаются не с целью причинить себе реальный вред или лишить себя жизни, а с целью напугать окружающих, заставить их задуматься над проблемами подростка, «осознать» свое несправедливое отношение к нему. При демонстративном поведении способы суицидального поведения чаще всего проявляются в виде порезов вен, отравления неядовитыми лекарствам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2700000"/>
          </a:gra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Аффективное  суицидальное  поведение </a:t>
            </a:r>
            <a:br>
              <a:rPr sz="3200"/>
            </a:b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Суицидальные действия, совершенные  под влиянием ярких эмоций относятся к аффективному типу. В таких случаях подросток действует импульсивно, не имея четкого плана своих действий. Как правило, сильные негативные эмоции - обида, гнев, -  затмевают собой реальное восприятие действительности и подросток, руководствуясь ими,  совершает суицидальные действия. При аффективном суицидальном поведении чаще прибегают к попыткам повешения, отравлению токсичными и сильнодействующими препаратам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2700000"/>
          </a:gra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Истинное  суицидальное  поведение</a:t>
            </a:r>
            <a:br>
              <a:rPr sz="3200"/>
            </a:b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Истинное суицидальное поведение характеризуется продуманным планом действий. Подросток готовится к совершению суицидального действия. При таком типе суицидального поведения подростки чаще оставляют записки, адресованные родственникам и друзьям, в которых они прощаются со всеми и объясняют причины своих действий.  Поскольку действия являются продуманными, такие суицидальные попытки чаще заканчиваются смертью. При истинном суицидальном поведении чаще прибегают к повешению или к спрыгиванию с высоты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Заголовок 1"/>
          <p:cNvGrpSpPr/>
          <p:nvPr/>
        </p:nvGrpSpPr>
        <p:grpSpPr>
          <a:xfrm>
            <a:off x="-42840" y="-42840"/>
            <a:ext cx="9521640" cy="6950160"/>
            <a:chOff x="-42840" y="-42840"/>
            <a:chExt cx="9521640" cy="6950160"/>
          </a:xfrm>
        </p:grpSpPr>
        <p:pic>
          <p:nvPicPr>
            <p:cNvPr id="71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42840" y="-42840"/>
              <a:ext cx="9521640" cy="695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0" y="0"/>
              <a:ext cx="942984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ff0000"/>
                  </a:solidFill>
                  <a:latin typeface="Calibri"/>
                </a:rPr>
                <a:t>       </a:t>
              </a:r>
              <a:br>
                <a:rPr sz="2500"/>
              </a:br>
              <a:r>
                <a:rPr b="0" lang="ru-RU" sz="2500" spc="-1" strike="noStrike">
                  <a:solidFill>
                    <a:srgbClr val="ff0000"/>
                  </a:solidFill>
                  <a:latin typeface="Calibri"/>
                </a:rPr>
                <a:t>        </a:t>
              </a:r>
              <a:r>
                <a:rPr b="1" lang="ru-RU" sz="2500" spc="-1" strike="noStrike" u="sng">
                  <a:solidFill>
                    <a:srgbClr val="ff0000"/>
                  </a:solidFill>
                  <a:uFillTx/>
                  <a:latin typeface="Calibri"/>
                </a:rPr>
                <a:t>Причины  суицида  среди  подростков</a:t>
              </a:r>
              <a:r>
                <a:rPr b="0" lang="ru-RU" sz="2500" spc="-1" strike="noStrike">
                  <a:solidFill>
                    <a:srgbClr val="ff0000"/>
                  </a:solidFill>
                  <a:latin typeface="Calibri"/>
                </a:rPr>
                <a:t>:</a:t>
              </a:r>
              <a:br>
                <a:rPr sz="2200"/>
              </a:br>
              <a:br>
                <a:rPr sz="1600"/>
              </a:br>
              <a:r>
                <a:rPr b="0" lang="ru-RU" sz="1600" spc="-1" strike="noStrike">
                  <a:solidFill>
                    <a:srgbClr val="000000"/>
                  </a:solidFill>
                  <a:latin typeface="Calibri"/>
                </a:rPr>
                <a:t>     </a:t>
              </a:r>
              <a:r>
                <a:rPr b="0" lang="ru-RU" sz="1600" spc="-1" strike="noStrike">
                  <a:solidFill>
                    <a:srgbClr val="ffff00"/>
                  </a:solidFill>
                  <a:latin typeface="Calibri"/>
                </a:rPr>
                <a:t>1.   </a:t>
              </a:r>
              <a:r>
                <a:rPr b="0" lang="ru-RU" sz="2000" spc="-1" strike="noStrike">
                  <a:solidFill>
                    <a:srgbClr val="ffc000"/>
                  </a:solidFill>
                  <a:latin typeface="Calibri"/>
                </a:rPr>
                <a:t>Ссора с друзьями. Причем ссора может быть из-за                                                                                     </a:t>
              </a:r>
              <a:br>
                <a:rPr sz="2000"/>
              </a:br>
              <a:r>
                <a:rPr b="0" lang="ru-RU" sz="2000" spc="-1" strike="noStrike">
                  <a:solidFill>
                    <a:srgbClr val="ffc000"/>
                  </a:solidFill>
                  <a:latin typeface="Calibri"/>
                </a:rPr>
                <a:t>         абсолютного пустяка.</a:t>
              </a:r>
              <a:br>
                <a:rPr sz="2000"/>
              </a:br>
              <a:r>
                <a:rPr b="0" lang="ru-RU" sz="2000" spc="-1" strike="noStrike">
                  <a:solidFill>
                    <a:srgbClr val="ffc000"/>
                  </a:solidFill>
                  <a:latin typeface="Calibri"/>
                </a:rPr>
                <a:t>    2.  Расставание с любимым человеком или  измена.                                                                                  </a:t>
              </a:r>
              <a:br>
                <a:rPr sz="2000"/>
              </a:br>
              <a:r>
                <a:rPr b="0" lang="ru-RU" sz="2000" spc="-1" strike="noStrike">
                  <a:solidFill>
                    <a:srgbClr val="ffc000"/>
                  </a:solidFill>
                  <a:latin typeface="Calibri"/>
                </a:rPr>
                <a:t>         В подростковом возрасте дети уверенны, что первая -                                                             </a:t>
              </a:r>
              <a:br>
                <a:rPr sz="2000"/>
              </a:br>
              <a:r>
                <a:rPr b="0" lang="ru-RU" sz="2000" spc="-1" strike="noStrike">
                  <a:solidFill>
                    <a:srgbClr val="ffc000"/>
                  </a:solidFill>
                  <a:latin typeface="Calibri"/>
                </a:rPr>
                <a:t>         любовь  это навсегда и относятся к ней  серьезно.</a:t>
              </a:r>
              <a:br>
                <a:rPr sz="2000"/>
              </a:br>
              <a:r>
                <a:rPr b="0" lang="ru-RU" sz="2000" spc="-1" strike="noStrike">
                  <a:solidFill>
                    <a:srgbClr val="ffc000"/>
                  </a:solidFill>
                  <a:latin typeface="Calibri"/>
                </a:rPr>
                <a:t>    3.  Смерть кого – либо из близких родственников.</a:t>
              </a:r>
              <a:br>
                <a:rPr sz="2000"/>
              </a:br>
              <a:r>
                <a:rPr b="0" lang="ru-RU" sz="2000" spc="-1" strike="noStrike">
                  <a:solidFill>
                    <a:srgbClr val="ffc000"/>
                  </a:solidFill>
                  <a:latin typeface="Calibri"/>
                </a:rPr>
                <a:t>    4.  Частое попадание  в стрессовые ситуации.</a:t>
              </a:r>
              <a:br>
                <a:rPr sz="2000"/>
              </a:br>
              <a:r>
                <a:rPr b="0" lang="ru-RU" sz="2000" spc="-1" strike="noStrike">
                  <a:solidFill>
                    <a:srgbClr val="ffc000"/>
                  </a:solidFill>
                  <a:latin typeface="Calibri"/>
                </a:rPr>
                <a:t>    5.  Сложная психологическая обстановка в семье –                                                           </a:t>
              </a:r>
              <a:br>
                <a:rPr sz="2000"/>
              </a:br>
              <a:r>
                <a:rPr b="0" lang="ru-RU" sz="2000" spc="-1" strike="noStrike">
                  <a:solidFill>
                    <a:srgbClr val="ffc000"/>
                  </a:solidFill>
                  <a:latin typeface="Calibri"/>
                </a:rPr>
                <a:t>         ссоры с родителями, развод родителей .</a:t>
              </a:r>
              <a:br>
                <a:rPr sz="2000"/>
              </a:br>
              <a:r>
                <a:rPr b="0" lang="ru-RU" sz="2000" spc="-1" strike="noStrike">
                  <a:solidFill>
                    <a:srgbClr val="ffc000"/>
                  </a:solidFill>
                  <a:latin typeface="Calibri"/>
                </a:rPr>
                <a:t>    6.  Затяжное депрессивное состояние подростка.</a:t>
              </a:r>
              <a:br>
                <a:rPr sz="2000"/>
              </a:br>
              <a:r>
                <a:rPr b="0" lang="ru-RU" sz="2000" spc="-1" strike="noStrike">
                  <a:solidFill>
                    <a:srgbClr val="ffc000"/>
                  </a:solidFill>
                  <a:latin typeface="Calibri"/>
                </a:rPr>
                <a:t>    7.  Проблемы ребенка с наркотиками. Как правило,                                                                          </a:t>
              </a:r>
              <a:br>
                <a:rPr sz="2000"/>
              </a:br>
              <a:r>
                <a:rPr b="0" lang="ru-RU" sz="2000" spc="-1" strike="noStrike">
                  <a:solidFill>
                    <a:srgbClr val="ffc000"/>
                  </a:solidFill>
                  <a:latin typeface="Calibri"/>
                </a:rPr>
                <a:t>         </a:t>
              </a:r>
              <a:r>
                <a:rPr b="0" lang="ru-RU" sz="1800" spc="-1" strike="noStrike">
                  <a:solidFill>
                    <a:srgbClr val="ffc000"/>
                  </a:solidFill>
                  <a:latin typeface="Calibri"/>
                </a:rPr>
                <a:t>наркотическая зависимость влечет за собой финансовые                                                                 </a:t>
              </a:r>
              <a:br>
                <a:rPr sz="2000"/>
              </a:br>
              <a:r>
                <a:rPr b="0" lang="ru-RU" sz="1800" spc="-1" strike="noStrike">
                  <a:solidFill>
                    <a:srgbClr val="ffc000"/>
                  </a:solidFill>
                  <a:latin typeface="Calibri"/>
                </a:rPr>
                <a:t>          проблемы и проблемы с правоохранительными органами</a:t>
              </a:r>
              <a:r>
                <a:rPr b="0" lang="ru-RU" sz="2000" spc="-1" strike="noStrike">
                  <a:solidFill>
                    <a:srgbClr val="ffc000"/>
                  </a:solidFill>
                  <a:latin typeface="Calibri"/>
                </a:rPr>
                <a:t>.</a:t>
              </a:r>
              <a:br>
                <a:rPr sz="2000"/>
              </a:br>
              <a:r>
                <a:rPr b="0" lang="ru-RU" sz="2000" spc="-1" strike="noStrike">
                  <a:solidFill>
                    <a:srgbClr val="ffc000"/>
                  </a:solidFill>
                  <a:latin typeface="Calibri"/>
                </a:rPr>
                <a:t>     8.  Игровая зависимость и зависимость от интернета.</a:t>
              </a:r>
              <a:br>
                <a:rPr sz="2000"/>
              </a:br>
              <a:r>
                <a:rPr b="0" lang="ru-RU" sz="2000" spc="-1" strike="noStrike">
                  <a:solidFill>
                    <a:srgbClr val="ffc000"/>
                  </a:solidFill>
                  <a:latin typeface="Calibri"/>
                </a:rPr>
                <a:t>     9.  Насилие в семье. Зачастую подросток считает себя                                                             </a:t>
              </a:r>
              <a:br>
                <a:rPr sz="2000"/>
              </a:br>
              <a:r>
                <a:rPr b="0" lang="ru-RU" sz="2000" spc="-1" strike="noStrike">
                  <a:solidFill>
                    <a:srgbClr val="ffc000"/>
                  </a:solidFill>
                  <a:latin typeface="Calibri"/>
                </a:rPr>
                <a:t>          виноватым в происходящем и боится рассказать                                                       </a:t>
              </a:r>
              <a:br>
                <a:rPr sz="2000"/>
              </a:br>
              <a:r>
                <a:rPr b="0" lang="ru-RU" sz="2000" spc="-1" strike="noStrike">
                  <a:solidFill>
                    <a:srgbClr val="ffc000"/>
                  </a:solidFill>
                  <a:latin typeface="Calibri"/>
                </a:rPr>
                <a:t>          взрослым.                                                                         </a:t>
              </a:r>
              <a:br>
                <a:rPr sz="2000"/>
              </a:br>
              <a:r>
                <a:rPr b="0" lang="ru-RU" sz="2000" spc="-1" strike="noStrike">
                  <a:solidFill>
                    <a:srgbClr val="ffc000"/>
                  </a:solidFill>
                  <a:latin typeface="Calibri"/>
                </a:rPr>
                <a:t>   10. Подростковая беременность. Беременность девочки подростка становится </a:t>
              </a:r>
              <a:br>
                <a:rPr sz="2000"/>
              </a:br>
              <a:r>
                <a:rPr b="0" lang="ru-RU" sz="2000" spc="-1" strike="noStrike">
                  <a:solidFill>
                    <a:srgbClr val="ffc000"/>
                  </a:solidFill>
                  <a:latin typeface="Calibri"/>
                </a:rPr>
                <a:t>          поводом для суицида примерно в 21% всех случаев.</a:t>
              </a:r>
              <a:br>
                <a:rPr sz="2000"/>
              </a:br>
              <a:r>
                <a:rPr b="0" lang="ru-RU" sz="2000" spc="-1" strike="noStrike">
                  <a:solidFill>
                    <a:srgbClr val="000000"/>
                  </a:solidFill>
                  <a:latin typeface="Calibri"/>
                </a:rPr>
                <a:t>       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3" name="Рисунок 4" descr="профилактика детского суицида"/>
          <p:cNvPicPr/>
          <p:nvPr/>
        </p:nvPicPr>
        <p:blipFill>
          <a:blip r:embed="rId2"/>
          <a:stretch/>
        </p:blipFill>
        <p:spPr>
          <a:xfrm>
            <a:off x="6643800" y="214200"/>
            <a:ext cx="273528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3582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lin ang="2700000"/>
          </a:gradFill>
          <a:ln w="57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       </a:t>
            </a: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МОТИВЫ  СУИЦИДАЛЬНОГО  ПОВЕДЕНИЯ  ПОДРОСТКОВ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1.  Призыв. Способ попросить помощи.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    2.  Уход от проблем, потеря надежды изменить жизнь к лучшему.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    3.  Месть. Попытка сделать больно другому человеку: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        «Они еще пожалеют»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    4. Самонаказание. Ребенок решает, что он не заслуживает права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         жить. Желание облегчить жизнь своей семье.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    5.  Бегство от наказания.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    6.  Боязнь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позора, насмешек  или унижения.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    7.  Страх наказания, нежелание извиниться.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    8.  Любовные неудачи, сексуальные эксцессы, беременность.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    9.  Чувство мести, злобы, протеста; угроза или вымогательство.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    10.  Желание привлечь к себе внимание, вызвать сочувствие,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          избежать неприятных последствий, уйти от трудной ситуации.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   11.  Сочувствие или подражание товарищам, героям книг или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          фильмов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9T10:32:55Z</dcterms:created>
  <dc:creator>Пользователь</dc:creator>
  <dc:description/>
  <dc:language>en-US</dc:language>
  <cp:lastModifiedBy>User</cp:lastModifiedBy>
  <dcterms:modified xsi:type="dcterms:W3CDTF">2023-04-18T06:39:52Z</dcterms:modified>
  <cp:revision>103</cp:revision>
  <dc:subject/>
  <dc:title>Слайд 1</dc:title>
</cp:coreProperties>
</file>