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4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33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F55-8705-4C64-BC5C-E2D5D348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CDD-C6CD-4760-95EA-FB2AFCB6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D00-071D-46DF-B581-3CC3D06B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A3E-C605-4593-A722-158FAB03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94E-1D4E-49B1-9EC7-14C767C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DB2-D186-490C-BFF3-59F09614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255-6A81-4E76-9FBA-306F8EC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7FF-BA00-4613-8599-F0882CB6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E11-E3C8-4C08-BE07-A955975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DEC-AD4C-4EFA-810F-37E3134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F6A-F3EE-470B-B277-C662665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38D-CBAF-4BAF-8651-E26E5C0F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933A-F55A-49BB-B2E5-3D8B8878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752120"/>
            <a:ext cx="86868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рганизация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инского учёта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и его предназна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овершенствование системы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133720" y="1295280"/>
            <a:ext cx="7010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74 году в результате проведения военных реформ военным министром Д. А. Милютиным в России была введена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сеобщая воинская повинность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мужского населения, достигшего возраста 21 года. Призывники тянули жребий и этим определяли, кто должен идти служить в это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ий срок службы устанавливался в 15 лет, из них 6 лет – действительная военная служба, 9 лет – пребывание в зап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ая система комплектования позволила в период русско-турецкой войны (1877-1878) за четыре недели провести мобилизацию русской ар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8600" y="5791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нерал Б. Д. Скобелев во главе русских войск вступает в болгарский город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2860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лю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митрий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slide0018_image32"/>
          <p:cNvPicPr/>
          <p:nvPr/>
        </p:nvPicPr>
        <p:blipFill>
          <a:blip r:embed="rId1"/>
          <a:stretch/>
        </p:blipFill>
        <p:spPr>
          <a:xfrm>
            <a:off x="5410080" y="4262400"/>
            <a:ext cx="3581640" cy="259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slide0018_image34"/>
          <p:cNvPicPr/>
          <p:nvPr/>
        </p:nvPicPr>
        <p:blipFill>
          <a:blip r:embed="rId2"/>
          <a:stretch/>
        </p:blipFill>
        <p:spPr>
          <a:xfrm>
            <a:off x="28440" y="1676520"/>
            <a:ext cx="20066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овершенствование системы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971800" y="1295280"/>
            <a:ext cx="61722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лектование русской армии в период 1897-1917 гг. осуществлялось в соответствии с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Уставом о воинской повин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Воинской повинности подлежало всё мужское население, без различия со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армию ежегодно призывался только один возраст населения – молодые люди 20 лет от роду к 1 января того года, когда производится приз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ий срок службы для состоящих в частях пехоты и артиллерии определялся в 18 лет, из них 3 года действительной военной службы и 15 лет в запасе, а состоящих в частях прочих родов войск – в 17 лет, из них 4 года действительной военной службы и 13 лет в зап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ояние в запасе нижних чинов сухопутных войск ограничивалось достижением 39-летнего возрас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0" y="502920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Таким образом, исторически сложилась система воинского учёта всех граждан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slide0019_image36"/>
          <p:cNvPicPr/>
          <p:nvPr/>
        </p:nvPicPr>
        <p:blipFill>
          <a:blip r:embed="rId1"/>
          <a:stretch/>
        </p:blipFill>
        <p:spPr>
          <a:xfrm>
            <a:off x="457200" y="1143000"/>
            <a:ext cx="2201760" cy="3200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3"/>
          <p:cNvSpPr/>
          <p:nvPr/>
        </p:nvSpPr>
        <p:spPr>
          <a:xfrm>
            <a:off x="0" y="44197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стники Первой мировой вой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 граждан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212840" cy="18288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09" name="Text Box 12"/>
          <p:cNvSpPr/>
          <p:nvPr/>
        </p:nvSpPr>
        <p:spPr>
          <a:xfrm>
            <a:off x="1523880" y="762120"/>
            <a:ext cx="716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ерсональны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оинский учёт граждан Российской Федерации осуществляется в соответствии с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Федеральным законом «О воинской обязанности и военной службе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месту жительств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оенными комиссариата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населенных пунктах, где нет военных комиссариатов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ервичны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оинский учёт осуществляется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рганами местного самоуправл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рганизация воинского учета.mp3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1066680" y="59436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енный комиссари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4419720" y="5943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6" descr="slide0020_image40"/>
          <p:cNvPicPr/>
          <p:nvPr/>
        </p:nvPicPr>
        <p:blipFill>
          <a:blip r:embed="rId3"/>
          <a:stretch/>
        </p:blipFill>
        <p:spPr>
          <a:xfrm>
            <a:off x="533520" y="3124080"/>
            <a:ext cx="3429000" cy="267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slide0020_image42"/>
          <p:cNvPicPr/>
          <p:nvPr/>
        </p:nvPicPr>
        <p:blipFill>
          <a:blip r:embed="rId4"/>
          <a:stretch/>
        </p:blipFill>
        <p:spPr>
          <a:xfrm>
            <a:off x="4495680" y="3124080"/>
            <a:ext cx="419112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77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43400" y="838080"/>
            <a:ext cx="4572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оначальная постановка на воинский учёт граждан мужского пола осуществляется с 1 января по 31 марта   в год достижения ими возраста 17 ле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Первоначальную постановку на воинский учёт осуществляет специальная комиссия по постановке граждан на воинский учёт в районе или город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Первоначальная постановка на воинский учёт граждан женского пола после получения ими военно-учётной специальности, а также лиц, получивших гражданство Российской Федерации, осуществляется военным комиссариатом в течение всего календарн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 граждан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став комиссии по постановке.mp3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slide0021_image44"/>
          <p:cNvPicPr/>
          <p:nvPr/>
        </p:nvPicPr>
        <p:blipFill>
          <a:blip r:embed="rId2"/>
          <a:stretch/>
        </p:blipFill>
        <p:spPr>
          <a:xfrm>
            <a:off x="304920" y="990720"/>
            <a:ext cx="3276360" cy="217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9" name="Picture 12" descr="slide0021_image46"/>
          <p:cNvPicPr/>
          <p:nvPr/>
        </p:nvPicPr>
        <p:blipFill>
          <a:blip r:embed="rId3"/>
          <a:stretch/>
        </p:blipFill>
        <p:spPr>
          <a:xfrm>
            <a:off x="1371600" y="2819520"/>
            <a:ext cx="2876400" cy="190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13" descr="slide0021_image48"/>
          <p:cNvPicPr/>
          <p:nvPr/>
        </p:nvPicPr>
        <p:blipFill>
          <a:blip r:embed="rId4"/>
          <a:stretch/>
        </p:blipFill>
        <p:spPr>
          <a:xfrm>
            <a:off x="533520" y="4267080"/>
            <a:ext cx="3143160" cy="23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838080" y="380880"/>
            <a:ext cx="7315200" cy="10764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миссия по первоначальной постановке на воинский уч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1828800"/>
            <a:ext cx="472464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енный комиссар района либо его замест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редседатель коми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38080" y="3124080"/>
            <a:ext cx="4343400" cy="1260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тарь комисс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тавитель местной администр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 flipV="1" rot="10800000">
            <a:off x="838080" y="4723560"/>
            <a:ext cx="419112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ециалист по профессиональному психологическому отб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838080" y="6095880"/>
            <a:ext cx="36576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чи-специал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124080" y="144792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3124080" y="281952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3124080" y="434340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3200400" y="5715000"/>
            <a:ext cx="0" cy="376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47960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203832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"/>
          <p:cNvPicPr/>
          <p:nvPr/>
        </p:nvPicPr>
        <p:blipFill>
          <a:blip r:embed="rId3"/>
          <a:stretch/>
        </p:blipFill>
        <p:spPr>
          <a:xfrm>
            <a:off x="5943600" y="2971800"/>
            <a:ext cx="1752480" cy="10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185724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миссия обязана решить следующие задач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рганизовать медицинское освидетельствование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ределить их годность к военной службе по состоянию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сти мероприятия по профессиональному психологическому отбору для определения их пригодности к подготовке по военно-учётным специальнос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нять решение о постановке их на воинский учё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сти на рассмотрение призывной комиссии вопро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 зачислении в запа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граждан, призванных ограниченно годными к военной служ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сти на рассмотрение призывной комиссии вопро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б освобождении от исполнения воинской обязанност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граждан, признанных не годными к военной сл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Обязанности граждан по воинскому учёту.mp3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3"/>
          <p:cNvSpPr/>
          <p:nvPr/>
        </p:nvSpPr>
        <p:spPr>
          <a:xfrm>
            <a:off x="3809880" y="160020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ть на воинском учёте по месту ж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809880" y="251460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иться в установленные время и место по повес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809880" y="3429000"/>
            <a:ext cx="51055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бщить в двухнедельный срок об изменениях в учёт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809880" y="472428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яться с воинского учета при изменении места ж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809880" y="5638680"/>
            <a:ext cx="5105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режно хранить свой военный би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3200400" y="1143000"/>
            <a:ext cx="0" cy="49528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3200400" y="198108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3200400" y="609588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3200400" y="510552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3200400" y="396252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200400" y="2819520"/>
            <a:ext cx="60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язанности граждан по воинскому учё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7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1465200" cy="22100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5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ovestka-5"/>
          <p:cNvPicPr/>
          <p:nvPr/>
        </p:nvPicPr>
        <p:blipFill>
          <a:blip r:embed="rId1"/>
          <a:stretch/>
        </p:blipFill>
        <p:spPr>
          <a:xfrm>
            <a:off x="304920" y="1600200"/>
            <a:ext cx="4572000" cy="3679920"/>
          </a:xfrm>
          <a:prstGeom prst="rect">
            <a:avLst/>
          </a:prstGeom>
          <a:ln w="0">
            <a:noFill/>
          </a:ln>
        </p:spPr>
      </p:pic>
      <p:pic>
        <p:nvPicPr>
          <p:cNvPr id="151" name="Явка по повестке.mp3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язанности граждан по воинскому учё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952880" y="1523880"/>
            <a:ext cx="39625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ждане обязаны явиться в установленное время по месту вызова в военный комиссари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лжностные лица организаций или образовательных учреждений обязаны обеспечивать сотрудникам или обучающимся возможность своевременной явки по повестке военного комиссариата для постановки на воинский уч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2362320" cy="16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34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533520" y="457200"/>
            <a:ext cx="7924680" cy="99072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важительные причины неявки в военкомат по вызов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038480" y="182880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яжелое состояние здоровья близких родстве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038480" y="297180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болевание гражданина, связанное с утратой трудоспособ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38480" y="419112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стоятельство, не зависящее от воли гражд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5410080"/>
            <a:ext cx="495324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ые причины, признанные уваж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581280" y="1447920"/>
            <a:ext cx="0" cy="441936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581280" y="220968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3581280" y="457200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3581280" y="335268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Ответственность граждан за неявку.mp3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3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1905120" cy="144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1905120" cy="1703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"/>
          <p:cNvPicPr/>
          <p:nvPr/>
        </p:nvPicPr>
        <p:blipFill>
          <a:blip r:embed="rId4"/>
          <a:stretch/>
        </p:blipFill>
        <p:spPr>
          <a:xfrm>
            <a:off x="1143000" y="4876920"/>
            <a:ext cx="1905120" cy="16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11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это одна из составных частей воинской обязанности граждан Российской Федерации – заключается в специальном учёте всех граждан, подлежащих призыву на военную службу, и военнообязанных по месту жи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61722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57200" y="57164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Приз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64832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оеннообяза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slide0010_image03"/>
          <p:cNvPicPr/>
          <p:nvPr/>
        </p:nvPicPr>
        <p:blipFill>
          <a:blip r:embed="rId1"/>
          <a:stretch/>
        </p:blipFill>
        <p:spPr>
          <a:xfrm>
            <a:off x="457200" y="2743200"/>
            <a:ext cx="3981600" cy="277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lide0010_image01"/>
          <p:cNvPicPr/>
          <p:nvPr/>
        </p:nvPicPr>
        <p:blipFill>
          <a:blip r:embed="rId2"/>
          <a:stretch/>
        </p:blipFill>
        <p:spPr>
          <a:xfrm>
            <a:off x="4724280" y="2743200"/>
            <a:ext cx="411480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57200" y="1828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вобождённые от исполнения воинских обязанностей в соответствии с Федеральным законом «О воинской обязанности и военной служб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153_326"/>
          <p:cNvPicPr/>
          <p:nvPr/>
        </p:nvPicPr>
        <p:blipFill>
          <a:blip r:embed="rId1"/>
          <a:stretch/>
        </p:blipFill>
        <p:spPr>
          <a:xfrm>
            <a:off x="304920" y="3200400"/>
            <a:ext cx="3733560" cy="2803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228600" y="6019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жданине, признанные не годными к военной службе по состоянию здоровья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029200" y="59436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жданине, достигшие предельного возраста пребывания в зап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20070718214550"/>
          <p:cNvPicPr/>
          <p:nvPr/>
        </p:nvPicPr>
        <p:blipFill>
          <a:blip r:embed="rId2"/>
          <a:stretch/>
        </p:blipFill>
        <p:spPr>
          <a:xfrm>
            <a:off x="5105520" y="32004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3809880" y="3048120"/>
            <a:ext cx="1465560" cy="22096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ходящие военную службу или альтернативную гражданскую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85800" y="5867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енная служ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952880" y="5867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ьтернативная гражданская служ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picture"/>
          <p:cNvPicPr/>
          <p:nvPr/>
        </p:nvPicPr>
        <p:blipFill>
          <a:blip r:embed="rId1"/>
          <a:stretch/>
        </p:blipFill>
        <p:spPr>
          <a:xfrm>
            <a:off x="4876920" y="2971800"/>
            <a:ext cx="3695760" cy="28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slide0012_image013"/>
          <p:cNvPicPr/>
          <p:nvPr/>
        </p:nvPicPr>
        <p:blipFill>
          <a:blip r:embed="rId2"/>
          <a:stretch/>
        </p:blipFill>
        <p:spPr>
          <a:xfrm>
            <a:off x="762120" y="2995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57200" y="1828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бывающие наказание в виде лишения своб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slide0013_image15"/>
          <p:cNvPicPr/>
          <p:nvPr/>
        </p:nvPicPr>
        <p:blipFill>
          <a:blip r:embed="rId1"/>
          <a:stretch/>
        </p:blipFill>
        <p:spPr>
          <a:xfrm>
            <a:off x="533520" y="3957480"/>
            <a:ext cx="3790800" cy="261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slide0013_image17"/>
          <p:cNvPicPr/>
          <p:nvPr/>
        </p:nvPicPr>
        <p:blipFill>
          <a:blip r:embed="rId2"/>
          <a:stretch/>
        </p:blipFill>
        <p:spPr>
          <a:xfrm>
            <a:off x="4724280" y="3990960"/>
            <a:ext cx="3791160" cy="255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slide0013_image19"/>
          <p:cNvPicPr/>
          <p:nvPr/>
        </p:nvPicPr>
        <p:blipFill>
          <a:blip r:embed="rId3"/>
          <a:stretch/>
        </p:blipFill>
        <p:spPr>
          <a:xfrm>
            <a:off x="2695680" y="2552760"/>
            <a:ext cx="3752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нского пола, не имеющие военно-учётной специ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image2880844"/>
          <p:cNvPicPr/>
          <p:nvPr/>
        </p:nvPicPr>
        <p:blipFill>
          <a:blip r:embed="rId1"/>
          <a:stretch/>
        </p:blipFill>
        <p:spPr>
          <a:xfrm>
            <a:off x="1981080" y="2971800"/>
            <a:ext cx="48769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се граждане Российской Федерации обязаны состоять на воинском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1219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ключение составляют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оянно проживающие за пределами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slide0015_image22"/>
          <p:cNvPicPr/>
          <p:nvPr/>
        </p:nvPicPr>
        <p:blipFill>
          <a:blip r:embed="rId1"/>
          <a:stretch/>
        </p:blipFill>
        <p:spPr>
          <a:xfrm>
            <a:off x="2362320" y="281952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ий учё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ван определить возможности государства по обеспечению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1186418367"/>
          <p:cNvPicPr/>
          <p:nvPr/>
        </p:nvPicPr>
        <p:blipFill>
          <a:blip r:embed="rId1"/>
          <a:stretch/>
        </p:blipFill>
        <p:spPr>
          <a:xfrm>
            <a:off x="1066680" y="1752480"/>
            <a:ext cx="6858000" cy="4560840"/>
          </a:xfrm>
          <a:prstGeom prst="rect">
            <a:avLst/>
          </a:prstGeom>
          <a:ln w="0">
            <a:noFill/>
          </a:ln>
        </p:spPr>
      </p:pic>
      <p:pic>
        <p:nvPicPr>
          <p:cNvPr id="86" name="Предназначение воинского учета.mp3" descr=""/>
          <p:cNvPicPr/>
          <p:nvPr/>
        </p:nvPicPr>
        <p:blipFill>
          <a:blip r:embed="rId2"/>
          <a:stretch/>
        </p:blipFill>
        <p:spPr>
          <a:xfrm>
            <a:off x="3049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4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овершенствование системы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5320" y="1295280"/>
            <a:ext cx="53337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705 году указом Пет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России была введена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екрутская воинская повин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рмию ежегодно набирали физически годных к военной службе мужчин от 20 до 30 лет (один человек с 20 дворов, а с 1724 г. по 5-7 человек с 1000 мужских душ). К 1725 году численность регулярной армии в России достигла 220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886200" y="594216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езультат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верно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й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1700-1721) Россия получила выход к Балтийскому мор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т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slide0017_image28"/>
          <p:cNvPicPr/>
          <p:nvPr/>
        </p:nvPicPr>
        <p:blipFill>
          <a:blip r:embed="rId1"/>
          <a:stretch/>
        </p:blipFill>
        <p:spPr>
          <a:xfrm>
            <a:off x="304920" y="1371600"/>
            <a:ext cx="3166920" cy="460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slide0017_image0030"/>
          <p:cNvPicPr/>
          <p:nvPr/>
        </p:nvPicPr>
        <p:blipFill>
          <a:blip r:embed="rId2"/>
          <a:stretch/>
        </p:blipFill>
        <p:spPr>
          <a:xfrm>
            <a:off x="4191120" y="3757680"/>
            <a:ext cx="3504960" cy="216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4-18T06:36:0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