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46D-DF8B-4A7C-AE2C-CA4C55C8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9EC-7E46-413D-9066-90A6634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E94-7BD8-4CD0-81A0-5E3C5000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1B8-3C76-4B52-9A10-AF5AC24F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15E67-AE7A-45FE-AB1E-A8357EA9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292E6-CABC-4E10-B9C5-EBD19690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A168-7FAC-4DC1-A20F-D30ADEB6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4B07D-7CDC-403F-BC7C-E3C8718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E0160-18D1-48EF-B8F2-ADA4DA27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77F19-FA79-438C-B679-27B7E79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C0A18-4E4A-47CA-9F02-E8F58BFA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5A3-C1A9-42C8-ACC4-B2E5286B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4CF0B-8A5A-4A04-95A1-96309A1C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8F9A-79FF-41D0-838A-43E14D2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527A-67FD-4399-AB26-20D3CAE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2D76B-56B2-4CF7-96EF-9309577C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A7A90-356A-4E03-88A8-8EBE3F02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D839-4A03-4BC4-9EBF-8A0B2B6A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9F9A-0EF0-4D4E-AFC5-66DB96C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D844-EB8F-4DDE-B6C3-35EA8E6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A58A-8531-417F-B806-0BED8AF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12DB-7C82-4B5A-815E-CDBE3F0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C85-FA68-4169-A58C-EC8679C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E9DB-2209-4B55-AA6C-4F7EFB9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7D18-8D58-4ACB-BEC8-BFD53B8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223A-55B2-4732-B9F0-ECD753D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CEDC-CFB2-4EF0-AE59-9392056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949A-6C33-4A35-8C51-4107980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F910-2109-4B20-86C9-DB95B166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68B4-3E58-462E-808A-B07ADF37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739A6-6E21-4E34-85AD-80D0D9AC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0EB9C-E144-4B62-B517-7A03EAD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845BB-6A78-46E8-B5CC-F5FECCA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E78-6B39-4F3D-B1C4-E0BB401F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3AD4A-F1FB-4D4C-BB99-4A01168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E65AD-3651-42D3-B7D8-8ADFD494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6DBAE-F421-419C-9683-FFBD3E0C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7F8AE-18BD-4F83-8822-C296BCEA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EFB0A-D1C8-4A26-9EF1-C3079FD2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056FE-99BB-432D-8A91-2667411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FE893-5106-4F92-A01F-62F326E7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C8EF9-8EF2-4CA0-9F2A-8A44BF6A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81109-9999-4476-B8F3-C5EEC140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092-83D1-4C32-8658-4EFA4296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30D-DA42-45B0-A6A3-BADA1061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CD5-BAAD-4750-AF1D-0AC15E85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7FA-1CC6-4F13-9162-E68FFDC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4A2-0839-4A1E-ACDB-4B8C4D1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0AB1-F4AD-45FF-80AB-EB61D21D4B62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75E-506F-40DA-ADAB-38C3D2AB855F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5AF-C1EE-485C-83E8-256FA1853E71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9EB-0ED4-41EE-A69F-93600B7541B1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4" descr=""/>
          <p:cNvPicPr/>
          <p:nvPr/>
        </p:nvPicPr>
        <p:blipFill>
          <a:blip r:embed="rId2"/>
          <a:stretch/>
        </p:blipFill>
        <p:spPr>
          <a:xfrm>
            <a:off x="237960" y="3041640"/>
            <a:ext cx="8455320" cy="1536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i?id=36602404-37-72&amp;n=21"/>
          <p:cNvPicPr/>
          <p:nvPr/>
        </p:nvPicPr>
        <p:blipFill>
          <a:blip r:embed="rId3"/>
          <a:stretch/>
        </p:blipFill>
        <p:spPr>
          <a:xfrm>
            <a:off x="2666880" y="380880"/>
            <a:ext cx="36226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4" descr=""/>
          <p:cNvPicPr/>
          <p:nvPr/>
        </p:nvPicPr>
        <p:blipFill>
          <a:blip r:embed="rId2"/>
          <a:stretch/>
        </p:blipFill>
        <p:spPr>
          <a:xfrm>
            <a:off x="195120" y="298440"/>
            <a:ext cx="8425080" cy="6035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i?id=30334885-61-72&amp;n=21"/>
          <p:cNvPicPr/>
          <p:nvPr/>
        </p:nvPicPr>
        <p:blipFill>
          <a:blip r:embed="rId3"/>
          <a:stretch/>
        </p:blipFill>
        <p:spPr>
          <a:xfrm>
            <a:off x="6324480" y="3124080"/>
            <a:ext cx="20196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Особенно сильно травмируют психику, оставляют шрамы в душе стихия огня и вызываемый ею </a:t>
            </a:r>
            <a:r>
              <a:rPr b="0" lang="en-US" sz="3600" spc="-1" strike="noStrike">
                <a:solidFill>
                  <a:srgbClr val="003300"/>
                </a:solidFill>
                <a:latin typeface="Constantia"/>
              </a:rPr>
              <a:t>безотчётный страх (паника)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2"/>
          <a:stretch/>
        </p:blipFill>
        <p:spPr>
          <a:xfrm>
            <a:off x="73080" y="-6480"/>
            <a:ext cx="907740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аника может возникнуть даже тогда, когда реальной угрозы нет, а люди поддаются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массовому психоз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При этом у многих </a:t>
            </a:r>
            <a:r>
              <a:rPr b="0" lang="en-US" sz="2600" spc="-1" strike="noStrike">
                <a:solidFill>
                  <a:srgbClr val="000066"/>
                </a:solidFill>
                <a:latin typeface="Constantia"/>
              </a:rPr>
              <a:t>притупляется сознание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они </a:t>
            </a:r>
            <a:r>
              <a:rPr b="0" lang="en-US" sz="2600" spc="-1" strike="noStrike">
                <a:solidFill>
                  <a:srgbClr val="003300"/>
                </a:solidFill>
                <a:latin typeface="Constantia"/>
              </a:rPr>
              <a:t>теряют способность правильно воспринимать и оценивать обстановк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2"/>
          <a:stretch/>
        </p:blipFill>
        <p:spPr>
          <a:xfrm>
            <a:off x="353880" y="268200"/>
            <a:ext cx="833940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423680" y="3243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838080" y="304920"/>
            <a:ext cx="7877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опасные факторы пожа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0" y="2286000"/>
            <a:ext cx="9296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крытый огонь;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сокая температура(100 град.)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ксичные отравляющие продукты горения;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остаток кислорода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Picture 8" descr="i?id=206072595-60-72&amp;n=21"/>
          <p:cNvPicPr/>
          <p:nvPr/>
        </p:nvPicPr>
        <p:blipFill>
          <a:blip r:embed="rId15"/>
          <a:stretch/>
        </p:blipFill>
        <p:spPr>
          <a:xfrm>
            <a:off x="228600" y="1371600"/>
            <a:ext cx="1743120" cy="142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?id=147697216-09-72&amp;n=21"/>
          <p:cNvPicPr/>
          <p:nvPr/>
        </p:nvPicPr>
        <p:blipFill>
          <a:blip r:embed="rId16"/>
          <a:stretch/>
        </p:blipFill>
        <p:spPr>
          <a:xfrm>
            <a:off x="655308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i?id=203211355-23-72&amp;n=21"/>
          <p:cNvPicPr/>
          <p:nvPr/>
        </p:nvPicPr>
        <p:blipFill>
          <a:blip r:embed="rId17"/>
          <a:stretch/>
        </p:blipFill>
        <p:spPr>
          <a:xfrm>
            <a:off x="533520" y="502920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i?id=39712481-06-72&amp;n=21"/>
          <p:cNvPicPr/>
          <p:nvPr/>
        </p:nvPicPr>
        <p:blipFill>
          <a:blip r:embed="rId18"/>
          <a:stretch/>
        </p:blipFill>
        <p:spPr>
          <a:xfrm>
            <a:off x="6477120" y="5029200"/>
            <a:ext cx="1914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7" descr="C~000037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380880" y="2515680"/>
            <a:ext cx="806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8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не паникуйте, действуйте обдуманн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- опасайтесь толпы , рвущейся к выходу, ищите запасные и аварийные вых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 </a:t>
            </a: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- не пытайтесть спасти свои вещ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 </a:t>
            </a: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- помните, что в специальных  местах есть огнетушит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2590920" y="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 правилах поведения при пожа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6" name="Picture 9" descr="i?id=196744735-51-72&amp;n=21"/>
          <p:cNvPicPr/>
          <p:nvPr/>
        </p:nvPicPr>
        <p:blipFill>
          <a:blip r:embed="rId3"/>
          <a:stretch/>
        </p:blipFill>
        <p:spPr>
          <a:xfrm>
            <a:off x="0" y="533520"/>
            <a:ext cx="2362320" cy="15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Явный признак паники – паническое бегство, вызванное стремлением человека попросту убежать от опасности, забыв обо всех и ни с чем не считаясь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В этой ситуации следует избавиться от обуявшего, причём иногда совершенно необоснованного, страх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Во время паники при вынужденной эвакуации, например в кинотеатре при пожаре, зрители одновременно встают и заполняют проходы. Некоторые спешат и толкаются. При этом происходит уплотнение толпы до физического предела, при котором возможны тяжёлые увечья и даже человеческие жертв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8" descr="i?id=140932932-45-72&amp;n=21"/>
          <p:cNvPicPr/>
          <p:nvPr/>
        </p:nvPicPr>
        <p:blipFill>
          <a:blip r:embed="rId2"/>
          <a:stretch/>
        </p:blipFill>
        <p:spPr>
          <a:xfrm>
            <a:off x="7620120" y="5864400"/>
            <a:ext cx="1523880" cy="99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артинка эмоции, освещение, Сцена, публика, толпа, руки"/>
          <p:cNvPicPr/>
          <p:nvPr/>
        </p:nvPicPr>
        <p:blipFill>
          <a:blip r:embed="rId3"/>
          <a:stretch/>
        </p:blipFill>
        <p:spPr>
          <a:xfrm>
            <a:off x="0" y="585936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1. Услышав крики "Пожар", постарайтесь сохранять спокойствие и выдержку, призывайте к этому стоящих людей, особенно женщин. Оцените обстановку, убедитесь в наличии реальной опасности (возможно, кто-то этим криком хочет привлечь внимание людей)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2. Стоя на месте, внимательно оглядитесь вокруг. Увидев телефон или кнопку пожарной сигнализации, сообщите о реальном пожаре в пожарную охрану и начинайте спокойно двигаться к ближайшему выходу, обращая внимание на окружающих. Если есть возможность справиться с огнём, попросите о помощи рядом стоящих людей и, используя средства пожаротушения и подручные средства, потушите пожар, немедленно оповестив об этом окружающих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3. При заполнении помещения дымом, выключении освещения постарайтесь идти к выходу, держась за стены, поручни и т.п., дышите через носовой платок или рукав одежды, ведите детей впереди себя, держа их за плечи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4. В любой обстановке сохраняйте выдержку и хладнокровие, своим поведением успокаивая окружающих, не давайте разрастаться панике (если можете, возьмите на себя руководство людьми). Двигаясь в толпе, задерживайте обезумевших людей. Помогите тем, кто скован страхом и не может двигаться, для приведения их в чувство бейте ладонями по щекам, разговаривайте спокойно и внятно, поддерживайте их под руки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5. Выбравшись из толпы, окажите помощь пострадавшим из-за паники, перенесите их на свежий воздух, расстегните одежду, вызовите "Скорую помощь«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2"/>
          <a:stretch/>
        </p:blipFill>
        <p:spPr>
          <a:xfrm>
            <a:off x="360360" y="146160"/>
            <a:ext cx="833292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Как видите, в конечном счёте </a:t>
            </a:r>
            <a:r>
              <a:rPr b="1" i="1" lang="en-US" sz="2600" spc="-1" strike="noStrike">
                <a:solidFill>
                  <a:srgbClr val="003300"/>
                </a:solidFill>
                <a:latin typeface="Constantia"/>
              </a:rPr>
              <a:t>многое зависит от самого человек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от его силы воли, выдержки, умения быстро и правильно оценить ситуац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2"/>
          <a:stretch/>
        </p:blipFill>
        <p:spPr>
          <a:xfrm>
            <a:off x="-128520" y="-6480"/>
            <a:ext cx="927900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1 - пожарная охрана;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2 - полиция;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3 - скорая медицинская помощь;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4 - аварийная газовая служб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268200" y="92160"/>
            <a:ext cx="8467920" cy="128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i?id=114680550-24-72&amp;n=21"/>
          <p:cNvPicPr/>
          <p:nvPr/>
        </p:nvPicPr>
        <p:blipFill>
          <a:blip r:embed="rId3"/>
          <a:stretch/>
        </p:blipFill>
        <p:spPr>
          <a:xfrm>
            <a:off x="5257800" y="2143080"/>
            <a:ext cx="3610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18T06:33:1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