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3CB-6376-4676-847F-3E3E2C2B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AE0-D44B-4CD1-B041-DD9DEAEA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083-68D8-482C-9066-701C2D2B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5BF-0933-4ADB-A284-A63529DD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E65F9-D184-46D8-B1F9-5D1C06B0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E2981-651C-4941-BBB8-84BB2845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C20A3-1D14-42FE-95DF-6311D2A3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AE43B-4469-406B-9833-FBF4137A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AA8CD-2B2C-43B3-9884-6BE9B69E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29A91-785D-4771-94BF-169CB017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EA2A8-E5DC-49D7-B7E9-C92086CC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8E4-6A72-433C-A962-DB1EFD9A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49288-EC04-4E3E-BF98-837D6146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7AEA9-F7F1-4DC1-B06F-35A1EA12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28F59-A6B9-441A-BDE1-88ADAEAE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99622-6C93-4653-8572-A8497D36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547B2-94BF-414B-A6E0-63222F1D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561F-6179-44F6-9848-7DDE8F96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6D40-AD8C-4A2A-9F48-A6F5D3B3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C91F-6FE0-426D-A154-EC86BECE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9107-2178-4425-9B91-12ECF602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2FA2-BC52-4FA4-A39E-21668F41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290-3A7E-4EA8-8E9E-B693F42F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B156-388D-43AB-B614-1E8872CA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072AF-0FFC-46FB-A815-24FD7D9C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2DDC-E9C3-4AD5-887E-F1DC1E1B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13140-B0AE-427F-9D16-ACB25380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0A9E-7526-4F9B-B75B-919D74BE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C4CF-CE20-4565-BFE9-F02A6E56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65F2-12AA-4730-9079-171C1F0B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19F2B-2CDC-4D79-A729-AA0C4397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73D99-C41D-49B4-A21A-8917F022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1EB53-8049-4756-909D-ACB315DF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167-4DA1-4B25-86EE-29D5ED16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98832-BDD9-4B14-8B64-35E49C42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46B9D-1990-485F-886D-A28CC0CB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F41E8-90FC-4F15-A39A-A3436B2B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C83A58-0DCE-4423-BF53-81BE273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A1D923-6246-48A6-AA04-3E72468A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CD32D5-F6E1-4F0D-8029-B7D5794A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E6460B-4F5D-455B-AA78-FF3EC1AB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D13C4-9179-432F-85B4-3C313B9E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20B122-BFED-46A7-BD99-BD1A5C40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33B-5E63-4442-A495-B3364493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F07-B150-45C4-A65D-3D5C5442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30B-73A7-400B-9B6C-24D06B0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459-1D80-43C2-9256-9A13B292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230-28A9-48F1-983B-BD6DE7CA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F920-3218-4492-B7C1-DF59D90D4F1D}" type="slidenum">
              <a:rPr b="0" lang="en-US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8A22-9204-40D9-AB47-550E28ECA3B0}" type="slidenum">
              <a:rPr b="0" lang="en-US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653B-CC96-41BE-962B-0C905FF0C831}" type="slidenum">
              <a:rPr b="0" lang="en-US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A89F-2634-4BB6-9608-6C5887D91ABE}" type="slidenum">
              <a:rPr b="0" lang="en-US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4" descr=""/>
          <p:cNvPicPr/>
          <p:nvPr/>
        </p:nvPicPr>
        <p:blipFill>
          <a:blip r:embed="rId2"/>
          <a:stretch/>
        </p:blipFill>
        <p:spPr>
          <a:xfrm>
            <a:off x="237960" y="3041640"/>
            <a:ext cx="8455320" cy="1536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i?id=36602404-37-72&amp;n=21"/>
          <p:cNvPicPr/>
          <p:nvPr/>
        </p:nvPicPr>
        <p:blipFill>
          <a:blip r:embed="rId3"/>
          <a:stretch/>
        </p:blipFill>
        <p:spPr>
          <a:xfrm>
            <a:off x="2666880" y="380880"/>
            <a:ext cx="36226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4" descr=""/>
          <p:cNvPicPr/>
          <p:nvPr/>
        </p:nvPicPr>
        <p:blipFill>
          <a:blip r:embed="rId2"/>
          <a:stretch/>
        </p:blipFill>
        <p:spPr>
          <a:xfrm>
            <a:off x="195120" y="298440"/>
            <a:ext cx="8425080" cy="6035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i?id=30334885-61-72&amp;n=21"/>
          <p:cNvPicPr/>
          <p:nvPr/>
        </p:nvPicPr>
        <p:blipFill>
          <a:blip r:embed="rId3"/>
          <a:stretch/>
        </p:blipFill>
        <p:spPr>
          <a:xfrm>
            <a:off x="6324480" y="3124080"/>
            <a:ext cx="20196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Особенно сильно травмируют психику, оставляют шрамы в душе стихия огня и вызываемый ею </a:t>
            </a:r>
            <a:r>
              <a:rPr b="0" lang="en-US" sz="3600" spc="-1" strike="noStrike">
                <a:solidFill>
                  <a:srgbClr val="003300"/>
                </a:solidFill>
                <a:latin typeface="Constantia"/>
              </a:rPr>
              <a:t>безотчётный страх (паника)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2"/>
          <a:stretch/>
        </p:blipFill>
        <p:spPr>
          <a:xfrm>
            <a:off x="73080" y="-6480"/>
            <a:ext cx="907740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Паника может возникнуть даже тогда, когда реальной угрозы нет, а люди поддаются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массовому психозу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При этом у многих </a:t>
            </a:r>
            <a:r>
              <a:rPr b="0" lang="en-US" sz="2600" spc="-1" strike="noStrike">
                <a:solidFill>
                  <a:srgbClr val="000066"/>
                </a:solidFill>
                <a:latin typeface="Constantia"/>
              </a:rPr>
              <a:t>притупляется сознание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они </a:t>
            </a:r>
            <a:r>
              <a:rPr b="0" lang="en-US" sz="2600" spc="-1" strike="noStrike">
                <a:solidFill>
                  <a:srgbClr val="003300"/>
                </a:solidFill>
                <a:latin typeface="Constantia"/>
              </a:rPr>
              <a:t>теряют способность правильно воспринимать и оценивать обстановку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Rectangle 2" descr=""/>
          <p:cNvPicPr/>
          <p:nvPr/>
        </p:nvPicPr>
        <p:blipFill>
          <a:blip r:embed="rId2"/>
          <a:stretch/>
        </p:blipFill>
        <p:spPr>
          <a:xfrm>
            <a:off x="353880" y="268200"/>
            <a:ext cx="833940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423680" y="3243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838080" y="304920"/>
            <a:ext cx="7877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опасные факторы пожа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0" y="2286000"/>
            <a:ext cx="92962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крытый огонь;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сокая температура(100 град.)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оксичные отравляющие продукты горения;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достаток кислорода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Picture 8" descr="i?id=206072595-60-72&amp;n=21"/>
          <p:cNvPicPr/>
          <p:nvPr/>
        </p:nvPicPr>
        <p:blipFill>
          <a:blip r:embed="rId15"/>
          <a:stretch/>
        </p:blipFill>
        <p:spPr>
          <a:xfrm>
            <a:off x="228600" y="1371600"/>
            <a:ext cx="1743120" cy="1428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i?id=147697216-09-72&amp;n=21"/>
          <p:cNvPicPr/>
          <p:nvPr/>
        </p:nvPicPr>
        <p:blipFill>
          <a:blip r:embed="rId16"/>
          <a:stretch/>
        </p:blipFill>
        <p:spPr>
          <a:xfrm>
            <a:off x="6553080" y="1371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i?id=203211355-23-72&amp;n=21"/>
          <p:cNvPicPr/>
          <p:nvPr/>
        </p:nvPicPr>
        <p:blipFill>
          <a:blip r:embed="rId17"/>
          <a:stretch/>
        </p:blipFill>
        <p:spPr>
          <a:xfrm>
            <a:off x="533520" y="5029200"/>
            <a:ext cx="1847880" cy="1428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i?id=39712481-06-72&amp;n=21"/>
          <p:cNvPicPr/>
          <p:nvPr/>
        </p:nvPicPr>
        <p:blipFill>
          <a:blip r:embed="rId18"/>
          <a:stretch/>
        </p:blipFill>
        <p:spPr>
          <a:xfrm>
            <a:off x="6477120" y="5029200"/>
            <a:ext cx="1914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7" descr="C~000037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380880" y="2515680"/>
            <a:ext cx="806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18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не паникуйте, действуйте обдуманно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- опасайтесь толпы , рвущейся к выходу, ищите запасные и аварийные выход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 </a:t>
            </a: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- не пытайтесть спасти свои вещ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 </a:t>
            </a:r>
            <a:r>
              <a:rPr b="0" lang="tt-RU" sz="3600" spc="-1" strike="noStrike">
                <a:solidFill>
                  <a:srgbClr val="180000"/>
                </a:solidFill>
                <a:latin typeface="Times New Roman"/>
              </a:rPr>
              <a:t>- помните, что в специальных  местах есть огнетушит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2590920" y="0"/>
            <a:ext cx="6553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 правилах поведения при пожар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6" name="Picture 9" descr="i?id=196744735-51-72&amp;n=21"/>
          <p:cNvPicPr/>
          <p:nvPr/>
        </p:nvPicPr>
        <p:blipFill>
          <a:blip r:embed="rId3"/>
          <a:stretch/>
        </p:blipFill>
        <p:spPr>
          <a:xfrm>
            <a:off x="0" y="533520"/>
            <a:ext cx="2362320" cy="157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Явный признак паники – паническое бегство, вызванное стремлением человека попросту убежать от опасности, забыв обо всех и ни с чем не считаясь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В этой ситуации следует избавиться от обуявшего, причём иногда совершенно необоснованного, страх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Во время паники при вынужденной эвакуации, например в кинотеатре при пожаре, зрители одновременно встают и заполняют проходы. Некоторые спешат и толкаются. При этом происходит уплотнение толпы до физического предела, при котором возможны тяжёлые увечья и даже человеческие жертв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8" descr="i?id=140932932-45-72&amp;n=21"/>
          <p:cNvPicPr/>
          <p:nvPr/>
        </p:nvPicPr>
        <p:blipFill>
          <a:blip r:embed="rId2"/>
          <a:stretch/>
        </p:blipFill>
        <p:spPr>
          <a:xfrm>
            <a:off x="7620120" y="5864400"/>
            <a:ext cx="1523880" cy="993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Картинка эмоции, освещение, Сцена, публика, толпа, руки"/>
          <p:cNvPicPr/>
          <p:nvPr/>
        </p:nvPicPr>
        <p:blipFill>
          <a:blip r:embed="rId3"/>
          <a:stretch/>
        </p:blipFill>
        <p:spPr>
          <a:xfrm>
            <a:off x="0" y="5859360"/>
            <a:ext cx="1600200" cy="9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1. Услышав крики "Пожар", постарайтесь сохранять спокойствие и выдержку, призывайте к этому стоящих людей, особенно женщин. Оцените обстановку, убедитесь в наличии реальной опасности (возможно, кто-то этим криком хочет привлечь внимание людей)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2. Стоя на месте, внимательно оглядитесь вокруг. Увидев телефон или кнопку пожарной сигнализации, сообщите о реальном пожаре в пожарную охрану и начинайте спокойно двигаться к ближайшему выходу, обращая внимание на окружающих. Если есть возможность справиться с огнём, попросите о помощи рядом стоящих людей и, используя средства пожаротушения и подручные средства, потушите пожар, немедленно оповестив об этом окружающих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3. При заполнении помещения дымом, выключении освещения постарайтесь идти к выходу, держась за стены, поручни и т.п., дышите через носовой платок или рукав одежды, ведите детей впереди себя, держа их за плечи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4. В любой обстановке сохраняйте выдержку и хладнокровие, своим поведением успокаивая окружающих, не давайте разрастаться панике (если можете, возьмите на себя руководство людьми). Двигаясь в толпе, задерживайте обезумевших людей. Помогите тем, кто скован страхом и не может двигаться, для приведения их в чувство бейте ладонями по щекам, разговаривайте спокойно и внятно, поддерживайте их под руки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5. Выбравшись из толпы, окажите помощь пострадавшим из-за паники, перенесите их на свежий воздух, расстегните одежду, вызовите "Скорую помощь«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2"/>
          <a:stretch/>
        </p:blipFill>
        <p:spPr>
          <a:xfrm>
            <a:off x="360360" y="146160"/>
            <a:ext cx="8332920" cy="12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4800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Как видите, в конечном счёте </a:t>
            </a:r>
            <a:r>
              <a:rPr b="1" i="1" lang="en-US" sz="2600" spc="-1" strike="noStrike">
                <a:solidFill>
                  <a:srgbClr val="003300"/>
                </a:solidFill>
                <a:latin typeface="Constantia"/>
              </a:rPr>
              <a:t>многое зависит от самого человек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от его силы воли, выдержки, умения быстро и правильно оценить ситуац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Rectangle 2" descr=""/>
          <p:cNvPicPr/>
          <p:nvPr/>
        </p:nvPicPr>
        <p:blipFill>
          <a:blip r:embed="rId2"/>
          <a:stretch/>
        </p:blipFill>
        <p:spPr>
          <a:xfrm>
            <a:off x="-128520" y="-6480"/>
            <a:ext cx="927900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01 - пожарная охрана;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02 - полиция;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03 - скорая медицинская помощь;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04 - аварийная газовая служб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268200" y="92160"/>
            <a:ext cx="8467920" cy="128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i?id=114680550-24-72&amp;n=21"/>
          <p:cNvPicPr/>
          <p:nvPr/>
        </p:nvPicPr>
        <p:blipFill>
          <a:blip r:embed="rId3"/>
          <a:stretch/>
        </p:blipFill>
        <p:spPr>
          <a:xfrm>
            <a:off x="5257800" y="2143080"/>
            <a:ext cx="3610080" cy="20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4-18T06:33:10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