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8A717-8735-4FBE-9114-B91D6F767B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0121E-1C9B-4E3A-B5FA-00DD9735E281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D5EE-67B8-46D3-81CF-6DC0DC794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188B-9044-42E3-AF6B-67A6F927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6DB8-09C4-4447-9C39-FD85FDB0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B539-BA64-4824-96DE-A372D8624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4C18A-EC43-479A-8734-0E6CC0B4A4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B39FC-25C0-405A-AB73-2CEB62B0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22D49-D4FF-4311-BF39-29E17D9A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AB066-F7E9-4AA5-97B4-421866B6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7DE79-03EA-462F-9AFA-4C03FE76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9D80F-DFF6-44D5-9276-189A8166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2D80A-D925-4179-8A11-7E780A6A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AB84-2F9E-4C88-801E-917FB10E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FF8F0-8E2C-4F61-94B6-57C6E2F8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BA086-5EFD-4D9B-8E3D-A38B1151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2B579-AD56-40A2-B13B-2B89F0A4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6448C-CED5-4731-96D6-E876758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D44B3-D386-42C7-974F-01195BD2F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DF72-DA4C-4841-8183-96BC395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66C6-B533-4E65-A405-6A1B0812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755E-DDDC-4D76-9588-2AB7E6C8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7241-DE56-49DB-84E1-49C19511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5431-3C09-41F1-8DE1-2EBCC5C8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3875-CD1D-4E30-9662-1FA32BAE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4E20-81C2-4A5F-9E5E-B5D01B9A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4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8DAFF-3ED4-4AFD-91EB-A3D64AFEDB1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8.4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27F634-2A01-46C2-9742-703D91A38423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47628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73240" y="214200"/>
            <a:ext cx="70563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57200" y="500040"/>
            <a:ext cx="70009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Центр развития ребёнка – детский сад «Солнышко» города Котовска Тамб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0080" y="2857680"/>
            <a:ext cx="7229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в Д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4720" y="5143680"/>
            <a:ext cx="53816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Загороднева Т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7120" y="476280"/>
            <a:ext cx="8607600" cy="6048360"/>
          </a:xfrm>
          <a:prstGeom prst="roundRect">
            <a:avLst>
              <a:gd name="adj" fmla="val 16667"/>
            </a:avLst>
          </a:prstGeom>
          <a:solidFill>
            <a:srgbClr val="ebe379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ехнология сотрудничества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ализует принцип демократизации дошкольного образования, равенство в отношениях педагога с ребенком, партнерство в системе взаимоотношений 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«Взрослый - ребенок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Педагог и дети создают условия развивающей среды, изготавливают  подарки к праздникам. Совместно определяют разнообразную творческую деятельность 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(игры, труд, развлечения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89000"/>
            <a:ext cx="8208720" cy="626436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иды личностно-ориентированных технолог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следовательска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– основной особенностью этой технологии является самостоятельное исследование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ммуникативная (дискуссионная)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Характерностью этой технологии является присутствие дискутирования, характеризующегося разными взглядами по изучаемому вопросу, сравнением их, искание за счет рассмотрения правильной точки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итационного моделирования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собенностью этой технологии есть моделирование основных и очень важных профессиональных проблем в образовательном процессе и поиск способов их раз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еятельностная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Особенной стороной этой технологии есть умение обучающегося рассчитывать намеченное действие, быть его субъ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флексивная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Свойственной стороной этой технологии является понимание ребёнком работы: того каким путём получен успех, какие при этом появлялись проблемы, как они были ликвидированы, и что он испытывал при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333360"/>
            <a:ext cx="7532640" cy="5877000"/>
          </a:xfrm>
          <a:prstGeom prst="beve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езультат использования  личностно-ориентированных технологий –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ановление ребенка как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о предполагае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развитие доверия ребенка к миру, чувства радости (психологическое здоровь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формирование начал личности (базис личностной куль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развитие индивидуаль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3360"/>
            <a:ext cx="82296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28920" y="372960"/>
            <a:ext cx="4807080" cy="22640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d9d9d9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временные педагогические технологии в дошкольном образовании направлены на реализацию государственных стандартов дошко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1720" y="2781360"/>
            <a:ext cx="6858000" cy="3433680"/>
          </a:xfrm>
          <a:prstGeom prst="horizontalScroll">
            <a:avLst>
              <a:gd name="adj" fmla="val 12500"/>
            </a:avLst>
          </a:prstGeom>
          <a:solidFill>
            <a:srgbClr val="bfbfbf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Личностно-ориентированная технолог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- это такая воспитательная система, в которой ребенок является высшей ценностью и ставится в центр 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-19080"/>
            <a:ext cx="7848720" cy="2584440"/>
          </a:xfrm>
          <a:prstGeom prst="ellipse">
            <a:avLst/>
          </a:prstGeom>
          <a:solidFill>
            <a:srgbClr val="e6b9b8"/>
          </a:solidFill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Цель личностно-ориентированной технологии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 заложить в ребенке механизмы самореализации, саморазвития, адаптации, саморегуляции, самозащиты, самовоспитания и другие, необходимые для становления самобытного личностного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360" y="2565360"/>
            <a:ext cx="8640720" cy="4292640"/>
          </a:xfrm>
          <a:prstGeom prst="flowChartDocument">
            <a:avLst/>
          </a:prstGeom>
          <a:solidFill>
            <a:srgbClr val="f2dcdb"/>
          </a:solidFill>
          <a:ln w="38160">
            <a:solidFill>
              <a:srgbClr val="c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гуманистическая направленность содержания деятельности ДО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обеспечение комфортных, бесконфликтных и безопасных условий развития личности ребёнка, реализация природных потенциалов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приоритет личностных отно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создание условий для развития личности воспитан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индивидуальный подход к воспитанни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708280"/>
            <a:ext cx="6769080" cy="1150920"/>
          </a:xfrm>
          <a:prstGeom prst="ellipse">
            <a:avLst/>
          </a:prstGeom>
          <a:solidFill>
            <a:srgbClr val="d99694"/>
          </a:solidFill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 личностно –ориентированной тех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71640" y="4005360"/>
            <a:ext cx="6158160" cy="2495520"/>
          </a:xfrm>
          <a:prstGeom prst="wedgeRoundRectCallout">
            <a:avLst>
              <a:gd name="adj1" fmla="val -382458"/>
              <a:gd name="adj2" fmla="val -541370"/>
              <a:gd name="adj3" fmla="val 16667"/>
            </a:avLst>
          </a:prstGeom>
          <a:solidFill>
            <a:srgbClr val="b3a2c7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 педагога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является оказание каждому ребенку помощи в раскрытии его внутреннего мира, предоставление ему дополнительной силы в поисках новых открытий и смыслов, в построении всесторонне развитой личности.  Использование различных форм организации детской деятельности дает положительные результаты для э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240" y="23760"/>
            <a:ext cx="8645400" cy="2643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8b3e9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 личностно-ориентированной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нтре внимания личностно-ориентированных технологий – уникальная целостная личность растущего человека, которая стремится к максимальной реализации своих возможностей (самоактуализации, открыта для восприятия нового опыта, способна на осознанный и ответственный выбор в разнообразных жизненных ситуация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260280"/>
            <a:ext cx="8209080" cy="3168720"/>
          </a:xfrm>
          <a:prstGeom prst="flowChartDocument">
            <a:avLst/>
          </a:prstGeom>
          <a:solidFill>
            <a:srgbClr val="fdeada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Формы организации деятельности с применением личностно-ориентированной технологии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разнообраз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игры, занятия, спортивные меро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беседы, наблю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экспериментальная  и проект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упражнения,  гимнастика, массаж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этюды, предметные и ролев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конкурсы и выставки детск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429000"/>
            <a:ext cx="8208720" cy="33116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емы личностно-ориентированного взаимо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прием «Помоги» - потребность в своей значимости ребенок может реализовать, помогая игрушкам решать их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прием «Все вместе»  построен на желании ребенка чувствовать свою необходимость и значимость в коллективной раб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прием «Отвлечение» направлен на отвлечение ребенка от горестных переживаний игрой, наблюдением за чем-либо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8000" y="115920"/>
            <a:ext cx="8994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о-ориентированная технология базируется на следующих принцип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5880"/>
            <a:ext cx="9102600" cy="6342120"/>
          </a:xfrm>
          <a:custGeom>
            <a:avLst/>
            <a:gdLst>
              <a:gd name="textAreaLeft" fmla="*/ 747360 w 9102600"/>
              <a:gd name="textAreaRight" fmla="*/ 8355240 w 9102600"/>
              <a:gd name="textAreaTop" fmla="*/ 747360 h 6342120"/>
              <a:gd name="textAreaBottom" fmla="*/ 5594760 h 6342120"/>
            </a:gdLst>
            <a:ahLst/>
            <a:rect l="textAreaLeft" t="textAreaTop" r="textAreaRight" b="textAreaBottom"/>
            <a:pathLst>
              <a:path w="310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401" y="21600"/>
                </a:lnTo>
                <a:arcTo wR="3600" hR="3600" stAng="10800000" swAng="5400000"/>
                <a:lnTo>
                  <a:pt x="31001" y="3600"/>
                </a:lnTo>
                <a:arcTo wR="3600" hR="3600" stAng="5400000" swAng="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самоактуальност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любой ребёнок принимается таким, каков он е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 принцип индивидуальност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развитие индивидуальности в соответствии со способностями ребёнка, его психофизическим развитием, типом темперамента, особенностями характера, половой принадлежности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субъектност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использовать субъектный опыт ребёнка, создавать условия для того, чтобы ребёнок был субъектом своей дея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выбор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предоставлять свободу выбора предметов и видов деятельности каждому ребёнку, способствовать развитию инициатив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творчества и успех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  Индивидуальная и коллективная творческая деятельность позволяют определять и развивать индивидуальные особенности ребенка. Благодаря творчеству ребенок выявляет свои способности, узнает о «сильных» сторонах своей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нцип доверия и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 Вера в ребенка, доверие ему, поддержка его устремлений к самореализации и самоутверждению должны прийти на смену излишней требовательности и чрезмерного контроля. Не внешние воздействия, а внутренняя мотивация обусловливает успех обучения и воспитани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28920" y="357120"/>
            <a:ext cx="4714920" cy="1214640"/>
          </a:xfrm>
          <a:prstGeom prst="wedgeRoundRectCallout">
            <a:avLst>
              <a:gd name="adj1" fmla="val -47675"/>
              <a:gd name="adj2" fmla="val 443138"/>
              <a:gd name="adj3" fmla="val 16667"/>
            </a:avLst>
          </a:prstGeom>
          <a:solidFill>
            <a:srgbClr val="dbeef4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рамках личностно-ориентированных технологий самостоятельными направлениями вы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28840" y="2492280"/>
            <a:ext cx="6715080" cy="3500640"/>
          </a:xfrm>
          <a:prstGeom prst="beve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-455760" algn="ctr">
              <a:lnSpc>
                <a:spcPct val="100000"/>
              </a:lnSpc>
              <a:buClr>
                <a:srgbClr val="000000"/>
              </a:buClr>
              <a:buSzPct val="45000"/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уманно-личностны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 algn="ctr">
              <a:lnSpc>
                <a:spcPct val="100000"/>
              </a:lnSpc>
              <a:buClr>
                <a:srgbClr val="000000"/>
              </a:buClr>
              <a:buSzPct val="45000"/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хнология сотрудн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7120" y="476280"/>
            <a:ext cx="8534520" cy="5594400"/>
          </a:xfrm>
          <a:prstGeom prst="roundRect">
            <a:avLst>
              <a:gd name="adj" fmla="val 16667"/>
            </a:avLst>
          </a:prstGeom>
          <a:solidFill>
            <a:srgbClr val="ebe379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отличаются своей гуманистической сущностью, психологической направленностью при оказании помощи ребенку с ослабленным здоровьем, в период адаптации к условиям дошкольного образовательного учреждения. Снять психологическое напряжение помогает грамотно подобранная развивающая среда, мягкая мебель в групповой комнате, комнатные широколистные растения, украшающие помещение, игрушки, способствующие индивидуальным играм, оборудование для индивидуальных занятий. Музыкальный и физкультурный залы. Все это также способствует всестороннему уважению и любви к ребенку, веру в творческие силы, здесь нет прину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7120" y="0"/>
            <a:ext cx="8607600" cy="6858000"/>
          </a:xfrm>
          <a:prstGeom prst="roundRect">
            <a:avLst>
              <a:gd name="adj" fmla="val 16667"/>
            </a:avLst>
          </a:prstGeom>
          <a:solidFill>
            <a:srgbClr val="ebe379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зданная в нашей ДОО, в первой младшей группе  игровая предметная среда, является средством тренировки человеческих отношений, позволяя копировать их. Во время игры у детей мы (воспитатели) формируем  игровую позицию, соответствующую принятым в обществе нормам, правилам, способам поведения людей в различных ситуациях. Отобразительные  игры, например, «Кукла заболела»,    «Угостим куклу обедом», «Строим домик для щенка», «Магазин» и т.д. - помогают детям, в доступной для своего возраста форме, приобрести знания об окружающем мире, о поступках, чувствах и поведении человека в различных ситуациях, о профессиях, которыми может овладеть человек и о многом другом. Образовательная деятельность проводится нами (воспитателями) в игровой форме с применением нагляд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снова гуманного отношения к людям – способность к сопереживанию, к сочувствию – проявляется в самых разных жизненных ситуациях. Как в повседневной жизни, так и в специально организованных занятиях, беседах мы (воспитатели) работаем над развитием внимания и сопричастности к партнеру. Учим понимать разные эмоциональные состояния сверстника по мимике, жестам, позе. Воспитываем эмоциональную отзывчивость, умение сопереживать, сочув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