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5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364039-335B-45D9-9D84-34D6074BFDD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20CAA-0942-4DC4-98C8-91B8F1058CBE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7D510-A491-4FE4-BF41-836F3FAE1E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99553-56CF-4F0A-8068-0E5C8962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3253F-E760-421F-A17F-872CA322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3D0C9-20EA-4DF9-899D-4A390142CA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218C6B-0AAD-422B-8B1A-0857DFDC68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CEB4D-9364-487F-837E-D58F97C6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4E65B1-E5CA-4239-8275-9B6D427A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BB1F5-9505-454D-BE48-72742091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06C1DE-05FE-4530-917A-5C3420963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BDFC50-B58D-4A51-8F7E-7D55BEF3B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6384B9-657C-423B-B540-AB4607A0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8E686-8130-47F0-896B-3DB4FF03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53342-F8F7-44A7-A2E4-4AEEB690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2B7942-0531-4035-AF38-1BFBFE23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F708CA-C213-467B-83E3-C0276914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7495D4-D9E8-4C98-8DB1-3355968F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12017D-ED2A-40E6-BC0C-F7E9C5B3DA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2F3CA-2422-4CBD-93E7-8885B33A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FF393-E028-4B01-BED3-76BBE68E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DF255-132A-494A-B1C0-39034A463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0D13A-4A54-4F2D-8FD3-E824BFAF5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AB719-2AEA-41CE-A36F-036CD9F9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B8C4E-A0B8-44B3-B441-9C7F5D2D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89700-0F42-4511-A825-FB260B9E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.4.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070723-382C-4A9F-8288-DE90A3D0B14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18.4.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CC6C51E-EF40-4E02-BDE4-9C95D49E5D7E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24000" y="476280"/>
            <a:ext cx="842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73240" y="214200"/>
            <a:ext cx="705636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57200" y="500040"/>
            <a:ext cx="7000920" cy="22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дошкольное образовательное учреждение Центр развития ребёнка – детский сад «Солнышко» города Котовска Тамбов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00080" y="2857680"/>
            <a:ext cx="72295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Личностно-ориентированные технологии в ДО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14720" y="5143680"/>
            <a:ext cx="538164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спитатель: Загороднева Т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57120" y="476280"/>
            <a:ext cx="8607600" cy="6048360"/>
          </a:xfrm>
          <a:prstGeom prst="roundRect">
            <a:avLst>
              <a:gd name="adj" fmla="val 16667"/>
            </a:avLst>
          </a:prstGeom>
          <a:solidFill>
            <a:srgbClr val="ebe379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Технология сотрудничества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реализует принцип демократизации дошкольного образования, равенство в отношениях педагога с ребенком, партнерство в системе взаимоотношений 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«Взрослый - ребенок»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. Педагог и дети создают условия развивающей среды, изготавливают  подарки к праздникам. Совместно определяют разнообразную творческую деятельность 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(игры, труд, развлечения)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.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11280" y="189000"/>
            <a:ext cx="8208720" cy="626436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иды личностно-ориентированных технологи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сследовательская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– основной особенностью этой технологии является самостоятельное исследование матер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Коммуникативная (дискуссионная).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Характерностью этой технологии является присутствие дискутирования, характеризующегося разными взглядами по изучаемому вопросу, сравнением их, искание за счет рассмотрения правильной точки з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митационного моделирования.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собенностью этой технологии есть моделирование основных и очень важных профессиональных проблем в образовательном процессе и поиск способов их разреш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Деятельностная.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Особенной стороной этой технологии есть умение обучающегося рассчитывать намеченное действие, быть его субъек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ефлексивная.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Свойственной стороной этой технологии является понимание ребёнком работы: того каким путём получен успех, какие при этом появлялись проблемы, как они были ликвидированы, и что он испытывал при э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00000" y="333360"/>
            <a:ext cx="7532640" cy="5877000"/>
          </a:xfrm>
          <a:prstGeom prst="bevel">
            <a:avLst>
              <a:gd name="adj" fmla="val 12500"/>
            </a:avLst>
          </a:prstGeom>
          <a:solidFill>
            <a:srgbClr val="93cddd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Результат использования  личностно-ориентированных технологий –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тановление ребенка как лич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Это предполагает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-развитие доверия ребенка к миру, чувства радости (психологическое здоровье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-формирование начал личности (базис личностной культур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-развитие индивидуальности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333360"/>
            <a:ext cx="8229600" cy="57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428920" y="372960"/>
            <a:ext cx="4807080" cy="22640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d9d9d9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овременные педагогические технологии в дошкольном образовании направлены на реализацию государственных стандартов дошкольного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71720" y="2781360"/>
            <a:ext cx="6858000" cy="3433680"/>
          </a:xfrm>
          <a:prstGeom prst="horizontalScroll">
            <a:avLst>
              <a:gd name="adj" fmla="val 12500"/>
            </a:avLst>
          </a:prstGeom>
          <a:solidFill>
            <a:srgbClr val="bfbfbf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Личностно-ориентированная технология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 - это такая воспитательная система, в которой ребенок является высшей ценностью и ставится в центр воспитательно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55640" y="-19080"/>
            <a:ext cx="7848720" cy="2584440"/>
          </a:xfrm>
          <a:prstGeom prst="ellipse">
            <a:avLst/>
          </a:prstGeom>
          <a:solidFill>
            <a:srgbClr val="e6b9b8"/>
          </a:solidFill>
          <a:ln w="381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Цель личностно-ориентированной технологии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– заложить в ребенке механизмы самореализации, саморазвития, адаптации, саморегуляции, самозащиты, самовоспитания и другие, необходимые для становления самобытного личностного обр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2360" y="2565360"/>
            <a:ext cx="8640720" cy="4292640"/>
          </a:xfrm>
          <a:prstGeom prst="flowChartDocument">
            <a:avLst/>
          </a:prstGeom>
          <a:solidFill>
            <a:srgbClr val="f2dcdb"/>
          </a:solidFill>
          <a:ln w="38160">
            <a:solidFill>
              <a:srgbClr val="c0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- гуманистическая направленность содержания деятельности ДО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- обеспечение комфортных, бесконфликтных и безопасных условий развития личности ребёнка, реализация природных потенциалов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- приоритет личностных отнош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- создание условий для развития личности воспитанни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- индивидуальный подход к воспитанник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03280" y="2708280"/>
            <a:ext cx="6769080" cy="1150920"/>
          </a:xfrm>
          <a:prstGeom prst="ellipse">
            <a:avLst/>
          </a:prstGeom>
          <a:solidFill>
            <a:srgbClr val="d99694"/>
          </a:solidFill>
          <a:ln w="381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дачи личностно –ориентированной технолог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771640" y="4005360"/>
            <a:ext cx="6158160" cy="2495520"/>
          </a:xfrm>
          <a:prstGeom prst="wedgeRoundRectCallout">
            <a:avLst>
              <a:gd name="adj1" fmla="val -382458"/>
              <a:gd name="adj2" fmla="val -541370"/>
              <a:gd name="adj3" fmla="val 16667"/>
            </a:avLst>
          </a:prstGeom>
          <a:solidFill>
            <a:srgbClr val="b3a2c7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Задачей педагога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является оказание каждому ребенку помощи в раскрытии его внутреннего мира, предоставление ему дополнительной силы в поисках новых открытий и смыслов, в построении всесторонне развитой личности.  Использование различных форм организации детской деятельности дает положительные результаты для эт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240" y="23760"/>
            <a:ext cx="8645400" cy="26431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c8b3e9"/>
              </a:gs>
              <a:gs pos="100000">
                <a:srgbClr val="f1eaf8"/>
              </a:gs>
            </a:gsLst>
            <a:lin ang="16200000"/>
          </a:gradFill>
          <a:ln w="9360">
            <a:solidFill>
              <a:srgbClr val="7d5f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собенности личностно-ориентированной технолог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центре внимания личностно-ориентированных технологий – уникальная целостная личность растущего человека, которая стремится к максимальной реализации своих возможностей (самоактуализации, открыта для восприятия нового опыта, способна на осознанный и ответственный выбор в разнообразных жизненных ситуациях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9640" y="260280"/>
            <a:ext cx="8209080" cy="3168720"/>
          </a:xfrm>
          <a:prstGeom prst="flowChartDocument">
            <a:avLst/>
          </a:prstGeom>
          <a:solidFill>
            <a:srgbClr val="fdeada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Формы организации деятельности с применением личностно-ориентированной технологии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 разнообраз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- игры, занятия, спортивные мероприят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- беседы, наблюд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- экспериментальная  и проектная деятель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- упражнения,  гимнастика, массаж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- этюды, предметные и ролевые иг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- конкурсы и выставки детского твор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3429000"/>
            <a:ext cx="8208720" cy="331164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иемы личностно-ориентированного взаимодейств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- прием «Помоги» - потребность в своей значимости ребенок может реализовать, помогая игрушкам решать их пробле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- прием «Все вместе»  построен на желании ребенка чувствовать свою необходимость и значимость в коллективной работ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- прием «Отвлечение» направлен на отвлечение ребенка от горестных переживаний игрой, наблюдением за чем-либо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8000" y="115920"/>
            <a:ext cx="89946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ичностно-ориентированная технология базируется на следующих принципа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15880"/>
            <a:ext cx="9102600" cy="6342120"/>
          </a:xfrm>
          <a:custGeom>
            <a:avLst/>
            <a:gdLst>
              <a:gd name="textAreaLeft" fmla="*/ 747360 w 9102600"/>
              <a:gd name="textAreaRight" fmla="*/ 8355240 w 9102600"/>
              <a:gd name="textAreaTop" fmla="*/ 747360 h 6342120"/>
              <a:gd name="textAreaBottom" fmla="*/ 5594760 h 6342120"/>
            </a:gdLst>
            <a:ahLst/>
            <a:rect l="textAreaLeft" t="textAreaTop" r="textAreaRight" b="textAreaBottom"/>
            <a:pathLst>
              <a:path w="3100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7401" y="21600"/>
                </a:lnTo>
                <a:arcTo wR="3600" hR="3600" stAng="10800000" swAng="5400000"/>
                <a:lnTo>
                  <a:pt x="31001" y="3600"/>
                </a:lnTo>
                <a:arcTo wR="3600" hR="3600" stAng="5400000" swAng="5400000"/>
                <a:close/>
              </a:path>
            </a:pathLst>
          </a:custGeom>
          <a:solidFill>
            <a:srgbClr val="dce6f2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- 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ринцип самоактуальност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 (любой ребёнок принимается таким, каков он ест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 принцип индивидуальност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 (развитие индивидуальности в соответствии со способностями ребёнка, его психофизическим развитием, типом темперамента, особенностями характера, половой принадлежности..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- 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ринцип субъектност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 (использовать субъектный опыт ребёнка, создавать условия для того, чтобы ребёнок был субъектом своей деятельност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- 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ринцип выбора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 (предоставлять свободу выбора предметов и видов деятельности каждому ребёнку, способствовать развитию инициативност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- 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ринцип творчества и успеха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.  Индивидуальная и коллективная творческая деятельность позволяют определять и развивать индивидуальные особенности ребенка. Благодаря творчеству ребенок выявляет свои способности, узнает о «сильных» сторонах своей лич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- 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ринцип доверия и поддержк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. Вера в ребенка, доверие ему, поддержка его устремлений к самореализации и самоутверждению должны прийти на смену излишней требовательности и чрезмерного контроля. Не внешние воздействия, а внутренняя мотивация обусловливает успех обучения и воспитания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428920" y="357120"/>
            <a:ext cx="4714920" cy="1214640"/>
          </a:xfrm>
          <a:prstGeom prst="wedgeRoundRectCallout">
            <a:avLst>
              <a:gd name="adj1" fmla="val -47675"/>
              <a:gd name="adj2" fmla="val 443138"/>
              <a:gd name="adj3" fmla="val 16667"/>
            </a:avLst>
          </a:prstGeom>
          <a:solidFill>
            <a:srgbClr val="dbeef4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рамках личностно-ориентированных технологий самостоятельными направлениями выде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28840" y="2492280"/>
            <a:ext cx="6715080" cy="3500640"/>
          </a:xfrm>
          <a:prstGeom prst="bevel">
            <a:avLst>
              <a:gd name="adj" fmla="val 12500"/>
            </a:avLst>
          </a:prstGeom>
          <a:solidFill>
            <a:srgbClr val="93cddd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457200" indent="-455760" algn="ctr">
              <a:lnSpc>
                <a:spcPct val="100000"/>
              </a:lnSpc>
              <a:buClr>
                <a:srgbClr val="000000"/>
              </a:buClr>
              <a:buSzPct val="45000"/>
              <a:buFont typeface="Calibri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Гуманно-личностные техн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 algn="ctr">
              <a:lnSpc>
                <a:spcPct val="100000"/>
              </a:lnSpc>
              <a:buClr>
                <a:srgbClr val="000000"/>
              </a:buClr>
              <a:buSzPct val="45000"/>
              <a:buFont typeface="Calibri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Технология сотрудни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57120" y="476280"/>
            <a:ext cx="8534520" cy="5594400"/>
          </a:xfrm>
          <a:prstGeom prst="roundRect">
            <a:avLst>
              <a:gd name="adj" fmla="val 16667"/>
            </a:avLst>
          </a:prstGeom>
          <a:solidFill>
            <a:srgbClr val="ebe379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Гуманно-личностные технологии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, отличаются своей гуманистической сущностью, психологической направленностью при оказании помощи ребенку с ослабленным здоровьем, в период адаптации к условиям дошкольного образовательного учреждения. Снять психологическое напряжение помогает грамотно подобранная развивающая среда, мягкая мебель в групповой комнате, комнатные широколистные растения, украшающие помещение, игрушки, способствующие индивидуальным играм, оборудование для индивидуальных занятий. Музыкальный и физкультурный залы. Все это также способствует всестороннему уважению и любви к ребенку, веру в творческие силы, здесь нет принужд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57120" y="0"/>
            <a:ext cx="8607600" cy="6858000"/>
          </a:xfrm>
          <a:prstGeom prst="roundRect">
            <a:avLst>
              <a:gd name="adj" fmla="val 16667"/>
            </a:avLst>
          </a:prstGeom>
          <a:solidFill>
            <a:srgbClr val="ebe379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озданная в нашей ДОО, в первой младшей группе  игровая предметная среда, является средством тренировки человеческих отношений, позволяя копировать их. Во время игры у детей мы (воспитатели) формируем  игровую позицию, соответствующую принятым в обществе нормам, правилам, способам поведения людей в различных ситуациях. Отобразительные  игры, например, «Кукла заболела»,    «Угостим куклу обедом», «Строим домик для щенка», «Магазин» и т.д. - помогают детям, в доступной для своего возраста форме, приобрести знания об окружающем мире, о поступках, чувствах и поведении человека в различных ситуациях, о профессиях, которыми может овладеть человек и о многом другом. Образовательная деятельность проводится нами (воспитателями) в игровой форме с применением наглядного материа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снова гуманного отношения к людям – способность к сопереживанию, к сочувствию – проявляется в самых разных жизненных ситуациях. Как в повседневной жизни, так и в специально организованных занятиях, беседах мы (воспитатели) работаем над развитием внимания и сопричастности к партнеру. Учим понимать разные эмоциональные состояния сверстника по мимике, жестам, позе. Воспитываем эмоциональную отзывчивость, умение сопереживать, сочувствов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