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42E-54B9-4647-93A4-1DB5CCB2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58E-0135-4E95-A40F-1A9AD88E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DE8-BFBF-4CE1-93EA-8CFE38FD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262-6D77-4DF0-AC2B-164CD9E9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90D-6B25-4F0E-9FBA-113368A9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B5D-1870-4524-A5CE-2D3D369A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47C-BFAC-42DD-AFC7-7A4E85EE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3BD-5466-47BC-ACF4-E113C13F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E5D-6E27-4A97-A3D7-9139981A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EF1-9F1D-4286-94CE-3DA4E7F8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4D9-397A-4A8D-B88F-1BD1EB9F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EC6-E6D6-4944-BBB7-AED65141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B60E-4A49-440E-9081-133BBBAC8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533320" y="3246480"/>
            <a:ext cx="40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лицей села ВЕРХНИЙ МА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9"/>
          <p:cNvSpPr txBox="1"/>
          <p:nvPr/>
        </p:nvSpPr>
        <p:spPr>
          <a:xfrm>
            <a:off x="304920" y="1905120"/>
            <a:ext cx="86104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й   родной   край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радуга"/>
          <p:cNvPicPr/>
          <p:nvPr/>
        </p:nvPicPr>
        <p:blipFill>
          <a:blip r:embed="rId1"/>
          <a:stretch/>
        </p:blipFill>
        <p:spPr>
          <a:xfrm>
            <a:off x="339840" y="380880"/>
            <a:ext cx="858996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C:\Documents and Settings\123\Мои документы\Мои рисунки\Don.jpg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18184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хлеб"/>
          <p:cNvPicPr/>
          <p:nvPr/>
        </p:nvPicPr>
        <p:blipFill>
          <a:blip r:embed="rId2"/>
          <a:stretch/>
        </p:blipFill>
        <p:spPr>
          <a:xfrm>
            <a:off x="3733920" y="2271600"/>
            <a:ext cx="4967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Герб1"/>
          <p:cNvPicPr/>
          <p:nvPr/>
        </p:nvPicPr>
        <p:blipFill>
          <a:blip r:embed="rId1"/>
          <a:stretch/>
        </p:blipFill>
        <p:spPr>
          <a:xfrm>
            <a:off x="0" y="0"/>
            <a:ext cx="3505320" cy="53341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581280" y="273240"/>
            <a:ext cx="5334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еребр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символ веры, чистоты, искренности,  невинност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Лазур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синий, голубой) - символ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асоты, любви,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елё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символ радости, жизни, изобилия,  природы и плодородия, а также юност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Червлен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красный) - символ труда, мужества, самоотверженности, праздника, красоты, солнца и тепл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57200" y="455436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ерб утвержден решением Совета народных депутатов Верхнемамонского муниципального района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21.08.2006 № 53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есен в Государственный геральдический регистр Российской Федерации под № 2586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8"/>
          <p:cNvSpPr txBox="1"/>
          <p:nvPr/>
        </p:nvSpPr>
        <p:spPr>
          <a:xfrm>
            <a:off x="152280" y="0"/>
            <a:ext cx="8991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т мы и закончили рассказ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  Гербе  Верхнемамонского  района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0" y="41551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колько ещё загадок и тайн хранит наша страна о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 бы узнавать её больше и больше мы должны каждый день познавать, что то ново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 наши учителя нам в этом помог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5070003"/>
          <p:cNvPicPr/>
          <p:nvPr/>
        </p:nvPicPr>
        <p:blipFill>
          <a:blip r:embed="rId1"/>
          <a:stretch/>
        </p:blipFill>
        <p:spPr>
          <a:xfrm>
            <a:off x="0" y="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762120" y="129564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сть, возможно, уголок красив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сть богаче, шире есть кр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о из всей моей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лиже к сердцу Родина мо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ждое государство, город имеют свою неповторимую символику. Вот и наше небольшое село имеет свою символик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мволика – это то, что отличает населенные пункты друг от друга. Символы населенных пунктов тесно связаны с историей места, где они возник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999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берёз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ыков"/>
          <p:cNvPicPr/>
          <p:nvPr/>
        </p:nvPicPr>
        <p:blipFill>
          <a:blip r:embed="rId2"/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3"/>
          <a:stretch/>
        </p:blipFill>
        <p:spPr>
          <a:xfrm>
            <a:off x="122400" y="285840"/>
            <a:ext cx="8643600" cy="9824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4"/>
          <a:stretch/>
        </p:blipFill>
        <p:spPr>
          <a:xfrm>
            <a:off x="-73080" y="1463760"/>
            <a:ext cx="8931240" cy="48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alibri"/>
              </a:rPr>
              <a:t>Обо всем, что               любо н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alibri"/>
              </a:rPr>
              <a:t>Обо всем, что дор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alibri"/>
              </a:rPr>
              <a:t>Герб нам может рассказ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alibri"/>
              </a:rPr>
              <a:t>Увлекательно и коротко</a:t>
            </a:r>
            <a:r>
              <a:rPr b="1" i="1" lang="ru-RU" sz="24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457200" y="30492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рб Верхнемамонского района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2" descr="Герб1"/>
          <p:cNvPicPr/>
          <p:nvPr/>
        </p:nvPicPr>
        <p:blipFill>
          <a:blip r:embed="rId1"/>
          <a:stretch/>
        </p:blipFill>
        <p:spPr>
          <a:xfrm>
            <a:off x="4572000" y="1447920"/>
            <a:ext cx="4191120" cy="46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Герб1"/>
          <p:cNvPicPr/>
          <p:nvPr/>
        </p:nvPicPr>
        <p:blipFill>
          <a:blip r:embed="rId2"/>
          <a:stretch/>
        </p:blipFill>
        <p:spPr>
          <a:xfrm>
            <a:off x="4572000" y="1447920"/>
            <a:ext cx="419112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б языком символов  отражает исторические, природные и экономические особенности Вернемамонского района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хнемамонский район расположен на юге Воронежской области. Районный центр -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ело Верхний Мамо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названо по небольшой реч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амоновк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левому притоку Дона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речка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элемент герба - два красных флага (знамени). Знамёна - символ победы, воинской и трудовой славы - олицетворяют  трудовые подвиги жителей рай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хнемамонский район неоднократно награждался переходящим Красным знамен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533520" y="0"/>
            <a:ext cx="8153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основание  символики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Герб1"/>
          <p:cNvPicPr/>
          <p:nvPr/>
        </p:nvPicPr>
        <p:blipFill>
          <a:blip r:embed="rId1"/>
          <a:stretch/>
        </p:blipFill>
        <p:spPr>
          <a:xfrm>
            <a:off x="4572000" y="160020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Герб1"/>
          <p:cNvPicPr/>
          <p:nvPr/>
        </p:nvPicPr>
        <p:blipFill>
          <a:blip r:embed="rId2"/>
          <a:stretch/>
        </p:blipFill>
        <p:spPr>
          <a:xfrm>
            <a:off x="4572000" y="16002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PICT2921.JPG"/>
          <p:cNvPicPr/>
          <p:nvPr/>
        </p:nvPicPr>
        <p:blipFill>
          <a:blip r:embed="rId1"/>
          <a:stretch/>
        </p:blipFill>
        <p:spPr>
          <a:xfrm>
            <a:off x="4572000" y="1000080"/>
            <a:ext cx="4071960" cy="5643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осетровка.jpg"/>
          <p:cNvPicPr/>
          <p:nvPr/>
        </p:nvPicPr>
        <p:blipFill>
          <a:blip r:embed="rId2"/>
          <a:stretch/>
        </p:blipFill>
        <p:spPr>
          <a:xfrm>
            <a:off x="214200" y="928800"/>
            <a:ext cx="4000680" cy="5643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етровский плацдар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кошенное начетверо деление щита с одной стороны обозначают природные и сельскохозяйственные угодья райо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другой стороны - это  изображение песочных часов, олицетворяют  движение вперед и устремление в будущее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олото в геральдике - символ божественного сияния, благодати, величия, богатства, постоянства, прочности, силы, великодушия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9" descr="Герб1"/>
          <p:cNvPicPr/>
          <p:nvPr/>
        </p:nvPicPr>
        <p:blipFill>
          <a:blip r:embed="rId1"/>
          <a:stretch/>
        </p:blipFill>
        <p:spPr>
          <a:xfrm>
            <a:off x="4876920" y="1371600"/>
            <a:ext cx="4114800" cy="518148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685800" y="228600"/>
            <a:ext cx="77724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ИСАНИЕ ГЕРБ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6:47:29Z</dcterms:created>
  <dc:creator>ЛЁНЯ</dc:creator>
  <dc:description/>
  <dc:language>en-US</dc:language>
  <cp:lastModifiedBy>adm</cp:lastModifiedBy>
  <dcterms:modified xsi:type="dcterms:W3CDTF">2023-04-18T19:25:3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