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14C-48D8-4B90-9CDF-88D4E406B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1BEC-C57B-44BC-8EB1-BE79ECC9B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D55-F69B-467F-A57D-61B82656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213-F4CD-406E-9E8B-F6902996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1A7-9A25-4677-B0D2-3490DEF3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A3B-9FF0-40DD-A97D-863EB31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848-D315-4F09-AE7E-47CC9558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12D7-9698-4FA6-848E-3F654D1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D00-9B0D-4B96-8B9D-798D2D4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FDD-BF03-4ED9-ABDA-1EE306C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D64D-E568-4F52-8380-B70B8F0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2F6C-9A18-40F7-8080-F33C45FB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1E5-A4E2-4E74-8C9D-B4F858E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65E-57F4-45CA-BBE0-DDF84F6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E1C8-6E13-4391-95E7-493E97F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78EE-8B8B-40A6-91A2-5CA1A13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4CAF-23A5-476F-B759-DBBEB38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BC0-66F6-4691-B213-C222D535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248-04E9-4019-A491-EC31C247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966-E52E-4367-86B3-DD821A6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741-3F2E-4C4D-BF74-E538ED62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994-26D6-4A7F-9B40-A4A265DB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A17-0B55-4ACB-BF4B-0CD146E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5D9-6C04-46A1-9284-56CF8B8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B74-2A6C-4E16-A79B-151CA5A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507-22C1-49FF-B506-FF8CBEC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E0F-556F-4A78-8303-7D5BB782A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74D-91BD-47C5-AB41-7D173A03E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 rot="10800000">
            <a:off x="10260000" y="-720"/>
            <a:ext cx="50472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6"/>
          <p:cNvSpPr/>
          <p:nvPr/>
        </p:nvSpPr>
        <p:spPr>
          <a:xfrm flipH="1" flipV="1">
            <a:off x="4984920" y="620640"/>
            <a:ext cx="45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79280" y="-2295360"/>
            <a:ext cx="8964720" cy="83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АЯ  НАУЧНО-ПРАКТИЧЕСКАЯ  КОНФЕРЕНЦИЯ С МЕЖДУНАРОДНЫМ УЧАСТИЕМ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Я И ПЕДАГОГИКА ОБРАЗОВАТЕЛЬН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УЧАЩИХСЯ ШКОЛ И СТУДЕНТОВ: ИДЕИ,  НАПРАВЛЕНИЯ, ОПЫ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преля 2023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ва Марина Иван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атегор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пециальная № 8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е подходы к профилактике ДДТ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, Кемеровская область-Кузбасс, г. Новокузнец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Users\Samsung\Desktop\img-20221017-wa0018.jpg"/>
          <p:cNvPicPr/>
          <p:nvPr/>
        </p:nvPicPr>
        <p:blipFill>
          <a:blip r:embed="rId1"/>
          <a:stretch/>
        </p:blipFill>
        <p:spPr>
          <a:xfrm>
            <a:off x="2411280" y="2997360"/>
            <a:ext cx="451656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82520" y="117648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395280" y="1700280"/>
            <a:ext cx="8497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инг  выявленных нарушений ПДД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0- 2021   учебный год/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1- 2022   учебный год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22 – 2023    учебный год/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Сценарий досуга &quot;Внимательный пешеход&quot; - edu.convdocs.org"/>
          <p:cNvPicPr/>
          <p:nvPr/>
        </p:nvPicPr>
        <p:blipFill>
          <a:blip r:embed="rId1"/>
          <a:stretch/>
        </p:blipFill>
        <p:spPr>
          <a:xfrm>
            <a:off x="0" y="3666960"/>
            <a:ext cx="2394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826920" y="189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Samsung\Desktop\ыыыыыыыыыыыыыыыыыыыыыыыыыыыыыыыыыыыыыыыыыыыыыыыыыыыыы.jpg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83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Samsung\Desktop\IMG-20221013-WA0003.jpg"/>
          <p:cNvPicPr/>
          <p:nvPr/>
        </p:nvPicPr>
        <p:blipFill>
          <a:blip r:embed="rId2"/>
          <a:stretch/>
        </p:blipFill>
        <p:spPr>
          <a:xfrm>
            <a:off x="468360" y="1268280"/>
            <a:ext cx="8351640" cy="547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:\Users\Samsung\Desktop\IMG-20221125-WA0015.jpg"/>
          <p:cNvPicPr/>
          <p:nvPr/>
        </p:nvPicPr>
        <p:blipFill>
          <a:blip r:embed="rId2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81440" y="-360"/>
            <a:ext cx="93250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обучаю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C:\Users\Samsung\Desktop\IMG-20221122-WA0011.jpg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0"/>
            <a:ext cx="770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59640" cy="489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rcRect l="24012" t="0" r="0" b="8003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МКОУ «Специальная школ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№ 80» с учреждениями г. Новокузнецка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хема 3" descr=""/>
          <p:cNvPicPr/>
          <p:nvPr/>
        </p:nvPicPr>
        <p:blipFill>
          <a:blip r:embed="rId2"/>
          <a:stretch/>
        </p:blipFill>
        <p:spPr>
          <a:xfrm>
            <a:off x="676440" y="1468440"/>
            <a:ext cx="7645320" cy="48592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5"/>
          <p:cNvGrpSpPr/>
          <p:nvPr/>
        </p:nvGrpSpPr>
        <p:grpSpPr>
          <a:xfrm>
            <a:off x="5796000" y="3645000"/>
            <a:ext cx="1469880" cy="1469880"/>
            <a:chOff x="5796000" y="3645000"/>
            <a:chExt cx="1469880" cy="1469880"/>
          </a:xfrm>
        </p:grpSpPr>
        <p:sp>
          <p:nvSpPr>
            <p:cNvPr id="118" name="Овал 6"/>
            <p:cNvSpPr/>
            <p:nvPr/>
          </p:nvSpPr>
          <p:spPr>
            <a:xfrm>
              <a:off x="5796000" y="3645000"/>
              <a:ext cx="1469880" cy="1469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6"/>
            <p:cNvSpPr/>
            <p:nvPr/>
          </p:nvSpPr>
          <p:spPr>
            <a:xfrm>
              <a:off x="6011640" y="386064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" rIns="7560" tIns="7560" bIns="75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МБ ДО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д/с № 1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0"/>
          <p:cNvGrpSpPr/>
          <p:nvPr/>
        </p:nvGrpSpPr>
        <p:grpSpPr>
          <a:xfrm>
            <a:off x="5122440" y="4128120"/>
            <a:ext cx="1131480" cy="317880"/>
            <a:chOff x="5122440" y="4128120"/>
            <a:chExt cx="1131480" cy="317880"/>
          </a:xfrm>
        </p:grpSpPr>
        <p:sp>
          <p:nvSpPr>
            <p:cNvPr id="121" name="Прямая соединительная линия 3"/>
            <p:cNvSpPr/>
            <p:nvPr/>
          </p:nvSpPr>
          <p:spPr>
            <a:xfrm rot="21456600">
              <a:off x="5127480" y="4151160"/>
              <a:ext cx="1121040" cy="2714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94842" h="37497">
                  <a:moveTo>
                    <a:pt x="0" y="18748"/>
                  </a:moveTo>
                  <a:lnTo>
                    <a:pt x="694842" y="18748"/>
                  </a:lnTo>
                </a:path>
              </a:pathLst>
            </a:custGeom>
            <a:noFill/>
            <a:ln w="25560">
              <a:solidFill>
                <a:srgbClr val="3d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4"/>
            <p:cNvSpPr/>
            <p:nvPr/>
          </p:nvSpPr>
          <p:spPr>
            <a:xfrm rot="21456600">
              <a:off x="5659200" y="4160160"/>
              <a:ext cx="568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44160" y="909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0"/>
            <a:ext cx="770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педагогическим состав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7" descr="http://detsad-kalinka.ru/wp-content/uploads/2015/10/igra-pdd-02.jpg"/>
          <p:cNvPicPr/>
          <p:nvPr/>
        </p:nvPicPr>
        <p:blipFill>
          <a:blip r:embed="rId1"/>
          <a:stretch/>
        </p:blipFill>
        <p:spPr>
          <a:xfrm>
            <a:off x="11988720" y="5661000"/>
            <a:ext cx="14828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Samsung\Desktop\IMG-20221102-WA0008(1).jpg"/>
          <p:cNvPicPr/>
          <p:nvPr/>
        </p:nvPicPr>
        <p:blipFill>
          <a:blip r:embed="rId2"/>
          <a:stretch/>
        </p:blipFill>
        <p:spPr>
          <a:xfrm>
            <a:off x="826920" y="1341360"/>
            <a:ext cx="7777440" cy="518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достижения</a:t>
            </a:r>
            <a:br>
              <a:rPr sz="4000"/>
            </a:br>
            <a:r>
              <a:rPr b="0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03280" y="5589720"/>
          <a:ext cx="3092400" cy="371520"/>
        </p:xfrm>
        <a:graphic>
          <a:graphicData uri="http://schemas.openxmlformats.org/drawingml/2006/table">
            <a:tbl>
              <a:tblPr/>
              <a:tblGrid>
                <a:gridCol w="3092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" descr="https://school80.edu42.ru/wp-content/uploads/sites/19/2022/04/f76838c8-dba9-46d7-ad0a-0e44a427e913.jpg"/>
          <p:cNvPicPr/>
          <p:nvPr/>
        </p:nvPicPr>
        <p:blipFill>
          <a:blip r:embed="rId1"/>
          <a:stretch/>
        </p:blipFill>
        <p:spPr>
          <a:xfrm>
            <a:off x="539640" y="141300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Samsung</cp:lastModifiedBy>
  <cp:lastPrinted>2014-11-17T09:06:08Z</cp:lastPrinted>
  <dcterms:modified xsi:type="dcterms:W3CDTF">2023-04-18T08:56:00Z</dcterms:modified>
  <cp:revision>644</cp:revision>
  <dc:subject/>
  <dc:title>Слайд 1</dc:title>
</cp:coreProperties>
</file>