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D399-32A1-422C-9371-8F4788964D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B0C0-52C2-45A6-8959-8E240A53E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9B4-B021-4D99-92EC-19B72CD1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5D7-5AA3-4A94-8614-F48EE58B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58F-8290-4185-AE51-FE55A3C8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5ED-AC63-4F60-BF40-C73D1296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E94F-B4D7-4A70-AEE8-F0C89772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9CFA-4641-4D42-9EF6-540445A9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B857-C582-4561-A56E-7D42C0BE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BB9E-6B40-4D51-AF54-E756A61F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C78C-D8E5-431C-A7D6-F6DD4D6C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3B10-AFAC-47DA-82AE-837F619B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1A70-A083-42E5-B3BA-2078C329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070-304B-4E6E-9581-4251728B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3688-5D2B-4380-8A86-6DF90A9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28B3-6A02-454D-937F-CAEEE4E3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4580-6670-48E9-B7D5-4AD69587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3B3A-F078-4213-A581-E4E2ECC6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ECF5-1DF9-4A1D-9135-59212248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18D-BBD4-45B5-908F-53DE85B9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815-28C3-40E5-B7BC-4EF5697D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988-829F-4DC0-81D9-AE757595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3F6-4231-4D78-A70B-04113A20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FE6-35C2-474A-B99A-B14C809F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A52-9EFC-4B66-BEEC-9656A60E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B4B-AAC2-4317-A42F-5DE734A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F10F-FC4F-4547-8831-A84D349EC6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0B5A-C9D1-46A2-A00C-EAC4242C29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 rot="10800000">
            <a:off x="10260000" y="-720"/>
            <a:ext cx="50472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6"/>
          <p:cNvSpPr/>
          <p:nvPr/>
        </p:nvSpPr>
        <p:spPr>
          <a:xfrm flipH="1" flipV="1">
            <a:off x="4984920" y="620640"/>
            <a:ext cx="45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179280" y="-2295360"/>
            <a:ext cx="8964720" cy="83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АЯ  НАУЧНО-ПРАКТИЧЕСКАЯ  КОНФЕРЕНЦИЯ С МЕЖДУНАРОДНЫМ УЧАСТИЕМ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СИХОЛОГИЯ И ПЕДАГОГИКА ОБРАЗОВАТЕЛЬНО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УЧАЩИХСЯ ШКОЛ И СТУДЕНТОВ: ИДЕИ,  НАПРАВЛЕНИЯ, ОПЫ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апреля 2023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ва Марина Ивано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ысшей категор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пециальная № 8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ременные подходы к профилактике ДДТ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ограниченными возможностями здоровь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, Кемеровская область-Кузбасс, г. Новокузнец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:\Users\Samsung\Desktop\img-20221017-wa0018.jpg"/>
          <p:cNvPicPr/>
          <p:nvPr/>
        </p:nvPicPr>
        <p:blipFill>
          <a:blip r:embed="rId1"/>
          <a:stretch/>
        </p:blipFill>
        <p:spPr>
          <a:xfrm>
            <a:off x="2411280" y="2997360"/>
            <a:ext cx="4516560" cy="36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82520" y="117648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395280" y="1700280"/>
            <a:ext cx="8497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иторинг  выявленных нарушений ПДД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020- 2021   учебный год/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021- 2022   учебный год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022 – 2023    учебный год/ 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Сценарий досуга &quot;Внимательный пешеход&quot; - edu.convdocs.org"/>
          <p:cNvPicPr/>
          <p:nvPr/>
        </p:nvPicPr>
        <p:blipFill>
          <a:blip r:embed="rId1"/>
          <a:stretch/>
        </p:blipFill>
        <p:spPr>
          <a:xfrm>
            <a:off x="0" y="3666960"/>
            <a:ext cx="2394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826920" y="18900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обучающими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Samsung\Desktop\ыыыыыыыыыыыыыыыыыыыыыыыыыыыыыыыыыыыыыыыыыыыыыыыыыыыыы.jpg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183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181440" y="-360"/>
            <a:ext cx="932508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обучающим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7" descr="http://detsad-kalinka.ru/wp-content/uploads/2015/10/igra-pdd-02.jpg"/>
          <p:cNvPicPr/>
          <p:nvPr/>
        </p:nvPicPr>
        <p:blipFill>
          <a:blip r:embed="rId1"/>
          <a:stretch/>
        </p:blipFill>
        <p:spPr>
          <a:xfrm>
            <a:off x="11988720" y="5661000"/>
            <a:ext cx="1482840" cy="863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:\Users\Samsung\Desktop\IMG-20221013-WA0003.jpg"/>
          <p:cNvPicPr/>
          <p:nvPr/>
        </p:nvPicPr>
        <p:blipFill>
          <a:blip r:embed="rId2"/>
          <a:stretch/>
        </p:blipFill>
        <p:spPr>
          <a:xfrm>
            <a:off x="468360" y="1268280"/>
            <a:ext cx="8351640" cy="547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181440" y="-360"/>
            <a:ext cx="932508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обучающим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7" descr="http://detsad-kalinka.ru/wp-content/uploads/2015/10/igra-pdd-02.jpg"/>
          <p:cNvPicPr/>
          <p:nvPr/>
        </p:nvPicPr>
        <p:blipFill>
          <a:blip r:embed="rId1"/>
          <a:stretch/>
        </p:blipFill>
        <p:spPr>
          <a:xfrm>
            <a:off x="11988720" y="5661000"/>
            <a:ext cx="1482840" cy="8636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:\Users\Samsung\Desktop\IMG-20221125-WA0015.jpg"/>
          <p:cNvPicPr/>
          <p:nvPr/>
        </p:nvPicPr>
        <p:blipFill>
          <a:blip r:embed="rId2"/>
          <a:stretch/>
        </p:blipFill>
        <p:spPr>
          <a:xfrm>
            <a:off x="324000" y="1484280"/>
            <a:ext cx="8569080" cy="511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181440" y="-360"/>
            <a:ext cx="932508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обучающим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7" descr="http://detsad-kalinka.ru/wp-content/uploads/2015/10/igra-pdd-02.jpg"/>
          <p:cNvPicPr/>
          <p:nvPr/>
        </p:nvPicPr>
        <p:blipFill>
          <a:blip r:embed="rId1"/>
          <a:stretch/>
        </p:blipFill>
        <p:spPr>
          <a:xfrm>
            <a:off x="11988720" y="5661000"/>
            <a:ext cx="1482840" cy="863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C:\Users\Samsung\Desktop\IMG-20221122-WA0011.jpg"/>
          <p:cNvPicPr/>
          <p:nvPr/>
        </p:nvPicPr>
        <p:blipFill>
          <a:blip r:embed="rId2"/>
          <a:stretch/>
        </p:blipFill>
        <p:spPr>
          <a:xfrm>
            <a:off x="539640" y="1557360"/>
            <a:ext cx="8209080" cy="496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0"/>
            <a:ext cx="770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7" descr="http://detsad-kalinka.ru/wp-content/uploads/2015/10/igra-pdd-02.jpg"/>
          <p:cNvPicPr/>
          <p:nvPr/>
        </p:nvPicPr>
        <p:blipFill>
          <a:blip r:embed="rId1"/>
          <a:stretch/>
        </p:blipFill>
        <p:spPr>
          <a:xfrm>
            <a:off x="11988720" y="5661000"/>
            <a:ext cx="1482840" cy="8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559640" cy="489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rcRect l="24012" t="0" r="0" b="8003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аимодействие МКОУ «Специальная школа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№ 80» с учреждениями г. Новокузнецка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хема 3" descr=""/>
          <p:cNvPicPr/>
          <p:nvPr/>
        </p:nvPicPr>
        <p:blipFill>
          <a:blip r:embed="rId2"/>
          <a:stretch/>
        </p:blipFill>
        <p:spPr>
          <a:xfrm>
            <a:off x="676440" y="1468440"/>
            <a:ext cx="7645320" cy="485928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5"/>
          <p:cNvGrpSpPr/>
          <p:nvPr/>
        </p:nvGrpSpPr>
        <p:grpSpPr>
          <a:xfrm>
            <a:off x="5796000" y="3645000"/>
            <a:ext cx="1469880" cy="1469880"/>
            <a:chOff x="5796000" y="3645000"/>
            <a:chExt cx="1469880" cy="1469880"/>
          </a:xfrm>
        </p:grpSpPr>
        <p:sp>
          <p:nvSpPr>
            <p:cNvPr id="118" name="Овал 6"/>
            <p:cNvSpPr/>
            <p:nvPr/>
          </p:nvSpPr>
          <p:spPr>
            <a:xfrm>
              <a:off x="5796000" y="3645000"/>
              <a:ext cx="1469880" cy="1469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Овал 6"/>
            <p:cNvSpPr/>
            <p:nvPr/>
          </p:nvSpPr>
          <p:spPr>
            <a:xfrm>
              <a:off x="6011640" y="3860640"/>
              <a:ext cx="103824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" rIns="7560" tIns="7560" bIns="75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МБ ДОУ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д/с № 1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10"/>
          <p:cNvGrpSpPr/>
          <p:nvPr/>
        </p:nvGrpSpPr>
        <p:grpSpPr>
          <a:xfrm>
            <a:off x="5122440" y="4128120"/>
            <a:ext cx="1131480" cy="317880"/>
            <a:chOff x="5122440" y="4128120"/>
            <a:chExt cx="1131480" cy="317880"/>
          </a:xfrm>
        </p:grpSpPr>
        <p:sp>
          <p:nvSpPr>
            <p:cNvPr id="121" name="Прямая соединительная линия 3"/>
            <p:cNvSpPr/>
            <p:nvPr/>
          </p:nvSpPr>
          <p:spPr>
            <a:xfrm rot="21456600">
              <a:off x="5127480" y="4151160"/>
              <a:ext cx="1121040" cy="27144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694842" h="37497">
                  <a:moveTo>
                    <a:pt x="0" y="18748"/>
                  </a:moveTo>
                  <a:lnTo>
                    <a:pt x="694842" y="18748"/>
                  </a:lnTo>
                </a:path>
              </a:pathLst>
            </a:custGeom>
            <a:noFill/>
            <a:ln w="25560">
              <a:solidFill>
                <a:srgbClr val="3d6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ая соединительная линия 4"/>
            <p:cNvSpPr/>
            <p:nvPr/>
          </p:nvSpPr>
          <p:spPr>
            <a:xfrm rot="21456600">
              <a:off x="5659200" y="4160160"/>
              <a:ext cx="568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0"/>
            <a:ext cx="770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педагогическим состав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7" descr="http://detsad-kalinka.ru/wp-content/uploads/2015/10/igra-pdd-02.jpg"/>
          <p:cNvPicPr/>
          <p:nvPr/>
        </p:nvPicPr>
        <p:blipFill>
          <a:blip r:embed="rId1"/>
          <a:stretch/>
        </p:blipFill>
        <p:spPr>
          <a:xfrm>
            <a:off x="11988720" y="5661000"/>
            <a:ext cx="148284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Samsung\Desktop\IMG-20221102-WA0008(1).jpg"/>
          <p:cNvPicPr/>
          <p:nvPr/>
        </p:nvPicPr>
        <p:blipFill>
          <a:blip r:embed="rId2"/>
          <a:stretch/>
        </p:blipFill>
        <p:spPr>
          <a:xfrm>
            <a:off x="826920" y="1341360"/>
            <a:ext cx="7777440" cy="518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и достижения</a:t>
            </a:r>
            <a:br>
              <a:rPr sz="4000"/>
            </a:br>
            <a:r>
              <a:rPr b="0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 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03280" y="5589720"/>
          <a:ext cx="3092400" cy="371520"/>
        </p:xfrm>
        <a:graphic>
          <a:graphicData uri="http://schemas.openxmlformats.org/drawingml/2006/table">
            <a:tbl>
              <a:tblPr/>
              <a:tblGrid>
                <a:gridCol w="3092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129" name="Picture 2" descr="https://school80.edu42.ru/wp-content/uploads/sites/19/2022/04/f76838c8-dba9-46d7-ad0a-0e44a427e913.jpg"/>
          <p:cNvPicPr/>
          <p:nvPr/>
        </p:nvPicPr>
        <p:blipFill>
          <a:blip r:embed="rId1"/>
          <a:stretch/>
        </p:blipFill>
        <p:spPr>
          <a:xfrm>
            <a:off x="539640" y="1413000"/>
            <a:ext cx="8280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Samsung</cp:lastModifiedBy>
  <cp:lastPrinted>2014-11-17T09:06:08Z</cp:lastPrinted>
  <dcterms:modified xsi:type="dcterms:W3CDTF">2023-04-18T08:56:00Z</dcterms:modified>
  <cp:revision>644</cp:revision>
  <dc:subject/>
  <dc:title>Слайд 1</dc:title>
</cp:coreProperties>
</file>