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3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9.png" ContentType="image/png"/>
  <Override PartName="/ppt/media/image38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3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6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0.jpeg" ContentType="image/jpeg"/>
  <Override PartName="/ppt/media/image29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CCC2-FA61-415C-9E4E-EAA5324E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3CB5-28D4-4009-BAED-1762DBA5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91ED-2852-4A2E-B2A1-63A968CC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061D-6CCB-4A7C-9A54-AC349DD3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E4C1-E30B-4899-A927-7A9238CE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5A13-2D0B-40F9-BC06-9522A849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D5A8-D535-4C7A-8ED3-4CC4B38A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8E9D-280D-438A-A801-0B79243F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76D9-EEE3-4F96-A3D8-138DA0F9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D0F9-109D-4A53-8F46-E238A92B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BC1F-B4A2-4684-BBD5-D6E9FB5D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DC21-9966-4CF5-A130-27E25EEC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CD64-6F9E-4A4C-B6A8-5F93F56D17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image" Target="../media/image32.jpeg"/><Relationship Id="rId6" Type="http://schemas.openxmlformats.org/officeDocument/2006/relationships/image" Target="../media/image32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IMG12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468360" y="189000"/>
            <a:ext cx="842472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ервое октябр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Классная работ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e9b"/>
            </a:gs>
            <a:gs pos="50000">
              <a:srgbClr val="ffffff"/>
            </a:gs>
            <a:gs pos="100000">
              <a:srgbClr val="ffde9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{4E9E6619-57FF-4351-BCAE-3F15BA9D312E}"/>
          <p:cNvPicPr/>
          <p:nvPr/>
        </p:nvPicPr>
        <p:blipFill>
          <a:blip r:embed="rId1"/>
          <a:stretch/>
        </p:blipFill>
        <p:spPr>
          <a:xfrm>
            <a:off x="250920" y="404640"/>
            <a:ext cx="4176720" cy="5543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3995640" cy="4942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>
            <a:off x="4543560" y="258480"/>
            <a:ext cx="46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ероглифическое письм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хранилось на гробницах                  и стенах хра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ffffff"/>
            </a:gs>
            <a:gs pos="100000">
              <a:srgbClr val="e5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971640" y="0"/>
            <a:ext cx="7345440" cy="88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ириллица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- старославянский алфавит,  составленный братьями Кириллом и Мефод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5652"/>
          <p:cNvPicPr/>
          <p:nvPr/>
        </p:nvPicPr>
        <p:blipFill>
          <a:blip r:embed="rId1"/>
          <a:stretch/>
        </p:blipFill>
        <p:spPr>
          <a:xfrm>
            <a:off x="611280" y="1052640"/>
            <a:ext cx="780552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5" descr=""/>
          <p:cNvPicPr/>
          <p:nvPr/>
        </p:nvPicPr>
        <p:blipFill>
          <a:blip r:embed="rId2"/>
          <a:srcRect l="0" t="0" r="0" b="-17"/>
          <a:stretch/>
        </p:blipFill>
        <p:spPr>
          <a:xfrm>
            <a:off x="0" y="3827520"/>
            <a:ext cx="9144000" cy="3030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2597040" cy="25196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9"/>
          <p:cNvSpPr/>
          <p:nvPr/>
        </p:nvSpPr>
        <p:spPr>
          <a:xfrm>
            <a:off x="324000" y="47628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ере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250920" y="3573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ревянная доще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Object 14" descr=""/>
          <p:cNvPicPr/>
          <p:nvPr/>
        </p:nvPicPr>
        <p:blipFill>
          <a:blip r:embed="rId4"/>
          <a:srcRect l="0" t="0" r="48" b="91"/>
          <a:stretch/>
        </p:blipFill>
        <p:spPr>
          <a:xfrm>
            <a:off x="2916360" y="549360"/>
            <a:ext cx="2092320" cy="33274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5"/>
          <p:cNvSpPr/>
          <p:nvPr/>
        </p:nvSpPr>
        <p:spPr>
          <a:xfrm>
            <a:off x="3276720" y="18900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м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{7C195D23-D973-4673-8805-BBD9193488DC}"/>
          <p:cNvPicPr/>
          <p:nvPr/>
        </p:nvPicPr>
        <p:blipFill>
          <a:blip r:embed="rId5"/>
          <a:stretch/>
        </p:blipFill>
        <p:spPr>
          <a:xfrm>
            <a:off x="5148360" y="692280"/>
            <a:ext cx="3814560" cy="29318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8"/>
          <p:cNvSpPr/>
          <p:nvPr/>
        </p:nvSpPr>
        <p:spPr>
          <a:xfrm>
            <a:off x="6156360" y="260280"/>
            <a:ext cx="122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ум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de9b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ject 4" descr=""/>
          <p:cNvPicPr/>
          <p:nvPr/>
        </p:nvPicPr>
        <p:blipFill>
          <a:blip r:embed="rId1">
            <a:lum contrast="6000"/>
          </a:blip>
          <a:srcRect l="0" t="0" r="-69" b="0"/>
          <a:stretch/>
        </p:blipFill>
        <p:spPr>
          <a:xfrm>
            <a:off x="395280" y="1341360"/>
            <a:ext cx="4392720" cy="3773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003640" y="1268280"/>
            <a:ext cx="3921120" cy="5399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250920" y="567072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апирус – полотно для письма,  изготовленное из стеблей водного рас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095640" y="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ергамент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работанная телячья кожа, используемая в древности для письма.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4822920" y="8366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литвенни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IV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ека. Перга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395280" y="508464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итки  папир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e9b"/>
            </a:gs>
            <a:gs pos="50000">
              <a:srgbClr val="ffffff"/>
            </a:gs>
            <a:gs pos="100000">
              <a:srgbClr val="ffde9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48720" cy="517212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</p:pic>
      <p:sp>
        <p:nvSpPr>
          <p:cNvPr id="122" name="Text Box 10"/>
          <p:cNvSpPr/>
          <p:nvPr/>
        </p:nvSpPr>
        <p:spPr>
          <a:xfrm>
            <a:off x="971640" y="5805360"/>
            <a:ext cx="71294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И.Е. Репин                                                                                           «Запорожцы пишут письмо турецкому султан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50920" y="0"/>
            <a:ext cx="86058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хема расположения текста пись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да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ветствие, обраще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часть (текст письма).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.строка……………………………………………………………………………………………………………………………………………………………………………...………………………………………………………………………………………………...…………………………………………………………………………………………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щание; выражения, сопровождающие прощание:                                                                пожелание здоровья, успехов…, просьба ответить на письм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.строка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одпис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.S…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да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53" dur="1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4" dur="1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993"/>
            </a:gs>
            <a:gs pos="50000">
              <a:srgbClr val="ffffff"/>
            </a:gs>
            <a:gs pos="100000">
              <a:srgbClr val="ffc99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Object 23" descr=""/>
          <p:cNvPicPr/>
          <p:nvPr/>
        </p:nvPicPr>
        <p:blipFill>
          <a:blip r:embed="rId1"/>
          <a:stretch/>
        </p:blipFill>
        <p:spPr>
          <a:xfrm>
            <a:off x="324000" y="2852640"/>
            <a:ext cx="4025880" cy="3776760"/>
          </a:xfrm>
          <a:prstGeom prst="rect">
            <a:avLst/>
          </a:prstGeom>
          <a:ln w="0">
            <a:noFill/>
          </a:ln>
          <a:effectLst>
            <a:outerShdw dist="99192" dir="3018055" blurRad="0" rotWithShape="0">
              <a:srgbClr val="ffc993"/>
            </a:outerShdw>
          </a:effectLst>
        </p:spPr>
      </p:pic>
      <p:pic>
        <p:nvPicPr>
          <p:cNvPr id="125" name="Picture 13" descr="i"/>
          <p:cNvPicPr/>
          <p:nvPr/>
        </p:nvPicPr>
        <p:blipFill>
          <a:blip r:embed="rId2"/>
          <a:stretch/>
        </p:blipFill>
        <p:spPr>
          <a:xfrm rot="9261600">
            <a:off x="8243640" y="5084280"/>
            <a:ext cx="1252440" cy="831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i"/>
          <p:cNvPicPr/>
          <p:nvPr/>
        </p:nvPicPr>
        <p:blipFill>
          <a:blip r:embed="rId3"/>
          <a:stretch/>
        </p:blipFill>
        <p:spPr>
          <a:xfrm rot="12104400">
            <a:off x="6803640" y="6237000"/>
            <a:ext cx="1252440" cy="831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i"/>
          <p:cNvPicPr/>
          <p:nvPr/>
        </p:nvPicPr>
        <p:blipFill>
          <a:blip r:embed="rId4"/>
          <a:stretch/>
        </p:blipFill>
        <p:spPr>
          <a:xfrm rot="12129600">
            <a:off x="7891200" y="6025680"/>
            <a:ext cx="1252440" cy="831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7" descr="i"/>
          <p:cNvPicPr/>
          <p:nvPr/>
        </p:nvPicPr>
        <p:blipFill>
          <a:blip r:embed="rId5"/>
          <a:stretch/>
        </p:blipFill>
        <p:spPr>
          <a:xfrm rot="1439400">
            <a:off x="-210960" y="976320"/>
            <a:ext cx="1252440" cy="831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i"/>
          <p:cNvPicPr/>
          <p:nvPr/>
        </p:nvPicPr>
        <p:blipFill>
          <a:blip r:embed="rId6"/>
          <a:stretch/>
        </p:blipFill>
        <p:spPr>
          <a:xfrm rot="1065000">
            <a:off x="1186920" y="0"/>
            <a:ext cx="1252800" cy="831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i"/>
          <p:cNvPicPr/>
          <p:nvPr/>
        </p:nvPicPr>
        <p:blipFill>
          <a:blip r:embed="rId7"/>
          <a:stretch/>
        </p:blipFill>
        <p:spPr>
          <a:xfrm rot="20071800">
            <a:off x="0" y="0"/>
            <a:ext cx="1252440" cy="8319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20"/>
          <p:cNvSpPr/>
          <p:nvPr/>
        </p:nvSpPr>
        <p:spPr>
          <a:xfrm>
            <a:off x="755640" y="836640"/>
            <a:ext cx="37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Адресат – получатель                                                почтового                   отпра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4"/>
          <p:cNvSpPr/>
          <p:nvPr/>
        </p:nvSpPr>
        <p:spPr>
          <a:xfrm>
            <a:off x="4572000" y="414972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Адресант –                      отправитель пись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5" descr="gof_120"/>
          <p:cNvPicPr/>
          <p:nvPr/>
        </p:nvPicPr>
        <p:blipFill>
          <a:blip r:embed="rId8"/>
          <a:stretch/>
        </p:blipFill>
        <p:spPr>
          <a:xfrm>
            <a:off x="4535640" y="189000"/>
            <a:ext cx="4608360" cy="306864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ffc99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50920" y="0"/>
            <a:ext cx="86058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хема расположения текста пись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да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ветствие, обраще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часть (текст письма).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.строка……………………………………………………………………………………………………………………………………………………………………………...………………………………………………………………………………………………...…………………………………………………………………………………………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щание; выражения, сопровождающие прощание:                                                                пожелание здоровья, успехов…, просьба ответить на письм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.строка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одпис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.S…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да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80" dur="1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81" dur="1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1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89" dur="1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90" dur="1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1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0" dur="1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1" dur="1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100" fill="hold"/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9" dur="100" fill="hold"/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0" dur="100" fill="hold"/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993"/>
            </a:gs>
            <a:gs pos="50000">
              <a:srgbClr val="ffffff"/>
            </a:gs>
            <a:gs pos="100000">
              <a:srgbClr val="ffc99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1070747_7404"/>
          <p:cNvPicPr/>
          <p:nvPr/>
        </p:nvPicPr>
        <p:blipFill>
          <a:blip r:embed="rId1"/>
          <a:stretch/>
        </p:blipFill>
        <p:spPr>
          <a:xfrm>
            <a:off x="324000" y="189000"/>
            <a:ext cx="8602560" cy="645300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ffc993"/>
            </a:outerShdw>
          </a:effectLst>
        </p:spPr>
      </p:pic>
      <p:sp>
        <p:nvSpPr>
          <p:cNvPr id="136" name="Text Box 4"/>
          <p:cNvSpPr/>
          <p:nvPr/>
        </p:nvSpPr>
        <p:spPr>
          <a:xfrm>
            <a:off x="684360" y="333360"/>
            <a:ext cx="79912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СКРИПТУМ                                                                 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 латинского слова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ost skriptum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после написанного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скриптум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писка в письме после подписи, обозначаемая латинскими буквами Р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ffffff"/>
            </a:gs>
            <a:gs pos="100000">
              <a:srgbClr val="e5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5"/>
          <p:cNvSpPr/>
          <p:nvPr/>
        </p:nvSpPr>
        <p:spPr>
          <a:xfrm>
            <a:off x="684360" y="549360"/>
            <a:ext cx="81356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9 ноября 2019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вет, Волод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конец-то получил от тебя письмо и узнал, как ты проводишь канику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 тоже много читаю. В последний раз я прочитал тот рассказ, который ты мне советовал, — "Рыцарь Вася"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Юрия Яковлев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Ты просишь написать, понравился ли он мне. Не то слово! Он восхитил и поразил меня. Мне кажется, что этот рассказ о том, что даже самый обыкновенный мальчик может быть рыцарем. Для этого ему не нужно громкое имя и звонкие доспех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 Васи есть самое главное — доброта, благородство и бескорыс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наешь, я уже несколько дней хожу под впечатлением этого рассказа. Напиши, пожалуйста, согласен ты с моим мнением о рассказе или думаешь по-друго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 свидания. Жду ответа.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гор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"/>
          <p:cNvSpPr/>
          <p:nvPr/>
        </p:nvSpPr>
        <p:spPr>
          <a:xfrm>
            <a:off x="1116000" y="2924280"/>
            <a:ext cx="51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ГА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тридевять земел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чит бумажный Журавел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 бы он лететь и дальш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ырнул в почтовый ящ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ФГУП «Почта России» снова заплатит штраф за нарушение правил оказания услуг почтовой связи."/>
          <p:cNvPicPr/>
          <p:nvPr/>
        </p:nvPicPr>
        <p:blipFill>
          <a:blip r:embed="rId1"/>
          <a:stretch/>
        </p:blipFill>
        <p:spPr>
          <a:xfrm>
            <a:off x="6516720" y="3284640"/>
            <a:ext cx="2306520" cy="33130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9" descr=""/>
          <p:cNvPicPr/>
          <p:nvPr/>
        </p:nvPicPr>
        <p:blipFill>
          <a:blip r:embed="rId2"/>
          <a:stretch/>
        </p:blipFill>
        <p:spPr>
          <a:xfrm rot="1456800">
            <a:off x="378000" y="406440"/>
            <a:ext cx="250632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2"/>
          <p:cNvSpPr/>
          <p:nvPr/>
        </p:nvSpPr>
        <p:spPr>
          <a:xfrm>
            <a:off x="611280" y="514440"/>
            <a:ext cx="5327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намическая пау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_л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_н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_м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тр_н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н_жин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9" descr=""/>
          <p:cNvPicPr/>
          <p:nvPr/>
        </p:nvPicPr>
        <p:blipFill>
          <a:blip r:embed="rId2"/>
          <a:srcRect l="0" t="0" r="84246" b="0"/>
          <a:stretch/>
        </p:blipFill>
        <p:spPr>
          <a:xfrm>
            <a:off x="4067280" y="1052640"/>
            <a:ext cx="5460840" cy="56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ffffff"/>
            </a:gs>
            <a:gs pos="100000">
              <a:srgbClr val="e5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5"/>
          <p:cNvSpPr/>
          <p:nvPr/>
        </p:nvSpPr>
        <p:spPr>
          <a:xfrm>
            <a:off x="250920" y="260280"/>
            <a:ext cx="835344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Найдите ошибки в обращ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ьмо №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250920" y="1052640"/>
            <a:ext cx="8569080" cy="3020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Многоуважаемая Олеч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Прошу тебя очень – отпечатай отчет в четырех экземплярах и как-нибудь пришли или завези ко мне сегодня же не позднее 7 часов веч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Из письма В.Маяковского к сестре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250920" y="4292640"/>
            <a:ext cx="8569080" cy="265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Привет, Константин Дмитриевич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Вы обещали мне дать рассказ для сборника. Позвольте напомнить Вам Ваше любезное обеща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из письма М.Горького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3"/>
          <p:cNvSpPr/>
          <p:nvPr/>
        </p:nvSpPr>
        <p:spPr>
          <a:xfrm>
            <a:off x="324720" y="386064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ьмо №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50920" y="0"/>
            <a:ext cx="86058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хема расположения текста пись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да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ветствие, обраще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часть (текст письма).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.строка……………………………………………………………………………………………………………………………………………………………………………...………………………………………………………………………………………………...…………………………………………………………………………………………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щание; выражения, сопровождающие прощание:                                                                пожелание здоровья, успехов…, просьба ответить на письм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.строка 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одпис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.S.   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да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2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2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20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20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2000" fill="hold"/>
                                        <p:tgtEl>
                                          <p:spTgt spid="1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20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2000" fill="hold"/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2000" fill="hold"/>
                                        <p:tgtEl>
                                          <p:spTgt spid="1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100" fill="hold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172" dur="100" fill="hold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73" dur="100" fill="hold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6"/>
          <p:cNvSpPr/>
          <p:nvPr/>
        </p:nvSpPr>
        <p:spPr>
          <a:xfrm>
            <a:off x="0" y="649116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1" descr="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="/>
          <p:cNvPicPr/>
          <p:nvPr/>
        </p:nvPicPr>
        <p:blipFill>
          <a:blip r:embed="rId2"/>
          <a:stretch/>
        </p:blipFill>
        <p:spPr>
          <a:xfrm>
            <a:off x="6732720" y="5661000"/>
            <a:ext cx="2160360" cy="9050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900000" y="1197000"/>
            <a:ext cx="727416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пишите своему классному руководителю небольшое письмо (на отдельном листочке) о том, что нового вы узнали на уроке об истории письм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IMG12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468360" y="189000"/>
            <a:ext cx="8424720" cy="71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ервое октябр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Классная работ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Как написать письмо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ject 7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79280" y="189000"/>
            <a:ext cx="5042160" cy="377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зз"/>
          <p:cNvPicPr/>
          <p:nvPr/>
        </p:nvPicPr>
        <p:blipFill>
          <a:blip r:embed="rId2"/>
          <a:stretch/>
        </p:blipFill>
        <p:spPr>
          <a:xfrm>
            <a:off x="611280" y="4743360"/>
            <a:ext cx="2232000" cy="1662120"/>
          </a:xfrm>
          <a:prstGeom prst="rect">
            <a:avLst/>
          </a:prstGeom>
          <a:ln w="0">
            <a:noFill/>
          </a:ln>
        </p:spPr>
      </p:pic>
      <p:pic>
        <p:nvPicPr>
          <p:cNvPr id="50" name="Object 9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3851280" y="2492280"/>
            <a:ext cx="5070600" cy="41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e9b"/>
            </a:gs>
            <a:gs pos="50000">
              <a:srgbClr val="ffffff"/>
            </a:gs>
            <a:gs pos="100000">
              <a:srgbClr val="ffde9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8" descr=""/>
          <p:cNvPicPr/>
          <p:nvPr/>
        </p:nvPicPr>
        <p:blipFill>
          <a:blip r:embed="rId1"/>
          <a:srcRect l="0" t="0" r="14" b="-92"/>
          <a:stretch/>
        </p:blipFill>
        <p:spPr>
          <a:xfrm>
            <a:off x="179280" y="3716280"/>
            <a:ext cx="4853160" cy="2924280"/>
          </a:xfrm>
          <a:prstGeom prst="rect">
            <a:avLst/>
          </a:prstGeom>
          <a:ln w="0">
            <a:noFill/>
          </a:ln>
        </p:spPr>
      </p:pic>
      <p:pic>
        <p:nvPicPr>
          <p:cNvPr id="52" name="Object 7" descr=""/>
          <p:cNvPicPr/>
          <p:nvPr/>
        </p:nvPicPr>
        <p:blipFill>
          <a:blip r:embed="rId2"/>
          <a:srcRect l="0" t="0" r="-32" b="-16"/>
          <a:stretch/>
        </p:blipFill>
        <p:spPr>
          <a:xfrm>
            <a:off x="4788000" y="260280"/>
            <a:ext cx="4176720" cy="41054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324000" y="33336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ЗЕЛКОВОЕ ПИСЬ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908000" y="1484280"/>
            <a:ext cx="2880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ипу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исьмо древних ин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148360" y="4941720"/>
            <a:ext cx="3671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ампум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исьма индейских племен Северной Аме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9" descr=""/>
          <p:cNvPicPr/>
          <p:nvPr/>
        </p:nvPicPr>
        <p:blipFill>
          <a:blip r:embed="rId1"/>
          <a:stretch/>
        </p:blipFill>
        <p:spPr>
          <a:xfrm>
            <a:off x="4572000" y="2997360"/>
            <a:ext cx="4392720" cy="3684600"/>
          </a:xfrm>
          <a:prstGeom prst="rect">
            <a:avLst/>
          </a:prstGeom>
          <a:ln w="0">
            <a:noFill/>
          </a:ln>
        </p:spPr>
      </p:pic>
      <p:pic>
        <p:nvPicPr>
          <p:cNvPr id="57" name="Object 4" descr=""/>
          <p:cNvPicPr/>
          <p:nvPr/>
        </p:nvPicPr>
        <p:blipFill>
          <a:blip r:embed="rId2"/>
          <a:stretch/>
        </p:blipFill>
        <p:spPr>
          <a:xfrm>
            <a:off x="0" y="4803840"/>
            <a:ext cx="3508200" cy="2054160"/>
          </a:xfrm>
          <a:prstGeom prst="rect">
            <a:avLst/>
          </a:prstGeom>
          <a:ln w="0">
            <a:noFill/>
          </a:ln>
        </p:spPr>
      </p:pic>
      <p:pic>
        <p:nvPicPr>
          <p:cNvPr id="58" name="Object 5" descr=""/>
          <p:cNvPicPr/>
          <p:nvPr/>
        </p:nvPicPr>
        <p:blipFill>
          <a:blip r:embed="rId3"/>
          <a:stretch/>
        </p:blipFill>
        <p:spPr>
          <a:xfrm>
            <a:off x="4356000" y="1474920"/>
            <a:ext cx="2160720" cy="1542960"/>
          </a:xfrm>
          <a:prstGeom prst="rect">
            <a:avLst/>
          </a:prstGeom>
          <a:ln w="0">
            <a:noFill/>
          </a:ln>
        </p:spPr>
      </p:pic>
      <p:pic>
        <p:nvPicPr>
          <p:cNvPr id="59" name="Object 6" descr=""/>
          <p:cNvPicPr/>
          <p:nvPr/>
        </p:nvPicPr>
        <p:blipFill>
          <a:blip r:embed="rId4"/>
          <a:stretch/>
        </p:blipFill>
        <p:spPr>
          <a:xfrm>
            <a:off x="7020000" y="189000"/>
            <a:ext cx="1522440" cy="1727280"/>
          </a:xfrm>
          <a:prstGeom prst="rect">
            <a:avLst/>
          </a:prstGeom>
          <a:ln w="0">
            <a:noFill/>
          </a:ln>
        </p:spPr>
      </p:pic>
      <p:pic>
        <p:nvPicPr>
          <p:cNvPr id="60" name="Object 7" descr=""/>
          <p:cNvPicPr/>
          <p:nvPr/>
        </p:nvPicPr>
        <p:blipFill>
          <a:blip r:embed="rId5"/>
          <a:stretch/>
        </p:blipFill>
        <p:spPr>
          <a:xfrm>
            <a:off x="2411280" y="2781360"/>
            <a:ext cx="2303640" cy="18511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250920" y="26028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МЕТНОЕ ПИСЬ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5942160" y="76500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Т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1118520" y="357336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ЯГ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3421440" y="206064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1800" y="494172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Е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6"/>
          <p:cNvGrpSpPr/>
          <p:nvPr/>
        </p:nvGrpSpPr>
        <p:grpSpPr>
          <a:xfrm>
            <a:off x="-1116000" y="-609480"/>
            <a:ext cx="10259640" cy="7467480"/>
            <a:chOff x="-1116000" y="-609480"/>
            <a:chExt cx="10259640" cy="7467480"/>
          </a:xfrm>
        </p:grpSpPr>
        <p:sp>
          <p:nvSpPr>
            <p:cNvPr id="67" name="AutoShape 5"/>
            <p:cNvSpPr/>
            <p:nvPr/>
          </p:nvSpPr>
          <p:spPr>
            <a:xfrm>
              <a:off x="-1116000" y="-609480"/>
              <a:ext cx="10259640" cy="7467480"/>
            </a:xfrm>
            <a:prstGeom prst="rect">
              <a:avLst/>
            </a:prstGeom>
            <a:gradFill rotWithShape="0">
              <a:gsLst>
                <a:gs pos="0">
                  <a:srgbClr val="ffde9b"/>
                </a:gs>
                <a:gs pos="50000">
                  <a:srgbClr val="ffffff"/>
                </a:gs>
                <a:gs pos="100000">
                  <a:srgbClr val="ffde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-320760" y="-261720"/>
              <a:ext cx="9255240" cy="6989400"/>
            </a:xfrm>
            <a:custGeom>
              <a:avLst/>
              <a:gdLst/>
              <a:ahLst/>
              <a:rect l="l" t="t" r="r" b="b"/>
              <a:pathLst>
                <a:path w="5483" h="4446">
                  <a:moveTo>
                    <a:pt x="866" y="517"/>
                  </a:moveTo>
                  <a:lnTo>
                    <a:pt x="3626" y="0"/>
                  </a:lnTo>
                  <a:lnTo>
                    <a:pt x="3880" y="386"/>
                  </a:lnTo>
                  <a:lnTo>
                    <a:pt x="4380" y="324"/>
                  </a:lnTo>
                  <a:lnTo>
                    <a:pt x="4431" y="562"/>
                  </a:lnTo>
                  <a:lnTo>
                    <a:pt x="3967" y="754"/>
                  </a:lnTo>
                  <a:lnTo>
                    <a:pt x="3556" y="3087"/>
                  </a:lnTo>
                  <a:lnTo>
                    <a:pt x="5483" y="3438"/>
                  </a:lnTo>
                  <a:lnTo>
                    <a:pt x="5448" y="3630"/>
                  </a:lnTo>
                  <a:lnTo>
                    <a:pt x="2785" y="4446"/>
                  </a:lnTo>
                  <a:lnTo>
                    <a:pt x="2023" y="4060"/>
                  </a:lnTo>
                  <a:lnTo>
                    <a:pt x="1471" y="3219"/>
                  </a:lnTo>
                  <a:lnTo>
                    <a:pt x="1376" y="2517"/>
                  </a:lnTo>
                  <a:lnTo>
                    <a:pt x="1549" y="1527"/>
                  </a:lnTo>
                  <a:lnTo>
                    <a:pt x="954" y="1738"/>
                  </a:lnTo>
                  <a:lnTo>
                    <a:pt x="95" y="1438"/>
                  </a:lnTo>
                  <a:lnTo>
                    <a:pt x="0" y="1281"/>
                  </a:lnTo>
                  <a:lnTo>
                    <a:pt x="244" y="1122"/>
                  </a:lnTo>
                  <a:lnTo>
                    <a:pt x="314" y="851"/>
                  </a:lnTo>
                  <a:lnTo>
                    <a:pt x="692" y="552"/>
                  </a:lnTo>
                  <a:lnTo>
                    <a:pt x="866" y="5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3434760" y="5340960"/>
              <a:ext cx="1897560" cy="1248120"/>
            </a:xfrm>
            <a:custGeom>
              <a:avLst/>
              <a:gdLst/>
              <a:ahLst/>
              <a:rect l="l" t="t" r="r" b="b"/>
              <a:pathLst>
                <a:path w="1124" h="794">
                  <a:moveTo>
                    <a:pt x="864" y="0"/>
                  </a:moveTo>
                  <a:lnTo>
                    <a:pt x="422" y="391"/>
                  </a:lnTo>
                  <a:lnTo>
                    <a:pt x="0" y="510"/>
                  </a:lnTo>
                  <a:lnTo>
                    <a:pt x="62" y="591"/>
                  </a:lnTo>
                  <a:lnTo>
                    <a:pt x="562" y="492"/>
                  </a:lnTo>
                  <a:lnTo>
                    <a:pt x="182" y="692"/>
                  </a:lnTo>
                  <a:lnTo>
                    <a:pt x="1023" y="794"/>
                  </a:lnTo>
                  <a:lnTo>
                    <a:pt x="1124" y="149"/>
                  </a:lnTo>
                  <a:lnTo>
                    <a:pt x="864" y="0"/>
                  </a:lnTo>
                  <a:close/>
                </a:path>
              </a:pathLst>
            </a:custGeom>
            <a:solidFill>
              <a:srgbClr val="ffca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188280" y="380880"/>
              <a:ext cx="8274960" cy="6412320"/>
            </a:xfrm>
            <a:custGeom>
              <a:avLst/>
              <a:gdLst/>
              <a:ahLst/>
              <a:rect l="l" t="t" r="r" b="b"/>
              <a:pathLst>
                <a:path w="4902" h="4079">
                  <a:moveTo>
                    <a:pt x="960" y="273"/>
                  </a:moveTo>
                  <a:lnTo>
                    <a:pt x="3809" y="0"/>
                  </a:lnTo>
                  <a:lnTo>
                    <a:pt x="3669" y="1347"/>
                  </a:lnTo>
                  <a:lnTo>
                    <a:pt x="4030" y="2110"/>
                  </a:lnTo>
                  <a:lnTo>
                    <a:pt x="4410" y="2411"/>
                  </a:lnTo>
                  <a:lnTo>
                    <a:pt x="4782" y="2521"/>
                  </a:lnTo>
                  <a:lnTo>
                    <a:pt x="4902" y="3686"/>
                  </a:lnTo>
                  <a:lnTo>
                    <a:pt x="2646" y="4079"/>
                  </a:lnTo>
                  <a:lnTo>
                    <a:pt x="2977" y="3254"/>
                  </a:lnTo>
                  <a:lnTo>
                    <a:pt x="2456" y="3023"/>
                  </a:lnTo>
                  <a:lnTo>
                    <a:pt x="1834" y="3686"/>
                  </a:lnTo>
                  <a:lnTo>
                    <a:pt x="1303" y="2230"/>
                  </a:lnTo>
                  <a:lnTo>
                    <a:pt x="1171" y="1196"/>
                  </a:lnTo>
                  <a:lnTo>
                    <a:pt x="489" y="1537"/>
                  </a:lnTo>
                  <a:lnTo>
                    <a:pt x="148" y="1186"/>
                  </a:lnTo>
                  <a:lnTo>
                    <a:pt x="479" y="804"/>
                  </a:lnTo>
                  <a:lnTo>
                    <a:pt x="0" y="653"/>
                  </a:lnTo>
                  <a:lnTo>
                    <a:pt x="760" y="213"/>
                  </a:lnTo>
                  <a:lnTo>
                    <a:pt x="960" y="2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>
              <a:off x="2656440" y="605520"/>
              <a:ext cx="3690000" cy="4514760"/>
            </a:xfrm>
            <a:custGeom>
              <a:avLst/>
              <a:gdLst/>
              <a:ahLst/>
              <a:rect l="l" t="t" r="r" b="b"/>
              <a:pathLst>
                <a:path w="2186" h="2872">
                  <a:moveTo>
                    <a:pt x="2186" y="299"/>
                  </a:moveTo>
                  <a:lnTo>
                    <a:pt x="907" y="1456"/>
                  </a:lnTo>
                  <a:lnTo>
                    <a:pt x="523" y="2872"/>
                  </a:lnTo>
                  <a:lnTo>
                    <a:pt x="131" y="1717"/>
                  </a:lnTo>
                  <a:lnTo>
                    <a:pt x="0" y="390"/>
                  </a:lnTo>
                  <a:lnTo>
                    <a:pt x="2168" y="0"/>
                  </a:lnTo>
                  <a:lnTo>
                    <a:pt x="2186" y="2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5266440" y="5259240"/>
              <a:ext cx="3635640" cy="1120680"/>
            </a:xfrm>
            <a:custGeom>
              <a:avLst/>
              <a:gdLst/>
              <a:ahLst/>
              <a:rect l="l" t="t" r="r" b="b"/>
              <a:pathLst>
                <a:path w="2154" h="713">
                  <a:moveTo>
                    <a:pt x="1725" y="21"/>
                  </a:moveTo>
                  <a:lnTo>
                    <a:pt x="2154" y="0"/>
                  </a:lnTo>
                  <a:lnTo>
                    <a:pt x="2136" y="211"/>
                  </a:lnTo>
                  <a:lnTo>
                    <a:pt x="1785" y="312"/>
                  </a:lnTo>
                  <a:lnTo>
                    <a:pt x="0" y="713"/>
                  </a:lnTo>
                  <a:lnTo>
                    <a:pt x="310" y="341"/>
                  </a:lnTo>
                  <a:lnTo>
                    <a:pt x="1725" y="21"/>
                  </a:lnTo>
                  <a:close/>
                </a:path>
              </a:pathLst>
            </a:custGeom>
            <a:solidFill>
              <a:srgbClr val="ffca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6346800" y="445320"/>
              <a:ext cx="811800" cy="584640"/>
            </a:xfrm>
            <a:custGeom>
              <a:avLst/>
              <a:gdLst/>
              <a:ahLst/>
              <a:rect l="l" t="t" r="r" b="b"/>
              <a:pathLst>
                <a:path w="481" h="372">
                  <a:moveTo>
                    <a:pt x="0" y="50"/>
                  </a:moveTo>
                  <a:lnTo>
                    <a:pt x="481" y="0"/>
                  </a:lnTo>
                  <a:lnTo>
                    <a:pt x="453" y="323"/>
                  </a:lnTo>
                  <a:lnTo>
                    <a:pt x="41" y="37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ca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-254880" y="998640"/>
              <a:ext cx="2354400" cy="1341000"/>
            </a:xfrm>
            <a:custGeom>
              <a:avLst/>
              <a:gdLst/>
              <a:ahLst/>
              <a:rect l="l" t="t" r="r" b="b"/>
              <a:pathLst>
                <a:path w="1395" h="853">
                  <a:moveTo>
                    <a:pt x="0" y="642"/>
                  </a:moveTo>
                  <a:lnTo>
                    <a:pt x="703" y="291"/>
                  </a:lnTo>
                  <a:lnTo>
                    <a:pt x="1374" y="0"/>
                  </a:lnTo>
                  <a:lnTo>
                    <a:pt x="1395" y="853"/>
                  </a:lnTo>
                  <a:lnTo>
                    <a:pt x="0" y="642"/>
                  </a:lnTo>
                  <a:close/>
                </a:path>
              </a:pathLst>
            </a:custGeom>
            <a:solidFill>
              <a:srgbClr val="ffca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846720" y="-310680"/>
              <a:ext cx="6905520" cy="4846680"/>
            </a:xfrm>
            <a:custGeom>
              <a:avLst/>
              <a:gdLst/>
              <a:ahLst/>
              <a:rect l="l" t="t" r="r" b="b"/>
              <a:pathLst>
                <a:path w="4091" h="3083">
                  <a:moveTo>
                    <a:pt x="0" y="562"/>
                  </a:moveTo>
                  <a:lnTo>
                    <a:pt x="1132" y="331"/>
                  </a:lnTo>
                  <a:lnTo>
                    <a:pt x="1955" y="180"/>
                  </a:lnTo>
                  <a:lnTo>
                    <a:pt x="2688" y="50"/>
                  </a:lnTo>
                  <a:lnTo>
                    <a:pt x="2959" y="0"/>
                  </a:lnTo>
                  <a:lnTo>
                    <a:pt x="3169" y="200"/>
                  </a:lnTo>
                  <a:lnTo>
                    <a:pt x="3289" y="432"/>
                  </a:lnTo>
                  <a:lnTo>
                    <a:pt x="3349" y="703"/>
                  </a:lnTo>
                  <a:lnTo>
                    <a:pt x="3320" y="1064"/>
                  </a:lnTo>
                  <a:lnTo>
                    <a:pt x="3229" y="1366"/>
                  </a:lnTo>
                  <a:lnTo>
                    <a:pt x="3180" y="1707"/>
                  </a:lnTo>
                  <a:lnTo>
                    <a:pt x="3219" y="2019"/>
                  </a:lnTo>
                  <a:lnTo>
                    <a:pt x="3299" y="2289"/>
                  </a:lnTo>
                  <a:lnTo>
                    <a:pt x="3479" y="2529"/>
                  </a:lnTo>
                  <a:lnTo>
                    <a:pt x="3750" y="2791"/>
                  </a:lnTo>
                  <a:lnTo>
                    <a:pt x="4091" y="3062"/>
                  </a:lnTo>
                  <a:lnTo>
                    <a:pt x="3921" y="3083"/>
                  </a:lnTo>
                  <a:lnTo>
                    <a:pt x="3539" y="2781"/>
                  </a:lnTo>
                  <a:lnTo>
                    <a:pt x="3248" y="2479"/>
                  </a:lnTo>
                  <a:lnTo>
                    <a:pt x="3109" y="2178"/>
                  </a:lnTo>
                  <a:lnTo>
                    <a:pt x="3047" y="1858"/>
                  </a:lnTo>
                  <a:lnTo>
                    <a:pt x="3047" y="1535"/>
                  </a:lnTo>
                  <a:lnTo>
                    <a:pt x="3118" y="1205"/>
                  </a:lnTo>
                  <a:lnTo>
                    <a:pt x="3188" y="924"/>
                  </a:lnTo>
                  <a:lnTo>
                    <a:pt x="3188" y="653"/>
                  </a:lnTo>
                  <a:lnTo>
                    <a:pt x="3078" y="341"/>
                  </a:lnTo>
                  <a:lnTo>
                    <a:pt x="2899" y="99"/>
                  </a:lnTo>
                  <a:lnTo>
                    <a:pt x="2196" y="221"/>
                  </a:lnTo>
                  <a:lnTo>
                    <a:pt x="1353" y="362"/>
                  </a:lnTo>
                  <a:lnTo>
                    <a:pt x="291" y="612"/>
                  </a:lnTo>
                  <a:lnTo>
                    <a:pt x="0" y="5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16560" y="507960"/>
              <a:ext cx="8328600" cy="6267960"/>
            </a:xfrm>
            <a:custGeom>
              <a:avLst/>
              <a:gdLst/>
              <a:ahLst/>
              <a:rect l="l" t="t" r="r" b="b"/>
              <a:pathLst>
                <a:path w="4934" h="3987">
                  <a:moveTo>
                    <a:pt x="492" y="41"/>
                  </a:moveTo>
                  <a:lnTo>
                    <a:pt x="250" y="182"/>
                  </a:lnTo>
                  <a:lnTo>
                    <a:pt x="91" y="332"/>
                  </a:lnTo>
                  <a:lnTo>
                    <a:pt x="11" y="502"/>
                  </a:lnTo>
                  <a:lnTo>
                    <a:pt x="0" y="653"/>
                  </a:lnTo>
                  <a:lnTo>
                    <a:pt x="110" y="644"/>
                  </a:lnTo>
                  <a:lnTo>
                    <a:pt x="151" y="452"/>
                  </a:lnTo>
                  <a:lnTo>
                    <a:pt x="281" y="272"/>
                  </a:lnTo>
                  <a:lnTo>
                    <a:pt x="482" y="161"/>
                  </a:lnTo>
                  <a:lnTo>
                    <a:pt x="662" y="140"/>
                  </a:lnTo>
                  <a:lnTo>
                    <a:pt x="854" y="192"/>
                  </a:lnTo>
                  <a:lnTo>
                    <a:pt x="1023" y="301"/>
                  </a:lnTo>
                  <a:lnTo>
                    <a:pt x="1153" y="463"/>
                  </a:lnTo>
                  <a:lnTo>
                    <a:pt x="1223" y="673"/>
                  </a:lnTo>
                  <a:lnTo>
                    <a:pt x="1244" y="965"/>
                  </a:lnTo>
                  <a:lnTo>
                    <a:pt x="1213" y="1316"/>
                  </a:lnTo>
                  <a:lnTo>
                    <a:pt x="1164" y="1657"/>
                  </a:lnTo>
                  <a:lnTo>
                    <a:pt x="1104" y="1909"/>
                  </a:lnTo>
                  <a:lnTo>
                    <a:pt x="1083" y="2219"/>
                  </a:lnTo>
                  <a:lnTo>
                    <a:pt x="1124" y="2510"/>
                  </a:lnTo>
                  <a:lnTo>
                    <a:pt x="1195" y="2812"/>
                  </a:lnTo>
                  <a:lnTo>
                    <a:pt x="1354" y="3134"/>
                  </a:lnTo>
                  <a:lnTo>
                    <a:pt x="1635" y="3465"/>
                  </a:lnTo>
                  <a:lnTo>
                    <a:pt x="1926" y="3696"/>
                  </a:lnTo>
                  <a:lnTo>
                    <a:pt x="2207" y="3886"/>
                  </a:lnTo>
                  <a:lnTo>
                    <a:pt x="2467" y="3977"/>
                  </a:lnTo>
                  <a:lnTo>
                    <a:pt x="2798" y="3987"/>
                  </a:lnTo>
                  <a:lnTo>
                    <a:pt x="3089" y="3927"/>
                  </a:lnTo>
                  <a:lnTo>
                    <a:pt x="3721" y="3816"/>
                  </a:lnTo>
                  <a:lnTo>
                    <a:pt x="4442" y="3696"/>
                  </a:lnTo>
                  <a:lnTo>
                    <a:pt x="4934" y="3576"/>
                  </a:lnTo>
                  <a:lnTo>
                    <a:pt x="4895" y="3465"/>
                  </a:lnTo>
                  <a:lnTo>
                    <a:pt x="4403" y="3595"/>
                  </a:lnTo>
                  <a:lnTo>
                    <a:pt x="3901" y="3675"/>
                  </a:lnTo>
                  <a:lnTo>
                    <a:pt x="3409" y="3725"/>
                  </a:lnTo>
                  <a:lnTo>
                    <a:pt x="3110" y="3756"/>
                  </a:lnTo>
                  <a:lnTo>
                    <a:pt x="3188" y="3605"/>
                  </a:lnTo>
                  <a:lnTo>
                    <a:pt x="3209" y="3374"/>
                  </a:lnTo>
                  <a:lnTo>
                    <a:pt x="3159" y="3184"/>
                  </a:lnTo>
                  <a:lnTo>
                    <a:pt x="3068" y="3022"/>
                  </a:lnTo>
                  <a:lnTo>
                    <a:pt x="2889" y="2892"/>
                  </a:lnTo>
                  <a:lnTo>
                    <a:pt x="2699" y="2843"/>
                  </a:lnTo>
                  <a:lnTo>
                    <a:pt x="2498" y="2853"/>
                  </a:lnTo>
                  <a:lnTo>
                    <a:pt x="2327" y="2942"/>
                  </a:lnTo>
                  <a:lnTo>
                    <a:pt x="2197" y="3082"/>
                  </a:lnTo>
                  <a:lnTo>
                    <a:pt x="2126" y="3275"/>
                  </a:lnTo>
                  <a:lnTo>
                    <a:pt x="2095" y="3363"/>
                  </a:lnTo>
                  <a:lnTo>
                    <a:pt x="2246" y="3324"/>
                  </a:lnTo>
                  <a:lnTo>
                    <a:pt x="2316" y="3153"/>
                  </a:lnTo>
                  <a:lnTo>
                    <a:pt x="2418" y="3053"/>
                  </a:lnTo>
                  <a:lnTo>
                    <a:pt x="2577" y="2994"/>
                  </a:lnTo>
                  <a:lnTo>
                    <a:pt x="2748" y="3002"/>
                  </a:lnTo>
                  <a:lnTo>
                    <a:pt x="2899" y="3103"/>
                  </a:lnTo>
                  <a:lnTo>
                    <a:pt x="3019" y="3275"/>
                  </a:lnTo>
                  <a:lnTo>
                    <a:pt x="3019" y="3465"/>
                  </a:lnTo>
                  <a:lnTo>
                    <a:pt x="2959" y="3646"/>
                  </a:lnTo>
                  <a:lnTo>
                    <a:pt x="2858" y="3787"/>
                  </a:lnTo>
                  <a:lnTo>
                    <a:pt x="2717" y="3857"/>
                  </a:lnTo>
                  <a:lnTo>
                    <a:pt x="2527" y="3857"/>
                  </a:lnTo>
                  <a:lnTo>
                    <a:pt x="2337" y="3787"/>
                  </a:lnTo>
                  <a:lnTo>
                    <a:pt x="2066" y="3615"/>
                  </a:lnTo>
                  <a:lnTo>
                    <a:pt x="1825" y="3415"/>
                  </a:lnTo>
                  <a:lnTo>
                    <a:pt x="1624" y="3194"/>
                  </a:lnTo>
                  <a:lnTo>
                    <a:pt x="1445" y="2942"/>
                  </a:lnTo>
                  <a:lnTo>
                    <a:pt x="1333" y="2671"/>
                  </a:lnTo>
                  <a:lnTo>
                    <a:pt x="1254" y="2341"/>
                  </a:lnTo>
                  <a:lnTo>
                    <a:pt x="1244" y="1998"/>
                  </a:lnTo>
                  <a:lnTo>
                    <a:pt x="1304" y="1638"/>
                  </a:lnTo>
                  <a:lnTo>
                    <a:pt x="1414" y="1165"/>
                  </a:lnTo>
                  <a:lnTo>
                    <a:pt x="1434" y="754"/>
                  </a:lnTo>
                  <a:lnTo>
                    <a:pt x="1343" y="403"/>
                  </a:lnTo>
                  <a:lnTo>
                    <a:pt x="1164" y="161"/>
                  </a:lnTo>
                  <a:lnTo>
                    <a:pt x="943" y="51"/>
                  </a:lnTo>
                  <a:lnTo>
                    <a:pt x="672" y="0"/>
                  </a:lnTo>
                  <a:lnTo>
                    <a:pt x="49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-373320" y="1267200"/>
              <a:ext cx="2727720" cy="1309680"/>
            </a:xfrm>
            <a:custGeom>
              <a:avLst/>
              <a:gdLst/>
              <a:ahLst/>
              <a:rect l="l" t="t" r="r" b="b"/>
              <a:pathLst>
                <a:path w="1616" h="833">
                  <a:moveTo>
                    <a:pt x="1426" y="8"/>
                  </a:moveTo>
                  <a:lnTo>
                    <a:pt x="1405" y="401"/>
                  </a:lnTo>
                  <a:lnTo>
                    <a:pt x="1275" y="573"/>
                  </a:lnTo>
                  <a:lnTo>
                    <a:pt x="1074" y="653"/>
                  </a:lnTo>
                  <a:lnTo>
                    <a:pt x="893" y="682"/>
                  </a:lnTo>
                  <a:lnTo>
                    <a:pt x="723" y="643"/>
                  </a:lnTo>
                  <a:lnTo>
                    <a:pt x="622" y="581"/>
                  </a:lnTo>
                  <a:lnTo>
                    <a:pt x="913" y="513"/>
                  </a:lnTo>
                  <a:lnTo>
                    <a:pt x="843" y="130"/>
                  </a:lnTo>
                  <a:lnTo>
                    <a:pt x="783" y="380"/>
                  </a:lnTo>
                  <a:lnTo>
                    <a:pt x="473" y="471"/>
                  </a:lnTo>
                  <a:lnTo>
                    <a:pt x="242" y="482"/>
                  </a:lnTo>
                  <a:lnTo>
                    <a:pt x="151" y="411"/>
                  </a:lnTo>
                  <a:lnTo>
                    <a:pt x="161" y="292"/>
                  </a:lnTo>
                  <a:lnTo>
                    <a:pt x="312" y="211"/>
                  </a:lnTo>
                  <a:lnTo>
                    <a:pt x="723" y="110"/>
                  </a:lnTo>
                  <a:lnTo>
                    <a:pt x="572" y="39"/>
                  </a:lnTo>
                  <a:lnTo>
                    <a:pt x="200" y="151"/>
                  </a:lnTo>
                  <a:lnTo>
                    <a:pt x="70" y="230"/>
                  </a:lnTo>
                  <a:lnTo>
                    <a:pt x="0" y="372"/>
                  </a:lnTo>
                  <a:lnTo>
                    <a:pt x="21" y="502"/>
                  </a:lnTo>
                  <a:lnTo>
                    <a:pt x="122" y="581"/>
                  </a:lnTo>
                  <a:lnTo>
                    <a:pt x="312" y="601"/>
                  </a:lnTo>
                  <a:lnTo>
                    <a:pt x="411" y="601"/>
                  </a:lnTo>
                  <a:lnTo>
                    <a:pt x="502" y="692"/>
                  </a:lnTo>
                  <a:lnTo>
                    <a:pt x="663" y="794"/>
                  </a:lnTo>
                  <a:lnTo>
                    <a:pt x="874" y="833"/>
                  </a:lnTo>
                  <a:lnTo>
                    <a:pt x="1064" y="833"/>
                  </a:lnTo>
                  <a:lnTo>
                    <a:pt x="1233" y="783"/>
                  </a:lnTo>
                  <a:lnTo>
                    <a:pt x="1545" y="682"/>
                  </a:lnTo>
                  <a:lnTo>
                    <a:pt x="1616" y="521"/>
                  </a:lnTo>
                  <a:lnTo>
                    <a:pt x="1595" y="302"/>
                  </a:lnTo>
                  <a:lnTo>
                    <a:pt x="1556" y="0"/>
                  </a:lnTo>
                  <a:lnTo>
                    <a:pt x="142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6264000" y="209160"/>
              <a:ext cx="982080" cy="789120"/>
            </a:xfrm>
            <a:custGeom>
              <a:avLst/>
              <a:gdLst/>
              <a:ahLst/>
              <a:rect l="l" t="t" r="r" b="b"/>
              <a:pathLst>
                <a:path w="582" h="502">
                  <a:moveTo>
                    <a:pt x="31" y="49"/>
                  </a:moveTo>
                  <a:lnTo>
                    <a:pt x="411" y="0"/>
                  </a:lnTo>
                  <a:lnTo>
                    <a:pt x="530" y="49"/>
                  </a:lnTo>
                  <a:lnTo>
                    <a:pt x="582" y="200"/>
                  </a:lnTo>
                  <a:lnTo>
                    <a:pt x="561" y="330"/>
                  </a:lnTo>
                  <a:lnTo>
                    <a:pt x="442" y="421"/>
                  </a:lnTo>
                  <a:lnTo>
                    <a:pt x="49" y="502"/>
                  </a:lnTo>
                  <a:lnTo>
                    <a:pt x="49" y="372"/>
                  </a:lnTo>
                  <a:lnTo>
                    <a:pt x="431" y="291"/>
                  </a:lnTo>
                  <a:lnTo>
                    <a:pt x="481" y="210"/>
                  </a:lnTo>
                  <a:lnTo>
                    <a:pt x="460" y="109"/>
                  </a:lnTo>
                  <a:lnTo>
                    <a:pt x="371" y="101"/>
                  </a:lnTo>
                  <a:lnTo>
                    <a:pt x="0" y="181"/>
                  </a:lnTo>
                  <a:lnTo>
                    <a:pt x="3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254160" y="1267200"/>
              <a:ext cx="913320" cy="789120"/>
            </a:xfrm>
            <a:custGeom>
              <a:avLst/>
              <a:gdLst/>
              <a:ahLst/>
              <a:rect l="l" t="t" r="r" b="b"/>
              <a:pathLst>
                <a:path w="541" h="502">
                  <a:moveTo>
                    <a:pt x="231" y="99"/>
                  </a:moveTo>
                  <a:lnTo>
                    <a:pt x="351" y="170"/>
                  </a:lnTo>
                  <a:lnTo>
                    <a:pt x="390" y="271"/>
                  </a:lnTo>
                  <a:lnTo>
                    <a:pt x="341" y="482"/>
                  </a:lnTo>
                  <a:lnTo>
                    <a:pt x="541" y="502"/>
                  </a:lnTo>
                  <a:lnTo>
                    <a:pt x="492" y="250"/>
                  </a:lnTo>
                  <a:lnTo>
                    <a:pt x="471" y="0"/>
                  </a:lnTo>
                  <a:lnTo>
                    <a:pt x="380" y="0"/>
                  </a:lnTo>
                  <a:lnTo>
                    <a:pt x="260" y="19"/>
                  </a:lnTo>
                  <a:lnTo>
                    <a:pt x="151" y="60"/>
                  </a:lnTo>
                  <a:lnTo>
                    <a:pt x="0" y="130"/>
                  </a:lnTo>
                  <a:lnTo>
                    <a:pt x="231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3201840" y="5607720"/>
              <a:ext cx="1370160" cy="789120"/>
            </a:xfrm>
            <a:custGeom>
              <a:avLst/>
              <a:gdLst/>
              <a:ahLst/>
              <a:rect l="l" t="t" r="r" b="b"/>
              <a:pathLst>
                <a:path w="812" h="502">
                  <a:moveTo>
                    <a:pt x="590" y="0"/>
                  </a:moveTo>
                  <a:lnTo>
                    <a:pt x="190" y="80"/>
                  </a:lnTo>
                  <a:lnTo>
                    <a:pt x="39" y="171"/>
                  </a:lnTo>
                  <a:lnTo>
                    <a:pt x="0" y="281"/>
                  </a:lnTo>
                  <a:lnTo>
                    <a:pt x="88" y="402"/>
                  </a:lnTo>
                  <a:lnTo>
                    <a:pt x="239" y="481"/>
                  </a:lnTo>
                  <a:lnTo>
                    <a:pt x="419" y="502"/>
                  </a:lnTo>
                  <a:lnTo>
                    <a:pt x="812" y="481"/>
                  </a:lnTo>
                  <a:lnTo>
                    <a:pt x="760" y="90"/>
                  </a:lnTo>
                  <a:lnTo>
                    <a:pt x="721" y="371"/>
                  </a:lnTo>
                  <a:lnTo>
                    <a:pt x="409" y="411"/>
                  </a:lnTo>
                  <a:lnTo>
                    <a:pt x="279" y="411"/>
                  </a:lnTo>
                  <a:lnTo>
                    <a:pt x="190" y="291"/>
                  </a:lnTo>
                  <a:lnTo>
                    <a:pt x="279" y="150"/>
                  </a:lnTo>
                  <a:lnTo>
                    <a:pt x="630" y="80"/>
                  </a:lnTo>
                  <a:lnTo>
                    <a:pt x="5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4128480" y="4326840"/>
              <a:ext cx="4233240" cy="1659600"/>
            </a:xfrm>
            <a:custGeom>
              <a:avLst/>
              <a:gdLst/>
              <a:ahLst/>
              <a:rect l="l" t="t" r="r" b="b"/>
              <a:pathLst>
                <a:path w="2508" h="1056">
                  <a:moveTo>
                    <a:pt x="343" y="343"/>
                  </a:moveTo>
                  <a:lnTo>
                    <a:pt x="893" y="294"/>
                  </a:lnTo>
                  <a:lnTo>
                    <a:pt x="1205" y="263"/>
                  </a:lnTo>
                  <a:lnTo>
                    <a:pt x="1504" y="213"/>
                  </a:lnTo>
                  <a:lnTo>
                    <a:pt x="1795" y="133"/>
                  </a:lnTo>
                  <a:lnTo>
                    <a:pt x="2227" y="0"/>
                  </a:lnTo>
                  <a:lnTo>
                    <a:pt x="2438" y="91"/>
                  </a:lnTo>
                  <a:lnTo>
                    <a:pt x="2508" y="1056"/>
                  </a:lnTo>
                  <a:lnTo>
                    <a:pt x="2428" y="885"/>
                  </a:lnTo>
                  <a:lnTo>
                    <a:pt x="2298" y="182"/>
                  </a:lnTo>
                  <a:lnTo>
                    <a:pt x="1785" y="253"/>
                  </a:lnTo>
                  <a:lnTo>
                    <a:pt x="1254" y="343"/>
                  </a:lnTo>
                  <a:lnTo>
                    <a:pt x="312" y="463"/>
                  </a:lnTo>
                  <a:lnTo>
                    <a:pt x="0" y="453"/>
                  </a:lnTo>
                  <a:lnTo>
                    <a:pt x="343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1"/>
            <p:cNvSpPr/>
            <p:nvPr/>
          </p:nvSpPr>
          <p:spPr>
            <a:xfrm>
              <a:off x="8125920" y="4993200"/>
              <a:ext cx="948240" cy="678960"/>
            </a:xfrm>
            <a:custGeom>
              <a:avLst/>
              <a:gdLst/>
              <a:ahLst/>
              <a:rect l="l" t="t" r="r" b="b"/>
              <a:pathLst>
                <a:path w="562" h="432">
                  <a:moveTo>
                    <a:pt x="91" y="8"/>
                  </a:moveTo>
                  <a:lnTo>
                    <a:pt x="390" y="0"/>
                  </a:lnTo>
                  <a:lnTo>
                    <a:pt x="491" y="39"/>
                  </a:lnTo>
                  <a:lnTo>
                    <a:pt x="562" y="130"/>
                  </a:lnTo>
                  <a:lnTo>
                    <a:pt x="562" y="281"/>
                  </a:lnTo>
                  <a:lnTo>
                    <a:pt x="421" y="362"/>
                  </a:lnTo>
                  <a:lnTo>
                    <a:pt x="80" y="432"/>
                  </a:lnTo>
                  <a:lnTo>
                    <a:pt x="70" y="320"/>
                  </a:lnTo>
                  <a:lnTo>
                    <a:pt x="341" y="271"/>
                  </a:lnTo>
                  <a:lnTo>
                    <a:pt x="401" y="180"/>
                  </a:lnTo>
                  <a:lnTo>
                    <a:pt x="382" y="99"/>
                  </a:lnTo>
                  <a:lnTo>
                    <a:pt x="221" y="110"/>
                  </a:lnTo>
                  <a:lnTo>
                    <a:pt x="31" y="120"/>
                  </a:lnTo>
                  <a:lnTo>
                    <a:pt x="0" y="8"/>
                  </a:lnTo>
                  <a:lnTo>
                    <a:pt x="9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3891960" y="5545080"/>
              <a:ext cx="680040" cy="819000"/>
            </a:xfrm>
            <a:custGeom>
              <a:avLst/>
              <a:gdLst/>
              <a:ahLst/>
              <a:rect l="l" t="t" r="r" b="b"/>
              <a:pathLst>
                <a:path w="403" h="521">
                  <a:moveTo>
                    <a:pt x="171" y="99"/>
                  </a:moveTo>
                  <a:lnTo>
                    <a:pt x="262" y="159"/>
                  </a:lnTo>
                  <a:lnTo>
                    <a:pt x="291" y="281"/>
                  </a:lnTo>
                  <a:lnTo>
                    <a:pt x="202" y="482"/>
                  </a:lnTo>
                  <a:lnTo>
                    <a:pt x="403" y="521"/>
                  </a:lnTo>
                  <a:lnTo>
                    <a:pt x="361" y="362"/>
                  </a:lnTo>
                  <a:lnTo>
                    <a:pt x="351" y="130"/>
                  </a:lnTo>
                  <a:lnTo>
                    <a:pt x="322" y="0"/>
                  </a:lnTo>
                  <a:lnTo>
                    <a:pt x="91" y="50"/>
                  </a:lnTo>
                  <a:lnTo>
                    <a:pt x="0" y="141"/>
                  </a:lnTo>
                  <a:lnTo>
                    <a:pt x="171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2877480" y="1108800"/>
              <a:ext cx="2624760" cy="821880"/>
            </a:xfrm>
            <a:custGeom>
              <a:avLst/>
              <a:gdLst/>
              <a:ahLst/>
              <a:rect l="l" t="t" r="r" b="b"/>
              <a:pathLst>
                <a:path w="1555" h="523">
                  <a:moveTo>
                    <a:pt x="0" y="403"/>
                  </a:moveTo>
                  <a:lnTo>
                    <a:pt x="601" y="182"/>
                  </a:lnTo>
                  <a:lnTo>
                    <a:pt x="1534" y="0"/>
                  </a:lnTo>
                  <a:lnTo>
                    <a:pt x="1555" y="81"/>
                  </a:lnTo>
                  <a:lnTo>
                    <a:pt x="1014" y="190"/>
                  </a:lnTo>
                  <a:lnTo>
                    <a:pt x="652" y="322"/>
                  </a:lnTo>
                  <a:lnTo>
                    <a:pt x="111" y="523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4"/>
            <p:cNvSpPr/>
            <p:nvPr/>
          </p:nvSpPr>
          <p:spPr>
            <a:xfrm>
              <a:off x="3065040" y="1423080"/>
              <a:ext cx="2741040" cy="916560"/>
            </a:xfrm>
            <a:custGeom>
              <a:avLst/>
              <a:gdLst/>
              <a:ahLst/>
              <a:rect l="l" t="t" r="r" b="b"/>
              <a:pathLst>
                <a:path w="1624" h="583">
                  <a:moveTo>
                    <a:pt x="0" y="422"/>
                  </a:moveTo>
                  <a:lnTo>
                    <a:pt x="10" y="583"/>
                  </a:lnTo>
                  <a:lnTo>
                    <a:pt x="781" y="333"/>
                  </a:lnTo>
                  <a:lnTo>
                    <a:pt x="1624" y="122"/>
                  </a:lnTo>
                  <a:lnTo>
                    <a:pt x="1585" y="0"/>
                  </a:lnTo>
                  <a:lnTo>
                    <a:pt x="622" y="252"/>
                  </a:lnTo>
                  <a:lnTo>
                    <a:pt x="300" y="352"/>
                  </a:lnTo>
                  <a:lnTo>
                    <a:pt x="0" y="4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5"/>
            <p:cNvSpPr/>
            <p:nvPr/>
          </p:nvSpPr>
          <p:spPr>
            <a:xfrm>
              <a:off x="3065040" y="2180880"/>
              <a:ext cx="1641960" cy="694800"/>
            </a:xfrm>
            <a:custGeom>
              <a:avLst/>
              <a:gdLst/>
              <a:ahLst/>
              <a:rect l="l" t="t" r="r" b="b"/>
              <a:pathLst>
                <a:path w="973" h="442">
                  <a:moveTo>
                    <a:pt x="10" y="231"/>
                  </a:moveTo>
                  <a:lnTo>
                    <a:pt x="973" y="0"/>
                  </a:lnTo>
                  <a:lnTo>
                    <a:pt x="942" y="142"/>
                  </a:lnTo>
                  <a:lnTo>
                    <a:pt x="0" y="442"/>
                  </a:lnTo>
                  <a:lnTo>
                    <a:pt x="10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3114000" y="2973240"/>
              <a:ext cx="710640" cy="392760"/>
            </a:xfrm>
            <a:custGeom>
              <a:avLst/>
              <a:gdLst/>
              <a:ahLst/>
              <a:rect l="l" t="t" r="r" b="b"/>
              <a:pathLst>
                <a:path w="421" h="250">
                  <a:moveTo>
                    <a:pt x="0" y="78"/>
                  </a:moveTo>
                  <a:lnTo>
                    <a:pt x="10" y="250"/>
                  </a:lnTo>
                  <a:lnTo>
                    <a:pt x="421" y="169"/>
                  </a:lnTo>
                  <a:lnTo>
                    <a:pt x="401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7"/>
            <p:cNvSpPr/>
            <p:nvPr/>
          </p:nvSpPr>
          <p:spPr>
            <a:xfrm>
              <a:off x="-501480" y="-11880"/>
              <a:ext cx="1393920" cy="1169640"/>
            </a:xfrm>
            <a:custGeom>
              <a:avLst/>
              <a:gdLst/>
              <a:ahLst/>
              <a:rect l="l" t="t" r="r" b="b"/>
              <a:pathLst>
                <a:path w="826" h="744">
                  <a:moveTo>
                    <a:pt x="0" y="744"/>
                  </a:moveTo>
                  <a:lnTo>
                    <a:pt x="396" y="289"/>
                  </a:lnTo>
                  <a:lnTo>
                    <a:pt x="826" y="0"/>
                  </a:lnTo>
                  <a:lnTo>
                    <a:pt x="289" y="207"/>
                  </a:lnTo>
                  <a:lnTo>
                    <a:pt x="82" y="496"/>
                  </a:lnTo>
                  <a:lnTo>
                    <a:pt x="0" y="744"/>
                  </a:lnTo>
                  <a:close/>
                </a:path>
              </a:pathLst>
            </a:custGeom>
            <a:solidFill>
              <a:srgbClr val="ffd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8"/>
            <p:cNvSpPr/>
            <p:nvPr/>
          </p:nvSpPr>
          <p:spPr>
            <a:xfrm>
              <a:off x="-864360" y="-286920"/>
              <a:ext cx="1812960" cy="1432080"/>
            </a:xfrm>
            <a:custGeom>
              <a:avLst/>
              <a:gdLst/>
              <a:ahLst/>
              <a:rect l="l" t="t" r="r" b="b"/>
              <a:pathLst>
                <a:path w="1074" h="911">
                  <a:moveTo>
                    <a:pt x="0" y="911"/>
                  </a:moveTo>
                  <a:lnTo>
                    <a:pt x="233" y="448"/>
                  </a:lnTo>
                  <a:lnTo>
                    <a:pt x="537" y="208"/>
                  </a:lnTo>
                  <a:lnTo>
                    <a:pt x="1074" y="0"/>
                  </a:lnTo>
                  <a:lnTo>
                    <a:pt x="537" y="41"/>
                  </a:lnTo>
                  <a:lnTo>
                    <a:pt x="250" y="216"/>
                  </a:lnTo>
                  <a:lnTo>
                    <a:pt x="51" y="464"/>
                  </a:lnTo>
                  <a:lnTo>
                    <a:pt x="0" y="911"/>
                  </a:lnTo>
                  <a:close/>
                </a:path>
              </a:pathLst>
            </a:custGeom>
            <a:solidFill>
              <a:srgbClr val="ffd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9"/>
            <p:cNvSpPr/>
            <p:nvPr/>
          </p:nvSpPr>
          <p:spPr>
            <a:xfrm>
              <a:off x="-1116000" y="-573120"/>
              <a:ext cx="1393920" cy="1172880"/>
            </a:xfrm>
            <a:custGeom>
              <a:avLst/>
              <a:gdLst/>
              <a:ahLst/>
              <a:rect l="l" t="t" r="r" b="b"/>
              <a:pathLst>
                <a:path w="826" h="746">
                  <a:moveTo>
                    <a:pt x="0" y="746"/>
                  </a:moveTo>
                  <a:lnTo>
                    <a:pt x="163" y="415"/>
                  </a:lnTo>
                  <a:lnTo>
                    <a:pt x="452" y="165"/>
                  </a:lnTo>
                  <a:lnTo>
                    <a:pt x="826" y="0"/>
                  </a:lnTo>
                  <a:lnTo>
                    <a:pt x="287" y="124"/>
                  </a:lnTo>
                  <a:lnTo>
                    <a:pt x="35" y="384"/>
                  </a:lnTo>
                  <a:lnTo>
                    <a:pt x="0" y="746"/>
                  </a:lnTo>
                  <a:close/>
                </a:path>
              </a:pathLst>
            </a:custGeom>
            <a:solidFill>
              <a:srgbClr val="ffd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30"/>
          <p:cNvSpPr/>
          <p:nvPr/>
        </p:nvSpPr>
        <p:spPr>
          <a:xfrm rot="21309600">
            <a:off x="2131560" y="545760"/>
            <a:ext cx="431964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Персы!                                                                                                                       Если вы, как птицы,                                                    не улетите в небо,                                            или, как мыши,                                                               не зароетесь в землю,                                            или, как лягушки,                              не ускачете в болото,                                   то не вернетесь назад, пораженные стрелам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Скиф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7"/>
          <p:cNvSpPr/>
          <p:nvPr/>
        </p:nvSpPr>
        <p:spPr>
          <a:xfrm>
            <a:off x="380880" y="125280"/>
            <a:ext cx="87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ИКТОГРАФИЧЕСКОЕ ПИСЬМО 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письмо рисунками.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 от латинского слова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ictu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исунок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и  греческого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graph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иш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9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056200" y="3967200"/>
            <a:ext cx="3854520" cy="1888920"/>
          </a:xfrm>
          <a:prstGeom prst="rect">
            <a:avLst/>
          </a:prstGeom>
          <a:ln w="0">
            <a:noFill/>
          </a:ln>
        </p:spPr>
      </p:pic>
      <p:pic>
        <p:nvPicPr>
          <p:cNvPr id="94" name="Object 10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062680" y="1924200"/>
            <a:ext cx="3670200" cy="1272960"/>
          </a:xfrm>
          <a:prstGeom prst="rect">
            <a:avLst/>
          </a:prstGeom>
          <a:ln w="0">
            <a:noFill/>
          </a:ln>
        </p:spPr>
      </p:pic>
      <p:pic>
        <p:nvPicPr>
          <p:cNvPr id="95" name="Object 12" descr=""/>
          <p:cNvPicPr/>
          <p:nvPr/>
        </p:nvPicPr>
        <p:blipFill>
          <a:blip r:embed="rId3">
            <a:lum contrast="18000"/>
          </a:blip>
          <a:srcRect l="0" t="0" r="0" b="-15"/>
          <a:stretch/>
        </p:blipFill>
        <p:spPr>
          <a:xfrm>
            <a:off x="250920" y="1700280"/>
            <a:ext cx="45291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e9b"/>
            </a:gs>
            <a:gs pos="50000">
              <a:srgbClr val="ffffff"/>
            </a:gs>
            <a:gs pos="100000">
              <a:srgbClr val="ffde9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7"/>
          <p:cNvSpPr/>
          <p:nvPr/>
        </p:nvSpPr>
        <p:spPr>
          <a:xfrm>
            <a:off x="179280" y="404640"/>
            <a:ext cx="4608720" cy="24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ЕРОГЛИФИЧЕСКОЕ ПИСЬМО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от греческих слов                                              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eros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вященны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glyphe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езьб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{D40A84CC-59E5-4101-B553-C18E55DCBB89}"/>
          <p:cNvPicPr/>
          <p:nvPr/>
        </p:nvPicPr>
        <p:blipFill>
          <a:blip r:embed="rId1"/>
          <a:stretch/>
        </p:blipFill>
        <p:spPr>
          <a:xfrm>
            <a:off x="5867280" y="3213000"/>
            <a:ext cx="2833920" cy="3311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2"/>
          <a:stretch/>
        </p:blipFill>
        <p:spPr>
          <a:xfrm>
            <a:off x="4716360" y="188280"/>
            <a:ext cx="4246560" cy="2935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3"/>
          <a:stretch/>
        </p:blipFill>
        <p:spPr>
          <a:xfrm>
            <a:off x="179280" y="2421000"/>
            <a:ext cx="4464000" cy="42447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1"/>
          <p:cNvSpPr/>
          <p:nvPr/>
        </p:nvSpPr>
        <p:spPr>
          <a:xfrm>
            <a:off x="5651640" y="64612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исец иероглифов Ка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0" y="6491160"/>
            <a:ext cx="61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6:31:22Z</dcterms:created>
  <dc:creator>User</dc:creator>
  <dc:description/>
  <dc:language>en-US</dc:language>
  <cp:lastModifiedBy>ЦО 34</cp:lastModifiedBy>
  <dcterms:modified xsi:type="dcterms:W3CDTF">2023-04-18T11:03:13Z</dcterms:modified>
  <cp:revision>6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150000000000010292010207f7000400038000</vt:lpwstr>
  </property>
</Properties>
</file>