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F04-674F-457A-B368-347A9CB8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74C-776E-4796-893F-F63C6E42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709A2-7C4A-4E76-BD63-1BC1F0B2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6F44D-055C-46BD-9572-233CF437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AC126-011B-4AD4-8210-F0651F06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D7E7F-5060-4D1C-AD10-15E6EEBC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DEE19-AB25-44C6-B4DF-658407F3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2A726-0440-4B93-B93B-965FFCD7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DFDC4-A955-4F47-9B0F-4BD0BA52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5B04E-270D-4E8C-B314-681C43F9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9C7A2-D9B6-4F72-987D-0FD9A55C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5B985-D55A-48E0-BBA8-AFA2CFB6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40C-F44E-4F11-9E51-0C54CE88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75769-DC8F-4A73-A306-503C5580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31256-3D7D-4C6F-A064-90DCA00B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BA9AD-7076-437D-9D12-FC7F9827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21A8A-5312-42D9-85C6-1050C425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8F3F3-F1C1-46A2-BCC1-ABAA7F6B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EA72A-9A75-471C-A1C6-70A04A11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C0235-65ED-48A8-BF39-3AC53519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0BB02-0455-465E-AFB6-F40EAC32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33C6E-52FD-4738-964F-553496CF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1E3D0-C112-4AF9-A001-53D6F87C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E6B9-3FE5-435E-835E-AA280470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C69E2-7E85-489D-8465-6732B1AE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21713-7C48-4531-A15A-E597C6D2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99C10-C56A-4EB9-9D8F-322F86F9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CB3D0-08FE-4463-ACC0-5C078B6E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5893C-14FD-453D-A388-E3817C2B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3C197-AEE0-4673-9F05-72456285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4C778-FB46-4EF2-93B8-AC1746DE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7AC14-818A-449C-AE4C-14C13946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5F66A-BBD9-4DF2-ADF0-41FD6E04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CB8D1-5CA7-482D-BD72-A097CAAB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DBCE-11FB-4C1E-9ED2-F96E2B1F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0435C-5052-4725-95F5-3594381E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E2165-DCAF-4A80-A6C5-85E16828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495C0-B409-4482-9268-C4657892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AC96B-9E01-491A-A9D1-9334A556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03408-FD47-4588-AAD7-60D254EA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FD335-7C0E-4212-AE3E-6EC9281B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73C1D-BBD9-4C9B-BBA6-24DED5AB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6A2C6-CDA2-4131-9DA3-F81361A1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903D4-15E8-415A-9146-E696F791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244E5-AC86-4482-9E46-779E0C71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2143-5CD1-4E2E-A5C8-EF025D20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23841-BD51-4E2C-BB3F-6C8CC48A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B5536-475C-4488-8BA0-4C5CD73E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E1A81-C865-4BD3-A7FC-43FB8C2B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5037C-060B-4FA3-932A-0BF645A6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C64FF-F1F4-4A5D-9829-A947A932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34FB-359E-4F06-A9CB-67A33D01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17A2-BF4E-40C2-B62A-9D055719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6D38-9701-4D33-823C-8B3AF3DC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178E-6565-4C86-A6D8-8DB2D8A5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A17F-7D8C-448B-89C8-AC7E01E0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871A-3886-41EB-B450-52B1FB4A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0A28-2D3C-4010-8DAE-E64AEA9A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F09C-5AE7-4EB9-AA30-C02B40B7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775B-499D-4AE7-9D3C-7E1615F8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9DBB-146E-4F96-86A7-94C85722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1B7E-D976-4E87-8F31-9AD44CDF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94CD2-D853-4C80-8C2B-260AFB68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F3898-77C1-44F5-9D94-C109C066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605B1-A672-424F-A746-A8499B24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D1192-2504-4000-9CA1-53A0A319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56475-F676-4296-A18E-7E0655EE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BC8B-77B6-45EB-B035-C20ACC01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4F6DB-17BF-4A99-B2B5-FD678EDE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9D2FE-5581-4DE2-ADEE-E448BCFB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93FDF-F105-4042-8618-5266FE75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355F7-C586-4857-8A33-78F3B3CA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02A8D-E921-4860-8D2C-0F93C559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E4409-2B3F-4C27-9DA4-E61FC240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9E191-46B8-4620-8489-342FEEF9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E0741-CACE-4F9C-ADB8-18B3DBBE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2F083-FBA6-49BB-90D8-0239DA0B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95C92-4CB8-46E8-B431-8789A3E7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DE8-5F1E-4618-89E5-83C60805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A37D9-ECF7-4EAD-AE6B-74803495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96FA5-80AE-4670-9919-D37E8EF2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F77A3-E44E-4C6A-96BC-0FB79FC4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B8FCC-CF8B-48BA-BB82-6BEA2A18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BC884-F146-44E7-9261-1347D792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50219-2C0F-415B-84F9-E965935C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5B713-3E7C-4A87-B0A8-423D0871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DCFE0-8BC3-4D2B-9D09-DB5603B6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4730F-7BDF-4F2B-A5E1-4C2E062A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77BD5-8653-416B-93E4-DAC4F2EB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4815-F302-4863-984C-DC19E92A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31D42-F1A7-46F1-B612-FFCF5A07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DED71-274E-479F-8538-5C5B8095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15A84-5F4B-4603-B3B1-EA4E4EF1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5566E-B3E6-4C56-B11B-0BE8AEFA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649E3-BAF0-4A56-A238-F5599636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A79F3-D0F0-4A31-89A4-67BC3DAE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2D100-E168-413C-B752-7F2A5B16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C4FB2-5771-4C2D-94DA-07018A27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154B9-6717-462E-B78B-E4F25DB3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B6128-D22D-45A8-9611-D4E4729E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C50-5C20-48E1-8D40-0A7043DB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5C08A-BDA4-480F-BD33-C24C89B8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F26BD-0324-4A2C-8969-897284B4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9B7F6-1C07-4B54-AF6E-3B227D26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E9054-8A4F-4369-A41B-854B5490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2F223-FDFE-4AC0-88DE-E7023F97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F7691-1ADD-434F-867E-3E1FBE33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3A853-0594-4679-89AD-F50E9C5D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96EF1-069B-4B89-BFDC-9847A754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F59EA-E2D9-4187-B980-7867D202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7A95B-5715-4592-9301-32CA4DF2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589-9B6C-450A-A58F-1AA98673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1482B-3DC1-48AE-90A0-96B80E0C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A1F36-0F65-464A-838D-D29A2000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54F7A-3663-4FA7-AC05-CE187B4A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F215A-A41F-4B50-9EFC-ACD39B0E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996B0-78CF-4B40-9348-B3EA283F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684E8-EAE5-41DA-92C0-0330538C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8A2A5-C000-442B-86D7-E490222D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51FAF-097B-4871-835B-582565C0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E9A09-CDEE-4532-8CE1-A50394D9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D660A-BAD6-4C6B-A519-542E2EC8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20D-6930-4E15-B221-876BF288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FBFB0-71F4-4136-820C-1EB31539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388CD-5C66-4E51-A748-55AA1BC7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680A4-F09C-4A73-A95A-5CD2AC44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786E2-1F30-4CA9-950A-6027B795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7ABE7-E33D-4B76-B941-0727638A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4C1BA-A2D4-4AAE-8782-8395A6C2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53C45-E664-44F5-A12B-250641C1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C072F-5BC1-4AE4-B1AC-37B3AAC1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1C330-7190-41F4-8EAD-FA55D1A8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9DE6E-D912-4710-BF95-A535745C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4A2-D2DF-4601-9026-144C6F83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77C9B-BDCC-4B14-BD0A-39047271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6BBE7-74F8-40CF-BE60-F5AB8F37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200AA-B711-4279-8A08-6B6DC100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97760-6FB5-41B5-B93C-A97FEE04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08D5D-8520-47DD-83D5-C15B8383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BE68D-3E14-4A0F-9F72-4A91C47F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73BDA-0335-4345-BBC1-5322B3E3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5EAE4-1BD6-4CCB-9A61-C4739BBD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E8F3D-1602-4029-811A-FA00DE0A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676E6-317E-4967-95E7-75928D22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9EC9-9ED3-425D-8AB1-69296673365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513B-6F54-4360-BB48-7BA3035EC6E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019E-40EB-458F-9683-B3D593A47AF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21F8-5117-40D2-BE82-4E087235188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0934-B5FA-4602-B922-CFC0A6F4A7A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4553-DDBB-4683-B970-10BE49E82CE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1EB5-AD12-4006-B053-B2B859111D1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A225-B9B2-450C-8F97-76A6AB32FC5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080A-6752-47F8-961B-216F36B160C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8987-BA6F-435D-931F-7F000EA28F0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7D60-9E22-40C4-ACBA-A7F70791404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1451-BAAF-456B-A4E8-A50119D8FBB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Times New Roman"/>
              </a:rPr>
              <a:t>Алкины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360" y="154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е негибридны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орбитали каждого атома углерода, расположенные перпендикулярно друг другу и перпендикулярно направлению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связей, взаимно перекрываются и образуют две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вязи. Таким образом, тройная связь характеризуется сочетанием одн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 двух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связ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Для алкинов характерны все реакции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присоеди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свойственные алкенам, однако у них после присоединения первой молекулы реагента остается еще одна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связь (алкин превращается в алкен), которая вновь может вступать в реакцию присоединения со второй молекулой реагента. Кроме того, "незамещенные" алкины проявляют кислотные свойства, связанные с отщеплением протона от атома углерода, составляющего тройную связь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–Н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8" name="Рисунок 1" descr=""/>
          <p:cNvPicPr/>
          <p:nvPr/>
        </p:nvPicPr>
        <p:blipFill>
          <a:blip r:embed="rId1"/>
          <a:stretch/>
        </p:blipFill>
        <p:spPr>
          <a:xfrm>
            <a:off x="2112840" y="4221000"/>
            <a:ext cx="513396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Химические свойств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присоедин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Гидриро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существляется при нагревании с теми же металлическими катализаторами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, что и в случае алкенов, но с меньшей скорость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ропе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пропа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Галогенировани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Алкины обесцвечивают бромную воду (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ачественная реакция на тройную связ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 Реакция галогенирования алкинов протекает медленнее, чем алкен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CHB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B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1,2-дибромэте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B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B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Br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Br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тетрабромэта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12000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Гидрогалогенировани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разующиеся продукты определяются правилом Марковнико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B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B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-бромпропе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B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B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Br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бромпропан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-360" y="549000"/>
            <a:ext cx="89550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) </a:t>
            </a: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Гидратац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реакция Кучерова). Присоединение воды осуществляется в присутствии сульфата ртути. Эту реакцию открыл и исследовал в 1881 году М.Г.Кучеров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3600" spc="-1" strike="noStrike" baseline="-12000">
                <a:solidFill>
                  <a:srgbClr val="000000"/>
                </a:solidFill>
                <a:latin typeface="Times New Roman"/>
              </a:rPr>
              <a:t>HgSO</a:t>
            </a:r>
            <a:r>
              <a:rPr b="0" lang="ru-RU" sz="2000" spc="-1" strike="noStrike" baseline="-12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6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600" spc="-1" strike="noStrike" baseline="-12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–C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CH + H</a:t>
            </a:r>
            <a:r>
              <a:rPr b="1" lang="ru-RU" sz="36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O 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6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600" spc="-1" strike="noStrike" baseline="-12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C – CH</a:t>
            </a:r>
            <a:r>
              <a:rPr b="1" lang="ru-RU" sz="36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то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34440" y="549360"/>
            <a:ext cx="8558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ило В.В.Марковникова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водород присоединяется к наиболее гидрогенизированному атому углерода при двойной связи, то есть к атому углерода с наибольшим числом водородных атомов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) 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Полимеризация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Алкины ввиду наличия тройной связи склонны к реакциям полимеризации, которые могут протекать в нескольких направлениях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a) Под воздействием комплексных солей меди происходит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димеризация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и линейная тримеризация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ацетилена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</a:rPr>
              <a:t>k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 + H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 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утен-1-ин-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 + H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Тримериз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для ацетилена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акт.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бензол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631000" cy="58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ислотные свойст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дородные атомы ацетилена способны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замещать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еталлами с образованием ацетиленид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Na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N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g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g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baseline="14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 baseline="14000">
                <a:solidFill>
                  <a:srgbClr val="000000"/>
                </a:solidFill>
                <a:latin typeface="Times New Roman"/>
              </a:rPr>
              <a:t>аммиачный р-р</a:t>
            </a:r>
            <a:r>
              <a:rPr b="1" lang="en-US" sz="2800" spc="-1" strike="noStrike" baseline="14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Cl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Cu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HC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14000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 baseline="14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 baseline="14000">
                <a:solidFill>
                  <a:srgbClr val="000000"/>
                </a:solidFill>
                <a:latin typeface="Times New Roman"/>
              </a:rPr>
              <a:t>аммиачный р-р</a:t>
            </a:r>
            <a:r>
              <a:rPr b="1" lang="en-US" sz="2800" spc="-1" strike="noStrike" baseline="14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75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кисл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Горени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= 250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СН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СН +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↓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C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5O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4CO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Q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В присутствии перманганата калия ацетилен          легко окисляется в до щавелевой кислоты (обесцвечивание раствор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MnO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вляется качественной реакцией на наличие тройной связи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MnO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O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+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O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O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Примене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560" y="333360"/>
            <a:ext cx="8188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горении ацетилена в кислороде температура пламени достигает 315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°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поэтому ацетилен используют дл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резки и сварки металл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Кроме того, ацетилен широко используетс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 органическом синтез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нообразных веществ - например, уксусной кислоты, 1,1,2,2- тетрахлорэтана и др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Он является одним из исходных веществ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и производстве синтетических каучуков, поливинилхлорида и других полимер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0560" y="31320"/>
            <a:ext cx="88930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Ацетиленовые углеводород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66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Ацетиленовыми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глеводородами (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алкина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называются непредельные (ненасыщенные) углеводороды, содержащие в молекуле одну тройную связь и имеющие общую формулу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lang="en-US" sz="3200" spc="-1" strike="noStrike" baseline="-12000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ru-RU" sz="3200" spc="-1" strike="noStrike" baseline="-12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3200" spc="-1" strike="noStrike" baseline="-12000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ru-RU" sz="3200" spc="-1" strike="noStrike" baseline="-12000">
                <a:solidFill>
                  <a:srgbClr val="333399"/>
                </a:solidFill>
                <a:latin typeface="Times New Roman"/>
              </a:rPr>
              <a:t>-2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75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оначальником гомологического ряда эти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75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глеводородов является ацетилен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Номенклатур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631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гласно международной номенклатуре наз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цетиленовых углеводородов производят о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тветствующего алкана с заменой суффикс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а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–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ую цепь нумеруют с того конца, к котором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лиже расположена тройная связ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ение тройной связи обозначаю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мером тог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тома углерода, который ближе к началу цеп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C – CH(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пентин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2020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Изомер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5200" y="1484280"/>
            <a:ext cx="9118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изомерия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углеродного скеле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начиная 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C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H≡C- CH(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 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800" spc="-1" strike="noStrike" baseline="12000">
                <a:solidFill>
                  <a:srgbClr val="000000"/>
                </a:solidFill>
                <a:latin typeface="Times New Roman"/>
                <a:ea typeface="Times New Roman"/>
              </a:rPr>
              <a:t>пентин-1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800" spc="-1" strike="noStrike" baseline="12000">
                <a:solidFill>
                  <a:srgbClr val="000000"/>
                </a:solidFill>
                <a:latin typeface="Times New Roman"/>
                <a:ea typeface="Times New Roman"/>
              </a:rPr>
              <a:t>3-метилбутин-1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изомерия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оложения тройн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вязи (начиная 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C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≡C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800" spc="-1" strike="noStrike" baseline="12000">
                <a:solidFill>
                  <a:srgbClr val="000000"/>
                </a:solidFill>
                <a:latin typeface="Times New Roman"/>
                <a:ea typeface="Times New Roman"/>
              </a:rPr>
              <a:t>пентин-1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2800" spc="-1" strike="noStrike" baseline="12000">
                <a:solidFill>
                  <a:srgbClr val="000000"/>
                </a:solidFill>
                <a:latin typeface="Times New Roman"/>
                <a:ea typeface="Times New Roman"/>
              </a:rPr>
              <a:t>пентин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межклассов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зомерия (алкадиены)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C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CH-CH=CH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800" spc="-1" strike="noStrike" baseline="12000">
                <a:solidFill>
                  <a:srgbClr val="000000"/>
                </a:solidFill>
                <a:latin typeface="Times New Roman"/>
                <a:ea typeface="Times New Roman"/>
              </a:rPr>
              <a:t>пентин-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 baseline="12000">
                <a:solidFill>
                  <a:srgbClr val="000000"/>
                </a:solidFill>
                <a:latin typeface="Times New Roman"/>
                <a:ea typeface="Times New Roman"/>
              </a:rPr>
              <a:t>пентадиен-1,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480" y="0"/>
            <a:ext cx="913752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Физические свойств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91600" y="907560"/>
            <a:ext cx="85647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ературы их плавления и кип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еличиваются с ростом молекулярной масс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бычных условиях алкины С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С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газы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жидкости, высшие алкины – твердые веществ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тройной связи в цепи приводит к повышени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ературы кипения, плотности и растворимости и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воде по сравнению с олефинами и парафина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-33840" y="29880"/>
            <a:ext cx="917748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Получение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 В промышленноси ацетилен получаю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отемпературным пиролизом метана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1500</a:t>
            </a:r>
            <a:r>
              <a:rPr b="1" lang="en-US" sz="32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Дегидрирование алкан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↔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 Ацетилен получают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карбидным способ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и разложении карбида кальция водо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C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108000" y="260280"/>
            <a:ext cx="9036000" cy="58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 Алкины можно получи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гидрогалогенирование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галогенопроизводных парафин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 + 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Br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200" spc="-1" strike="noStrike" baseline="12000">
                <a:solidFill>
                  <a:srgbClr val="000000"/>
                </a:solidFill>
                <a:latin typeface="Times New Roman"/>
              </a:rPr>
              <a:t>спирт. р-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Br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200" spc="-1" strike="noStrike" baseline="12000">
                <a:solidFill>
                  <a:srgbClr val="000000"/>
                </a:solidFill>
                <a:latin typeface="Times New Roman"/>
              </a:rPr>
              <a:t>спирт. р-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Строение ацетилен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9640" y="1004400"/>
            <a:ext cx="777240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леродные атомы в молекуле ацетилена находятся в состоян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гибридизации. Это означает, что каждый атом углерода обладает двумя гибридным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орбиталями, оси которых расположены на одной линии под углом 1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руг к другу, а дв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орбитали остаются негибридны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Гибридные орбитали двух атомов углерода в состояни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шествующем образованию тройной связи и связ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3" name="Picture 4" descr="img007"/>
          <p:cNvPicPr/>
          <p:nvPr/>
        </p:nvPicPr>
        <p:blipFill>
          <a:blip r:embed="rId1"/>
          <a:stretch/>
        </p:blipFill>
        <p:spPr>
          <a:xfrm>
            <a:off x="1403280" y="4221000"/>
            <a:ext cx="63374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772400" cy="56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дной из двух гибридных орбиталей каждого атома углерода взаимно перекрываются, приводя к образовани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вязи между атомами углерода. Каждая оставшаяся гибридная орбиталь перекрывается 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орбиталью атома водорода, образу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вязь С–Н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хематическое изображение строения молекулы ацетилена (ядра атомов углерода и водорода на одной прямо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в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связи между атомами углерода находятся в двух взаимно перпендикулярных плоскостях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5" name="Picture 4" descr="img010"/>
          <p:cNvPicPr/>
          <p:nvPr/>
        </p:nvPicPr>
        <p:blipFill>
          <a:blip r:embed="rId1"/>
          <a:stretch/>
        </p:blipFill>
        <p:spPr>
          <a:xfrm>
            <a:off x="755640" y="3124080"/>
            <a:ext cx="2665440" cy="20894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img004"/>
          <p:cNvPicPr/>
          <p:nvPr/>
        </p:nvPicPr>
        <p:blipFill>
          <a:blip r:embed="rId2"/>
          <a:stretch/>
        </p:blipFill>
        <p:spPr>
          <a:xfrm>
            <a:off x="5294160" y="3376440"/>
            <a:ext cx="26402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6:05:51Z</dcterms:created>
  <dc:creator>WASP</dc:creator>
  <dc:description/>
  <dc:language>en-US</dc:language>
  <cp:lastModifiedBy>Ларина Елена Александровна</cp:lastModifiedBy>
  <dcterms:modified xsi:type="dcterms:W3CDTF">2018-11-08T11:14:45Z</dcterms:modified>
  <cp:revision>19</cp:revision>
  <dc:subject/>
  <dc:title>Алкины</dc:title>
</cp:coreProperties>
</file>