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11C-C8EF-48F5-A7CE-542B8B55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D81-C4CF-4034-B23E-FDC8743F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D70CF-546C-4B9B-BD0C-21F12BF2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8C9E5-7DA5-4F30-A220-6E809FCA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493AF-8780-4EFC-9FFD-9DEAA3C7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B0FEF-F206-4B3B-841C-229C8C6F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AAD35-403A-41C8-8266-C06C3954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7CD04-2B41-461E-B529-29EBB12E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619D3-D923-47EC-BEC2-8C7F8AAF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C9195-C6CA-41B7-B2F5-36470973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B5F30-A590-40BF-8CA1-1003035C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84F62-CA0B-460B-801E-F082B3FB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C6C-71D5-47D6-9C47-D34A3C28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F871A-7A10-43AE-A360-4C2ADB08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4C602-3162-4DB1-ABA9-796D2A06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A4B67-CFC7-442A-A40D-2B3773E9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3E398-F2DF-4AB4-B886-94E951D1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FFFDD-F0B9-4E05-B458-3235379E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4AD26-86F7-4030-81A4-3FC3238E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3492E-6F1B-4908-A070-617D68D2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1C7BD-36EE-49FF-97AD-BDBECB25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5D047-DC0A-4F1C-A159-0272FE89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38D8B-714C-4F07-82DA-E1BEBC63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BDF-F52E-4039-BD1A-DF4B093A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3C4BC-2B58-4619-B0E1-B600E09B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3BF5D-C19C-426B-BAA3-7BB2C76A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37D66-041E-489E-9464-7DDA96A7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E4AEC-C251-451A-9B96-844156E2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25957-72CF-471B-B619-167ECC53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C5212-DD53-46E3-AFA7-86C4B30E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F6309-596B-4EA4-976C-A59B32A2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07DCD-0E9E-470B-BC94-69F709BD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8E902-D443-49E2-824A-B7AD3C3B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246C2-27EB-4F50-8336-C61DCAB7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E693-A4BC-41D3-A275-96013756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6E087-0F86-4B57-BA39-F10996BB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63E2E-80D3-4BF3-AC1B-A0F503C4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58C73-73BD-42F9-A7EE-7C02BFDF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7A498-A48A-4739-B513-50DBBDC0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37C4B-4C32-4320-839F-890AB025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7FCF9-1FCE-4F64-84FE-10F3F6D3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9C90A-F11F-408E-B3E7-C6C83D46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E2406-6F0D-4206-AB9A-4061908D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F4DA9-2703-4197-B91A-0EB2A697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E1ABC-8DA7-4DD7-8AA7-B4911923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DE01-E02C-4FD0-BA52-8AE4A9D4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0A092-272C-40AE-90A9-276E1285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28767-BD2F-4B22-A4FA-0F36113B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541E2-BE5A-4C0E-B00F-29B93A2E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36339-258B-4DB4-B78C-52526D4A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E19A9-D293-4134-BC22-AE6C05EF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8B72-F33C-4791-8E27-A5E442F8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0DAD-55F8-4CD3-A9F5-24491959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2A18-D896-4208-8A46-F0117FAB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E376-CEC6-49C6-966A-52F7A4FB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7C5C-A0ED-4239-941B-082AA8E3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3C5-295A-4DB6-BC07-3E429BB9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4FE4-51DA-4FB7-A630-A74F4885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CDC1-D582-4BE9-B295-F6367E06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E1AA-8B3B-4F73-95E3-DFFB471C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D951-1AAC-49A1-8CD5-C6FCF9A8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0BC6-36E1-41D9-8862-3B0F13D8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419D-72A5-4FD6-A442-A7E1D12D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DE59-1C88-436C-A0D2-2A647576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A006-8A28-40D2-A31C-F4DC2C22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D79E-AFD2-40B0-A8F9-7E4613C9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D75FC-7FBD-4F24-B3D3-5D0DD3E2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4A2-C3DB-430F-A353-311CC023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59463-71D4-4C6E-BCEF-44C105E8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5A4B6-CA71-44AA-9EB8-03122062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A263-8D13-400B-9CC5-448CA52A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60689-6697-4337-8AA0-47FFD0DC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539E-6D12-4B56-9D0C-8E7C2646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D3B8A-A66A-4DF2-A8EB-1DDD138C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F23C-DA8E-4293-99D6-D4AC15CB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1DD22-40A9-4FC0-9DA9-D7986A40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F526-DB91-42D9-82C3-215D9C0C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18FE8-C18A-4B62-A0B7-6BAE18DC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0B1-58AF-4A36-A7A5-57B8AAEF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0BFFE-610E-47F2-87AF-549DEE17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6F9A-726E-4C94-8435-8F3E6D86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63C91-ED8B-4EAA-ACAE-77117118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8428-C588-4A0C-A496-0F3EDDE0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14C5-3653-4C84-AF63-2ABA41E6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3FDF-5D67-4F23-AC63-CD3F12F9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3178-6DE2-48CE-A98F-C6140F6E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5886A-2D23-49A2-9844-7F3A35BB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03F4B-D1C0-401C-AFF6-1920AA47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9EB21-6706-4335-9BCD-FB3CB082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4E6-7A84-421F-95EF-BA43EB7B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6FB64-2926-4937-8C93-3E1059AC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6FBF2-5849-4DB1-8F4B-8F32DFB9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40F17-B07D-4379-9747-151B24B4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BD670-42D1-40BA-8923-42A7E5E2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1606F-EC5B-4622-B4B4-2699BCC1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06D0F-BF57-4AD7-955D-F749AE41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904C2-B8F8-43E2-9932-AA924035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7754-B157-4B25-B95D-3B6A90CE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7F799-9447-4DB9-A87B-F12FA16E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A5A5C-2BEE-4498-834B-32D278D4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202-2A97-433A-9BEB-9E5B1A94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7888-590D-4C16-A447-E8F73BE5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F396D-2C30-4FFE-9303-B8F99C7E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24EB6-776F-4D88-A7C8-DBC16B2D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A33C3-585A-469B-8541-2E80EF6A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29F10-148D-4964-BE20-FC2F8E9E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EC77F-C9E7-4016-8298-EAC73737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62F01-077A-41ED-99EF-BA98A2AD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352EE-053F-4C30-A998-87C4E86D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F5929-09C9-4A12-AB80-4D4FAA81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8F134-E45F-4285-B7AE-C273008F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652-A16E-456B-B42D-0F1C08BF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CC3BF-8FA7-4ED0-AC1C-ECB54F7D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73832-EE58-4F02-B30E-EE7990DE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E01C-E30A-47A8-AFB2-9B162D1D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5B90A-07CB-48E7-881A-933107AA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6772B-49EB-46B9-BC1A-0163BA3F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6AC4E-D255-4FA6-86E4-2506E6A4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7C8EA-549E-4A29-91E5-C71204C0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1A3D4-B591-4AE7-846B-5793EF61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E353A-C8DF-40A4-A3B4-3BDEAC8C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94A9D-D538-4991-8CE4-995C6E10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09F-C518-429E-A1D8-B531F07A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2E07D-3C45-4407-BD51-7F0295D8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DEE0D-C06B-469A-8C11-2C9E116A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5BF45-619D-47DE-B7B6-BBBBE620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65B72-32F9-4C4A-8AC7-B7B6C6B7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F3EE0-7688-4CFE-BFBB-521FBD10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0EAB5-AEEF-4956-BED5-C1CCBBA4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570A4-C244-4B24-A903-8385C6EE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4394E-AA02-4CB5-B9ED-F3F6563B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101F2-44FA-4541-BFBF-DDBAE5A8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C6D2E-0847-438F-829B-CCC2F161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E79-E9B1-4D06-AA34-08846B53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41C1C-1015-428C-9D21-CC373A68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962AF-D88F-4EC1-A451-4CC04042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E2F09-5F87-4ECB-BDA5-D6940254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62D30-9A38-431B-9012-DE7B7A64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871A7-D605-4ADD-B4D4-7A2C1D4E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7ED06-36F7-4C5B-8602-3571B35F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D9C5F-3A67-4E98-A177-B2DC9A30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6E7DF-6F84-4895-BB27-B79C3049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9A443-9519-4988-9148-BBED3E40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27AA5-9D9E-4C19-AE99-8D7BBBDE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03EA-11B8-45D0-83D7-037566C896F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B084-E104-429D-84E9-1275E1CA51F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28EB-3318-4E57-B95B-FB0A064E199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8700-251A-4B03-B200-74B48155AE6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D422-E22E-43EA-A3D3-C92276D31FC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9B1E-A2B7-4571-ADA7-F774924BEBE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1F6F-CE84-4AE7-AFC3-54649130B16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B34C-D169-44E7-8715-AD6AED857CF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1E47-7834-4011-9607-2CCF00D484A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FF1F-6892-40A5-9374-0B8AD319082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CCCA-4672-4F8E-BF2C-D86C121FD45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4893-2F4D-49A3-92FF-6BB5EF44F88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Times New Roman"/>
              </a:rPr>
              <a:t>Алкины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360" y="154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е негибридны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орбитали каждого атома углерода, расположенные перпендикулярно друг другу и перпендикулярно направлению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связей, взаимно перекрываются и образуют дв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вязи. Таким образом, тройная связь характеризуется сочетанием од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 двух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связ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Для алкинов характерны все реакции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при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войственные алкенам, однако у них после присоединения первой молекулы реагента остается еще одн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связь (алкин превращается в алкен), которая вновь может вступать в реакцию присоединения со второй молекулой реагента. Кроме того, "незамещенные" алкины проявляют кислотные свойства, связанные с отщеплением протона от атома углерода, составляющего тройную связь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–Н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8" name="Рисунок 1" descr=""/>
          <p:cNvPicPr/>
          <p:nvPr/>
        </p:nvPicPr>
        <p:blipFill>
          <a:blip r:embed="rId1"/>
          <a:stretch/>
        </p:blipFill>
        <p:spPr>
          <a:xfrm>
            <a:off x="2112840" y="4221000"/>
            <a:ext cx="513396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Химические свойств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присоедин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Гидрир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существляется при нагревании с теми же металлическими катализаторам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, что и в случае алкенов, но с меньшей скорость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опе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проп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Галогенировани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Алкины обесцвечивают бромную воду (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ачественная реакция на тройную связ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Реакция галогенирования алкинов протекает медленнее, чем алкен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CH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1,2-дибромэт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Br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Br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тетрабромэт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12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Гидрогалогенировани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разующиеся продукты определяются правилом Марковнико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-бромпроп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Br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бромпропан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89550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 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Гидратац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реакция Кучерова). Присоединение воды осуществляется в присутствии сульфата ртути. Эту реакцию открыл и исследовал в 1881 году М.Г.Кучеро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600" spc="-1" strike="noStrike" baseline="-12000">
                <a:solidFill>
                  <a:srgbClr val="000000"/>
                </a:solidFill>
                <a:latin typeface="Times New Roman"/>
              </a:rPr>
              <a:t>HgSO</a:t>
            </a:r>
            <a:r>
              <a:rPr b="0" lang="ru-RU" sz="20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6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–C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CH + H</a:t>
            </a:r>
            <a:r>
              <a:rPr b="1" lang="ru-RU" sz="36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O 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6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C – CH</a:t>
            </a:r>
            <a:r>
              <a:rPr b="1" lang="ru-RU" sz="36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то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34440" y="549360"/>
            <a:ext cx="8558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о В.В.Марковникова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водород присоединяется к наиболее гидрогенизированному атому углерода при двойной связи, то есть к атому углерода с наибольшим числом водородных атомов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) 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олимеризаци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Алкины ввиду наличия тройной связи склонны к реакциям полимеризации, которые могут протекать в нескольких направлениях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) Под воздействием комплексных солей меди происходит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димеризация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и линейная тримеризация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ацетилена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 + 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 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тен-1-ин-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 + 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Тримериз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для ацетилена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акт.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бензол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63100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ислотные свойст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дородные атомы ацетилена способны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замещать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еталлами с образованием ацетиленид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Na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N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g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g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14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 baseline="14000">
                <a:solidFill>
                  <a:srgbClr val="000000"/>
                </a:solidFill>
                <a:latin typeface="Times New Roman"/>
              </a:rPr>
              <a:t>аммиачный р-р</a:t>
            </a:r>
            <a:r>
              <a:rPr b="1" lang="en-US" sz="2800" spc="-1" strike="noStrike" baseline="14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Cl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u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HC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14000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 baseline="14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 baseline="14000">
                <a:solidFill>
                  <a:srgbClr val="000000"/>
                </a:solidFill>
                <a:latin typeface="Times New Roman"/>
              </a:rPr>
              <a:t>аммиачный р-р</a:t>
            </a:r>
            <a:r>
              <a:rPr b="1" lang="en-US" sz="2800" spc="-1" strike="noStrike" baseline="14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75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ис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Горе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= 250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СН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Н +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↓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C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5O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4CO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Q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присутствии перманганата калия ацетилен          легко окисляется в до щавелевой кислоты (обесцвечивание раствор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MnO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вляется качественной реакцией на наличие тройной связи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MnO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O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+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O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Примене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188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горении ацетилена в кислороде температура пламени достигает 315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°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оэтому ацетилен используют дл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резки и сварки металл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Кроме того, ацетилен широко используетс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 органическом синтез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ообразных веществ - например, уксусной кислоты, 1,1,2,2- тетрахлорэтана и д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Он является одним из исходных веществ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 производстве синтетических каучуков, поливинилхлорида и других полимер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0560" y="31320"/>
            <a:ext cx="88930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Ацетиленовые углеводород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66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Ацетиленовым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леводородами (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алкин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называются непредельные (ненасыщенные) углеводороды, содержащие в молекуле одну тройную связь и имеющие общую формулу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en-US" sz="3200" spc="-1" strike="noStrike" baseline="-12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3200" spc="-1" strike="noStrike" baseline="-12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ru-RU" sz="3200" spc="-1" strike="noStrike" baseline="-12000">
                <a:solidFill>
                  <a:srgbClr val="333399"/>
                </a:solidFill>
                <a:latin typeface="Times New Roman"/>
              </a:rPr>
              <a:t>-2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оначальником гомологического ряда эт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леводородов является ацетиле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Номенклатур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631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но международной номенклатуре наз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цетиленовых углеводородов производят о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ующего алкана с заменой суффик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а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–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ую цепь нумеруют с того конца, к которо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лиже расположена тройная связ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ение тройной связи обозначаю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мером то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ома углерода, который ближе к началу цеп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C – CH(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пентин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202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Изомер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5200" y="1484280"/>
            <a:ext cx="91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изомерия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углеродного скеле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начиная 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C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H≡C- CH(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 baseline="12000">
                <a:solidFill>
                  <a:srgbClr val="000000"/>
                </a:solidFill>
                <a:latin typeface="Times New Roman"/>
                <a:ea typeface="Times New Roman"/>
              </a:rPr>
              <a:t>пентин-1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800" spc="-1" strike="noStrike" baseline="12000">
                <a:solidFill>
                  <a:srgbClr val="000000"/>
                </a:solidFill>
                <a:latin typeface="Times New Roman"/>
                <a:ea typeface="Times New Roman"/>
              </a:rPr>
              <a:t>3-метилбутин-1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изомерия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оложения трой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вязи (начиная 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C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≡C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 baseline="12000">
                <a:solidFill>
                  <a:srgbClr val="000000"/>
                </a:solidFill>
                <a:latin typeface="Times New Roman"/>
                <a:ea typeface="Times New Roman"/>
              </a:rPr>
              <a:t>пентин-1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800" spc="-1" strike="noStrike" baseline="12000">
                <a:solidFill>
                  <a:srgbClr val="000000"/>
                </a:solidFill>
                <a:latin typeface="Times New Roman"/>
                <a:ea typeface="Times New Roman"/>
              </a:rPr>
              <a:t>пентин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межклассов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зомерия (алкадиены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C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CH-CH=CH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 baseline="12000">
                <a:solidFill>
                  <a:srgbClr val="000000"/>
                </a:solidFill>
                <a:latin typeface="Times New Roman"/>
                <a:ea typeface="Times New Roman"/>
              </a:rPr>
              <a:t>пентин-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 baseline="12000">
                <a:solidFill>
                  <a:srgbClr val="000000"/>
                </a:solidFill>
                <a:latin typeface="Times New Roman"/>
                <a:ea typeface="Times New Roman"/>
              </a:rPr>
              <a:t>пентадиен-1,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480" y="0"/>
            <a:ext cx="913752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Физические свойств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91600" y="907560"/>
            <a:ext cx="85647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ы их плавления и кип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еличиваются с ростом молекулярной масс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бычных условиях алкины С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С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газы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жидкости, высшие алкины – твердые веществ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тройной связи в цепи приводит к повышени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ы кипения, плотности и растворимости и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воде по сравнению с олефинами и парафин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3840" y="29880"/>
            <a:ext cx="917748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олучени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 В промышленноси ацетилен получаю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отемпературным пиролизом метана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en-US" sz="32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Дегидрирование алкан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↔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 Ацетилен получают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карбидным способ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 разложении карбида кальция водо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C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903600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 Алкины можно полу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гидрогалогенирование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галогенопроизводных парафин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+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B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 baseline="12000">
                <a:solidFill>
                  <a:srgbClr val="000000"/>
                </a:solidFill>
                <a:latin typeface="Times New Roman"/>
              </a:rPr>
              <a:t>спирт. р-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B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 baseline="12000">
                <a:solidFill>
                  <a:srgbClr val="000000"/>
                </a:solidFill>
                <a:latin typeface="Times New Roman"/>
              </a:rPr>
              <a:t>спирт. р-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Строение ацетиле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9640" y="1004400"/>
            <a:ext cx="77724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леродные атомы в молекуле ацетилена находятся в состоян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ибридизации. Это означает, что каждый атом углерода обладает двумя гибридным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орбиталями, оси которых расположены на одной линии под углом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руг к другу, а дв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орбитали остаются негибридны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Гибридные орбитали двух атомов углерода в состояни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шествующем образованию тройной связи и связ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Picture 4" descr="img007"/>
          <p:cNvPicPr/>
          <p:nvPr/>
        </p:nvPicPr>
        <p:blipFill>
          <a:blip r:embed="rId1"/>
          <a:stretch/>
        </p:blipFill>
        <p:spPr>
          <a:xfrm>
            <a:off x="1403280" y="4221000"/>
            <a:ext cx="6337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77240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дной из двух гибридных орбиталей каждого атома углерода взаимно перекрываются, приводя к образовани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вязи между атомами углерода. Каждая оставшаяся гибридная орбиталь перекрывается 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рбиталью атома водорода, образу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вязь С–Н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тическое изображение строения молекулы ацетилена (ядра атомов углерода и водорода на одной прям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в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связи между атомами углерода находятся в двух взаимно перпендикулярных плоскостях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5" name="Picture 4" descr="img010"/>
          <p:cNvPicPr/>
          <p:nvPr/>
        </p:nvPicPr>
        <p:blipFill>
          <a:blip r:embed="rId1"/>
          <a:stretch/>
        </p:blipFill>
        <p:spPr>
          <a:xfrm>
            <a:off x="755640" y="3124080"/>
            <a:ext cx="2665440" cy="20894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img004"/>
          <p:cNvPicPr/>
          <p:nvPr/>
        </p:nvPicPr>
        <p:blipFill>
          <a:blip r:embed="rId2"/>
          <a:stretch/>
        </p:blipFill>
        <p:spPr>
          <a:xfrm>
            <a:off x="5294160" y="3376440"/>
            <a:ext cx="26402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6:05:51Z</dcterms:created>
  <dc:creator>WASP</dc:creator>
  <dc:description/>
  <dc:language>en-US</dc:language>
  <cp:lastModifiedBy>Ларина Елена Александровна</cp:lastModifiedBy>
  <dcterms:modified xsi:type="dcterms:W3CDTF">2018-11-08T11:14:45Z</dcterms:modified>
  <cp:revision>19</cp:revision>
  <dc:subject/>
  <dc:title>Алкины</dc:title>
</cp:coreProperties>
</file>