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8CB-7F04-4B43-B05D-8448F565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3B5-47B2-429D-92E4-8984C80F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92F-73FA-45FE-B345-50C13B9C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40B-7CC9-420E-94BB-7BFC6B02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D9A-282E-4E46-A275-175530B0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437-B748-4D29-B22C-4E800030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593-0AE2-4DAF-88F2-00AC08E7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4B8-34C3-4FE9-87C9-4FC857D3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3D3-5956-46C4-969C-025EF67D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AAE-5F0B-4364-AEF3-C14A2569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7E8-44C6-46F8-9E66-6C5A3BD6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A3E-7D5A-4B0D-8A33-7009EB3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A:\grapes.GIF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DBC1-DC03-4996-BADE-5B5B4A043F88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enza.fio.ru/personal/39/2/9/belki.2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e0dff"/>
                </a:solidFill>
                <a:latin typeface="Impact"/>
              </a:rPr>
              <a:t>                            </a:t>
            </a:r>
            <a:r>
              <a:rPr b="1" lang="ru-RU" sz="5400" spc="-1" strike="noStrike">
                <a:solidFill>
                  <a:srgbClr val="ae0dff"/>
                </a:solidFill>
                <a:latin typeface="Arial"/>
              </a:rPr>
              <a:t>Белки</a:t>
            </a:r>
            <a:r>
              <a:rPr b="0" lang="ru-RU" sz="5400" spc="-1" strike="noStrike">
                <a:solidFill>
                  <a:srgbClr val="ae0dff"/>
                </a:solidFill>
                <a:latin typeface="Impact"/>
              </a:rPr>
              <a:t>.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1295280" y="312408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Свойства и функции белков в организме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6019920" y="4876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252440" y="142920"/>
            <a:ext cx="7748640" cy="64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Функции белков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троитель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являются составной частью всех частей организма.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Ферментатив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ускоряют течение всех химических реакций, необходимых для жизни организма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вигатель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обеспечивают сокращение мышечных волокон, движение ресничек и жгутиков, перемещение хромосом при делении клетки, движение органов растения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Транспорт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переносят различные вещества внутри организма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Энергетическ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расщепление белка служит источником энергии для организмов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Защит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распознают и уничтожают опасные для организма вещества и др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игнальная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реакция на изменение физических, химических факторов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гулятор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-гормоны оказывают влияние на обмен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веществ.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357200" y="857160"/>
            <a:ext cx="7072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Белки – это обязательная составная часть всех живых клеток,  они играют важную  роль  в  живой  природе,   являются  главным, ценным и  незаменимым  компонентом  питания, основой структурных элементов и  тканей,  поддерживают  обмен веществ и энергии, участвуют в процессах роста и  размножения,  обеспечивают механизмы   движений,   развитие   иммунных    реакций,    необходимы    для функционирования всех органов и систем организм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Знание процесса  биосинтеза белков в живой клетке имеет огромное значение для практического решения задач в области сельского хозяйства, промышленности, медицины, охраны природы. Решение их невозможно без знания законов генетики. Новейшие достижения генетики связаны с развитием генной инженерии. Генная инженерия обеспечила  возможность сравнительно дешево производить в больших количествах  практически любые белки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258920" y="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403280" y="1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Вывод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634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Введение.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1285920" y="564372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Ф. Энгель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1820-1895 г.г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214280" y="100008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Белки - это природные органические соединения, которые  обеспечивают все жизненные процессы любого организм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071960" y="1714680"/>
            <a:ext cx="47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Жизнь – это способ существования белковых тел»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000680" y="2571840"/>
            <a:ext cx="4857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пираясь на достижения современного ему естествознания, Ф.Энгельс заложил научные философско-теоретические основы представлений о жизни и белке как о ее самом существенном “носителе” и “определителе”. Правильность теории Ф.Энгельса полностью подтверждается современной биологической химией, молекулярной биологией и биофизикой, располагающими более разносторонними экспериментальными данными, как о химическом строении белков, так и об их роли и значении в жизнедеятельности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7" name="Picture 9" descr="-122497664"/>
          <p:cNvPicPr/>
          <p:nvPr/>
        </p:nvPicPr>
        <p:blipFill>
          <a:blip r:embed="rId1"/>
          <a:stretch/>
        </p:blipFill>
        <p:spPr>
          <a:xfrm>
            <a:off x="1143000" y="1905120"/>
            <a:ext cx="27208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История открытия.</a:t>
            </a:r>
            <a:r>
              <a:rPr b="0" lang="ru-RU" sz="3600" spc="-1" strike="noStrike">
                <a:solidFill>
                  <a:srgbClr val="ae0d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3640" y="6858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f00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00" name="Picture 5" descr="egg1"/>
          <p:cNvPicPr/>
          <p:nvPr/>
        </p:nvPicPr>
        <p:blipFill>
          <a:blip r:embed="rId1"/>
          <a:stretch/>
        </p:blipFill>
        <p:spPr>
          <a:xfrm>
            <a:off x="1214280" y="1214280"/>
            <a:ext cx="343872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4857840" y="121428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Свое название белки получили от яичного белка, который с незапамятных времен использовался человеком как составная часть пищи. Согласно описаниям Плиния Старшего, уже в Древнем Риме яичный белок применялся и как лечебное средство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826920" y="458136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Однако подлинная история белковых веществ начинается тогда, когда появляются первые сведения о свойствах белков как  химических соединений (свертываемость при нагревании, разложение кислотами и крепкими щелочами и т. п.)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68580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К началу XIX столетия появляются первые работы по химическому изучению белков. Уже в 1803 г. Дж. Дальтон дает первые формулы белков - альбумина и желатина - как веществ, содержащих азот. В 1810 г. Ж. Гей-Люссак проводит химические анализы белков - фибрина крови, казеина и отмечает сходство их элементного состав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5" name="Picture 6" descr="3"/>
          <p:cNvPicPr/>
          <p:nvPr/>
        </p:nvPicPr>
        <p:blipFill>
          <a:blip r:embed="rId1"/>
          <a:stretch/>
        </p:blipFill>
        <p:spPr>
          <a:xfrm>
            <a:off x="1143000" y="2438280"/>
            <a:ext cx="2571840" cy="2365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4000680" y="2857680"/>
            <a:ext cx="49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Решающее значение для понимания химической природы белков имело выделение при их гидролизе аминокислот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14280" y="471492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Первой открытой аминокислотой был, видимо, аспарагин, выделенный Л. Вокленом из сока спаржи Asparagus (1806). В это же время Ж. Пруст получил лейцин при разложении сыра и творога. Затем из продуктов гидролиза белка были выделены многие другие аминокислоты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Открытие аминокислот в составе белка.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16000" y="1341360"/>
          <a:ext cx="7705800" cy="4876920"/>
        </p:xfrm>
        <a:graphic>
          <a:graphicData uri="http://schemas.openxmlformats.org/drawingml/2006/table">
            <a:tbl>
              <a:tblPr/>
              <a:tblGrid>
                <a:gridCol w="1996920"/>
                <a:gridCol w="1508400"/>
                <a:gridCol w="1751040"/>
                <a:gridCol w="2449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Аминокислота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сточник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то впервые выделил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Глиц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20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Желат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А. Браконно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ироз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48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азе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Ф.Бопп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ер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65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Шелк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Э. Крамер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Глутаминовая кислота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66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астительные белки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Г. Риттхаузе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из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95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азе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Э. Дрексель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Цист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99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Вещество рога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. Мернер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риптофа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902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азе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Ф. Гопкинс, Д.Кол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золейц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Фибр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Ф. Эрлих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реон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925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Белки овса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.Шрайвер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Структура белков.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68580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Белки – это сложные органические вещества, выполняющие в клетке важные функции. Они представляют собой гигантские полимерные молекулы, мономерами которых являются аминокислоты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2" name="Picture 4" descr="Картинка 2 из 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1905120" cy="18302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3206880" y="1989000"/>
            <a:ext cx="5937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У каждой  аминокислоты имеется карбоксильная группа (-СООН) и аминогруппа (-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NH</a:t>
            </a:r>
            <a:r>
              <a:rPr b="0" lang="ru-RU" sz="20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). Наличие в одной  молекуле кислотной  и основной групп обусловливает их высокую реактивность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66680" y="4038480"/>
            <a:ext cx="779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Между соединившимися аминокислотами возникает  химическая связь, называемая пептидной, а образовавшееся соединение нескольких аминокислот  называют пептидом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066680" y="4952880"/>
            <a:ext cx="7791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 природе известно более 150 различных аминокислот, но в построении белков живых организмов обычно участвуют только 20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066680" y="585144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Незаменимыми для человека являются - валин, лейцин, изолейцин, фенилаланин, метионин, триптофан,треонин, лизин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187280" y="549360"/>
            <a:ext cx="74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Пространственная структура белка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58920" y="1197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Молекулы белков могут образовывать не только первичную структуру, но и вторичную, третичную и четвертичную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9" name="Рисунок 2" descr="C:\Program Files\Physicon\Open Biology 2.6\content\chapter8\section1\paragraph5\images\08010502.jpg"/>
          <p:cNvPicPr/>
          <p:nvPr/>
        </p:nvPicPr>
        <p:blipFill>
          <a:blip r:embed="rId1"/>
          <a:stretch/>
        </p:blipFill>
        <p:spPr>
          <a:xfrm>
            <a:off x="1393920" y="2143080"/>
            <a:ext cx="748512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3"/>
          <p:cNvGraphicFramePr/>
          <p:nvPr/>
        </p:nvGraphicFramePr>
        <p:xfrm>
          <a:off x="1332000" y="620640"/>
          <a:ext cx="12952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20640"/>
                    <a:ext cx="1295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7000920" y="500040"/>
          <a:ext cx="1338120" cy="26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00920" y="500040"/>
                    <a:ext cx="13381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"/>
          <p:cNvGraphicFramePr/>
          <p:nvPr/>
        </p:nvGraphicFramePr>
        <p:xfrm>
          <a:off x="7000920" y="3571920"/>
          <a:ext cx="1447920" cy="24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0920" y="3571920"/>
                    <a:ext cx="14479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1332000" y="3573360"/>
          <a:ext cx="1409760" cy="240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573360"/>
                    <a:ext cx="14097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9"/>
          <p:cNvSpPr/>
          <p:nvPr/>
        </p:nvSpPr>
        <p:spPr>
          <a:xfrm>
            <a:off x="3348000" y="162864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e0dff"/>
                </a:solidFill>
                <a:latin typeface="Times New Roman"/>
              </a:rPr>
              <a:t>Вторичная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 представляет спираль с водородными связями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643120" y="69228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e0dff"/>
                </a:solidFill>
                <a:latin typeface="Times New Roman"/>
              </a:rPr>
              <a:t>Первичная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 структура белка обусловлена пептидными связями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2771640" y="35002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e0dff"/>
                </a:solidFill>
                <a:latin typeface="Times New Roman"/>
              </a:rPr>
              <a:t>Третичная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- более тугая, спираль с сульфидными связями - глобула. Белки начинают выполнять свои функции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3276720" y="4724280"/>
            <a:ext cx="360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714840" y="479736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e0dff"/>
                </a:solidFill>
                <a:latin typeface="Times New Roman"/>
              </a:rPr>
              <a:t>Четвертичная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- объединяет несколько глобул (гемоглобин)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285920" y="1588320"/>
            <a:ext cx="678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360" rIns="53964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e0dff"/>
                </a:solidFill>
                <a:latin typeface="Times New Roman"/>
              </a:rPr>
              <a:t>Денатурация зависит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1)от времени воздейств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2)от природы бел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3)от силы действующего фактор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e0dff"/>
                </a:solidFill>
                <a:latin typeface="Times New Roman"/>
              </a:rPr>
              <a:t>Воздействующие факторы: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а) повышение температуры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б) радиац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) щелочь и кислоты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г) тяжёлые металлы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д) спир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е) давление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71840" y="5716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Свойства белков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285920" y="107172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натураци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- разрушение структуры белк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357200" y="557208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Ренатураци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- процесс восстановления структуры белк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6:09:33Z</dcterms:created>
  <dc:creator>123</dc:creator>
  <dc:description/>
  <dc:language>en-US</dc:language>
  <cp:lastModifiedBy>Ларина Елена Александровна</cp:lastModifiedBy>
  <dcterms:modified xsi:type="dcterms:W3CDTF">2018-05-11T07:31:35Z</dcterms:modified>
  <cp:revision>32</cp:revision>
  <dc:subject/>
  <dc:title>Белки</dc:title>
</cp:coreProperties>
</file>