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CB3-85B2-442E-B1AC-F5B2941A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D39-E77A-4CCC-A4EE-C38F9D40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19E-97C2-4505-BA29-95C65925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8EC-C003-4FB3-8B75-BA74594E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33C4-2E19-4765-BA2B-E97411B5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1BE0-6DE6-415C-A3BE-5A8C68EA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8573-7BC7-4157-BD29-F679062E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6A2D-DB5F-42CD-B377-620C5311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07AC-4906-49E5-8527-2AFCD6D5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BDA1-DA69-41B6-8E05-728AD38F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FFF6-C059-415A-BF6B-14E584C0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C02-12BD-479B-850F-1A339DD2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F319-EED0-4194-B8A9-6C02B48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DC1-6742-4A8C-8401-C514718F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5814-BFA5-47C6-98B4-E8169D99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D0EA-9424-478D-9A86-8C74A95A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ADCE-6523-42EF-8FDA-6BED3996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4B7-0A93-4498-B94A-CB32AFC8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3A1-F504-4AF0-B667-0516CC26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6D3-5653-4BB8-9193-CE8E3414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1AC-3F0F-48EE-9055-314C97B5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02C-2B86-43D6-BB09-B61CDB8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882-21AB-46AE-8780-32C9E88C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C45-6D2A-42CF-B18F-B46E837D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CF3F-CDE7-47BF-8BA3-CE37EABF92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5051-7892-43EE-A533-1D060A4CDA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дролиз – это реакция обменного разложения веществ вод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идролиз неорганических вещест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лизу подвергаются растворы солей. Следовательно, водные растворы солей имеют разные значения рН и различные типы сре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Кислотную (рН</a:t>
            </a:r>
            <a:r>
              <a:rPr b="0" lang="en-US" sz="3200" spc="-1" strike="noStrike">
                <a:solidFill>
                  <a:srgbClr val="d74229"/>
                </a:solidFill>
                <a:latin typeface="Arial"/>
              </a:rPr>
              <a:t>&lt;7)</a:t>
            </a: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Щелочную (рН</a:t>
            </a:r>
            <a:r>
              <a:rPr b="0" lang="en-US" sz="3200" spc="-1" strike="noStrike">
                <a:solidFill>
                  <a:srgbClr val="d74229"/>
                </a:solidFill>
                <a:latin typeface="Arial"/>
              </a:rPr>
              <a:t>&gt;7)</a:t>
            </a: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Нейтральную (рН=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лассификация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ую соль можно представить как продукт взаимодействия основания с кисл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висимости от силы основания и кислоты можно выделить </a:t>
            </a:r>
            <a:r>
              <a:rPr b="1" lang="ru-RU" sz="2800" spc="-1" strike="noStrike" u="sng">
                <a:solidFill>
                  <a:srgbClr val="d74229"/>
                </a:solidFill>
                <a:uFillTx/>
                <a:latin typeface="Arial"/>
              </a:rPr>
              <a:t>4 типа сол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Соли, образованные сильным основанием и слабой кислотой (КС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N, NaC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O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оли, образованные сильной кислотой и слабым основанием (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C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Fe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Mn(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лассификация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3. Соли, образованные слабой  кислот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слабым основание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N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N,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u(C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OO)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Соли, образованные сильной  кислотой и  сильным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Cl,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a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ым основанием и слабой кислотой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N 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 + 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Сокращё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7, среда щелочная, гидролиз по ан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ой кислотой и слабым основание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+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Н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Сокращё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7, среда кислотная, гидролиз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кат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, образованные слабой  кислотой и слабым осн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= 7, среда нейтральная, гидролиз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катиону и по ан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, образованные сильной  кислотой и  сильным основание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е ионы остаются в растворе – </a:t>
            </a: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гидролиз не происход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Среда нейтральная, рН =7, т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и катионов водорода и гидроксид - анионов в растворе равны, как в чистой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00:43:49Z</dcterms:created>
  <dc:creator>User</dc:creator>
  <dc:description/>
  <dc:language>en-US</dc:language>
  <cp:lastModifiedBy>Ларина Елена Александровна</cp:lastModifiedBy>
  <dcterms:modified xsi:type="dcterms:W3CDTF">2018-10-20T07:34:19Z</dcterms:modified>
  <cp:revision>12</cp:revision>
  <dc:subject/>
  <dc:title>Гидролиз солей.</dc:title>
</cp:coreProperties>
</file>