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342-0F0C-4062-A2AC-D83997D7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0ED-EAB4-4BC0-B94D-6B773323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CBC-8A99-495C-BD93-0DC23E81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C6F-8EC7-4311-8F07-B207050E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E2DE-12F2-4A8E-94BC-199BA38B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9914-42A3-463A-9CD2-28AE5C7C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1688-4E1B-4664-A675-41535D83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AD9-05F1-4D09-AC54-5112A27A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2FE0-325A-479E-BB21-A4CA3737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C86B-31DE-432C-ADDF-13A3984D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B0CD-346A-420F-89E6-61735094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F17-C415-4557-8440-89A07659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BD53-A11E-41D2-8002-A208374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F0AC-9533-4DE4-A9BD-3095D91D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E131-610B-40A1-B29F-900A8F1B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630A-628E-4BAB-BD00-A35483ED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99D1-A016-4E52-85D9-9CCFF3E2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6CB-20B2-4C0F-B34F-6582EF8E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A60-55D6-45B4-A1FE-FC4BD42B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323-F991-457D-B891-6BA95EB2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FD8-8708-40BB-9C79-395110EB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68B-A790-460B-91E2-ABAE708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5DE-0B48-4213-871A-86B5BE88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A79-B119-4D38-A945-7667DF95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8B20-5BD9-4ADE-B475-62221F2008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E692-074C-4DEB-A868-B589039BC1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лиз – это реакция обменного разложения веществ вод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идролиз неорганических вещест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лизу подвергаются растворы солей. Следовательно, водные растворы солей имеют разные значения рН и различные типы сре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Кислотную (рН</a:t>
            </a:r>
            <a:r>
              <a:rPr b="0" lang="en-US" sz="3200" spc="-1" strike="noStrike">
                <a:solidFill>
                  <a:srgbClr val="d74229"/>
                </a:solidFill>
                <a:latin typeface="Arial"/>
              </a:rPr>
              <a:t>&lt;7)</a:t>
            </a: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Щелочную (рН</a:t>
            </a:r>
            <a:r>
              <a:rPr b="0" lang="en-US" sz="3200" spc="-1" strike="noStrike">
                <a:solidFill>
                  <a:srgbClr val="d74229"/>
                </a:solidFill>
                <a:latin typeface="Arial"/>
              </a:rPr>
              <a:t>&gt;7)</a:t>
            </a: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Нейтральную (рН=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ассификация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ую соль можно представить как продукт взаимодействия основания с кис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висимости от силы основания и кислоты можно выделить </a:t>
            </a:r>
            <a:r>
              <a:rPr b="1" lang="ru-RU" sz="2800" spc="-1" strike="noStrike" u="sng">
                <a:solidFill>
                  <a:srgbClr val="d74229"/>
                </a:solidFill>
                <a:uFillTx/>
                <a:latin typeface="Arial"/>
              </a:rPr>
              <a:t>4 типа со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Соли, образованные сильным основанием и слабой кислотой (КС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N, NaC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O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ли, образованные сильной кислотой и слабым основанием (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Fe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Mn(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ассификация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3. Соли, образованные слабой  кислот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слабым основание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N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N,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u(C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OO)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Соли, образованные сильной  кислотой и  сильным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l,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a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ым основанием и слабой кислотой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N 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 + 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Сокращё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7, среда щелочная, гидролиз по ан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ой кислотой и слабым основание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Н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Сокращё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7, среда кислотная, гидролиз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кат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лабой  кислотой и слабым осн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= 7, среда нейтральная, гидролиз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катиону и по ан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ильной  кислотой и  сильным основание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ионы остаются в растворе – </a:t>
            </a: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гидролиз не происход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Среда нейтральная, рН =7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и катионов водорода и гидроксид - анионов в растворе равны, как в чистой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0:43:49Z</dcterms:created>
  <dc:creator>User</dc:creator>
  <dc:description/>
  <dc:language>en-US</dc:language>
  <cp:lastModifiedBy>Ларина Елена Александровна</cp:lastModifiedBy>
  <dcterms:modified xsi:type="dcterms:W3CDTF">2018-10-20T07:34:19Z</dcterms:modified>
  <cp:revision>12</cp:revision>
  <dc:subject/>
  <dc:title>Гидролиз солей.</dc:title>
</cp:coreProperties>
</file>