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0F7-C729-47A0-A06C-9C9535A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1DC-97C9-4C65-AFE6-135CE78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09B-F2F7-4FBC-B7F6-95DFAA9B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91A-7B10-4587-9660-55A90A6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85C6-2671-476B-B843-AA727445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AD3-3B62-488D-84B8-80E4B3B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2FE-901E-4121-ADA7-D1E303F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D8F7-0C44-41F2-B93A-E207202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D18-82AE-4328-B389-BA53AF37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BB48-F828-4274-BDD9-F5D10754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55D-3A47-461C-A4BF-5247371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87D-CAFE-4054-B18A-DAE8288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D510-1207-4FA9-A4CC-F9B61E8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C6B1-B27D-4EE0-8FF6-08C2601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727-F0C2-4FF9-92E1-80A7AD98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CC0B-799C-4A78-8275-2C34FD35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8982-75C2-4163-A9CC-199B01B2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07F-0E1C-48D1-A23D-02B68F5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D23-0375-4C10-B36D-EFBC8A71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B3A-81F8-46BB-BB32-0181FDDE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A48-DC14-4BFB-A020-2ACC67F6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B8C-DE63-4C0B-B698-50450F9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BBA-11E5-4AF0-8FE5-223FA38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E46-3876-4960-B19D-60674DE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643-AF02-4301-9044-B78D17884D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7132-6271-4D6A-B9DF-DCB2FDDD132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2060640"/>
            <a:ext cx="5113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6633"/>
                </a:solidFill>
                <a:latin typeface="Times New Roman"/>
              </a:rPr>
              <a:t>ОКСИДЫ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5" descr="MCj02379450000[2]"/>
          <p:cNvPicPr/>
          <p:nvPr/>
        </p:nvPicPr>
        <p:blipFill>
          <a:blip r:embed="rId1"/>
          <a:stretch/>
        </p:blipFill>
        <p:spPr>
          <a:xfrm>
            <a:off x="971640" y="4005360"/>
            <a:ext cx="237636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Cj02870910000[1]"/>
          <p:cNvPicPr/>
          <p:nvPr/>
        </p:nvPicPr>
        <p:blipFill>
          <a:blip r:embed="rId2"/>
          <a:stretch/>
        </p:blipFill>
        <p:spPr>
          <a:xfrm>
            <a:off x="6877080" y="1341360"/>
            <a:ext cx="1442880" cy="20876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3757680" y="357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СВОЙСТВА ОКС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ВАЖНЕЙШИЕ  ОКСИДЫ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ДА 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ЛЕКИСЛЫЙ  ГАЗ 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ЕМНЕЗЕМ (ПЕСОК, КВАРЦ)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i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ГАШЕНАЯ  ИЗВЕСТЬ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a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MCj00905010000[1]"/>
          <p:cNvPicPr/>
          <p:nvPr/>
        </p:nvPicPr>
        <p:blipFill>
          <a:blip r:embed="rId1"/>
          <a:stretch/>
        </p:blipFill>
        <p:spPr>
          <a:xfrm>
            <a:off x="7308720" y="2133720"/>
            <a:ext cx="14306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Times New Roman"/>
              </a:rPr>
              <a:t>ОКСИДЫ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– ЭТО СЛОЖНЫЕ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ЕЩЕСТВА, БИНАРНЫЕ СОЕДИНЕНИЯ, СОСТОЯЩИЕ ИЗ ДВУХ ЭЛЕМЕНТОВ, ОДИН ИЗ КОТОРЫХ – КИСЛОРОД,</a:t>
            </a:r>
            <a:br>
              <a:rPr sz="44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с валентностью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6" descr="MCj02338340000[1]"/>
          <p:cNvPicPr/>
          <p:nvPr/>
        </p:nvPicPr>
        <p:blipFill>
          <a:blip r:embed="rId1"/>
          <a:stretch/>
        </p:blipFill>
        <p:spPr>
          <a:xfrm>
            <a:off x="6372360" y="692280"/>
            <a:ext cx="2374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ЭхО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Название окс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Окси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1803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238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Название элемента в родительном падеж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0" y="33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0" y="4000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Валентность-римскими цифр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Дайте названия оксид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03280" y="21463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Na</a:t>
            </a:r>
            <a:r>
              <a:rPr b="1" lang="ru-RU" sz="1600" spc="-1" strike="noStrike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4416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03200" y="27655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F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46040" y="4694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CO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403280" y="40924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SO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72000" y="2124000"/>
            <a:ext cx="503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натрия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643200" y="2786040"/>
            <a:ext cx="51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железа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276720" y="3429000"/>
            <a:ext cx="56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кальция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276720" y="407196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серы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643200" y="47149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углерода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Organization Chart 7"/>
          <p:cNvGrpSpPr/>
          <p:nvPr/>
        </p:nvGrpSpPr>
        <p:grpSpPr>
          <a:xfrm>
            <a:off x="179280" y="620640"/>
            <a:ext cx="8784720" cy="5902920"/>
            <a:chOff x="179280" y="620640"/>
            <a:chExt cx="8784720" cy="590292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39480" y="3140640"/>
              <a:ext cx="738360" cy="30754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571280" y="430920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665080" y="3140640"/>
              <a:ext cx="738360" cy="30754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3" idx="0"/>
              <a:endCxn id="129" idx="2"/>
            </p:cNvCxnSpPr>
            <p:nvPr/>
          </p:nvCxnSpPr>
          <p:spPr>
            <a:xfrm flipV="1" rot="16200000">
              <a:off x="3433320" y="1695960"/>
              <a:ext cx="738360" cy="153756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0"/>
              <a:endCxn id="129" idx="2"/>
            </p:cNvCxnSpPr>
            <p:nvPr/>
          </p:nvCxnSpPr>
          <p:spPr>
            <a:xfrm flipH="1" flipV="1" rot="5400000">
              <a:off x="1896480" y="1695600"/>
              <a:ext cx="738360" cy="15382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033"/>
            <p:cNvSpPr/>
            <p:nvPr/>
          </p:nvSpPr>
          <p:spPr>
            <a:xfrm>
              <a:off x="1716840" y="62064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200" spc="-1" strike="noStrike">
                  <a:solidFill>
                    <a:srgbClr val="996633"/>
                  </a:solidFill>
                  <a:latin typeface="Times New Roman"/>
                </a:rPr>
                <a:t>оксиды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179280" y="283428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6633"/>
                  </a:solidFill>
                  <a:latin typeface="Times New Roman"/>
                </a:rPr>
                <a:t>Несолеобразующи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NO, 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3254040" y="283428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Солеобразующ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MgO, S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17928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Основ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25404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Амфотер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ZnO, A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632880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Кислот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, P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Picture 32" descr="MCj02383850000[1]"/>
          <p:cNvPicPr/>
          <p:nvPr/>
        </p:nvPicPr>
        <p:blipFill>
          <a:blip r:embed="rId1"/>
          <a:stretch/>
        </p:blipFill>
        <p:spPr>
          <a:xfrm>
            <a:off x="6443640" y="220500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СВОЙСТВА ОСНОВНЫХ ОКСИД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89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а) основной оксид + вода = осн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K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б) основной оксид + кислота = соль + в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u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в) основной оксид + кислотный оксид = с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Mg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Mg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ХИМИЧЕСКИЕ СВОЙСТВА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КИСЛОТНЫХ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ОКСИД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360" y="1916280"/>
            <a:ext cx="89632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 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+ вода = кисло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кро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=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+основание = соль+ в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NaOH =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+ осн. оксид = со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cc66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262626"/>
                </a:solidFill>
                <a:latin typeface="Times New Roman"/>
              </a:rPr>
              <a:t>Mg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Mg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 СВОЙСТВА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АМФОТЕРНЫХ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ОКСИД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)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кислота = соль + 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Z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Zn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основание = соль + 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Z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NaOH =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)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вода=не взаимодейству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7:15:56Z</dcterms:created>
  <dc:creator>user</dc:creator>
  <dc:description/>
  <dc:language>en-US</dc:language>
  <cp:lastModifiedBy>Ларина Елена Александровна</cp:lastModifiedBy>
  <dcterms:modified xsi:type="dcterms:W3CDTF">2018-02-28T10:52:49Z</dcterms:modified>
  <cp:revision>11</cp:revision>
  <dc:subject/>
  <dc:title>ОКСИ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