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29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97E-1D58-4B65-8905-0AE9F3F1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196-284C-4919-B4C3-8C18D47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BDF-D955-4F4F-B0F1-A14900A9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D8E-BF91-49BC-ABBB-DD580363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ECFB-2B71-4495-874A-AB5D8EDF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511-FFD3-486B-8ED7-ED42439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4CD4-8C14-4433-AA1E-01BD3E8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73BB-2F20-4C83-862F-E47337FB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6ED-8A6C-471F-9E01-130E5D43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6535-9EE8-4F56-855E-887DE85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0227-159F-4600-8FD3-1645BDC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FC4-BDA0-4F23-8304-F52D55F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97BC-8094-44F0-A1B6-24CCE28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3F6C-6530-4B13-830B-2C2FBA5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5FAB-17B6-41AD-8D98-DE2C922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1DFC-575A-403C-87F1-889A9B37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CC8F-9459-4409-AC8A-A414BFD7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E8FB-9105-4E77-B00C-41118F31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7A0C-B36C-4204-AFFF-F4440F3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75EC-6FA8-4814-8F51-F3B7C921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14B7-0232-4922-B0DC-1FB7FFE8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DB45-EE71-4F86-9D36-1EA5DA58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695-F9CF-4EA3-B897-5E7DD5C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BD22-9166-48CB-9FBA-6167125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F584-886F-4C09-8AFA-55ED868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B28C-4071-4FBF-9898-48938CD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3ABF-3477-4131-917B-B4ED5C0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8C32-AD86-41B7-80E7-5FC94607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9615-6A75-4381-B76E-772FF45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B06F-4AD4-4BF0-919C-2367A500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59D9-E5FE-4988-9E8F-7A57DB9F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E499-B33F-4607-8F24-33C9EDFA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48BD-12D4-43FF-9FCD-F5FA551B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11A-C59E-4703-9394-CE841793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F1E0-E3A1-4C7C-9EA0-814E8A5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02B8-E44E-4B47-9A8E-612EDF8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DDDA-34AF-4CD0-BF5B-1025ED2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EF28-F7C0-4330-A645-A0840FC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AB8F-6B7C-4684-87E0-3020EDF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F1A2-306A-4D20-991E-5D4EA795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4D4E-9FF7-4ED6-A3D2-1499C9E0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B556-014C-4BE1-BB75-3F4B53A6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1687-6DAE-4A87-8ADE-C075AA2B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CB2-0C81-4BB6-A64A-16B34528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8E3-80D3-4B12-8029-46C9E3B2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B9F-5EAE-444E-B6C1-1F6B1E5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9AE-1118-41BA-BBB2-CEF5CDD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EFD-9EC6-4601-BB9B-284C131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5479-62BD-4F19-B451-D4023A4BC8E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42C-5686-41F9-981F-8A98345CBD2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000-63BA-43D6-9420-67A0309D94A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C8A-D06B-4659-8C35-D27AEC27F2C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90;&#1077;&#1082;&#1083;&#1103;&#1085;&#1085;&#1072;&#1103;%20&#1093;&#1080;&#1084;&#1080;&#1095;&#1077;&#1089;&#1082;&#1072;&#1103;%20&#1087;&#1086;&#1089;&#1091;&#1076;&#1072;&amp;img_url=http://www.ru.all.biz/img/ru/catalog/small/387688.jpeg&amp;pos=0&amp;uinfo=sw-932-sh-380-fw-765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hyperlink" Target="http://images.yandex.ru/yandsearch?win=44&amp;text=&#1076;&#1077;&#1088;&#1077;&#1074;&#1103;&#1085;&#1085;&#1072;&#1103;%20&#1083;&#1086;&#1078;&#1082;&#1072;&amp;clid=1784380&amp;img_url=http://i054.radikal.ru/1003/d7/f2c0ef6d2da1.jpg&amp;pos=9&amp;rpt=simage" TargetMode="External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86;&#1083;&#1086;&#1090;&#1086;&#1077;%20&#1082;&#1086;&#1083;&#1100;&#1094;&#1086;&amp;img_url=http://lady.webnice.ru/img/2011/12/img20111219234324_4184.jpg&amp;pos=0&amp;rpt=simag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%20&#1087;&#1088;&#1086;&#1089;&#1090;&#1086;&#1081;%20&#1082;&#1072;&#1088;&#1072;&#1085;&#1076;&#1072;&#1096;&amp;img_url=http://img1.liveinternet.ru/images/attach/b/3/28/727/28727103_karandash1.jpg&amp;pos=1&amp;uinfo=sw-932-sh-380-fw-765-fh-448-pd-1&amp;rpt=simage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4;&#1086;&#1076;&#1072;%20&#1074;%20&#1089;&#1090;&#1072;&#1082;&#1072;&#1085;&#1077;&amp;img_url=http://www.anh-europe.org/files/images/Water_very%20clear%20in%20glass.jpg&amp;pos=3&amp;uinfo=sw-932-sh-380-fw-765-fh-448-pd-1&amp;rpt=simage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images.yandex.ru/yandsearch?text=&#1091;&#1082;&#1089;&#1091;&#1089;&#1085;&#1072;&#1103;%20&#1082;&#1080;&#1089;&#1083;&#1086;&#1090;&#1072;&amp;img_url=http://unnatural.ru/images/russian_darvin/thumbs2/acid.jpg&amp;pos=5&amp;uinfo=sw-932-sh-380-fw-765-fh-448-pd-1&amp;rpt=simage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4;&#1077;&#1097;&#1077;&#1089;&#1090;&#1074;&#1072;%20&#1085;&#1077;&#1083;&#1100;&#1079;&#1103;%20&#1087;&#1088;&#1086;&#1073;&#1086;&#1074;&#1072;&#1090;&#1100;%20&#1085;&#1072;%20&#1074;&#1082;&#1091;&#1089;&amp;img_url=http://900igr.net/datai/khimija/Bezopasnost-na-uroke-khimii/0002-006-Tekhnika-bezopasnosti-na-urokakh-khimii.jpg&amp;pos=32&amp;uinfo=sw-932-sh-380-fw-765-fh-448-pd-1&amp;rpt=simag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74;&#1077;&#1097;&#1077;&#1089;&#1090;&#1074;&#1072;%20&#1085;&#1077;&#1083;&#1100;&#1079;&#1103;%20&#1087;&#1088;&#1086;&#1073;&#1086;&#1074;&#1072;&#1090;&#1100;%20&#1085;&#1072;%20&#1074;&#1082;&#1091;&#1089;&amp;img_url=http://www.maratakm.ru/index.files/45gloss.gif&amp;pos=5&amp;uinfo=sw-932-sh-380-fw-765-fh-448-pd-1&amp;rpt=simage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3;&#1080;&#1086;&#1083;&#1086;&#1075;&#1080;&#1103;&amp;img_url=http://www.zavorovo.edusite.ru/images/p18_uls-encuentro-biologia-logo-grande.jpg&amp;pos=4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2&amp;text=&#1092;&#1080;&#1079;&#1080;&#1082;&#1072;&amp;img_url=http://newton-yar.ru/photos/catalog/ct/2258.jpg&amp;pos=81&amp;uinfo=sw-932-sh-380-fw-765-fh-44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text=&#1075;&#1077;&#1086;&#1075;&#1088;&#1072;&#1092;&#1080;&#1103;&amp;img_url=http://forexaw.com/NEWs/EconomyRF/Politics_industries/Oil_Gas/img1165751_D-Medvedev.jpg&amp;pos=10&amp;uinfo=sw-932-sh-380-fw-765-fh-448-pd-1&amp;rpt=simage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p=3&amp;text=&#1093;&#1080;&#1084;&#1080;&#1103;&amp;img_url=http://seoblognik.ru/images/stories/exper.jpg&amp;pos=90&amp;uinfo=sw-932-sh-380-fw-765-fh-448-pd-1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3;&#1080;&#1084;&#1080;&#1095;&#1077;&#1089;&#1082;&#1080;&#1081;%20&#1086;&#1087;&#1099;&#1090;%20&#1074;&#1091;&#1083;&#1082;&#1072;&#1085;&amp;img_url=http://chemistry-chemists.com/Video/NH4Cr2O7_1.jpg&amp;pos=1&amp;rpt=simag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3;&#1093;&#1080;&#1084;&#1080;&#1103;%20-%20&#1101;&#1090;&#1086;&amp;img_url=http://samlib.ru/img/s/sechew_s_a/rumi_golod/alchemik2.gif&amp;pos=48&amp;uinfo=sw-932-sh-380-fw-765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95280" y="2205000"/>
            <a:ext cx="532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4a33"/>
                </a:solidFill>
                <a:latin typeface="Trebuchet MS"/>
              </a:rPr>
              <a:t>Предмет химии. Вещества и их физические свой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5" descr="chemistry"/>
          <p:cNvPicPr/>
          <p:nvPr/>
        </p:nvPicPr>
        <p:blipFill>
          <a:blip r:embed="rId1"/>
          <a:stretch/>
        </p:blipFill>
        <p:spPr>
          <a:xfrm>
            <a:off x="5497560" y="2157480"/>
            <a:ext cx="3333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1"/>
          <p:cNvSpPr/>
          <p:nvPr/>
        </p:nvSpPr>
        <p:spPr>
          <a:xfrm>
            <a:off x="233280" y="333360"/>
            <a:ext cx="8640720" cy="129528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ещества - это то, из чего состоят физические те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http://im8-tub-ru.yandex.net/i?id=112422071-25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6360" y="2349360"/>
            <a:ext cx="3888000" cy="31672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250920" y="2660760"/>
            <a:ext cx="187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Стекло - эт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вещест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6300720" y="2593800"/>
            <a:ext cx="259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Стеклянная посуда – эт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физическое те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2460600" y="396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768240" y="836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Выберите из предложенных понятий </a:t>
            </a:r>
            <a:r>
              <a:rPr b="1" i="1" lang="ru-RU" sz="2800" spc="-1" strike="noStrike">
                <a:solidFill>
                  <a:srgbClr val="4a6300"/>
                </a:solidFill>
                <a:latin typeface="Trebuchet MS"/>
              </a:rPr>
              <a:t>вещества </a:t>
            </a:r>
            <a:r>
              <a:rPr b="1" i="1" lang="ru-RU" sz="2800" spc="-1" strike="noStrike">
                <a:solidFill>
                  <a:srgbClr val="002060"/>
                </a:solidFill>
                <a:latin typeface="Trebuchet MS"/>
              </a:rPr>
              <a:t>и </a:t>
            </a:r>
            <a:r>
              <a:rPr b="1" i="1" lang="ru-RU" sz="2800" spc="-1" strike="noStrike">
                <a:solidFill>
                  <a:srgbClr val="4a6300"/>
                </a:solidFill>
                <a:latin typeface="Trebuchet MS"/>
              </a:rPr>
              <a:t>физические тела</a:t>
            </a:r>
            <a:r>
              <a:rPr b="1" i="1" lang="ru-RU" sz="2800" spc="-1" strike="noStrike">
                <a:solidFill>
                  <a:srgbClr val="00206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Рисунок 4" descr=""/>
          <p:cNvPicPr/>
          <p:nvPr/>
        </p:nvPicPr>
        <p:blipFill>
          <a:blip r:embed="rId1"/>
          <a:stretch/>
        </p:blipFill>
        <p:spPr>
          <a:xfrm>
            <a:off x="534960" y="1905120"/>
            <a:ext cx="1876320" cy="15462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"/>
          <p:cNvPicPr/>
          <p:nvPr/>
        </p:nvPicPr>
        <p:blipFill>
          <a:blip r:embed="rId2"/>
          <a:stretch/>
        </p:blipFill>
        <p:spPr>
          <a:xfrm>
            <a:off x="2678040" y="1946160"/>
            <a:ext cx="1886040" cy="15051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6" descr=""/>
          <p:cNvPicPr/>
          <p:nvPr/>
        </p:nvPicPr>
        <p:blipFill>
          <a:blip r:embed="rId3"/>
          <a:stretch/>
        </p:blipFill>
        <p:spPr>
          <a:xfrm>
            <a:off x="4875120" y="1881360"/>
            <a:ext cx="1505160" cy="17683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"/>
          <p:cNvPicPr/>
          <p:nvPr/>
        </p:nvPicPr>
        <p:blipFill>
          <a:blip r:embed="rId4"/>
          <a:stretch/>
        </p:blipFill>
        <p:spPr>
          <a:xfrm>
            <a:off x="6630840" y="1852560"/>
            <a:ext cx="1914840" cy="1562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9" descr=""/>
          <p:cNvPicPr/>
          <p:nvPr/>
        </p:nvPicPr>
        <p:blipFill>
          <a:blip r:embed="rId5"/>
          <a:stretch/>
        </p:blipFill>
        <p:spPr>
          <a:xfrm>
            <a:off x="420840" y="3589200"/>
            <a:ext cx="1800000" cy="1419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0" descr=""/>
          <p:cNvPicPr/>
          <p:nvPr/>
        </p:nvPicPr>
        <p:blipFill>
          <a:blip r:embed="rId6"/>
          <a:stretch/>
        </p:blipFill>
        <p:spPr>
          <a:xfrm>
            <a:off x="2647800" y="3527280"/>
            <a:ext cx="1838520" cy="1552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1" descr=""/>
          <p:cNvPicPr/>
          <p:nvPr/>
        </p:nvPicPr>
        <p:blipFill>
          <a:blip r:embed="rId7"/>
          <a:stretch/>
        </p:blipFill>
        <p:spPr>
          <a:xfrm>
            <a:off x="4754520" y="3540240"/>
            <a:ext cx="1876320" cy="15332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2" descr=""/>
          <p:cNvPicPr/>
          <p:nvPr/>
        </p:nvPicPr>
        <p:blipFill>
          <a:blip r:embed="rId8"/>
          <a:stretch/>
        </p:blipFill>
        <p:spPr>
          <a:xfrm>
            <a:off x="7037280" y="3589200"/>
            <a:ext cx="1752840" cy="14194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3" descr=""/>
          <p:cNvPicPr/>
          <p:nvPr/>
        </p:nvPicPr>
        <p:blipFill>
          <a:blip r:embed="rId9"/>
          <a:stretch/>
        </p:blipFill>
        <p:spPr>
          <a:xfrm>
            <a:off x="268200" y="5202360"/>
            <a:ext cx="2105280" cy="14191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4" descr=""/>
          <p:cNvPicPr/>
          <p:nvPr/>
        </p:nvPicPr>
        <p:blipFill>
          <a:blip r:embed="rId10"/>
          <a:stretch/>
        </p:blipFill>
        <p:spPr>
          <a:xfrm>
            <a:off x="2757600" y="5202360"/>
            <a:ext cx="1638360" cy="14191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5" descr=""/>
          <p:cNvPicPr/>
          <p:nvPr/>
        </p:nvPicPr>
        <p:blipFill>
          <a:blip r:embed="rId11"/>
          <a:stretch/>
        </p:blipFill>
        <p:spPr>
          <a:xfrm>
            <a:off x="4764240" y="5149800"/>
            <a:ext cx="1876320" cy="1523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im2-tub-ru.yandex.net/i?id=139862231-51-73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037280" y="5110200"/>
            <a:ext cx="179064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6"/>
          <p:cNvSpPr/>
          <p:nvPr/>
        </p:nvSpPr>
        <p:spPr>
          <a:xfrm>
            <a:off x="7037280" y="6359400"/>
            <a:ext cx="179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лож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755640" y="404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Физическое тело может состоять из одного вещества или из нескольки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http://im5-tub-ru.yandex.net/i?id=239295529-28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86200"/>
            <a:ext cx="2592360" cy="2520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776160" y="1871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Кольцо состоит из золо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http://im4-tub-ru.yandex.net/i?id=173133929-62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078000"/>
            <a:ext cx="2808360" cy="25196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5076720" y="1844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Карандаш состоит из древесины и графи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Скругленный прямоугольник 1"/>
          <p:cNvSpPr/>
          <p:nvPr/>
        </p:nvSpPr>
        <p:spPr>
          <a:xfrm>
            <a:off x="233280" y="115920"/>
            <a:ext cx="8640720" cy="136836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изические свойства веществ - это признаки, по которым вещества отличаются друг от друг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63520" y="5226120"/>
            <a:ext cx="846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!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ывод: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ещества различаются по физическим, а также химическим  свойствам.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71280" y="1844640"/>
            <a:ext cx="4572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52920" y="1852560"/>
            <a:ext cx="46483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684360" y="1628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Выберите признаки для следующих веществ: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rebuchet MS"/>
              </a:rPr>
              <a:t>МЕДЬ, ЖЕЛЕЗО, ГЛИ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48436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557280" y="1197000"/>
            <a:ext cx="8064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1. В каком агрегатном состоянии – газообразном, жидком или твёрдом – находится вещество при данных условиях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2. Какого цвета вещество? Имеет ли оно блеск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3. Имеет ли вещество запах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4. Проявляет ли вещество пластичность, хрупкость, эластичность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5. Растворяется ли вещество в воде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6. Какова температура плавления и температура кипения вещества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7. Какова плотность вещества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8. Обладает ли вещество тепло- и электропроводностью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557280" y="243000"/>
            <a:ext cx="79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План описания физических свойств веществ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48436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684360" y="11253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rebuchet MS"/>
              </a:rPr>
              <a:t>Опишите физические свойства следующих веществ по плану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2" descr="http://im5-tub-ru.yandex.net/i?id=1459005-64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21300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im5-tub-ru.yandex.net/i?id=137730654-25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3213000"/>
            <a:ext cx="237636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258920" y="263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5148360" y="27306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ксусная кисло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124000" y="333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адачи хим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1268280" y="1125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веществ, их физических и химических свойст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блюдени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помощью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2" descr="http://im2-tub-ru.yandex.net/i?id=247714054-24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70720" y="113976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im6-tub-ru.yandex.net/i?id=368475930-57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95560"/>
            <a:ext cx="1247760" cy="1428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im3-tub-ru.yandex.net/i?id=139233662-33-73&amp;n=21"/>
          <p:cNvPicPr/>
          <p:nvPr/>
        </p:nvPicPr>
        <p:blipFill>
          <a:blip r:embed="rId5"/>
          <a:stretch/>
        </p:blipFill>
        <p:spPr>
          <a:xfrm>
            <a:off x="2779560" y="28638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395280" y="47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Изучение превращений веществ и процессов, сопровождающих эти превращ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8" descr="http://im6-tub-ru.yandex.net/i?id=29621054-14-73&amp;n=21"/>
          <p:cNvPicPr/>
          <p:nvPr/>
        </p:nvPicPr>
        <p:blipFill>
          <a:blip r:embed="rId6"/>
          <a:stretch/>
        </p:blipFill>
        <p:spPr>
          <a:xfrm>
            <a:off x="6156360" y="4292640"/>
            <a:ext cx="2592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Химические опыт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042920" y="141300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 KC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Ba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u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u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ным аммиак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826920" y="21337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1. § 1читать, учить определ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2. Вопросы  на странице 6-7:1-5, тест 1-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2411280" y="476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814320" y="530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С чем у вас ассоциируется наука хим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Скругленный прямоугольник 3"/>
          <p:cNvSpPr/>
          <p:nvPr/>
        </p:nvSpPr>
        <p:spPr>
          <a:xfrm>
            <a:off x="1011240" y="9036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ауки о природ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14320" y="126828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Какие науки, известные вам, изучают природ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14320" y="2243160"/>
            <a:ext cx="658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Что изуча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иологи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еографи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изика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14320" y="4076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 Знаете ли вы, к каком разделу знаний относятся эти наук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2"/>
          <p:cNvSpPr/>
          <p:nvPr/>
        </p:nvSpPr>
        <p:spPr>
          <a:xfrm>
            <a:off x="826920" y="0"/>
            <a:ext cx="7417080" cy="86364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4a33"/>
                </a:solidFill>
                <a:latin typeface="Trebuchet MS"/>
              </a:rPr>
              <a:t>ЕСТЕСТВЕННЫЕ НАУКИ -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изучают природные явления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458640" y="1197000"/>
            <a:ext cx="3102120" cy="6476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458640" y="4024440"/>
            <a:ext cx="2889360" cy="6602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5526000" y="3941640"/>
            <a:ext cx="2873520" cy="7430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5364000" y="1197000"/>
            <a:ext cx="2880000" cy="6476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http://im8-tub-ru.yandex.net/i?id=56618703-30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1960" y="1989000"/>
            <a:ext cx="2017440" cy="1860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im0-tub-ru.yandex.net/i?id=149187117-71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1994040"/>
            <a:ext cx="2016000" cy="1860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im8-tub-ru.yandex.net/i?id=111444812-69-73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734000"/>
            <a:ext cx="2448000" cy="1977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ttp://im3-tub-ru.yandex.net/i?id=117534264-22-73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4702320"/>
            <a:ext cx="20160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908000" y="189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Предмет хим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95200" y="907920"/>
            <a:ext cx="85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a6300"/>
                </a:solidFill>
                <a:uFillTx/>
                <a:latin typeface="Trebuchet MS"/>
              </a:rPr>
              <a:t>Химия</a:t>
            </a: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 – это наука о веществах, их строении, свойствах, превращении этих веществ и явлениях, сопровождающих эти превращ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3" descr="Рисунок21"/>
          <p:cNvPicPr/>
          <p:nvPr/>
        </p:nvPicPr>
        <p:blipFill>
          <a:blip r:embed="rId1"/>
          <a:stretch/>
        </p:blipFill>
        <p:spPr>
          <a:xfrm>
            <a:off x="1547640" y="2565360"/>
            <a:ext cx="57121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Химический опыт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«Вулкан на столе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0920" y="141300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Исходны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ихромат аммон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еталлический магни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усочек ваты, смоченный спир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77920" y="416412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Продукты горен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ксид хрома (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зот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ары воды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http://im0-tub-ru.yandex.net/i?id=84209241-39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1300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Что означает понятие «химия»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4952880" y="1268280"/>
            <a:ext cx="39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rebuchet MS"/>
              </a:rPr>
              <a:t>Термин "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rebuchet MS"/>
              </a:rPr>
              <a:t>химия"</a:t>
            </a:r>
            <a:r>
              <a:rPr b="1" lang="ru-RU" sz="2400" spc="-1" strike="noStrike">
                <a:solidFill>
                  <a:srgbClr val="000099"/>
                </a:solidFill>
                <a:latin typeface="Trebuchet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2023920"/>
            <a:ext cx="4316400" cy="3384720"/>
          </a:xfrm>
          <a:prstGeom prst="rect">
            <a:avLst/>
          </a:prstGeom>
          <a:ln w="127080">
            <a:solidFill>
              <a:srgbClr val="caf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Алхим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888080" y="1766880"/>
            <a:ext cx="37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rebuchet MS"/>
              </a:rPr>
              <a:t>Алхимия — магическое учение о превращении простых металлов в драгоценные — золото и серебро с помощью "философского камня" — "красного льва", или Великого эликси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http://im8-tub-ru.yandex.net/i?id=101619908-69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00" y="1341360"/>
            <a:ext cx="3887640" cy="3900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241200" y="53341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лхимики благодаря своим экспериментам по превращению любого металла в золото открыли много простых элементов, хотя часто и не догадывались об э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Скругленный прямоугольник 2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Дмитрий Иванович Менделеев справедливо отмечал, что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4" descr="pm_043"/>
          <p:cNvPicPr/>
          <p:nvPr/>
        </p:nvPicPr>
        <p:blipFill>
          <a:blip r:embed="rId1"/>
          <a:stretch/>
        </p:blipFill>
        <p:spPr>
          <a:xfrm>
            <a:off x="5076720" y="1773360"/>
            <a:ext cx="3429000" cy="3816360"/>
          </a:xfrm>
          <a:prstGeom prst="rect">
            <a:avLst/>
          </a:prstGeom>
          <a:ln w="127080">
            <a:solidFill>
              <a:srgbClr val="caf278"/>
            </a:solidFill>
            <a:miter/>
          </a:ln>
        </p:spPr>
      </p:pic>
      <p:sp>
        <p:nvSpPr>
          <p:cNvPr id="246" name="Прямоугольник 4"/>
          <p:cNvSpPr/>
          <p:nvPr/>
        </p:nvSpPr>
        <p:spPr>
          <a:xfrm>
            <a:off x="250920" y="1571760"/>
            <a:ext cx="45720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Trebuchet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7" descr="CHEMIST"/>
          <p:cNvPicPr/>
          <p:nvPr/>
        </p:nvPicPr>
        <p:blipFill>
          <a:blip r:embed="rId1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ATOM"/>
          <p:cNvPicPr/>
          <p:nvPr/>
        </p:nvPicPr>
        <p:blipFill>
          <a:blip r:embed="rId2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10:46:30Z</dcterms:created>
  <dc:creator>аня</dc:creator>
  <dc:description/>
  <dc:language>en-US</dc:language>
  <cp:lastModifiedBy>Ларина Елена Александровна</cp:lastModifiedBy>
  <dcterms:modified xsi:type="dcterms:W3CDTF">2017-09-06T09:22:13Z</dcterms:modified>
  <cp:revision>61</cp:revision>
  <dc:subject/>
  <dc:title>Презентация PowerPoint</dc:title>
</cp:coreProperties>
</file>