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29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C7A-4005-4974-913D-220A818F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C07-6C54-41C0-97B3-FF595627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81F-7185-4D2A-9BE8-E6799514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FD8-9A3A-40B3-B99F-8BBBC93A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7CB-39DE-4ED1-83E0-184C0CD1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110-A0F3-47B2-A767-6209FF4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087F-7697-4B58-BE40-E68DD551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FCC-723E-4D84-9B72-A096DFEF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367C-C556-4A5E-A8DB-321050F7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3D29-3B84-49EA-A9CE-8D7D9438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15B4-968F-4D86-A970-D2E3DCF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5ED-A567-4989-809E-F7D5753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D1B8-C462-4195-83A4-8D9BC95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CFCA-6831-4F47-9321-51AFD91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C9F6-8696-4307-87ED-058901E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34DF-4111-49E4-ACC4-211C6EEE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0D4-8C0F-45E1-8D47-911218ED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70EE-E93A-4280-A1AD-439362DA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8CC7-9187-4619-A47C-BADEC08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6A0F-C8C2-4516-8C66-3FCA1AC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37D3-F018-49A0-9AC7-5F24DB4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341C-1008-4BBA-87B0-895FCD6D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BE7-B525-46B9-8F6E-E2D1DB3A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09BB-F0BD-4A87-9FB9-41CC9631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E911-29E0-4E4C-82D2-3966210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34D0-2685-46EF-B498-56CA1D6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B815-7E7E-4BAA-9F9E-9CD389D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04DF-7FAE-4AC5-8852-6A626047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7C04-E5A5-4DEC-8844-AAAE9E03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23E3-95E2-4A8F-8527-4A91D9FD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FE1F-3D45-4CE1-B0FB-3D749A02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9728-F79E-431D-8C5F-9CE079EC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0C28-842B-4906-B2D6-D31AC261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D52-9615-42CE-95C1-F7BDE680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0256-249B-4DD3-B055-676D40FD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59D8-2551-4318-BB40-5F26EF3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4259-FB54-4A79-B1B0-DC9FD3C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C5C2-4366-4B58-BCE1-537664A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EEFA-0B3A-4683-A0A2-9AE49FD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3C12-26FF-4144-A5B6-E3E0175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1F0A-4C8A-4BCD-B858-D8FF452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69E2-0E6D-4BFC-B4F3-F78F4177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F14B-8F32-47B1-A5B7-1490B298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8F0-777B-47EE-ADCB-DC6AA4A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4FE-DBD9-4A84-B47B-F529451F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8CB-739B-44E4-B248-8B5D11B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F18-A603-4CB9-B87F-A8BAB2FA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F6F-FFFF-4842-A954-7EDC6C1D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BFE1-2DD0-428A-83C4-7815720401F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F1F0-E00C-42B1-8F5A-5E69672027A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30CF-EA3E-4DA8-ACA6-B531F18824B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5E9-2F5B-4AAD-8B95-B27221A9C6A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90;&#1077;&#1082;&#1083;&#1103;&#1085;&#1085;&#1072;&#1103;%20&#1093;&#1080;&#1084;&#1080;&#1095;&#1077;&#1089;&#1082;&#1072;&#1103;%20&#1087;&#1086;&#1089;&#1091;&#1076;&#1072;&amp;img_url=http://www.ru.all.biz/img/ru/catalog/small/387688.jpeg&amp;pos=0&amp;uinfo=sw-932-sh-380-fw-765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hyperlink" Target="http://images.yandex.ru/yandsearch?win=44&amp;text=&#1076;&#1077;&#1088;&#1077;&#1074;&#1103;&#1085;&#1085;&#1072;&#1103;%20&#1083;&#1086;&#1078;&#1082;&#1072;&amp;clid=1784380&amp;img_url=http://i054.radikal.ru/1003/d7/f2c0ef6d2da1.jpg&amp;pos=9&amp;rpt=simage" TargetMode="External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9;&#1086;&#1083;&#1086;&#1090;&#1086;&#1077;%20&#1082;&#1086;&#1083;&#1100;&#1094;&#1086;&amp;img_url=http://lady.webnice.ru/img/2011/12/img20111219234324_4184.jpg&amp;pos=0&amp;rpt=simag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%20&#1087;&#1088;&#1086;&#1089;&#1090;&#1086;&#1081;%20&#1082;&#1072;&#1088;&#1072;&#1085;&#1076;&#1072;&#1096;&amp;img_url=http://img1.liveinternet.ru/images/attach/b/3/28/727/28727103_karandash1.jpg&amp;pos=1&amp;uinfo=sw-932-sh-380-fw-765-fh-448-pd-1&amp;rpt=simage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4;&#1086;&#1076;&#1072;%20&#1074;%20&#1089;&#1090;&#1072;&#1082;&#1072;&#1085;&#1077;&amp;img_url=http://www.anh-europe.org/files/images/Water_very%20clear%20in%20glass.jpg&amp;pos=3&amp;uinfo=sw-932-sh-380-fw-765-fh-448-pd-1&amp;rpt=simage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images.yandex.ru/yandsearch?text=&#1091;&#1082;&#1089;&#1091;&#1089;&#1085;&#1072;&#1103;%20&#1082;&#1080;&#1089;&#1083;&#1086;&#1090;&#1072;&amp;img_url=http://unnatural.ru/images/russian_darvin/thumbs2/acid.jpg&amp;pos=5&amp;uinfo=sw-932-sh-380-fw-765-fh-448-pd-1&amp;rpt=simage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4;&#1077;&#1097;&#1077;&#1089;&#1090;&#1074;&#1072;%20&#1085;&#1077;&#1083;&#1100;&#1079;&#1103;%20&#1087;&#1088;&#1086;&#1073;&#1086;&#1074;&#1072;&#1090;&#1100;%20&#1085;&#1072;%20&#1074;&#1082;&#1091;&#1089;&amp;img_url=http://900igr.net/datai/khimija/Bezopasnost-na-uroke-khimii/0002-006-Tekhnika-bezopasnosti-na-urokakh-khimii.jpg&amp;pos=32&amp;uinfo=sw-932-sh-380-fw-765-fh-448-pd-1&amp;rpt=simage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74;&#1077;&#1097;&#1077;&#1089;&#1090;&#1074;&#1072;%20&#1085;&#1077;&#1083;&#1100;&#1079;&#1103;%20&#1087;&#1088;&#1086;&#1073;&#1086;&#1074;&#1072;&#1090;&#1100;%20&#1085;&#1072;%20&#1074;&#1082;&#1091;&#1089;&amp;img_url=http://www.maratakm.ru/index.files/45gloss.gif&amp;pos=5&amp;uinfo=sw-932-sh-380-fw-765-fh-448-pd-1&amp;rpt=simage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3;&#1080;&#1086;&#1083;&#1086;&#1075;&#1080;&#1103;&amp;img_url=http://www.zavorovo.edusite.ru/images/p18_uls-encuentro-biologia-logo-grande.jpg&amp;pos=4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2&amp;text=&#1092;&#1080;&#1079;&#1080;&#1082;&#1072;&amp;img_url=http://newton-yar.ru/photos/catalog/ct/2258.jpg&amp;pos=81&amp;uinfo=sw-932-sh-380-fw-765-fh-44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text=&#1075;&#1077;&#1086;&#1075;&#1088;&#1072;&#1092;&#1080;&#1103;&amp;img_url=http://forexaw.com/NEWs/EconomyRF/Politics_industries/Oil_Gas/img1165751_D-Medvedev.jpg&amp;pos=10&amp;uinfo=sw-932-sh-380-fw-765-fh-448-pd-1&amp;rpt=simage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p=3&amp;text=&#1093;&#1080;&#1084;&#1080;&#1103;&amp;img_url=http://seoblognik.ru/images/stories/exper.jpg&amp;pos=90&amp;uinfo=sw-932-sh-380-fw-765-fh-448-pd-1&amp;rpt=simage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3;&#1080;&#1084;&#1080;&#1095;&#1077;&#1089;&#1082;&#1080;&#1081;%20&#1086;&#1087;&#1099;&#1090;%20&#1074;&#1091;&#1083;&#1082;&#1072;&#1085;&amp;img_url=http://chemistry-chemists.com/Video/NH4Cr2O7_1.jpg&amp;pos=1&amp;rpt=simage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2;&#1083;&#1093;&#1080;&#1084;&#1080;&#1103;%20-%20&#1101;&#1090;&#1086;&amp;img_url=http://samlib.ru/img/s/sechew_s_a/rumi_golod/alchemik2.gif&amp;pos=48&amp;uinfo=sw-932-sh-380-fw-765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95280" y="2205000"/>
            <a:ext cx="532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4a33"/>
                </a:solidFill>
                <a:latin typeface="Trebuchet MS"/>
              </a:rPr>
              <a:t>Предмет химии. Вещества и их физические свой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5" descr="chemistry"/>
          <p:cNvPicPr/>
          <p:nvPr/>
        </p:nvPicPr>
        <p:blipFill>
          <a:blip r:embed="rId1"/>
          <a:stretch/>
        </p:blipFill>
        <p:spPr>
          <a:xfrm>
            <a:off x="5497560" y="2157480"/>
            <a:ext cx="3333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1"/>
          <p:cNvSpPr/>
          <p:nvPr/>
        </p:nvSpPr>
        <p:spPr>
          <a:xfrm>
            <a:off x="233280" y="333360"/>
            <a:ext cx="8640720" cy="129528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ещества - это то, из чего состоят физические те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http://im8-tub-ru.yandex.net/i?id=112422071-25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6360" y="2349360"/>
            <a:ext cx="3888000" cy="31672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250920" y="2660760"/>
            <a:ext cx="187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Стекло - эт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веществ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6300720" y="2593800"/>
            <a:ext cx="2592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Стеклянная посуда – эт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физическое те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2460600" y="396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768240" y="836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Выберите из предложенных понятий </a:t>
            </a:r>
            <a:r>
              <a:rPr b="1" i="1" lang="ru-RU" sz="2800" spc="-1" strike="noStrike">
                <a:solidFill>
                  <a:srgbClr val="4a6300"/>
                </a:solidFill>
                <a:latin typeface="Trebuchet MS"/>
              </a:rPr>
              <a:t>вещества </a:t>
            </a:r>
            <a:r>
              <a:rPr b="1" i="1" lang="ru-RU" sz="2800" spc="-1" strike="noStrike">
                <a:solidFill>
                  <a:srgbClr val="002060"/>
                </a:solidFill>
                <a:latin typeface="Trebuchet MS"/>
              </a:rPr>
              <a:t>и </a:t>
            </a:r>
            <a:r>
              <a:rPr b="1" i="1" lang="ru-RU" sz="2800" spc="-1" strike="noStrike">
                <a:solidFill>
                  <a:srgbClr val="4a6300"/>
                </a:solidFill>
                <a:latin typeface="Trebuchet MS"/>
              </a:rPr>
              <a:t>физические тела</a:t>
            </a:r>
            <a:r>
              <a:rPr b="1" i="1" lang="ru-RU" sz="2800" spc="-1" strike="noStrike">
                <a:solidFill>
                  <a:srgbClr val="00206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Рисунок 4" descr=""/>
          <p:cNvPicPr/>
          <p:nvPr/>
        </p:nvPicPr>
        <p:blipFill>
          <a:blip r:embed="rId1"/>
          <a:stretch/>
        </p:blipFill>
        <p:spPr>
          <a:xfrm>
            <a:off x="534960" y="1905120"/>
            <a:ext cx="1876320" cy="15462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"/>
          <p:cNvPicPr/>
          <p:nvPr/>
        </p:nvPicPr>
        <p:blipFill>
          <a:blip r:embed="rId2"/>
          <a:stretch/>
        </p:blipFill>
        <p:spPr>
          <a:xfrm>
            <a:off x="2678040" y="1946160"/>
            <a:ext cx="1886040" cy="15051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6" descr=""/>
          <p:cNvPicPr/>
          <p:nvPr/>
        </p:nvPicPr>
        <p:blipFill>
          <a:blip r:embed="rId3"/>
          <a:stretch/>
        </p:blipFill>
        <p:spPr>
          <a:xfrm>
            <a:off x="4875120" y="1881360"/>
            <a:ext cx="1505160" cy="17683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"/>
          <p:cNvPicPr/>
          <p:nvPr/>
        </p:nvPicPr>
        <p:blipFill>
          <a:blip r:embed="rId4"/>
          <a:stretch/>
        </p:blipFill>
        <p:spPr>
          <a:xfrm>
            <a:off x="6630840" y="1852560"/>
            <a:ext cx="1914840" cy="15620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9" descr=""/>
          <p:cNvPicPr/>
          <p:nvPr/>
        </p:nvPicPr>
        <p:blipFill>
          <a:blip r:embed="rId5"/>
          <a:stretch/>
        </p:blipFill>
        <p:spPr>
          <a:xfrm>
            <a:off x="420840" y="3589200"/>
            <a:ext cx="1800000" cy="1419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0" descr=""/>
          <p:cNvPicPr/>
          <p:nvPr/>
        </p:nvPicPr>
        <p:blipFill>
          <a:blip r:embed="rId6"/>
          <a:stretch/>
        </p:blipFill>
        <p:spPr>
          <a:xfrm>
            <a:off x="2647800" y="3527280"/>
            <a:ext cx="1838520" cy="1552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1" descr=""/>
          <p:cNvPicPr/>
          <p:nvPr/>
        </p:nvPicPr>
        <p:blipFill>
          <a:blip r:embed="rId7"/>
          <a:stretch/>
        </p:blipFill>
        <p:spPr>
          <a:xfrm>
            <a:off x="4754520" y="3540240"/>
            <a:ext cx="1876320" cy="15332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2" descr=""/>
          <p:cNvPicPr/>
          <p:nvPr/>
        </p:nvPicPr>
        <p:blipFill>
          <a:blip r:embed="rId8"/>
          <a:stretch/>
        </p:blipFill>
        <p:spPr>
          <a:xfrm>
            <a:off x="7037280" y="3589200"/>
            <a:ext cx="1752840" cy="14194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3" descr=""/>
          <p:cNvPicPr/>
          <p:nvPr/>
        </p:nvPicPr>
        <p:blipFill>
          <a:blip r:embed="rId9"/>
          <a:stretch/>
        </p:blipFill>
        <p:spPr>
          <a:xfrm>
            <a:off x="268200" y="5202360"/>
            <a:ext cx="2105280" cy="14191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4" descr=""/>
          <p:cNvPicPr/>
          <p:nvPr/>
        </p:nvPicPr>
        <p:blipFill>
          <a:blip r:embed="rId10"/>
          <a:stretch/>
        </p:blipFill>
        <p:spPr>
          <a:xfrm>
            <a:off x="2757600" y="5202360"/>
            <a:ext cx="1638360" cy="14191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5" descr=""/>
          <p:cNvPicPr/>
          <p:nvPr/>
        </p:nvPicPr>
        <p:blipFill>
          <a:blip r:embed="rId11"/>
          <a:stretch/>
        </p:blipFill>
        <p:spPr>
          <a:xfrm>
            <a:off x="4764240" y="5149800"/>
            <a:ext cx="1876320" cy="1523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im2-tub-ru.yandex.net/i?id=139862231-51-73&amp;n=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037280" y="5110200"/>
            <a:ext cx="179064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6"/>
          <p:cNvSpPr/>
          <p:nvPr/>
        </p:nvSpPr>
        <p:spPr>
          <a:xfrm>
            <a:off x="7037280" y="6359400"/>
            <a:ext cx="179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лож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755640" y="4046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Физическое тело может состоять из одного вещества или из нескольки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http://im5-tub-ru.yandex.net/i?id=239295529-28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86200"/>
            <a:ext cx="2592360" cy="2520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776160" y="1871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Кольцо состоит из золо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http://im4-tub-ru.yandex.net/i?id=173133929-62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078000"/>
            <a:ext cx="2808360" cy="25196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5076720" y="1844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Карандаш состоит из древесины и графи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Скругленный прямоугольник 1"/>
          <p:cNvSpPr/>
          <p:nvPr/>
        </p:nvSpPr>
        <p:spPr>
          <a:xfrm>
            <a:off x="233280" y="115920"/>
            <a:ext cx="8640720" cy="136836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изические свойства веществ - это признаки, по которым вещества отличаются друг от друг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63520" y="5226120"/>
            <a:ext cx="846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!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ывод: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ещества различаются по физическим, а также химическим  свойствам.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71280" y="1844640"/>
            <a:ext cx="4572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52920" y="1852560"/>
            <a:ext cx="46483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684360" y="1628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Выберите признаки для следующих веществ: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rebuchet MS"/>
              </a:rPr>
              <a:t>МЕДЬ, ЖЕЛЕЗО, ГЛИН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48436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557280" y="1197000"/>
            <a:ext cx="8064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1. В каком агрегатном состоянии – газообразном, жидком или твёрдом – находится вещество при данных условиях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2. Какого цвета вещество? Имеет ли оно блеск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3. Имеет ли вещество запах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4. Проявляет ли вещество пластичность, хрупкость, эластичность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5. Растворяется ли вещество в воде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6. Какова температура плавления и температура кипения вещества? (См. справочники.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7. Какова плотность вещества? (См. справочники.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8. Обладает ли вещество тепло- и электропроводностью? (см. справочники.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557280" y="243000"/>
            <a:ext cx="79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План описания физических свойств веществ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248436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684360" y="112536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rebuchet MS"/>
              </a:rPr>
              <a:t>Опишите физические свойства следующих веществ по плану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2" descr="http://im5-tub-ru.yandex.net/i?id=1459005-64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21300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://im5-tub-ru.yandex.net/i?id=137730654-25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3213000"/>
            <a:ext cx="237636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258920" y="263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5148360" y="27306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уксусная кисло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2124000" y="333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Задачи хими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1268280" y="1125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веществ, их физических и химических свойст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блюдени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помощью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2" descr="http://im2-tub-ru.yandex.net/i?id=247714054-24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70720" y="113976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://im6-tub-ru.yandex.net/i?id=368475930-57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95560"/>
            <a:ext cx="1247760" cy="1428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http://im3-tub-ru.yandex.net/i?id=139233662-33-73&amp;n=21"/>
          <p:cNvPicPr/>
          <p:nvPr/>
        </p:nvPicPr>
        <p:blipFill>
          <a:blip r:embed="rId5"/>
          <a:stretch/>
        </p:blipFill>
        <p:spPr>
          <a:xfrm>
            <a:off x="2779560" y="28638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395280" y="47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Изучение превращений веществ и процессов, сопровождающих эти превращ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8" descr="http://im6-tub-ru.yandex.net/i?id=29621054-14-73&amp;n=21"/>
          <p:cNvPicPr/>
          <p:nvPr/>
        </p:nvPicPr>
        <p:blipFill>
          <a:blip r:embed="rId6"/>
          <a:stretch/>
        </p:blipFill>
        <p:spPr>
          <a:xfrm>
            <a:off x="6156360" y="4292640"/>
            <a:ext cx="2592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Химические опыт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042920" y="141300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C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 KC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BaC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 NaO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u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 NaO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uS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дным аммиак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Cl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 NaO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826920" y="21337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1. § 1читать, учить определ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2. Вопросы  на странице 6-7:1-5, тест 1-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2411280" y="476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814320" y="5300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. С чем у вас ассоциируется наука хим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Скругленный прямоугольник 3"/>
          <p:cNvSpPr/>
          <p:nvPr/>
        </p:nvSpPr>
        <p:spPr>
          <a:xfrm>
            <a:off x="1011240" y="9036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ауки о природ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814320" y="126828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Какие науки, известные вам, изучают природу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14320" y="2243160"/>
            <a:ext cx="658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 Что изуча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иологи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еографи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изика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14320" y="4076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 Знаете ли вы, к каком разделу знаний относятся эти наук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2"/>
          <p:cNvSpPr/>
          <p:nvPr/>
        </p:nvSpPr>
        <p:spPr>
          <a:xfrm>
            <a:off x="826920" y="0"/>
            <a:ext cx="7417080" cy="86364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4a33"/>
                </a:solidFill>
                <a:latin typeface="Trebuchet MS"/>
              </a:rPr>
              <a:t>ЕСТЕСТВЕННЫЕ НАУКИ -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изучают природные явления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Овал 3"/>
          <p:cNvSpPr/>
          <p:nvPr/>
        </p:nvSpPr>
        <p:spPr>
          <a:xfrm>
            <a:off x="458640" y="1197000"/>
            <a:ext cx="3102120" cy="6476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458640" y="4024440"/>
            <a:ext cx="2889360" cy="6602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Овал 7"/>
          <p:cNvSpPr/>
          <p:nvPr/>
        </p:nvSpPr>
        <p:spPr>
          <a:xfrm>
            <a:off x="5526000" y="3941640"/>
            <a:ext cx="2873520" cy="7430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5364000" y="1197000"/>
            <a:ext cx="2880000" cy="64764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4a33"/>
                </a:solidFill>
                <a:latin typeface="Trebuchet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http://im8-tub-ru.yandex.net/i?id=56618703-30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1960" y="1989000"/>
            <a:ext cx="2017440" cy="1860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im0-tub-ru.yandex.net/i?id=149187117-71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1994040"/>
            <a:ext cx="2016000" cy="1860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im8-tub-ru.yandex.net/i?id=111444812-69-73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734000"/>
            <a:ext cx="2448000" cy="1977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http://im3-tub-ru.yandex.net/i?id=117534264-22-73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4702320"/>
            <a:ext cx="20160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908000" y="1890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ebuchet MS"/>
              </a:rPr>
              <a:t>Предмет хим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95200" y="907920"/>
            <a:ext cx="85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a6300"/>
                </a:solidFill>
                <a:uFillTx/>
                <a:latin typeface="Trebuchet MS"/>
              </a:rPr>
              <a:t>Химия</a:t>
            </a:r>
            <a:r>
              <a:rPr b="1" lang="ru-RU" sz="2800" spc="-1" strike="noStrike">
                <a:solidFill>
                  <a:srgbClr val="4a6300"/>
                </a:solidFill>
                <a:latin typeface="Trebuchet MS"/>
              </a:rPr>
              <a:t> – это наука о веществах, их строении, свойствах, превращении этих веществ и явлениях, сопровождающих эти превращ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3" descr="Рисунок21"/>
          <p:cNvPicPr/>
          <p:nvPr/>
        </p:nvPicPr>
        <p:blipFill>
          <a:blip r:embed="rId1"/>
          <a:stretch/>
        </p:blipFill>
        <p:spPr>
          <a:xfrm>
            <a:off x="1547640" y="2565360"/>
            <a:ext cx="571212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Химический опыт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«Вулкан на столе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0920" y="141300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Исходны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ихромат аммони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еталлический магни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усочек ваты, смоченный спир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77920" y="416412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Продукты горен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ксид хрома (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зот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ары воды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http://im0-tub-ru.yandex.net/i?id=84209241-39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13000"/>
            <a:ext cx="388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Что означает понятие «химия»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4952880" y="1268280"/>
            <a:ext cx="39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rebuchet MS"/>
              </a:rPr>
              <a:t>Термин "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rebuchet MS"/>
              </a:rPr>
              <a:t>химия"</a:t>
            </a:r>
            <a:r>
              <a:rPr b="1" lang="ru-RU" sz="2400" spc="-1" strike="noStrike">
                <a:solidFill>
                  <a:srgbClr val="000099"/>
                </a:solidFill>
                <a:latin typeface="Trebuchet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2023920"/>
            <a:ext cx="4316400" cy="3384720"/>
          </a:xfrm>
          <a:prstGeom prst="rect">
            <a:avLst/>
          </a:prstGeom>
          <a:ln w="127080">
            <a:solidFill>
              <a:srgbClr val="caf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1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Алхим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4888080" y="1766880"/>
            <a:ext cx="371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rebuchet MS"/>
              </a:rPr>
              <a:t>Алхимия — магическое учение о превращении простых металлов в драгоценные — золото и серебро с помощью "философского камня" — "красного льва", или Великого эликси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http://im8-tub-ru.yandex.net/i?id=101619908-69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00" y="1341360"/>
            <a:ext cx="3887640" cy="3900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241200" y="53341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лхимики благодаря своим экспериментам по превращению любого металла в золото открыли много простых элементов, хотя часто и не догадывались об э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Скругленный прямоугольник 2"/>
          <p:cNvSpPr/>
          <p:nvPr/>
        </p:nvSpPr>
        <p:spPr>
          <a:xfrm>
            <a:off x="250920" y="0"/>
            <a:ext cx="8642160" cy="863640"/>
          </a:xfrm>
          <a:prstGeom prst="roundRect">
            <a:avLst>
              <a:gd name="adj" fmla="val 16667"/>
            </a:avLst>
          </a:prstGeom>
          <a:solidFill>
            <a:srgbClr val="dff7ae"/>
          </a:solidFill>
          <a:ln w="15840">
            <a:solidFill>
              <a:srgbClr val="4c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4a33"/>
                </a:solidFill>
                <a:latin typeface="Trebuchet MS"/>
              </a:rPr>
              <a:t>Дмитрий Иванович Менделеев справедливо отмечал, что 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4" descr="pm_043"/>
          <p:cNvPicPr/>
          <p:nvPr/>
        </p:nvPicPr>
        <p:blipFill>
          <a:blip r:embed="rId1"/>
          <a:stretch/>
        </p:blipFill>
        <p:spPr>
          <a:xfrm>
            <a:off x="5076720" y="1773360"/>
            <a:ext cx="3429000" cy="3816360"/>
          </a:xfrm>
          <a:prstGeom prst="rect">
            <a:avLst/>
          </a:prstGeom>
          <a:ln w="127080">
            <a:solidFill>
              <a:srgbClr val="caf278"/>
            </a:solidFill>
            <a:miter/>
          </a:ln>
        </p:spPr>
      </p:pic>
      <p:sp>
        <p:nvSpPr>
          <p:cNvPr id="246" name="Прямоугольник 4"/>
          <p:cNvSpPr/>
          <p:nvPr/>
        </p:nvSpPr>
        <p:spPr>
          <a:xfrm>
            <a:off x="250920" y="1571760"/>
            <a:ext cx="45720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Trebuchet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7" descr="CHEMIST"/>
          <p:cNvPicPr/>
          <p:nvPr/>
        </p:nvPicPr>
        <p:blipFill>
          <a:blip r:embed="rId1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ATOM"/>
          <p:cNvPicPr/>
          <p:nvPr/>
        </p:nvPicPr>
        <p:blipFill>
          <a:blip r:embed="rId2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10:46:30Z</dcterms:created>
  <dc:creator>аня</dc:creator>
  <dc:description/>
  <dc:language>en-US</dc:language>
  <cp:lastModifiedBy>Ларина Елена Александровна</cp:lastModifiedBy>
  <dcterms:modified xsi:type="dcterms:W3CDTF">2017-09-06T09:22:13Z</dcterms:modified>
  <cp:revision>61</cp:revision>
  <dc:subject/>
  <dc:title>Презентация PowerPoint</dc:title>
</cp:coreProperties>
</file>