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2A31-F03C-413E-9A7D-BC6C5B8F40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0BC7-E060-4A44-9CEA-9280BC8ECD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EDF2-DE41-42B8-B982-6CFE8A506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D790-480A-452D-989D-5BFDEFB4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7C84-5F94-46F7-822A-774C4DFF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2078-C95F-49FF-9ADA-317C0CA4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8E6D-8F3E-420A-A82A-FE2AD83D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A49A-0056-4B99-99D3-32568F77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A91B-AAA6-44D4-BEB0-23246795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855A-B9BB-404D-A0F2-CE9CFAC5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3975-6EE4-44D9-85B4-1B0765E9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AC79-8BB3-4E54-BDD7-A9467B84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B609-0B00-423E-8A53-24C37780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62F5-F48C-4F59-99BB-705B80B1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DDF1-B61D-4973-BAA5-ACC1ABEB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A98D-9102-4EA3-BA2F-2C906084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C267-87E3-45BC-BC10-DF9F2064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0B8A-5D5B-42BB-95EA-9DA76F19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4945-59AE-42D9-8025-82E3C49AB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3500-2017-4CF7-9EAD-959A4C94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9534-A955-4F9F-BAF9-A67E6196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597F-A98B-4DD9-B9FC-C78025C6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9023-6EA4-4AFC-8CFA-3DD6C993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2BE1-03C1-4A2B-AB76-D9B8FC6F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2367-9227-4985-A32A-774A13D1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E85B-CAD6-429C-B1F9-2B899A4C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0D03-9C14-4DEF-AEEA-AB87321DF2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:\клипарты\школа\27c29d078660.png"/>
          <p:cNvPicPr/>
          <p:nvPr/>
        </p:nvPicPr>
        <p:blipFill>
          <a:blip r:embed="rId3"/>
          <a:srcRect l="0" t="0" r="0" b="24081"/>
          <a:stretch/>
        </p:blipFill>
        <p:spPr>
          <a:xfrm>
            <a:off x="285840" y="0"/>
            <a:ext cx="8429400" cy="5207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D:\клипарты\школа\b756a7739ab6.png"/>
          <p:cNvPicPr/>
          <p:nvPr/>
        </p:nvPicPr>
        <p:blipFill>
          <a:blip r:embed="rId4"/>
          <a:stretch/>
        </p:blipFill>
        <p:spPr>
          <a:xfrm>
            <a:off x="214200" y="4214880"/>
            <a:ext cx="1714680" cy="2357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D:\клипарты\школа\Безимени-3.png"/>
          <p:cNvPicPr/>
          <p:nvPr/>
        </p:nvPicPr>
        <p:blipFill>
          <a:blip r:embed="rId5"/>
          <a:stretch/>
        </p:blipFill>
        <p:spPr>
          <a:xfrm>
            <a:off x="7143840" y="5214960"/>
            <a:ext cx="1571400" cy="141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Users\Helen\Desktop\схемы\шаблоны мои\русский язык\2012-02-07_165936.jpg"/>
          <p:cNvPicPr/>
          <p:nvPr/>
        </p:nvPicPr>
        <p:blipFill>
          <a:blip r:embed="rId6"/>
          <a:stretch/>
        </p:blipFill>
        <p:spPr>
          <a:xfrm>
            <a:off x="3071880" y="5429160"/>
            <a:ext cx="2876400" cy="1255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7752-5275-40A7-8DA7-EFEB06D7F4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187280" y="1197000"/>
            <a:ext cx="7056720" cy="3506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Типы тексто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ила: Стенина С.Н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826920" y="1341360"/>
            <a:ext cx="7777440" cy="347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кст</a:t>
            </a:r>
            <a:r>
              <a:rPr b="0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- 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то  несколько  предложений, связанных  между</a:t>
            </a: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бой  по  смыслу (и  построенных  в  строгой последовательности  действий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1116000" y="1413000"/>
            <a:ext cx="7056360" cy="303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кст – описание </a:t>
            </a: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то текст, в 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тором что то объясняется и доказывае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1042920" y="765000"/>
            <a:ext cx="7274160" cy="551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кст – опис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ой? Кака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- описание насыщен прилагатель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са-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асивое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животно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ерсть у неё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инная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и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ушистая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Мордочка у лисы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тянута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. Особенно хорош хвост. Он переливается на солнце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ыжими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крас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са живёт в лесу. Она выкапывает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убокие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норы. Питается лиса мышами. Заметает свои следы хвостом. Лиса-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торожный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и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итрый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ве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324000" y="907920"/>
            <a:ext cx="8496000" cy="5096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кст-повествование -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это текст, в котором рассказывается о ком-то или о чем-то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ему можно поставить общий вопрос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произош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мощь яблоньке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коло дома росла маленькая яблонь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летел сильный ветер. Он стал крутить и ломать деревце. Дима принес колья. Мальчик подвязал яблонь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блонька была спас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ы бы не смогли рассказать о том, что произош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2"/>
          <p:cNvSpPr/>
          <p:nvPr/>
        </p:nvSpPr>
        <p:spPr>
          <a:xfrm>
            <a:off x="555480" y="476280"/>
            <a:ext cx="8120160" cy="492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кст – рассуждение - 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то текст, в котором что то объясняется и доказывае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5"/>
                </a:solidFill>
                <a:latin typeface="Times New Roman"/>
              </a:rPr>
              <a:t>Прочитайте рассказ О. Карловича о птице со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5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Сова- уникальная пти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Многое у неё не так, как у других птиц.  Оба глаза «на лице» вместе, а не по бока. Она может легко повернуть голову на 180 градусов. Летает бесшумно. Видит одинаково хорошо и днём, и ноч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В общем, не птица, а чудо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3"/>
          <p:cNvSpPr/>
          <p:nvPr/>
        </p:nvSpPr>
        <p:spPr>
          <a:xfrm>
            <a:off x="684360" y="476280"/>
            <a:ext cx="7632720" cy="548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5"/>
                </a:solidFill>
                <a:latin typeface="Times New Roman"/>
              </a:rPr>
              <a:t>Определим тему текста и главную мысль 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5"/>
                </a:solidFill>
                <a:latin typeface="Times New Roman"/>
              </a:rPr>
              <a:t>В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теме текста </a:t>
            </a:r>
            <a:r>
              <a:rPr b="0" lang="ru-RU" sz="2800" spc="-1" strike="noStrike">
                <a:solidFill>
                  <a:srgbClr val="111115"/>
                </a:solidFill>
                <a:latin typeface="Times New Roman"/>
              </a:rPr>
              <a:t>говорится о сове.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Главная мысль текста </a:t>
            </a:r>
            <a:r>
              <a:rPr b="0" lang="ru-RU" sz="2800" spc="-1" strike="noStrike">
                <a:solidFill>
                  <a:srgbClr val="111115"/>
                </a:solidFill>
                <a:latin typeface="Times New Roman"/>
              </a:rPr>
              <a:t>выражена в предложении. Сова- уникальная птица.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К тексту можно задать вопрос.</a:t>
            </a:r>
            <a:r>
              <a:rPr b="0" lang="ru-RU" sz="2800" spc="-1" strike="noStrike">
                <a:solidFill>
                  <a:srgbClr val="111115"/>
                </a:solidFill>
                <a:latin typeface="Times New Roman"/>
              </a:rPr>
              <a:t> Почему сова уникальная птица? В рассказе это доказывается и объясняется. Значит это текст – рассуж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5"/>
                </a:solidFill>
                <a:latin typeface="Times New Roman"/>
              </a:rPr>
              <a:t>Тема текста: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с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5"/>
                </a:solidFill>
                <a:latin typeface="Times New Roman"/>
              </a:rPr>
              <a:t>Главная мысль текста: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Сова- уникальная пт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Почему?</a:t>
            </a:r>
            <a:r>
              <a:rPr b="0" lang="ru-RU" sz="2800" spc="-1" strike="noStrike">
                <a:solidFill>
                  <a:srgbClr val="111115"/>
                </a:solidFill>
                <a:latin typeface="Times New Roman"/>
              </a:rPr>
              <a:t>- текст-рассуж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1131840" y="2060640"/>
            <a:ext cx="6913440" cy="264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 – описание         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ой?  Кака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 – повествование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произош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- рассуждение        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3431520" y="969840"/>
            <a:ext cx="21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мн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0:35:28Z</dcterms:created>
  <dc:creator>Helen</dc:creator>
  <dc:description/>
  <dc:language>en-US</dc:language>
  <cp:lastModifiedBy>User</cp:lastModifiedBy>
  <dcterms:modified xsi:type="dcterms:W3CDTF">2023-04-19T18:32:31Z</dcterms:modified>
  <cp:revision>95</cp:revision>
  <dc:subject/>
  <dc:title>Слайд 1</dc:title>
</cp:coreProperties>
</file>