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F05F-128C-46B6-A401-2F6E9BB85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B30-4738-477A-90E9-31E1B0473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79C-9949-4576-B5D8-562F2CB7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B0F-F950-4F4E-B390-8253724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9B0-C5C9-4028-B401-AE562183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59F-B987-4418-A509-F09F7341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E7BD-F41A-4E6D-9313-C4CE739A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D5F9-7CAB-441A-8AFF-23464DF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12DE-E545-4EB4-8652-C0F65AE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86A-61EB-4C63-BBBF-E856CC2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C277-77E4-4D4B-86DD-61289C17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F1C-4A02-4304-91A9-BA65DE61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6D1C-E742-4313-A3C0-377DAFA0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7A3-A004-4D3F-85BD-5D56021A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AC5-901E-4C22-8131-02837AD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9A4E-6B8A-4A3E-B244-CE9FB22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CE02-036E-4781-85C8-47BE711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C02F-D496-48EC-8AD0-9B46A574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3ED5-4613-4441-90EB-ADD757D4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40E-3032-4232-B435-AA8F1A2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95C-FAB1-4430-BAE9-C979B70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A3F-9684-4A3E-BF10-64087F63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DD7-12C4-4A70-944E-45D11482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793-B0C6-4A9E-BD53-CDA5486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443-8EE9-4FA7-8BE2-435A0F7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B08-9BF1-4940-8B09-07EA307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511-8C60-4B1E-B5AD-8245FF849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E732-7CC6-4875-B107-EB32FCB4F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187280" y="1197000"/>
            <a:ext cx="7056720" cy="350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Типы текст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Стенина С.Н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26920" y="1341360"/>
            <a:ext cx="7777440" cy="34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 несколько  предложений, связанных  между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ой  по  смыслу (и  построенных  в  строгой последовательности  действи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1116000" y="1413000"/>
            <a:ext cx="7056360" cy="30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– описание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текст, в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тором что то объясняется и доказ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042920" y="765000"/>
            <a:ext cx="7274160" cy="551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 – 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? Кака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- описание насыщен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а-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иво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рсть у неё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инна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шиста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Мордочка у лисы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тянут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. Особенно хорош хвост. Он переливается на солнце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ыжим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рас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а живёт в лесу. Она выкапывает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убок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оры. Питается лиса мышами. Заметает свои следы хвостом. Лиса-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орожны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трый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24000" y="907920"/>
            <a:ext cx="8496000" cy="509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-повествование -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это текст, в котором рассказывается о ком-то или о чем-т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можно поставить общий вопрос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ощь яблоньк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оло дома росла маленькая яблонь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етел сильный ветер. Он стал крутить и ломать деревце. Дима принес колья. Мальчик подвязал яблонь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нька была спас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бы не смогли рассказать о том, что произош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555480" y="476280"/>
            <a:ext cx="8120160" cy="492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– рассуждение -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текст, в котором что то объясняется и доказ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</a:rPr>
              <a:t>Прочитайте рассказ О. Карловича о птице с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ова- уникальная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ногое у неё не так, как у других птиц.  Оба глаза «на лице» вместе, а не по бока. Она может легко повернуть голову на 180 градусов. Летает бесшумно. Видит одинаково хорошо и днём, и ноч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 общем, не птица, а чуд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684360" y="476280"/>
            <a:ext cx="7632720" cy="54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Определим тему текста и главную мысль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В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теме текста 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говорится о сове.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Главная мысль текста 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выражена в предложении. Сова- уникальная птица.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 тексту можно задать вопрос.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 Почему сова уникальная птица? В рассказе это доказывается и объясняется. Значит это текст – рас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Тема текста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Главная мысль текста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ова- уникальная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очему?</a:t>
            </a:r>
            <a:r>
              <a:rPr b="0" lang="ru-RU" sz="2800" spc="-1" strike="noStrike">
                <a:solidFill>
                  <a:srgbClr val="111115"/>
                </a:solidFill>
                <a:latin typeface="Times New Roman"/>
              </a:rPr>
              <a:t>- текст-рас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31840" y="2060640"/>
            <a:ext cx="6913440" cy="264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описание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?  Ка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повествование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- рассуждение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431520" y="96984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User</cp:lastModifiedBy>
  <dcterms:modified xsi:type="dcterms:W3CDTF">2023-04-19T18:32:31Z</dcterms:modified>
  <cp:revision>95</cp:revision>
  <dc:subject/>
  <dc:title>Слайд 1</dc:title>
</cp:coreProperties>
</file>