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9.png" ContentType="image/png"/>
  <Override PartName="/ppt/media/image36.png" ContentType="image/png"/>
  <Override PartName="/ppt/media/image45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png" ContentType="image/png"/>
  <Override PartName="/ppt/media/image49.jpeg" ContentType="image/jpeg"/>
  <Override PartName="/ppt/media/image5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4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AD5-19C4-4DF6-BAB1-5C0A9068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861-8314-4450-AD59-0433A80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E02-AE7A-494F-9C41-8CE35F04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705-95CF-482B-B47E-8ACE7872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1B32-895A-4BD4-846D-3CDADC86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0E90-EE45-4D20-BACC-6FC68BA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7A5-EA1F-4D6F-937E-818EE3AC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0491-71F9-4151-8EDF-0B6FC4C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DA8A-70E7-47BC-90F6-3B2A4CF2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B395-CBCD-43E1-B397-3EB22F7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4E8-3204-4C36-A4AE-16DC29D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16C-89E6-4240-9729-D715CF9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2B90-3404-4C4B-9038-DBB6B19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B947-43B5-4FF9-8EBA-5A87653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514-0DB2-4EFC-8E64-A2BDB5F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34DA-EE93-477F-81B5-37FD69DE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87D3-5DC1-44ED-A15F-A3F5F17E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9DC7-79B5-45E5-B934-490D01BA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F19A-FC2B-406C-ADFD-FCA2270B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986A-C302-4F57-ACCA-7E25D70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370B-6CF1-452F-9C43-DE818FB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F75C-1144-4A9C-8014-3C420920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7D3-B296-48D6-83D3-A4165D4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4CF3-3C87-4E1D-9929-0021A2AF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24F3-0E48-4487-BA3C-1B64896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B404-A655-4456-9BCC-DF6A5CC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517D-5A1F-42FF-8F59-BC35F07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B4EC-9222-484F-B5F8-71CCE130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86ED-8C97-495C-92FD-CEF9C70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ABCB-6304-4873-91AE-28E37062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F8AA-7966-46F9-A664-85D145AF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E6FE-DCBB-4EAD-8B80-462944E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BFCF-9A92-47F0-A8C4-30F0E10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6DD-1097-4EA3-81D6-78898C25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6718-1A4A-4F80-9324-F3C71477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3D2D-728F-4881-A91D-BCA2930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5270-E97E-4A3A-9D46-A0F2026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934F-D1A0-4525-B79B-10756DE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B46F-892B-4FD3-B6F1-D2E30686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8BB0-60AF-454E-BB6C-65303FD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9DF2-8331-4DBF-B1DB-C5358611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DDA57-65FC-4895-B941-E398B425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62CE-9CA2-43C8-8D2C-51EC176D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F8FA-8819-4C16-85E8-A9EFA298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D83-A8C2-4946-A2C4-18D4B13C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3022-E05C-4C4B-9825-20DFDD3C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5AFC-4931-4976-AEFC-0D19E7B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1B01-D2A1-49C5-9937-FC40B0B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7A1D-E76A-4450-B544-6DC89B5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B51B8-9BF8-4C18-8EF0-76ADD90F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D43CF-452B-4331-8D79-58796CA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C09D2-90EE-44C6-B3F4-1A3AF23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0215-314C-46B6-B766-2D26686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2AED-FF15-43C3-885C-329680BF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4F62-76F6-4205-8045-5726432B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EFE-C9D0-4D7F-802C-BCE9F97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3CE1-9CFD-4C95-A193-426C093B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65E4-E2F3-4055-BC3F-82758A55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79BF-B8D3-4591-8931-6FE312CD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1508A-5701-4484-9BB0-28563A52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4548-9E3A-4A6D-B0DD-B9D99E0F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44D7-C212-4AFD-958C-D83A40B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D53E-9572-4564-9663-F8A4009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C4F7-A160-47F8-8156-86EC56F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F3D6-1F93-4C06-A842-7666FC8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F9A8-EAF2-40BB-98AC-B03211C9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D62-7C38-4B1B-B257-5ABB3C9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C5BF4-C09D-41AD-A6E6-AFBA05C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0961-36C4-4F0F-88DF-24AAAD6C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2D17-073B-4367-9E3F-9DCBAFE2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2AE-2CF9-4A39-9FDC-2CD0918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63D-8AFC-4C16-AF98-7E3B013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9377-59FF-46C7-A818-107C72728B5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FC1-115E-4E33-BE11-1593A66C476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B3D9-B9EA-4404-9A24-23A3623C50C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CDF-DC6F-4DBA-9245-4F974A16D94C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154-0A7B-455A-B3DD-ED017AA09FF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90A0-A2FE-4FB1-B81E-D397D874B10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ogle.ru/imgres?imgurl=http://www.fmm.ru/pictures/vitr19/20914c1.jpg&amp;imgrefurl=http://www.fmm.ru/specimens/vitr19/20914c1.htm&amp;usg=__emgeoe6Ouuvygea5sq5xU53cqas=&amp;h=280&amp;w=400&amp;sz=16&amp;hl=ru&amp;start=2&amp;zoom=1&amp;tbnid=J3l29-QmMdGFeM:&amp;tbnh=87&amp;tbnw=124&amp;ei=DJkjUY77IomB4ATPqIHADA&amp;prev=/search?q=&#1092;&#1086;&#1089;&#1092;&#1086;&#1088;&#1080;&#1090;&amp;um=1&amp;hl=ru&amp;newwindow=1&amp;gbv=2&amp;tbm=isch&amp;um=1&amp;itbs=1&amp;sa=X&amp;ved=0CCsQrQMwAQ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ru/imgres?imgurl=http://img-fotki.yandex.ru/get/3110/ygm2007.2c/0_34b62_f73faed6_L&amp;imgrefurl=http://fotki.yandex.ru/users/ygm2007/view/215906/&amp;usg=__CRl4jopcKULBousGl0qzTGMDyco=&amp;h=336&amp;w=500&amp;sz=57&amp;hl=ru&amp;start=12&amp;zoom=1&amp;tbnid=pU_B8XmxfJJgnM:&amp;tbnh=87&amp;tbnw=130&amp;ei=lpkjUZnfObOL4gS7nIGYAQ&amp;prev=/search?q=&#1092;&#1090;&#1086;&#1088;&#1072;&#1087;&#1072;&#1090;&#1080;&#1090;&amp;um=1&amp;hl=ru&amp;newwindow=1&amp;gbv=2&amp;tbm=isch&amp;um=1&amp;itbs=1&amp;sa=X&amp;ved=0CD8QrQMwCw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28760" y="856800"/>
            <a:ext cx="723888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а. Это была собака, огромная, черная, как смоль. Но такой собаки никто из нас, смертных, еще не видывал. Из ее пасти вырывалось пламя, глаза метали искры, по морде и загривку переливался  мерцающий огонь. Ни в чьем воспаленном мозгу не могло бы возникнуть видение более страшное, более омерзительное, чем это адское существо, выскочившие на нас из тумана…Страшный пес величиной с молодую львицу.  Чудовище лежало перед нами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Его огромная пасть все еще светилась голубоватым пламенем, глубоко сидящие дикие глаза обведены огненными кругами. Я дотронулся до этой светящейся головы и, подняв руку, увидел, что мои пальцы тоже засветились в темноте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Узнали? Что же это за произведение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Ответ учащихся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6357960" y="4689360"/>
            <a:ext cx="25718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	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Противоядие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отравлении фосфоро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ужит 2% раствор медного купорос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ледует давать больному через 5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инут по чайной ложке до появления рв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6600"/>
                </a:solidFill>
                <a:latin typeface="Arial"/>
              </a:rPr>
              <a:t>Горящи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е только причиня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чень сильные ожоги, но и вызыва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авление тканей, прилежащих к месту ожог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ледствие чего заживление идет крайн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ленно. При ожогах фосфор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противоядие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лужит мокрая повязк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питанная 5% раствором медного купоро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вязи с тем, что белый фосфор легк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исляется и воспламеняется, его хранят под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о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Крас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рошок со слабо выраженной кристаллической структурой и поэтому названный аморфным, темно-красного цвета, имеет атомную решетку, весьма гигроскопичен (легко поглощает воду), но в воде нерастворим; нерастворим он и в сероуглерод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сный фосфор получается при длительном нагревании белого фосфора без доступа воздуха при 45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В отличие от белого – не ядовит, запаха не имеет, воспламеняется при 250 - 3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490c5"/>
                </a:solidFill>
                <a:latin typeface="Trebuchet MS"/>
              </a:rPr>
              <a:t>Фиолетовый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1" lang="ru-RU" sz="2600" spc="-1" strike="noStrike">
                <a:solidFill>
                  <a:srgbClr val="d490c5"/>
                </a:solidFill>
                <a:latin typeface="Trebuchet MS"/>
              </a:rPr>
              <a:t>чер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также получают из белого при высоких давлении и температуре. </a:t>
            </a:r>
            <a:r>
              <a:rPr b="1" lang="ru-RU" sz="2600" spc="-1" strike="noStrike">
                <a:solidFill>
                  <a:srgbClr val="d490c5"/>
                </a:solidFill>
                <a:latin typeface="Trebuchet MS"/>
              </a:rPr>
              <a:t>Чер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обладает металлическим блеском, проводит электричество и тепло. Следовательно, у фосфора в незначительной степени проявляются металлические свой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699320" cy="14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500040" y="1574640"/>
          <a:ext cx="7429680" cy="5011920"/>
        </p:xfrm>
        <a:graphic>
          <a:graphicData uri="http://schemas.openxmlformats.org/drawingml/2006/table">
            <a:tbl>
              <a:tblPr/>
              <a:tblGrid>
                <a:gridCol w="1857240"/>
                <a:gridCol w="1857600"/>
                <a:gridCol w="1857240"/>
                <a:gridCol w="1857600"/>
              </a:tblGrid>
              <a:tr h="246240"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знаки срав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ел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с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23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грегатное состоя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хож на очищенный воск или парафин, легко режется ножом, деформируется от небольших усил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ные блестящие кристаллы, жирные на ощупь, весьма похожи на граф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лимер со сложной структурой, хрупкое твердое веще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776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елый, из-за примесей может иметь желтоватый отте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ный с металлическим блеск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пупурно-красного до фиолетов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пература плавления, 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в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ледно-зеле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творим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сероуглер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 растворяется в воде и органических растворител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расплавленных металлах (Рb, В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лотность (кг\м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лектропровод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овод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8280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особы 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специальных инертных средах, при отсутствии воздуха, под слоем очищенной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рмодинамически стабильная и химически наименее активная фор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рмодинамически стабильная модифик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25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составная часть растительных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вотных белков. 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У растен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осфо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редоточен в семенах, у животных -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рвной ткани, мышцах, скелет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Организм челове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держит около 1,5 кг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а: 1,4 кг – в костях, 130 г – в мышцах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3 г в нервной ткан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 фосфора в организме человек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тавляет приблизительно 1% от массы тел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ac66bb"/>
                </a:solidFill>
                <a:latin typeface="Arial"/>
              </a:rPr>
              <a:t>Суточное потребле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осфора человеком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оло 2 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7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39640" y="3200400"/>
          <a:ext cx="7842240" cy="3260880"/>
        </p:xfrm>
        <a:graphic>
          <a:graphicData uri="http://schemas.openxmlformats.org/drawingml/2006/table">
            <a:tbl>
              <a:tblPr/>
              <a:tblGrid>
                <a:gridCol w="2614680"/>
                <a:gridCol w="2613240"/>
                <a:gridCol w="2614320"/>
              </a:tblGrid>
              <a:tr h="105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 row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ап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т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ап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4"/>
          <p:cNvSpPr/>
          <p:nvPr/>
        </p:nvSpPr>
        <p:spPr>
          <a:xfrm>
            <a:off x="2362320" y="1828440"/>
            <a:ext cx="63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i="1" lang="de-DE" sz="1800" spc="-1" strike="noStrike">
                <a:solidFill>
                  <a:srgbClr val="000000"/>
                </a:solidFill>
                <a:latin typeface="Century Gothic"/>
              </a:rPr>
              <a:t>з-за большой химической активности встречается в природе только в виде соединений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5640" y="2637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ажнейшими минералами фосфора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0" descr="ANd9GcQHtUCqvB8ura6LlM757jicPMuknpRWLKYZJJ1r07tSJGQ7k2aHQo1Mg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200400"/>
            <a:ext cx="1523880" cy="1068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4" descr="ANd9GcS4lqsMsnT094nv9Q7aNfJHcsqTy41Fi9vtdUEMyULImxr37hL_wsw3w_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4267080"/>
            <a:ext cx="1542960" cy="103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6" descr="ANd9GcR8UNzdMdP7Rr8H8PhQC98LamKw36hIBAvpxjwBm3sMLEQGfRqeLT63SmaX"/>
          <p:cNvPicPr/>
          <p:nvPr/>
        </p:nvPicPr>
        <p:blipFill>
          <a:blip r:embed="rId6"/>
          <a:stretch/>
        </p:blipFill>
        <p:spPr>
          <a:xfrm>
            <a:off x="6248520" y="5334120"/>
            <a:ext cx="1562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1042920" y="401760"/>
            <a:ext cx="7083360" cy="1304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Apatyt"/>
          <p:cNvPicPr/>
          <p:nvPr/>
        </p:nvPicPr>
        <p:blipFill>
          <a:blip r:embed="rId2"/>
          <a:stretch/>
        </p:blipFill>
        <p:spPr>
          <a:xfrm>
            <a:off x="468360" y="1844640"/>
            <a:ext cx="3970440" cy="2978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main"/>
          <p:cNvPicPr/>
          <p:nvPr/>
        </p:nvPicPr>
        <p:blipFill>
          <a:blip r:embed="rId3"/>
          <a:stretch/>
        </p:blipFill>
        <p:spPr>
          <a:xfrm>
            <a:off x="4427640" y="1844640"/>
            <a:ext cx="4286160" cy="2860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1"/>
          <p:cNvSpPr/>
          <p:nvPr/>
        </p:nvSpPr>
        <p:spPr>
          <a:xfrm>
            <a:off x="539640" y="494172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entury Gothic"/>
              </a:rPr>
              <a:t>Крупнейшее месторождение апатитов находится на Кольском полуострове, в районе Хибинских г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572000" y="49417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entury Gothic"/>
              </a:rPr>
              <a:t>Залежи фосфоритов находятся в районе гор Каратау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4" descr=""/>
          <p:cNvPicPr/>
          <p:nvPr/>
        </p:nvPicPr>
        <p:blipFill>
          <a:blip r:embed="rId1"/>
          <a:stretch/>
        </p:blipFill>
        <p:spPr>
          <a:xfrm>
            <a:off x="969840" y="622440"/>
            <a:ext cx="7027920" cy="1157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4067280" y="1696320"/>
            <a:ext cx="475272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сфор производят в электрических печах, восстанавливая апатит углем в присутствии кремнез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Ca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3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(PO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4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)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2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+3SiO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2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+5C=3CaSiO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3</a:t>
            </a:r>
            <a:r>
              <a:rPr b="0" lang="ru-RU" sz="1800" spc="-1" strike="noStrike">
                <a:solidFill>
                  <a:srgbClr val="a50021"/>
                </a:solidFill>
                <a:latin typeface="Century Gothic"/>
              </a:rPr>
              <a:t>+5CO+P</a:t>
            </a:r>
            <a:r>
              <a:rPr b="0" lang="ru-RU" sz="1200" spc="-1" strike="noStrike">
                <a:solidFill>
                  <a:srgbClr val="a50021"/>
                </a:solidFill>
                <a:latin typeface="Century Gothi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ары фосфора при этой температуре почти полностью состоят из молекул Р2, которые при охлаждении конденсируются в молекулы Р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Фиг. 2. Печь для добывания фосфора."/>
          <p:cNvPicPr/>
          <p:nvPr/>
        </p:nvPicPr>
        <p:blipFill>
          <a:blip r:embed="rId2"/>
          <a:stretch/>
        </p:blipFill>
        <p:spPr>
          <a:xfrm>
            <a:off x="468360" y="2174760"/>
            <a:ext cx="3598920" cy="29019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684360" y="52293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ь для добывания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504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химическом отношении белый фосфор сильно отличается от красно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</a:rPr>
              <a:t>Бел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легко окисляется и самовоспламеняется на воздухе, поэтому его хранят под вод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Arial"/>
              </a:rPr>
              <a:t>Красн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е воспламеняется на воздухе, но воспламеняется при нагревании свыше 24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окислении </a:t>
            </a: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бел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ветится в темноте – происходит непосредственное превращение химической энергии в световую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40464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соединяется со многими простым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ществами – кислородом, галогенами, серой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которыми металлами, проявля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ислительные и восстановительные свой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1. С кислород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горении фосфора образуется белы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стой дым. Белый фосфор самовоспламеняетс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здухе, а красный горит при поджиган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сгорает в кислороде ослепительн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рким пламене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4P + 3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(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недостат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 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4P + 5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(избыток)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5 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10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трывок из произведения  Артура Конан  Дойля  “Собака Баскервилей». Назовите химический элемент, который замешан   в этой истор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ÐÐ°ÑÑÐ¸Ð½ÐºÐ¸ Ð¿Ð¾ Ð·Ð°Ð¿ÑÐ¾ÑÑ Ð°Ð½Ð¸Ð¼Ð°ÑÐ¸Ñ  ÑÐ¾Ð±Ð°ÐºÐ° Ð±Ð°ÑÐºÐµÑÐ²Ð¸Ð»ÐµÐ¹"/>
          <p:cNvPicPr/>
          <p:nvPr/>
        </p:nvPicPr>
        <p:blipFill>
          <a:blip r:embed="rId2"/>
          <a:stretch/>
        </p:blipFill>
        <p:spPr>
          <a:xfrm>
            <a:off x="928800" y="3500280"/>
            <a:ext cx="2181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2. С галоге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элементами, обладающими большей, чем 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а, электроотрицательностью, фосфо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гирует очень энергич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в сосуд с хлором внести красны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, то через несколько секунд о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воспламеняется в хлоре. При этом обычн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чается хлорид фосфор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4P 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(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недостат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4P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4P + 10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(избыток)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4PCl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4" descr="BTAR_UP"/>
          <p:cNvPicPr/>
          <p:nvPr/>
        </p:nvPicPr>
        <p:blipFill>
          <a:blip r:embed="rId1"/>
          <a:stretch/>
        </p:blipFill>
        <p:spPr>
          <a:xfrm>
            <a:off x="8028000" y="616572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BTAR_RGT"/>
          <p:cNvPicPr/>
          <p:nvPr/>
        </p:nvPicPr>
        <p:blipFill>
          <a:blip r:embed="rId2"/>
          <a:stretch/>
        </p:blipFill>
        <p:spPr>
          <a:xfrm>
            <a:off x="8459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BTAR_LFT"/>
          <p:cNvPicPr/>
          <p:nvPr/>
        </p:nvPicPr>
        <p:blipFill>
          <a:blip r:embed="rId3"/>
          <a:stretch/>
        </p:blipFill>
        <p:spPr>
          <a:xfrm>
            <a:off x="7524720" y="6237360"/>
            <a:ext cx="434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de66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. С сер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нагрева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4P + 6S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S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4P 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→ 2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haroni"/>
              </a:rPr>
              <a:t>S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haroni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de66"/>
                </a:solidFill>
                <a:latin typeface="Arial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  <a:ea typeface="Times New Roman"/>
              </a:rPr>
              <a:t>4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окисляет при нагревании поч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металл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бразуя </a:t>
            </a: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фосфид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 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a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→ Ca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ды металлов легко гидролизуютс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a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 6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→ 2P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3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Ca(OH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расный фосфор окисляется 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</a:rPr>
              <a:t>вод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мпературе около 8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 в присутстви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тализатора – порошка ме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2P + 8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 → 2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5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6. Концентрированная серная кисл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кисляет при нагревании фосфор: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2P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S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(к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 + 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2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2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de66"/>
                </a:solidFill>
                <a:latin typeface="Arial"/>
                <a:ea typeface="Arial"/>
              </a:rPr>
              <a:t>7</a:t>
            </a:r>
            <a:r>
              <a:rPr b="1" i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. Азотная кисл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 нагревании окисля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сф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H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(к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H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(разб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↑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 Black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231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в степени окисления -3 образу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ородное соединение фосфин </a:t>
            </a: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PH</a:t>
            </a:r>
            <a:r>
              <a:rPr b="1" lang="ru-RU" sz="2600" spc="-1" strike="noStrike" baseline="-14000">
                <a:solidFill>
                  <a:srgbClr val="d490c5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огичное аммиаку. Эта степень окисл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нее характерна для фосфора, чем для азот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ac66bb"/>
                </a:solidFill>
                <a:latin typeface="Arial"/>
              </a:rPr>
              <a:t>Фосфи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ядовитый газ с чесночны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ахом, может быть получен из фосфид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нка действием кислот или вод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Zn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6HCl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2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3ZnCl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свойства фосфина слабее, чем 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ммиак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HCl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47592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ли фосфония в водных растворах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устойчивы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 Black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н имеет восстановительные свойств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низшая степень окисления фосфора), горит 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духе (самовоспламеняется)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2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4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3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O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+ 2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P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н окисляется очень многими окислителя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(к)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600" spc="-1" strike="noStrike" baseline="-14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ид цинка используется в качеств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ооцида для борьбы с грызу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сид фосфора(V) 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или P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уется при горении фосфора на воздух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4Р + 5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2Р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 Black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вердое кристаллическое вещество Р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игроскопично и используется ка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доотнимающее средств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8" name="Picture 8" descr="ÐÐ°ÑÑÐ¸Ð½ÐºÐ¸ Ð¿Ð¾ Ð·Ð°Ð¿ÑÐ¾ÑÑ Ð°Ð½Ð¸Ð¼Ð°ÑÐ¸Ñ  ÑÐ¸Ð¼Ð¸Ñ"/>
          <p:cNvPicPr/>
          <p:nvPr/>
        </p:nvPicPr>
        <p:blipFill>
          <a:blip r:embed="rId2"/>
          <a:stretch/>
        </p:blipFill>
        <p:spPr>
          <a:xfrm>
            <a:off x="5572080" y="3857760"/>
            <a:ext cx="1571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ксид фосфора (V) очень энергично соединяется с водой, а также отнимает воду от других соединений. Применяется как осушитель газов и жидкос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1" name="Picture 2" descr="ÐÐ°ÑÑÐ¸Ð½ÐºÐ¸ Ð¿Ð¾ Ð·Ð°Ð¿ÑÐ¾ÑÑ Ð°Ð½Ð¸Ð¼Ð°ÑÐ¸Ñ  ÑÐ¸Ð¼Ð¸Ñ"/>
          <p:cNvPicPr/>
          <p:nvPr/>
        </p:nvPicPr>
        <p:blipFill>
          <a:blip r:embed="rId2"/>
          <a:stretch/>
        </p:blipFill>
        <p:spPr>
          <a:xfrm>
            <a:off x="785880" y="350028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6" descr="2685_Полифосфат%20Натрия"/>
          <p:cNvPicPr/>
          <p:nvPr/>
        </p:nvPicPr>
        <p:blipFill>
          <a:blip r:embed="rId1"/>
          <a:stretch/>
        </p:blipFill>
        <p:spPr>
          <a:xfrm>
            <a:off x="6372360" y="4437000"/>
            <a:ext cx="2238120" cy="205740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2" descr=""/>
          <p:cNvPicPr/>
          <p:nvPr/>
        </p:nvPicPr>
        <p:blipFill>
          <a:blip r:embed="rId2"/>
          <a:stretch/>
        </p:blipFill>
        <p:spPr>
          <a:xfrm>
            <a:off x="609480" y="622440"/>
            <a:ext cx="7864560" cy="1035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900000" y="134136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коло 80%  от всего производства белого фосфора идет на синтез чистой ортофосфорной кислоты. Она используется для получения полифосфатов натрия (их применяют для снижения жесткости питьевой воды) и пищевых фосфатов. Оставшаяся часть белого фосфора расходуется для создания дымообразующих веществ и зажигательных смес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6516720" y="6165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лифосфат на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864560" cy="998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539640" y="134136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ервые фосфорные спички – с головкой из белого фосфора – были созданы лишь 1827 г. Такие спички загорались при трении о любую поверхность, что нередко приводило к пожарам. Кроме того, белый фосфор очень ядовит. Описаны случаи отравления фосфорными спичками как из-за неосторожного обращения, так и с целью самоубийства: для этого достаточно было съесть несколько спичечных головок. Вот почему на смену фосфорным спичкам пришли безопасные, которые верно служат нам и по сей день. Промышленное производство безопасных спичек началось в Швеции в 60-х гг. XI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1207579672_spichki"/>
          <p:cNvPicPr/>
          <p:nvPr/>
        </p:nvPicPr>
        <p:blipFill>
          <a:blip r:embed="rId2"/>
          <a:stretch/>
        </p:blipFill>
        <p:spPr>
          <a:xfrm>
            <a:off x="1116000" y="4797360"/>
            <a:ext cx="1422360" cy="1514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48796218_world_first_matches_2"/>
          <p:cNvPicPr/>
          <p:nvPr/>
        </p:nvPicPr>
        <p:blipFill>
          <a:blip r:embed="rId3"/>
          <a:stretch/>
        </p:blipFill>
        <p:spPr>
          <a:xfrm>
            <a:off x="5435640" y="4869000"/>
            <a:ext cx="22892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7864560" cy="9982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684360" y="1341360"/>
            <a:ext cx="762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жигательная поверхность спичечного коробка покрыта смесью красного фосфора и порошка стекла. В состав спичечной головки входят окислители (PbO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KСlO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BaCrO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) и восстановители (S, Sb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). При трении от зажигательной поверхности смесь, нанесенная на спичку, воспла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ANd9GcT9Pl9iOZS5KflFxgVAYbq3YfTWdtDBgC5-C-IP37f3berqZMZTD-EXeojo"/>
          <p:cNvPicPr/>
          <p:nvPr/>
        </p:nvPicPr>
        <p:blipFill>
          <a:blip r:embed="rId2"/>
          <a:stretch/>
        </p:blipFill>
        <p:spPr>
          <a:xfrm>
            <a:off x="6300720" y="4437000"/>
            <a:ext cx="2232000" cy="1500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48r"/>
          <p:cNvPicPr/>
          <p:nvPr/>
        </p:nvPicPr>
        <p:blipFill>
          <a:blip r:embed="rId3"/>
          <a:stretch/>
        </p:blipFill>
        <p:spPr>
          <a:xfrm>
            <a:off x="3780000" y="4076640"/>
            <a:ext cx="2354040" cy="2362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matchstick_pencil"/>
          <p:cNvPicPr/>
          <p:nvPr/>
        </p:nvPicPr>
        <p:blipFill>
          <a:blip r:embed="rId4"/>
          <a:stretch/>
        </p:blipFill>
        <p:spPr>
          <a:xfrm>
            <a:off x="539640" y="4149720"/>
            <a:ext cx="28195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87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0" y="0"/>
            <a:ext cx="4143240" cy="2857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276360" y="3429000"/>
            <a:ext cx="51130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9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7864560" cy="1035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684360" y="134136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Интересны и другие применения ортофосфорной кислоты в промышленности. Например, было замечено, что пропитка древесины самой кислотой и ее солями делают дерево негорючим. На этой основе сейчас производят огнезащитные краски, негорючие фосфодревесные плиты, негорючий фосфатный пенопласт и другие строительные матер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thermax"/>
          <p:cNvPicPr/>
          <p:nvPr/>
        </p:nvPicPr>
        <p:blipFill>
          <a:blip r:embed="rId2"/>
          <a:stretch/>
        </p:blipFill>
        <p:spPr>
          <a:xfrm>
            <a:off x="684360" y="4149720"/>
            <a:ext cx="3533760" cy="2190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vata"/>
          <p:cNvPicPr/>
          <p:nvPr/>
        </p:nvPicPr>
        <p:blipFill>
          <a:blip r:embed="rId3"/>
          <a:stretch/>
        </p:blipFill>
        <p:spPr>
          <a:xfrm>
            <a:off x="4932360" y="4149720"/>
            <a:ext cx="3591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уществите превращения по схеме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P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P -&gt; P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P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-&gt; C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P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овите веще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ьте молекулярные и ионные уравнения реакций ортофосфорной кислоты с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калие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оксидом кал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гидроксидом кал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сульфитом кал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5667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2627280" y="1844640"/>
            <a:ext cx="5904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читается, что фосфор открыл в 1669 году алхимик из Гамбурга Хеннинг Бранд. Он был разорившимся купцом и пытался разбогатеть с помощью ал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полагая, что физиологические продукты могут содержать «первичную материю», которая считалась основой философского камня, Бранд заинтересовался человеческой мо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fortun_kekul"/>
          <p:cNvPicPr/>
          <p:nvPr/>
        </p:nvPicPr>
        <p:blipFill>
          <a:blip r:embed="rId2"/>
          <a:stretch/>
        </p:blipFill>
        <p:spPr>
          <a:xfrm>
            <a:off x="0" y="0"/>
            <a:ext cx="1944720" cy="2664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142920" y="4500720"/>
            <a:ext cx="257184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8058240" cy="12747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3276720" y="1268280"/>
            <a:ext cx="555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н собрал около тонны мочи из солдатских казарм и выпаривал ее до образования сиропообразной жидкости. Эту жидкость он   вновь дистиллировал и получил тяжелое красное «уринное   масло», которое перегонялось с образованием твердого остатка. Нагревая последний, без доступа воздуха, он заметил образование белого дыма, оседавшего на стенках сосуда и ярко светившего в темн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Бранд назвал полученное им вещество фосфором, что в переводе с греческого означает «светоносец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Brand"/>
          <p:cNvPicPr/>
          <p:nvPr/>
        </p:nvPicPr>
        <p:blipFill>
          <a:blip r:embed="rId2"/>
          <a:stretch/>
        </p:blipFill>
        <p:spPr>
          <a:xfrm>
            <a:off x="611280" y="1413000"/>
            <a:ext cx="2584440" cy="27432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1"/>
          <p:cNvSpPr/>
          <p:nvPr/>
        </p:nvSpPr>
        <p:spPr>
          <a:xfrm>
            <a:off x="3276720" y="51577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 лишь 1777 году К.В. Шееле разработал способ получения фосфора из рога и костей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cl_sheele"/>
          <p:cNvPicPr/>
          <p:nvPr/>
        </p:nvPicPr>
        <p:blipFill>
          <a:blip r:embed="rId3"/>
          <a:stretch/>
        </p:blipFill>
        <p:spPr>
          <a:xfrm>
            <a:off x="1187280" y="4437000"/>
            <a:ext cx="1513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395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мент VA группы имеет электронную формулу 1s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ru-RU" sz="2600" spc="-1" strike="noStrike" baseline="14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сфор – неметалл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ее характерные степени окисления: +5, +3, 0, -3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сиды Э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Э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меют кислотные свойств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тучее водородное соединение – фосфи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PH</a:t>
            </a:r>
            <a:r>
              <a:rPr b="1" lang="ru-RU" sz="2600" spc="-1" strike="noStrike" baseline="-14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https://bb31e6b6-a-62cb3a1a-s-sites.googlegroups.com/site/himulacom/zvonok-na-urok/9-klass---vtoroj-god-obucenia/urok-no34-fosfor-allotropia-fosfora-fiziceskie-i-himiceskie-svojstva-fosfora/%D1%81%D1%82%D1%80%D0%BE%D0%B5%D0%BD%D0%B8%D0%B5%20%D0%B0%D1%82%D0%BE%D0%BC%D0%B0%20%D1%84%D0%BE%D1%81%D1%84%D0%BE%D1%80.jpg?attachauth=ANoY7cp0SAMMFmi-cE2DLYA5Rjl9DUn9iaWDdDF6jkHiQJSpbq3l7_xZNyyAMXGL9hSInMwxuFEsFmO2Gk42dPM4MXV9Yil5624uzQ5W2-WA-El28RIShBEZEdBcNfNpr9aJh_wwxkjXxn29cPW4D1aYMLP7e-DotuBsZHmKO9nmrzEoAH8N1C_x2uPCEmCKXutRNeMoF4mr4zX7Iw8GfkBp6OcTL_MzV2AqhfTZyy0GwXaoxq7Yh_K_85y1o9AeS6O36qqaLzVjNNHvQBSovqbl3RptmH45uuydBVO32l7PnKm1nZTMUfYHCXrXmJ-crqjancT87j-c-CHy0KJ_w0zPhuiDGEAHy68DB6GynBunT2C3mWqymG60B5gifesXNbZwIKGG_0qr4FyQh7BIasIsGHR0mMy1ZkhI-rg7XTEpo2Topu5ZcAH1u8BsopjovsoAHUWh3CfgC9SC3vJ6WAgleAGxEt90esJzUYBe6UUotgfwKfV7FCmiS8uD0_oEjAWu3JCKzhgs5ZKzOy3RuPU_V_QDfsyHgA%3D%3D&amp;attredirects=0"/>
          <p:cNvPicPr/>
          <p:nvPr/>
        </p:nvPicPr>
        <p:blipFill>
          <a:blip r:embed="rId2"/>
          <a:stretch/>
        </p:blipFill>
        <p:spPr>
          <a:xfrm>
            <a:off x="428760" y="1571760"/>
            <a:ext cx="7210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500040" y="1609560"/>
          <a:ext cx="6929640" cy="4786560"/>
        </p:xfrm>
        <a:graphic>
          <a:graphicData uri="http://schemas.openxmlformats.org/drawingml/2006/table">
            <a:tbl>
              <a:tblPr/>
              <a:tblGrid>
                <a:gridCol w="1571760"/>
                <a:gridCol w="2671560"/>
                <a:gridCol w="2686320"/>
              </a:tblGrid>
              <a:tr h="489240">
                <a:tc>
                  <a:txBody>
                    <a:bodyPr lIns="19440" rIns="19440" tIns="19440" bIns="19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знаки сравн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елый                                     Чер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с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1564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грегатное состоя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пература плавления, </a:t>
                      </a:r>
                      <a:r>
                        <a:rPr b="1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356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в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творим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356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лотность (кг\м</a:t>
                      </a:r>
                      <a:r>
                        <a:rPr b="1" lang="ru-RU" sz="1100" spc="-1" strike="noStrike" baseline="30000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лектропровод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19440" rIns="1944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особы 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981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Белый фосф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бладает </a:t>
            </a: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молекулярно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ac66bb"/>
                </a:solidFill>
                <a:latin typeface="Arial"/>
              </a:rPr>
              <a:t>кристаллической решетк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 это веществ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лтоватого цвета с чесночным запахом.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х имеет состав </a:t>
            </a:r>
            <a:r>
              <a:rPr b="1" lang="ru-RU" sz="2600" spc="-1" strike="noStrike">
                <a:solidFill>
                  <a:srgbClr val="d490c5"/>
                </a:solidFill>
                <a:latin typeface="Arial"/>
              </a:rPr>
              <a:t>Р</a:t>
            </a:r>
            <a:r>
              <a:rPr b="1" lang="ru-RU" sz="2600" spc="-1" strike="noStrike" baseline="-14000">
                <a:solidFill>
                  <a:srgbClr val="d490c5"/>
                </a:solidFill>
                <a:latin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На воздух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ламеняется пр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При хранении 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ету переходит в красный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вод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растворим, зато хорошо раствори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ероуглероде, бензоле и других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ческих растворителя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н весьма </a:t>
            </a:r>
            <a:r>
              <a:rPr b="1" lang="ru-RU" sz="2600" spc="-1" strike="noStrike">
                <a:solidFill>
                  <a:srgbClr val="ff6600"/>
                </a:solidFill>
                <a:latin typeface="Arial"/>
                <a:ea typeface="Arial"/>
              </a:rPr>
              <a:t>ядови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0,1 г белого фосфора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ая доза для человек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e66"/>
                </a:solidFill>
                <a:latin typeface="Arial"/>
                <a:ea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7:06:07Z</dcterms:created>
  <dc:creator>WASP</dc:creator>
  <dc:description/>
  <dc:language>en-US</dc:language>
  <cp:lastModifiedBy>Пользователь Windows</cp:lastModifiedBy>
  <dcterms:modified xsi:type="dcterms:W3CDTF">2023-04-20T12:59:41Z</dcterms:modified>
  <cp:revision>17</cp:revision>
  <dc:subject/>
  <dc:title>ФОСФОР И ЕГО СОЕДИНЕНИЯ</dc:title>
</cp:coreProperties>
</file>