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9.png" ContentType="image/png"/>
  <Override PartName="/ppt/media/image36.png" ContentType="image/png"/>
  <Override PartName="/ppt/media/image45.jpeg" ContentType="image/jpeg"/>
  <Override PartName="/ppt/media/image41.jpeg" ContentType="image/jpeg"/>
  <Override PartName="/ppt/media/image54.png" ContentType="image/png"/>
  <Override PartName="/ppt/media/image46.jpeg" ContentType="image/jpeg"/>
  <Override PartName="/ppt/media/image30.jpeg" ContentType="image/jpeg"/>
  <Override PartName="/ppt/media/image43.png" ContentType="image/png"/>
  <Override PartName="/ppt/media/image53.jpeg" ContentType="image/jpeg"/>
  <Override PartName="/ppt/media/image47.png" ContentType="image/png"/>
  <Override PartName="/ppt/media/image49.jpeg" ContentType="image/jpeg"/>
  <Override PartName="/ppt/media/image5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9.jpeg" ContentType="image/jpeg"/>
  <Override PartName="/ppt/media/image52.jpeg" ContentType="image/jpeg"/>
  <Override PartName="/ppt/media/image44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8DF-EB74-45A9-8D6B-7641E1E0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C4C-AF00-4427-B8C9-51372A62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0F2-149C-46D5-AAB4-172A285E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72C-471D-46B6-83EB-8220652B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672B-01E3-43A0-A2C6-5A6B8A2F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2572-A1FA-4A85-B525-5D839DF0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FF95-8961-4BF0-B5E6-3F3874A5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5F69-D635-444F-8478-4130C5B5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21EB-4966-4916-8930-9774ECD6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9126-F8CC-4FA2-814B-B1575DB2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8324-DCFE-4169-AEFE-77FAEB92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18A-806D-4FC4-8CB0-4E0E5BC2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BC62-E438-4183-A588-37AAD9BB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86F1-771E-49A3-8E30-3DFD7015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9BB2-3EB2-4792-A7A6-B7ADFBA3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F4E8-55BE-42D9-8235-E363922D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89D9-C1B3-4258-8391-81D2419D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AADC-7201-45C0-81C6-905BAD6D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03B7-C0FB-4ADC-9670-C8E6E602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D2CA-EF71-4E8D-B44B-6CDDE578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B183-89AF-4157-BA38-F2F9B61D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F358-A801-44F1-BD53-90682930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25C-6335-4E32-B034-C9322A12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E4CB-EC52-43D7-B888-26A04F83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6ACB-36D7-4060-BEBA-17EB064A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4986-E152-4F0E-8F64-7B835C19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E05A-111D-49E5-BEA7-13CDD7AE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50F7-90D9-4578-9E9D-2D497B21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0E92A-3815-425E-8CC9-5F8DF435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6DEE-23C0-431A-AE38-82FD1D56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2B94A-D093-4E38-82DA-B80AD54F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FFCA7-BAD8-453B-9FA0-C3B2BCBE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ABA59-2AAD-468F-B60B-96D2ACBE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8F2-7FB1-4FDE-B259-53E353BC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BE3B-D0C8-4941-AB43-D22FCCC3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E382E-30D2-4A77-81C2-83BAD0A5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77FD-083A-4DB9-83C0-1F30F220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22DEB-2891-4AD5-944C-BE1F7706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A07D-1AAD-4D48-AEC3-43B598EB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76572-40FD-4ABB-94A9-5D9B29D7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900AB-7334-4B7A-93DE-41C6F3C1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FDE13-914E-475C-9BEB-C915FF19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349D0-D5A7-42DC-B42A-C3E56124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46ADF-B14B-4BBE-B1D8-5A7544A6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CDC-43C1-4A7A-A952-60C01499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D73A3-7512-4D83-9A05-A90E997E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40209-951F-4197-8940-4555E29E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4D69C-F2CA-4141-AB71-1BFAA9BF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776B-8376-45EF-8EF3-155ED9D8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032CB-0292-4816-A1F3-853E3424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FB3FD-3142-4359-BB24-499F937C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46BCE-D523-4DBF-851F-C44DAAC5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ACFEE-72C8-4D07-A18A-72FEEBAD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08092-CF3A-42FB-9B23-CDA5C6B8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DF229-45D0-430A-B51A-BCDFB74D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D9B-298D-4FDD-9AEC-B5C517D9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26FC0-4CD0-4305-97BC-46575F5E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1311F-4265-4570-A33C-F07F21E4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A5677-49CE-430F-8057-F53752EA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9FC47-F8CA-43FE-AD2B-426CD1A8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230A8-485B-464B-8512-6C713790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893C8-3273-4B21-B85A-D96CE94A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EEF44-CECD-42E5-91AE-982371FC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D5035-7024-47E9-B446-3D02AEA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F794C-D51E-442A-9633-02C577D5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383E0-5E1C-4DCD-B1A8-9582E144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072-2737-42F9-BE81-D74EEFAA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2E688-D494-4ABE-B0BD-1A39EE4C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D17ED-DD5B-495A-991A-B124D523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C118E-AACA-4B0F-B3E9-AC2D5A12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431-AE9D-4856-A767-1EAD6C71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80F-E4F8-48B4-8CFF-6A87B2C6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476A-697C-4A83-8752-AC88E25369D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EABA-727A-4B43-8FC3-03CAFA57136E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8C6A-1F9E-475D-8128-DBBC04339FE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43AF-7C0B-440A-8D94-51BD623C9C16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634E-C76B-4A52-8A8B-CB6820733D1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98AA-13BF-4A49-81D1-D8B6D34AD45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google.ru/imgres?imgurl=http://www.fmm.ru/pictures/vitr19/20914c1.jpg&amp;imgrefurl=http://www.fmm.ru/specimens/vitr19/20914c1.htm&amp;usg=__emgeoe6Ouuvygea5sq5xU53cqas=&amp;h=280&amp;w=400&amp;sz=16&amp;hl=ru&amp;start=2&amp;zoom=1&amp;tbnid=J3l29-QmMdGFeM:&amp;tbnh=87&amp;tbnw=124&amp;ei=DJkjUY77IomB4ATPqIHADA&amp;prev=/search?q=&#1092;&#1086;&#1089;&#1092;&#1086;&#1088;&#1080;&#1090;&amp;um=1&amp;hl=ru&amp;newwindow=1&amp;gbv=2&amp;tbm=isch&amp;um=1&amp;itbs=1&amp;sa=X&amp;ved=0CCsQrQMwAQ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www.google.ru/imgres?imgurl=http://img-fotki.yandex.ru/get/3110/ygm2007.2c/0_34b62_f73faed6_L&amp;imgrefurl=http://fotki.yandex.ru/users/ygm2007/view/215906/&amp;usg=__CRl4jopcKULBousGl0qzTGMDyco=&amp;h=336&amp;w=500&amp;sz=57&amp;hl=ru&amp;start=12&amp;zoom=1&amp;tbnid=pU_B8XmxfJJgnM:&amp;tbnh=87&amp;tbnw=130&amp;ei=lpkjUZnfObOL4gS7nIGYAQ&amp;prev=/search?q=&#1092;&#1090;&#1086;&#1088;&#1072;&#1087;&#1072;&#1090;&#1080;&#1090;&amp;um=1&amp;hl=ru&amp;newwindow=1&amp;gbv=2&amp;tbm=isch&amp;um=1&amp;itbs=1&amp;sa=X&amp;ved=0CD8QrQMwCw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7242120" cy="907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28760" y="856800"/>
            <a:ext cx="723888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Да. Это была собака, огромная, черная, как смоль. Но такой собаки никто из нас, смертных, еще не видывал. Из ее пасти вырывалось пламя, глаза метали искры, по морде и загривку переливался  мерцающий огонь. Ни в чьем воспаленном мозгу не могло бы возникнуть видение более страшное, более омерзительное, чем это адское существо, выскочившие на нас из тумана…Страшный пес величиной с молодую львицу.  Чудовище лежало перед нами…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Его огромная пасть все еще светилась голубоватым пламенем, глубоко сидящие дикие глаза обведены огненными кругами. Я дотронулся до этой светящейся головы и, подняв руку, увидел, что мои пальцы тоже засветились в темноте»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Узнали? Что же это за произведение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Ответ учащихся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6357960" y="4689360"/>
            <a:ext cx="25718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e66"/>
                </a:solidFill>
                <a:latin typeface="Arial"/>
                <a:ea typeface="Arial"/>
              </a:rPr>
              <a:t>	</a:t>
            </a:r>
            <a:r>
              <a:rPr b="1" lang="ru-RU" sz="2600" spc="-1" strike="noStrike">
                <a:solidFill>
                  <a:srgbClr val="ffde66"/>
                </a:solidFill>
                <a:latin typeface="Arial"/>
                <a:ea typeface="Arial"/>
              </a:rPr>
              <a:t>Противоядием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отравлении фосфором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лужит 2% раствор медного купорос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следует давать больному через 5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инут по чайной ложке до появления рво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6600"/>
                </a:solidFill>
                <a:latin typeface="Arial"/>
              </a:rPr>
              <a:t>Горящий 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е только причиня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чень сильные ожоги, но и вызыва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равление тканей, прилежащих к месту ожог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ледствие чего заживление идет крайн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ленно. При ожогах фосфор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e66"/>
                </a:solidFill>
                <a:latin typeface="Arial"/>
              </a:rPr>
              <a:t>противоядие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лужит мокрая повязк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питанная 5% раствором медного купорос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вязи с тем, что белый фосфор легко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исляется и воспламеняется, его хранят под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дой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490c5"/>
                </a:solidFill>
                <a:latin typeface="Arial"/>
              </a:rPr>
              <a:t>Красный 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орошок со слабо выраженной кристаллической структурой и поэтому названный аморфным, темно-красного цвета, имеет атомную решетку, весьма гигроскопичен (легко поглощает воду), но в воде нерастворим; нерастворим он и в сероуглерод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сный фосфор получается при длительном нагревании белого фосфора без доступа воздуха при 45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. В отличие от белого – не ядовит, запаха не имеет, воспламеняется при 250 - 3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490c5"/>
                </a:solidFill>
                <a:latin typeface="Trebuchet MS"/>
              </a:rPr>
              <a:t>Фиолетовый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</a:t>
            </a:r>
            <a:r>
              <a:rPr b="1" lang="ru-RU" sz="2600" spc="-1" strike="noStrike">
                <a:solidFill>
                  <a:srgbClr val="d490c5"/>
                </a:solidFill>
                <a:latin typeface="Trebuchet MS"/>
              </a:rPr>
              <a:t>черный фосфор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также получают из белого при высоких давлении и температуре. </a:t>
            </a:r>
            <a:r>
              <a:rPr b="1" lang="ru-RU" sz="2600" spc="-1" strike="noStrike">
                <a:solidFill>
                  <a:srgbClr val="d490c5"/>
                </a:solidFill>
                <a:latin typeface="Trebuchet MS"/>
              </a:rPr>
              <a:t>Черный фосфор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обладает металлическим блеском, проводит электричество и тепло. Следовательно, у фосфора в незначительной степени проявляются металлические свойст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699320" cy="14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500040" y="1574640"/>
          <a:ext cx="7429680" cy="5011920"/>
        </p:xfrm>
        <a:graphic>
          <a:graphicData uri="http://schemas.openxmlformats.org/drawingml/2006/table">
            <a:tbl>
              <a:tblPr/>
              <a:tblGrid>
                <a:gridCol w="1857240"/>
                <a:gridCol w="1857600"/>
                <a:gridCol w="1857240"/>
                <a:gridCol w="1857600"/>
              </a:tblGrid>
              <a:tr h="246240"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изнаки срав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ел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ер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рас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9232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грегатное состоя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хож на очищенный воск или парафин, легко режется ножом, деформируется от небольших усил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ерные блестящие кристаллы, жирные на ощупь, весьма похожи на граф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лимер со сложной структурой, хрупкое твердое веще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776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Цв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елый, из-за примесей может иметь желтоватый отте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ерный с металлическим блеск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 пупурно-красного до фиолетов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пература плавления, </a:t>
                      </a:r>
                      <a:r>
                        <a:rPr b="0" lang="ru-RU" sz="1100" spc="-1" strike="noStrike" baseline="30000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в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ледно-зеле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створим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 сероуглерод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 растворяется в воде и органических растворител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 расплавленных металлах (Рb, В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лотность (кг\м</a:t>
                      </a:r>
                      <a:r>
                        <a:rPr b="0" lang="ru-RU" sz="1100" spc="-1" strike="noStrike" baseline="30000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лектропровод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овод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8280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особы 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 специальных инертных средах, при отсутствии воздуха, под слоем очищенной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рмодинамически стабильная и химически наименее активная фор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рмодинамически стабильная модифик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25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d490c5"/>
                </a:solidFill>
                <a:latin typeface="Arial"/>
              </a:rPr>
              <a:t>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составная часть растительных 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ивотных белков. </a:t>
            </a:r>
            <a:r>
              <a:rPr b="1" lang="ru-RU" sz="2600" spc="-1" strike="noStrike">
                <a:solidFill>
                  <a:srgbClr val="ffde66"/>
                </a:solidFill>
                <a:latin typeface="Arial"/>
              </a:rPr>
              <a:t>У растен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осфор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средоточен в семенах, у животных - 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рвной ткани, мышцах, скелет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de66"/>
                </a:solidFill>
                <a:latin typeface="Arial"/>
              </a:rPr>
              <a:t>Организм человек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одержит около 1,5 кг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а: 1,4 кг – в костях, 130 г – в мышцах 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3 г в нервной ткан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держание фосфора в организме человек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ставляет приблизительно 1% от массы тел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ac66bb"/>
                </a:solidFill>
                <a:latin typeface="Arial"/>
              </a:rPr>
              <a:t>Суточное потреблен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осфора человеком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оло 2 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933480" y="96840"/>
            <a:ext cx="7156440" cy="170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539640" y="3200400"/>
          <a:ext cx="7842240" cy="3260880"/>
        </p:xfrm>
        <a:graphic>
          <a:graphicData uri="http://schemas.openxmlformats.org/drawingml/2006/table">
            <a:tbl>
              <a:tblPr/>
              <a:tblGrid>
                <a:gridCol w="2614680"/>
                <a:gridCol w="2613240"/>
                <a:gridCol w="2614320"/>
              </a:tblGrid>
              <a:tr h="105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 rowSpan="2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орапат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ат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апат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Rectangle 4"/>
          <p:cNvSpPr/>
          <p:nvPr/>
        </p:nvSpPr>
        <p:spPr>
          <a:xfrm>
            <a:off x="2362320" y="1828440"/>
            <a:ext cx="63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i="1" lang="de-DE" sz="1800" spc="-1" strike="noStrike">
                <a:solidFill>
                  <a:srgbClr val="000000"/>
                </a:solidFill>
                <a:latin typeface="Century Gothic"/>
              </a:rPr>
              <a:t>з-за большой химической активности встречается в природе только в виде соединений</a:t>
            </a: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755640" y="2637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ажнейшими минералами фосфора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0" descr="ANd9GcQHtUCqvB8ura6LlM757jicPMuknpRWLKYZJJ1r07tSJGQ7k2aHQo1Mg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3200400"/>
            <a:ext cx="1523880" cy="1068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4" descr="ANd9GcS4lqsMsnT094nv9Q7aNfJHcsqTy41Fi9vtdUEMyULImxr37hL_wsw3w_w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4267080"/>
            <a:ext cx="1542960" cy="1033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6" descr="ANd9GcR8UNzdMdP7Rr8H8PhQC98LamKw36hIBAvpxjwBm3sMLEQGfRqeLT63SmaX"/>
          <p:cNvPicPr/>
          <p:nvPr/>
        </p:nvPicPr>
        <p:blipFill>
          <a:blip r:embed="rId6"/>
          <a:stretch/>
        </p:blipFill>
        <p:spPr>
          <a:xfrm>
            <a:off x="6248520" y="5334120"/>
            <a:ext cx="1562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Rectangle 4" descr=""/>
          <p:cNvPicPr/>
          <p:nvPr/>
        </p:nvPicPr>
        <p:blipFill>
          <a:blip r:embed="rId1"/>
          <a:stretch/>
        </p:blipFill>
        <p:spPr>
          <a:xfrm>
            <a:off x="1042920" y="401760"/>
            <a:ext cx="7083360" cy="1304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Apatyt"/>
          <p:cNvPicPr/>
          <p:nvPr/>
        </p:nvPicPr>
        <p:blipFill>
          <a:blip r:embed="rId2"/>
          <a:stretch/>
        </p:blipFill>
        <p:spPr>
          <a:xfrm>
            <a:off x="468360" y="1844640"/>
            <a:ext cx="3970440" cy="2978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main"/>
          <p:cNvPicPr/>
          <p:nvPr/>
        </p:nvPicPr>
        <p:blipFill>
          <a:blip r:embed="rId3"/>
          <a:stretch/>
        </p:blipFill>
        <p:spPr>
          <a:xfrm>
            <a:off x="4427640" y="1844640"/>
            <a:ext cx="4286160" cy="28605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1"/>
          <p:cNvSpPr/>
          <p:nvPr/>
        </p:nvSpPr>
        <p:spPr>
          <a:xfrm>
            <a:off x="539640" y="4941720"/>
            <a:ext cx="387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entury Gothic"/>
              </a:rPr>
              <a:t>Крупнейшее месторождение апатитов находится на Кольском полуострове, в районе Хибинских г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572000" y="494172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entury Gothic"/>
              </a:rPr>
              <a:t>Залежи фосфоритов находятся в районе гор Каратау</a:t>
            </a: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4" descr=""/>
          <p:cNvPicPr/>
          <p:nvPr/>
        </p:nvPicPr>
        <p:blipFill>
          <a:blip r:embed="rId1"/>
          <a:stretch/>
        </p:blipFill>
        <p:spPr>
          <a:xfrm>
            <a:off x="969840" y="622440"/>
            <a:ext cx="7027920" cy="11570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4067280" y="1696320"/>
            <a:ext cx="475272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осфор производят в электрических печах, восстанавливая апатит углем в присутствии кремнез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entury Gothic"/>
              </a:rPr>
              <a:t>Ca</a:t>
            </a:r>
            <a:r>
              <a:rPr b="0" lang="ru-RU" sz="1200" spc="-1" strike="noStrike">
                <a:solidFill>
                  <a:srgbClr val="a50021"/>
                </a:solidFill>
                <a:latin typeface="Century Gothic"/>
              </a:rPr>
              <a:t>3</a:t>
            </a:r>
            <a:r>
              <a:rPr b="0" lang="ru-RU" sz="1800" spc="-1" strike="noStrike">
                <a:solidFill>
                  <a:srgbClr val="a50021"/>
                </a:solidFill>
                <a:latin typeface="Century Gothic"/>
              </a:rPr>
              <a:t>(PO</a:t>
            </a:r>
            <a:r>
              <a:rPr b="0" lang="ru-RU" sz="1200" spc="-1" strike="noStrike">
                <a:solidFill>
                  <a:srgbClr val="a50021"/>
                </a:solidFill>
                <a:latin typeface="Century Gothic"/>
              </a:rPr>
              <a:t>4</a:t>
            </a:r>
            <a:r>
              <a:rPr b="0" lang="ru-RU" sz="1800" spc="-1" strike="noStrike">
                <a:solidFill>
                  <a:srgbClr val="a50021"/>
                </a:solidFill>
                <a:latin typeface="Century Gothic"/>
              </a:rPr>
              <a:t>)</a:t>
            </a:r>
            <a:r>
              <a:rPr b="0" lang="ru-RU" sz="1200" spc="-1" strike="noStrike">
                <a:solidFill>
                  <a:srgbClr val="a50021"/>
                </a:solidFill>
                <a:latin typeface="Century Gothic"/>
              </a:rPr>
              <a:t>2</a:t>
            </a:r>
            <a:r>
              <a:rPr b="0" lang="ru-RU" sz="1800" spc="-1" strike="noStrike">
                <a:solidFill>
                  <a:srgbClr val="a50021"/>
                </a:solidFill>
                <a:latin typeface="Century Gothic"/>
              </a:rPr>
              <a:t>+3SiO</a:t>
            </a:r>
            <a:r>
              <a:rPr b="0" lang="ru-RU" sz="1200" spc="-1" strike="noStrike">
                <a:solidFill>
                  <a:srgbClr val="a50021"/>
                </a:solidFill>
                <a:latin typeface="Century Gothic"/>
              </a:rPr>
              <a:t>2</a:t>
            </a:r>
            <a:r>
              <a:rPr b="0" lang="ru-RU" sz="1800" spc="-1" strike="noStrike">
                <a:solidFill>
                  <a:srgbClr val="a50021"/>
                </a:solidFill>
                <a:latin typeface="Century Gothic"/>
              </a:rPr>
              <a:t>+5C=3CaSiO</a:t>
            </a:r>
            <a:r>
              <a:rPr b="0" lang="ru-RU" sz="1200" spc="-1" strike="noStrike">
                <a:solidFill>
                  <a:srgbClr val="a50021"/>
                </a:solidFill>
                <a:latin typeface="Century Gothic"/>
              </a:rPr>
              <a:t>3</a:t>
            </a:r>
            <a:r>
              <a:rPr b="0" lang="ru-RU" sz="1800" spc="-1" strike="noStrike">
                <a:solidFill>
                  <a:srgbClr val="a50021"/>
                </a:solidFill>
                <a:latin typeface="Century Gothic"/>
              </a:rPr>
              <a:t>+5CO+P</a:t>
            </a:r>
            <a:r>
              <a:rPr b="0" lang="ru-RU" sz="1200" spc="-1" strike="noStrike">
                <a:solidFill>
                  <a:srgbClr val="a50021"/>
                </a:solidFill>
                <a:latin typeface="Century Gothi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ары фосфора при этой температуре почти полностью состоят из молекул Р2, которые при охлаждении конденсируются в молекулы Р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Фиг. 2. Печь для добывания фосфора."/>
          <p:cNvPicPr/>
          <p:nvPr/>
        </p:nvPicPr>
        <p:blipFill>
          <a:blip r:embed="rId2"/>
          <a:stretch/>
        </p:blipFill>
        <p:spPr>
          <a:xfrm>
            <a:off x="468360" y="2174760"/>
            <a:ext cx="3598920" cy="290196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8"/>
          <p:cNvSpPr/>
          <p:nvPr/>
        </p:nvSpPr>
        <p:spPr>
          <a:xfrm>
            <a:off x="684360" y="522936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чь для добывания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7242120" cy="1504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химическом отношении белый фосфор сильно отличается от красног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e66"/>
                </a:solidFill>
                <a:latin typeface="Arial"/>
              </a:rPr>
              <a:t>Белый 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легко окисляется и самовоспламеняется на воздухе, поэтому его хранят под вод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00"/>
                </a:solidFill>
                <a:latin typeface="Arial"/>
              </a:rPr>
              <a:t>Красный 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е воспламеняется на воздухе, но воспламеняется при нагревании свыше 24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окислении </a:t>
            </a:r>
            <a:r>
              <a:rPr b="1" lang="ru-RU" sz="2600" spc="-1" strike="noStrike">
                <a:solidFill>
                  <a:srgbClr val="ffde66"/>
                </a:solidFill>
                <a:latin typeface="Arial"/>
                <a:ea typeface="Arial"/>
              </a:rPr>
              <a:t>белый 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светится в темноте – происходит непосредственное превращение химической энергии в световую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404640"/>
            <a:ext cx="85075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 соединяется со многими простым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ществами – кислородом, галогенами, серой 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которыми металлами, проявля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ислительные и восстановительные свойст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600" spc="-1" strike="noStrike">
                <a:solidFill>
                  <a:srgbClr val="ffde66"/>
                </a:solidFill>
                <a:latin typeface="Arial"/>
              </a:rPr>
              <a:t>1. С кислородо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горении фосфора образуется белый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устой дым. Белый фосфор самовоспламеняетс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воздухе, а красный горит при поджигани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 сгорает в кислороде ослепительно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рким пламене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4P + 3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</a:rPr>
              <a:t>2(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недостат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→ 2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3 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4P + 5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(избыток)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→ 2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5 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10</a:t>
            </a:r>
            <a:r>
              <a:rPr b="1" lang="ru-RU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отрывок из произведения  Артура Конан  Дойля  “Собака Баскервилей». Назовите химический элемент, который замешан   в этой истор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2" descr="ÐÐ°ÑÑÐ¸Ð½ÐºÐ¸ Ð¿Ð¾ Ð·Ð°Ð¿ÑÐ¾ÑÑ Ð°Ð½Ð¸Ð¼Ð°ÑÐ¸Ñ  ÑÐ¾Ð±Ð°ÐºÐ° Ð±Ð°ÑÐºÐµÑÐ²Ð¸Ð»ÐµÐ¹"/>
          <p:cNvPicPr/>
          <p:nvPr/>
        </p:nvPicPr>
        <p:blipFill>
          <a:blip r:embed="rId2"/>
          <a:stretch/>
        </p:blipFill>
        <p:spPr>
          <a:xfrm>
            <a:off x="928800" y="3500280"/>
            <a:ext cx="2181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de66"/>
                </a:solidFill>
                <a:latin typeface="Arial"/>
              </a:rPr>
              <a:t>2. С галоген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элементами, обладающими большей, чем у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а, электроотрицательностью, фосфор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гирует очень энергич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в сосуд с хлором внести красный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, то через несколько секунд он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овоспламеняется в хлоре. При этом обычно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учается хлорид фосфор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4P +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</a:rPr>
              <a:t>2(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недостат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→ 4PCl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3</a:t>
            </a:r>
            <a:r>
              <a:rPr b="0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4P + 10Cl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(избыток)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→ 4PCl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4" descr="BTAR_UP"/>
          <p:cNvPicPr/>
          <p:nvPr/>
        </p:nvPicPr>
        <p:blipFill>
          <a:blip r:embed="rId1"/>
          <a:stretch/>
        </p:blipFill>
        <p:spPr>
          <a:xfrm>
            <a:off x="8028000" y="6165720"/>
            <a:ext cx="365040" cy="435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BTAR_RGT"/>
          <p:cNvPicPr/>
          <p:nvPr/>
        </p:nvPicPr>
        <p:blipFill>
          <a:blip r:embed="rId2"/>
          <a:stretch/>
        </p:blipFill>
        <p:spPr>
          <a:xfrm>
            <a:off x="8459640" y="6237360"/>
            <a:ext cx="435240" cy="365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BTAR_LFT"/>
          <p:cNvPicPr/>
          <p:nvPr/>
        </p:nvPicPr>
        <p:blipFill>
          <a:blip r:embed="rId3"/>
          <a:stretch/>
        </p:blipFill>
        <p:spPr>
          <a:xfrm>
            <a:off x="7524720" y="6237360"/>
            <a:ext cx="4348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de66"/>
                </a:solidFill>
                <a:latin typeface="Arial"/>
              </a:rPr>
              <a:t>3</a:t>
            </a:r>
            <a:r>
              <a:rPr b="1" i="1" lang="ru-RU" sz="2600" spc="-1" strike="noStrike">
                <a:solidFill>
                  <a:srgbClr val="ffde66"/>
                </a:solidFill>
                <a:latin typeface="Arial"/>
              </a:rPr>
              <a:t>. С серо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нагреван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4P + 6S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→ 2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haron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S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haron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4P +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→ 2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haron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S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Aharoni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de66"/>
                </a:solidFill>
                <a:latin typeface="Arial"/>
                <a:ea typeface="Times New Roman"/>
              </a:rPr>
              <a:t>	</a:t>
            </a:r>
            <a:r>
              <a:rPr b="1" i="1" lang="ru-RU" sz="2600" spc="-1" strike="noStrike">
                <a:solidFill>
                  <a:srgbClr val="ffde66"/>
                </a:solidFill>
                <a:latin typeface="Arial"/>
                <a:ea typeface="Times New Roman"/>
              </a:rPr>
              <a:t>4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 окисляет при нагревании поч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i="1" lang="ru-RU" sz="2600" spc="-1" strike="noStrike">
                <a:solidFill>
                  <a:srgbClr val="ffde66"/>
                </a:solidFill>
                <a:latin typeface="Arial"/>
              </a:rPr>
              <a:t>металл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образуя </a:t>
            </a:r>
            <a:r>
              <a:rPr b="1" lang="ru-RU" sz="2600" spc="-1" strike="noStrike">
                <a:solidFill>
                  <a:srgbClr val="ac66bb"/>
                </a:solidFill>
                <a:latin typeface="Arial"/>
              </a:rPr>
              <a:t>фосфид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P +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a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→ Ca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иды металлов легко гидролизуютс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д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a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+ 6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→ 2P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3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↑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+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Ca(OH)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de66"/>
                </a:solidFill>
                <a:latin typeface="Arial"/>
              </a:rPr>
              <a:t>5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расный фосфор окисляется </a:t>
            </a:r>
            <a:r>
              <a:rPr b="1" i="1" lang="ru-RU" sz="2600" spc="-1" strike="noStrike">
                <a:solidFill>
                  <a:srgbClr val="ffde66"/>
                </a:solidFill>
                <a:latin typeface="Arial"/>
              </a:rPr>
              <a:t>водо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мпературе около 8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 в присутстви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тализатора – порошка мед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2P + 8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O → 2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P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 + 5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de66"/>
                </a:solidFill>
                <a:latin typeface="Arial"/>
                <a:ea typeface="Arial"/>
              </a:rPr>
              <a:t>6. Концентрированная серная кисло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кисляет при нагревании фосфор: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2P</a:t>
            </a:r>
            <a:r>
              <a:rPr b="1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5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S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4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(к)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→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↑ +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2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P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 + 2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de66"/>
                </a:solidFill>
                <a:latin typeface="Arial"/>
                <a:ea typeface="Arial"/>
              </a:rPr>
              <a:t>7</a:t>
            </a:r>
            <a:r>
              <a:rPr b="1" i="1" lang="ru-RU" sz="2600" spc="-1" strike="noStrike">
                <a:solidFill>
                  <a:srgbClr val="ffde66"/>
                </a:solidFill>
                <a:latin typeface="Arial"/>
                <a:ea typeface="Arial"/>
              </a:rPr>
              <a:t>. Азотная кисло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ри нагревании окисля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сфо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 +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5HN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(к)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→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↑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P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 + 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 +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5HN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(разб)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+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→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↑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+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P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7242120" cy="12319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 в степени окисления -3 образу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дородное соединение фосфин </a:t>
            </a:r>
            <a:r>
              <a:rPr b="1" lang="ru-RU" sz="2600" spc="-1" strike="noStrike">
                <a:solidFill>
                  <a:srgbClr val="d490c5"/>
                </a:solidFill>
                <a:latin typeface="Arial"/>
              </a:rPr>
              <a:t>PH</a:t>
            </a:r>
            <a:r>
              <a:rPr b="1" lang="ru-RU" sz="2600" spc="-1" strike="noStrike" baseline="-14000">
                <a:solidFill>
                  <a:srgbClr val="d490c5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алогичное аммиаку. Эта степень окислени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нее характерна для фосфора, чем для азот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ac66bb"/>
                </a:solidFill>
                <a:latin typeface="Arial"/>
              </a:rPr>
              <a:t>Фосфи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ядовитый газ с чесночным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ахом, может быть получен из фосфид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инка действием кислот или воды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Zn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6HCl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2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3ZnCl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ые свойства фосфина слабее, чем у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ммиак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HCl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C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47592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ли фосфония в водных растворах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устойчивы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4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 Black"/>
              </a:rPr>
              <a:t>+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O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 Black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ин имеет восстановительные свойств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низшая степень окисления фосфора), горит н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духе (самовоспламеняется)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2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4O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3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O и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2O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PO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ин окисляется очень многими окислителям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N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(к)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↑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ид цинка используется в качеств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ооцида для борьбы с грызун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3716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9528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сид фосфора(V) P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или P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зуется при горении фосфора на воздух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4Р + 5О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2Р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О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вердое кристаллическое вещество Р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игроскопично и используется как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доотнимающее средств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8" name="Picture 8" descr="ÐÐ°ÑÑÐ¸Ð½ÐºÐ¸ Ð¿Ð¾ Ð·Ð°Ð¿ÑÐ¾ÑÑ Ð°Ð½Ð¸Ð¼Ð°ÑÐ¸Ñ  ÑÐ¸Ð¼Ð¸Ñ"/>
          <p:cNvPicPr/>
          <p:nvPr/>
        </p:nvPicPr>
        <p:blipFill>
          <a:blip r:embed="rId2"/>
          <a:stretch/>
        </p:blipFill>
        <p:spPr>
          <a:xfrm>
            <a:off x="5572080" y="3857760"/>
            <a:ext cx="1571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ксид фосфора (V) очень энергично соединяется с водой, а также отнимает воду от других соединений. Применяется как осушитель газов и жидкост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1" name="Picture 2" descr="ÐÐ°ÑÑÐ¸Ð½ÐºÐ¸ Ð¿Ð¾ Ð·Ð°Ð¿ÑÐ¾ÑÑ Ð°Ð½Ð¸Ð¼Ð°ÑÐ¸Ñ  ÑÐ¸Ð¼Ð¸Ñ"/>
          <p:cNvPicPr/>
          <p:nvPr/>
        </p:nvPicPr>
        <p:blipFill>
          <a:blip r:embed="rId2"/>
          <a:stretch/>
        </p:blipFill>
        <p:spPr>
          <a:xfrm>
            <a:off x="785880" y="3500280"/>
            <a:ext cx="20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6" descr="2685_Полифосфат%20Натрия"/>
          <p:cNvPicPr/>
          <p:nvPr/>
        </p:nvPicPr>
        <p:blipFill>
          <a:blip r:embed="rId1"/>
          <a:stretch/>
        </p:blipFill>
        <p:spPr>
          <a:xfrm>
            <a:off x="6372360" y="4437000"/>
            <a:ext cx="2238120" cy="205740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2" descr=""/>
          <p:cNvPicPr/>
          <p:nvPr/>
        </p:nvPicPr>
        <p:blipFill>
          <a:blip r:embed="rId2"/>
          <a:stretch/>
        </p:blipFill>
        <p:spPr>
          <a:xfrm>
            <a:off x="609480" y="622440"/>
            <a:ext cx="7864560" cy="1035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4"/>
          <p:cNvSpPr/>
          <p:nvPr/>
        </p:nvSpPr>
        <p:spPr>
          <a:xfrm>
            <a:off x="900000" y="134136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коло 80%  от всего производства белого фосфора идет на синтез чистой ортофосфорной кислоты. Она используется для получения полифосфатов натрия (их применяют для снижения жесткости питьевой воды) и пищевых фосфатов. Оставшаяся часть белого фосфора расходуется для создания дымообразующих веществ и зажигательных смес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6516720" y="61657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Полифосфат нат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864560" cy="9986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4"/>
          <p:cNvSpPr/>
          <p:nvPr/>
        </p:nvSpPr>
        <p:spPr>
          <a:xfrm>
            <a:off x="539640" y="1341360"/>
            <a:ext cx="8001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ервые фосфорные спички – с головкой из белого фосфора – были созданы лишь 1827 г. Такие спички загорались при трении о любую поверхность, что нередко приводило к пожарам. Кроме того, белый фосфор очень ядовит. Описаны случаи отравления фосфорными спичками как из-за неосторожного обращения, так и с целью самоубийства: для этого достаточно было съесть несколько спичечных головок. Вот почему на смену фосфорным спичкам пришли безопасные, которые верно служат нам и по сей день. Промышленное производство безопасных спичек началось в Швеции в 60-х гг. XI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6" descr="1207579672_spichki"/>
          <p:cNvPicPr/>
          <p:nvPr/>
        </p:nvPicPr>
        <p:blipFill>
          <a:blip r:embed="rId2"/>
          <a:stretch/>
        </p:blipFill>
        <p:spPr>
          <a:xfrm>
            <a:off x="1116000" y="4797360"/>
            <a:ext cx="1422360" cy="1514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48796218_world_first_matches_2"/>
          <p:cNvPicPr/>
          <p:nvPr/>
        </p:nvPicPr>
        <p:blipFill>
          <a:blip r:embed="rId3"/>
          <a:stretch/>
        </p:blipFill>
        <p:spPr>
          <a:xfrm>
            <a:off x="5435640" y="4869000"/>
            <a:ext cx="22892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682560" y="549360"/>
            <a:ext cx="7864560" cy="9982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684360" y="1341360"/>
            <a:ext cx="762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ажигательная поверхность спичечного коробка покрыта смесью красного фосфора и порошка стекла. В состав спичечной головки входят окислители (PbO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KСlO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BaCrO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) и восстановители (S, Sb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). При трении от зажигательной поверхности смесь, нанесенная на спичку, воспламе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ANd9GcT9Pl9iOZS5KflFxgVAYbq3YfTWdtDBgC5-C-IP37f3berqZMZTD-EXeojo"/>
          <p:cNvPicPr/>
          <p:nvPr/>
        </p:nvPicPr>
        <p:blipFill>
          <a:blip r:embed="rId2"/>
          <a:stretch/>
        </p:blipFill>
        <p:spPr>
          <a:xfrm>
            <a:off x="6300720" y="4437000"/>
            <a:ext cx="2232000" cy="1500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48r"/>
          <p:cNvPicPr/>
          <p:nvPr/>
        </p:nvPicPr>
        <p:blipFill>
          <a:blip r:embed="rId3"/>
          <a:stretch/>
        </p:blipFill>
        <p:spPr>
          <a:xfrm>
            <a:off x="3780000" y="4076640"/>
            <a:ext cx="2354040" cy="2362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matchstick_pencil"/>
          <p:cNvPicPr/>
          <p:nvPr/>
        </p:nvPicPr>
        <p:blipFill>
          <a:blip r:embed="rId4"/>
          <a:stretch/>
        </p:blipFill>
        <p:spPr>
          <a:xfrm>
            <a:off x="539640" y="4149720"/>
            <a:ext cx="28195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87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0" y="0"/>
            <a:ext cx="4143240" cy="2857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276360" y="3429000"/>
            <a:ext cx="51130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9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609480" y="549360"/>
            <a:ext cx="7864560" cy="1035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"/>
          <p:cNvSpPr/>
          <p:nvPr/>
        </p:nvSpPr>
        <p:spPr>
          <a:xfrm>
            <a:off x="684360" y="1341360"/>
            <a:ext cx="761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Интересны и другие применения ортофосфорной кислоты в промышленности. Например, было замечено, что пропитка древесины самой кислотой и ее солями делают дерево негорючим. На этой основе сейчас производят огнезащитные краски, негорючие фосфодревесные плиты, негорючий фосфатный пенопласт и другие строительные материа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thermax"/>
          <p:cNvPicPr/>
          <p:nvPr/>
        </p:nvPicPr>
        <p:blipFill>
          <a:blip r:embed="rId2"/>
          <a:stretch/>
        </p:blipFill>
        <p:spPr>
          <a:xfrm>
            <a:off x="684360" y="4149720"/>
            <a:ext cx="3533760" cy="2190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vata"/>
          <p:cNvPicPr/>
          <p:nvPr/>
        </p:nvPicPr>
        <p:blipFill>
          <a:blip r:embed="rId3"/>
          <a:stretch/>
        </p:blipFill>
        <p:spPr>
          <a:xfrm>
            <a:off x="4932360" y="4149720"/>
            <a:ext cx="35910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уществите превращения по схеме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P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-&gt; P -&gt; P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-&gt; 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-&gt; 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P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-&gt; C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P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зовите вещест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ставьте молекулярные и ионные уравнения реакций ортофосфорной кислоты с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калием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оксидом кали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гидроксидом кали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 сульфитом кал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933480" y="96840"/>
            <a:ext cx="7156440" cy="15667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"/>
          <p:cNvSpPr/>
          <p:nvPr/>
        </p:nvSpPr>
        <p:spPr>
          <a:xfrm>
            <a:off x="2627280" y="1844640"/>
            <a:ext cx="5904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читается, что фосфор открыл в 1669 году алхимик из Гамбурга Хеннинг Бранд. Он был разорившимся купцом и пытался разбогатеть с помощью алхим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едполагая, что физиологические продукты могут содержать «первичную материю», которая считалась основой философского камня, Бранд заинтересовался человеческой мо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fortun_kekul"/>
          <p:cNvPicPr/>
          <p:nvPr/>
        </p:nvPicPr>
        <p:blipFill>
          <a:blip r:embed="rId2"/>
          <a:stretch/>
        </p:blipFill>
        <p:spPr>
          <a:xfrm>
            <a:off x="0" y="0"/>
            <a:ext cx="1944720" cy="2664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142920" y="4500720"/>
            <a:ext cx="257184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542880" y="262080"/>
            <a:ext cx="8058240" cy="12747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8"/>
          <p:cNvSpPr/>
          <p:nvPr/>
        </p:nvSpPr>
        <p:spPr>
          <a:xfrm>
            <a:off x="3276720" y="1268280"/>
            <a:ext cx="555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н собрал около тонны мочи из солдатских казарм и выпаривал ее до образования сиропообразной жидкости. Эту жидкость он   вновь дистиллировал и получил тяжелое красное «уринное   масло», которое перегонялось с образованием твердого остатка. Нагревая последний, без доступа воздуха, он заметил образование белого дыма, оседавшего на стенках сосуда и ярко светившего в темн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Бранд назвал полученное им вещество фосфором, что в переводе с греческого означает «светоносец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Brand"/>
          <p:cNvPicPr/>
          <p:nvPr/>
        </p:nvPicPr>
        <p:blipFill>
          <a:blip r:embed="rId2"/>
          <a:stretch/>
        </p:blipFill>
        <p:spPr>
          <a:xfrm>
            <a:off x="611280" y="1413000"/>
            <a:ext cx="2584440" cy="27432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1"/>
          <p:cNvSpPr/>
          <p:nvPr/>
        </p:nvSpPr>
        <p:spPr>
          <a:xfrm>
            <a:off x="3276720" y="51577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 лишь 1777 году К.В. Шееле разработал способ получения фосфора из рога и костей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3" descr="cl_sheele"/>
          <p:cNvPicPr/>
          <p:nvPr/>
        </p:nvPicPr>
        <p:blipFill>
          <a:blip r:embed="rId3"/>
          <a:stretch/>
        </p:blipFill>
        <p:spPr>
          <a:xfrm>
            <a:off x="1187280" y="4437000"/>
            <a:ext cx="1513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454880" cy="1395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мент VA группы имеет электронную формулу 1s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 – неметалл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более характерные степени окисления: +5, +3, 0, -3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сиды Э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Э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меют кислотные свойств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тучее водородное соединение – фосфин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2" descr="https://bb31e6b6-a-62cb3a1a-s-sites.googlegroups.com/site/himulacom/zvonok-na-urok/9-klass---vtoroj-god-obucenia/urok-no34-fosfor-allotropia-fosfora-fiziceskie-i-himiceskie-svojstva-fosfora/%D1%81%D1%82%D1%80%D0%BE%D0%B5%D0%BD%D0%B8%D0%B5%20%D0%B0%D1%82%D0%BE%D0%BC%D0%B0%20%D1%84%D0%BE%D1%81%D1%84%D0%BE%D1%80.jpg?attachauth=ANoY7cp0SAMMFmi-cE2DLYA5Rjl9DUn9iaWDdDF6jkHiQJSpbq3l7_xZNyyAMXGL9hSInMwxuFEsFmO2Gk42dPM4MXV9Yil5624uzQ5W2-WA-El28RIShBEZEdBcNfNpr9aJh_wwxkjXxn29cPW4D1aYMLP7e-DotuBsZHmKO9nmrzEoAH8N1C_x2uPCEmCKXutRNeMoF4mr4zX7Iw8GfkBp6OcTL_MzV2AqhfTZyy0GwXaoxq7Yh_K_85y1o9AeS6O36qqaLzVjNNHvQBSovqbl3RptmH45uuydBVO32l7PnKm1nZTMUfYHCXrXmJ-crqjancT87j-c-CHy0KJ_w0zPhuiDGEAHy68DB6GynBunT2C3mWqymG60B5gifesXNbZwIKGG_0qr4FyQh7BIasIsGHR0mMy1ZkhI-rg7XTEpo2Topu5ZcAH1u8BsopjovsoAHUWh3CfgC9SC3vJ6WAgleAGxEt90esJzUYBe6UUotgfwKfV7FCmiS8uD0_oEjAWu3JCKzhgs5ZKzOy3RuPU_V_QDfsyHgA%3D%3D&amp;attredirects=0"/>
          <p:cNvPicPr/>
          <p:nvPr/>
        </p:nvPicPr>
        <p:blipFill>
          <a:blip r:embed="rId2"/>
          <a:stretch/>
        </p:blipFill>
        <p:spPr>
          <a:xfrm>
            <a:off x="428760" y="1571760"/>
            <a:ext cx="72104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500040" y="1609560"/>
          <a:ext cx="6929640" cy="4786560"/>
        </p:xfrm>
        <a:graphic>
          <a:graphicData uri="http://schemas.openxmlformats.org/drawingml/2006/table">
            <a:tbl>
              <a:tblPr/>
              <a:tblGrid>
                <a:gridCol w="1571760"/>
                <a:gridCol w="2671560"/>
                <a:gridCol w="2686320"/>
              </a:tblGrid>
              <a:tr h="489240">
                <a:tc>
                  <a:txBody>
                    <a:bodyPr lIns="19440" rIns="19440" tIns="19440" bIns="19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изнаки сравн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елый                                     Черны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расны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1564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грегатное состоя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Цв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пература плавления, </a:t>
                      </a:r>
                      <a:r>
                        <a:rPr b="1" lang="ru-RU" sz="1100" spc="-1" strike="noStrike" baseline="30000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356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в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192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створим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356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лотность (кг\м</a:t>
                      </a:r>
                      <a:r>
                        <a:rPr b="1" lang="ru-RU" sz="1100" spc="-1" strike="noStrike" baseline="30000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лектропровод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особы 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7440" rIns="37440" tIns="18720" bIns="18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18720" bIns="18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981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490c5"/>
                </a:solidFill>
                <a:latin typeface="Arial"/>
              </a:rPr>
              <a:t>Белый 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бладает </a:t>
            </a:r>
            <a:r>
              <a:rPr b="1" lang="ru-RU" sz="2600" spc="-1" strike="noStrike">
                <a:solidFill>
                  <a:srgbClr val="ac66bb"/>
                </a:solidFill>
                <a:latin typeface="Arial"/>
              </a:rPr>
              <a:t>молекулярной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c66bb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ac66bb"/>
                </a:solidFill>
                <a:latin typeface="Arial"/>
              </a:rPr>
              <a:t>кристаллической решетко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 это вещество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елтоватого цвета с чесночным запахом. 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х имеет состав </a:t>
            </a:r>
            <a:r>
              <a:rPr b="1" lang="ru-RU" sz="2600" spc="-1" strike="noStrike">
                <a:solidFill>
                  <a:srgbClr val="d490c5"/>
                </a:solidFill>
                <a:latin typeface="Arial"/>
              </a:rPr>
              <a:t>Р</a:t>
            </a:r>
            <a:r>
              <a:rPr b="1" lang="ru-RU" sz="2600" spc="-1" strike="noStrike" baseline="-14000">
                <a:solidFill>
                  <a:srgbClr val="d490c5"/>
                </a:solidFill>
                <a:latin typeface="Arial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На воздух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спламеняется пр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. При хранении н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ету переходит в красный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вод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растворим, зато хорошо растворим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ероуглероде, бензоле и других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ческих растворителя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н весьма </a:t>
            </a:r>
            <a:r>
              <a:rPr b="1" lang="ru-RU" sz="2600" spc="-1" strike="noStrike">
                <a:solidFill>
                  <a:srgbClr val="ff6600"/>
                </a:solidFill>
                <a:latin typeface="Arial"/>
                <a:ea typeface="Arial"/>
              </a:rPr>
              <a:t>ядови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 0,1 г белого фосфора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мертельная доза для человек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e66"/>
                </a:solidFill>
                <a:latin typeface="Arial"/>
                <a:ea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7:06:07Z</dcterms:created>
  <dc:creator>WASP</dc:creator>
  <dc:description/>
  <dc:language>en-US</dc:language>
  <cp:lastModifiedBy>Пользователь Windows</cp:lastModifiedBy>
  <dcterms:modified xsi:type="dcterms:W3CDTF">2023-04-20T12:59:41Z</dcterms:modified>
  <cp:revision>17</cp:revision>
  <dc:subject/>
  <dc:title>ФОСФОР И ЕГО СОЕДИНЕНИЯ</dc:title>
</cp:coreProperties>
</file>