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4FE9-B84B-401F-8D81-4BBB2BE46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223D-F52A-47A1-99CB-602FD01AB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46CA-5612-4BCC-B94F-3427FAB6F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0376-463C-4175-8700-3FFFA4AF4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12A25-DD4B-46D4-8BF8-134DCA562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1DC65-E160-4B3E-916D-B69A6D749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A8E26-E2CC-4DAD-A22A-21A6F5E9A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0B0F0-E6C6-454F-9E47-75DA69ADF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466CD-A8E0-4A32-94FD-CDC484B88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0479D-5012-473A-853F-8631F89C2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F46D6-ABB4-43A8-9A4D-B60FDFB7E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247F-2348-4C9D-89E1-753664856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7EC35-C994-488B-B264-D88ABAF28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5314D-1D6B-4ED0-AB29-81CF4B656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E2B9A-A9A4-4260-BADB-4AEFCC7F8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C8747-587C-4B81-8281-2C40B9BD8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ECC7E-CDAA-46C3-B4EE-DE1D4F35F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74AF-72FB-4F63-9447-E19526ED2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0743-F714-44B6-8C9F-D0E7979D9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4802-65A4-4C14-A687-A4FF0FEAD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89E0-39FF-4AF9-BA8A-F6F42A089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C873-743F-4CF5-BB53-4A7808544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B545-8401-4A18-8BC2-C1DFC57A1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D18B-28D5-4A73-B0A9-14B40E221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Рисунок 6" descr="1acfe8598629.png"/>
          <p:cNvPicPr/>
          <p:nvPr/>
        </p:nvPicPr>
        <p:blipFill>
          <a:blip r:embed="rId3"/>
          <a:stretch/>
        </p:blipFill>
        <p:spPr>
          <a:xfrm>
            <a:off x="6500880" y="4643280"/>
            <a:ext cx="2428920" cy="2214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2BA4A-CB9A-449D-A1E1-A4AB31DC3D0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3C5EC-73D3-44A8-A525-4B6D9375169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 Antiqua"/>
              </a:rPr>
              <a:t>Индивидуальная карта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Book Antiqua"/>
              </a:rPr>
              <a:t>физического развития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Book Antiqua"/>
              </a:rPr>
              <a:t>и физической подготовленности обучающегося с ОВЗ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404040"/>
                </a:solidFill>
                <a:latin typeface="Calibri"/>
              </a:rPr>
              <a:t>Медведева Марина Викторовна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404040"/>
                </a:solidFill>
                <a:latin typeface="Calibri"/>
              </a:rPr>
              <a:t>учитель физической культуры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i="1" lang="ru-RU" sz="2200" spc="-1" strike="noStrike">
                <a:solidFill>
                  <a:srgbClr val="404040"/>
                </a:solidFill>
                <a:latin typeface="Calibri"/>
              </a:rPr>
              <a:t>ГКОУ УР «Воткинская школа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404040"/>
                </a:solidFill>
                <a:latin typeface="Calibri"/>
              </a:rPr>
              <a:t>для обучающихся с ОВЗ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оугольник 1"/>
          <p:cNvSpPr/>
          <p:nvPr/>
        </p:nvSpPr>
        <p:spPr>
          <a:xfrm>
            <a:off x="571680" y="857160"/>
            <a:ext cx="77151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 Antiqua"/>
              </a:rPr>
              <a:t>Постановление Правительства Российской Федерац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 Antiqua"/>
              </a:rPr>
              <a:t>от 29.12.2001 № 916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 Antiqua"/>
              </a:rPr>
              <a:t>«</a:t>
            </a:r>
            <a:r>
              <a:rPr b="1" i="1" lang="ru-RU" sz="3200" spc="-1" strike="noStrike">
                <a:solidFill>
                  <a:srgbClr val="000000"/>
                </a:solidFill>
                <a:latin typeface="Book Antiqua"/>
              </a:rPr>
              <a:t>Об общероссийской системе мониторинга состояния физического здоровья населения, физического развития детей, подростк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ook Antiqua"/>
              </a:rPr>
              <a:t>и молодежи</a:t>
            </a:r>
            <a:r>
              <a:rPr b="1" lang="ru-RU" sz="3200" spc="-1" strike="noStrike">
                <a:solidFill>
                  <a:srgbClr val="000000"/>
                </a:solidFill>
                <a:latin typeface="Book Antiqua"/>
              </a:rPr>
              <a:t>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ик 1"/>
          <p:cNvSpPr/>
          <p:nvPr/>
        </p:nvSpPr>
        <p:spPr>
          <a:xfrm>
            <a:off x="642960" y="142920"/>
            <a:ext cx="7786800" cy="67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 Antiqua"/>
              </a:rPr>
              <a:t>Цель мониторинга 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 Antiqua"/>
              </a:rPr>
              <a:t>отслеживать динамику показателей физического развития и физической подготовленности учащихся разных возрастных групп и использование этой информации для определения основных приоритетов дальнейшего развития деятельности школы в области здоровьесбере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1"/>
          <p:cNvSpPr/>
          <p:nvPr/>
        </p:nvSpPr>
        <p:spPr>
          <a:xfrm>
            <a:off x="285840" y="151920"/>
            <a:ext cx="885816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сравнивать физическую подготовлен-ность учащегося в разные годы его жизн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– </a:t>
            </a:r>
            <a:r>
              <a:rPr b="1" lang="ru-RU" sz="32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своевременно вносить коррективы в содержание программ обуче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– </a:t>
            </a:r>
            <a:r>
              <a:rPr b="1" lang="ru-RU" sz="32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проводить соответствующий отбор для занятий тем или иным видом спорта, для участия в соревнования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– </a:t>
            </a:r>
            <a:r>
              <a:rPr b="1" lang="ru-RU" sz="32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выявлять преимущества и недостатки применяемых средств, метод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обучения и форм организац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занят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229600" cy="21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 u="sng">
                <a:solidFill>
                  <a:srgbClr val="000000"/>
                </a:solidFill>
                <a:uFillTx/>
                <a:latin typeface="Calibri"/>
              </a:rPr>
              <a:t>Мониторинг индивидуального физического развития и физической подготовленности учащегося ГКОУ УР«Воткинская школа для обучающихся с ОВЗ»</a:t>
            </a:r>
            <a:br>
              <a:rPr sz="32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1143000" y="928800"/>
          <a:ext cx="6114960" cy="977760"/>
        </p:xfrm>
        <a:graphic>
          <a:graphicData uri="http://schemas.openxmlformats.org/drawingml/2006/table">
            <a:tbl>
              <a:tblPr/>
              <a:tblGrid>
                <a:gridCol w="727200"/>
                <a:gridCol w="691920"/>
                <a:gridCol w="974880"/>
                <a:gridCol w="898560"/>
                <a:gridCol w="1411200"/>
                <a:gridCol w="1411200"/>
              </a:tblGrid>
              <a:tr h="501480">
                <a:tc>
                  <a:txBody>
                    <a:bodyPr lIns="59760" rIns="59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бный г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упп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доровь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культур-ная групп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тивопоказания по видам движений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тересы в области ФК/секц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8320">
                <a:tc>
                  <a:txBody>
                    <a:bodyPr lIns="59760" rIns="59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7960">
                <a:tc>
                  <a:txBody>
                    <a:bodyPr lIns="59760" rIns="59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0" name="Rectangle 3"/>
          <p:cNvSpPr/>
          <p:nvPr/>
        </p:nvSpPr>
        <p:spPr>
          <a:xfrm>
            <a:off x="1735200" y="590400"/>
            <a:ext cx="567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Фамилия, имя учащегося____________________ Дата рождения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143000" y="2185920"/>
          <a:ext cx="6143760" cy="4132440"/>
        </p:xfrm>
        <a:graphic>
          <a:graphicData uri="http://schemas.openxmlformats.org/drawingml/2006/table">
            <a:tbl>
              <a:tblPr/>
              <a:tblGrid>
                <a:gridCol w="1589040"/>
                <a:gridCol w="569880"/>
                <a:gridCol w="568440"/>
                <a:gridCol w="569880"/>
                <a:gridCol w="568440"/>
                <a:gridCol w="569880"/>
                <a:gridCol w="569880"/>
                <a:gridCol w="568440"/>
                <a:gridCol w="569880"/>
              </a:tblGrid>
              <a:tr h="157320">
                <a:tc rowSpan="2"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ы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.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.г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.г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.г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.г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.г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.г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.г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04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г 30м /60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04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г на лыжах (1 км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108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ыжок в длину с места (см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12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тание  теннисного мяча в цель с расст.6 м. (кол-во попаданий из 5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40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клон вперед из поло-жения сидя на полу с прямыми ногами (см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84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тягивание из виса  на высок. перекладине (М), поднимание туловища за 1 мин (Д) (кол-во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28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гибание и рагибание рук в упоре лежа на полу (кол-во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40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осок баскетбольного мяча в кольцо(кол- во попаданий из 5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ыжки на 2 ногах на скакалке (за 20 сек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.И.О, должность проводившего обследовани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" name="Rectangle 5"/>
          <p:cNvSpPr/>
          <p:nvPr/>
        </p:nvSpPr>
        <p:spPr>
          <a:xfrm>
            <a:off x="3089520" y="1947600"/>
            <a:ext cx="296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Показатели физической подготовлен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Book Antiqua"/>
              </a:rPr>
              <a:t>Условия проведения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Book Antiqua"/>
              </a:rPr>
              <a:t>тестирова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 Antiqua"/>
              </a:rPr>
              <a:t>Одинаковый способ выполнения тест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 Antiqua"/>
              </a:rPr>
              <a:t>Одинаковые условия выполнения тест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 Antiqua"/>
              </a:rPr>
              <a:t>Одинаковые измерения и одинаковая их точность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 Antiqua"/>
              </a:rPr>
              <a:t>Примерно одинаковое суточное время проведения тест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 Antiqua"/>
              </a:rPr>
              <a:t>Примерно одинаковый характер предшествующей деятельно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Book Antiqua"/>
              </a:rPr>
              <a:t>Контрольные упражне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78588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бег 30, 60 м с высокого и низкого старта;           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прыжок в длину с места;               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бег на лыжах (1 км)наклоны вперёд сидя на полу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метание  теннисного мяча в цель с расст.6 м. (кол-во попаданий из 5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наклон вперед из положения сидя на полу с прямыми ногами (см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подтягивание из виса  на высок. перекладине (М)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поднимание туловища за 1 мин (Д) (кол-во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сгибание и разгибание рук в упоре лежа на полу (кол-во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бросок баскетбольного мяча в кольцо(кол- во попаданий из 5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прыжки на 2 ногах на скакалке (за 20 сек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2143080" y="214200"/>
            <a:ext cx="4572000" cy="64677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1T15:03:37Z</dcterms:created>
  <dc:creator>Helen</dc:creator>
  <dc:description/>
  <dc:language>en-US</dc:language>
  <cp:lastModifiedBy>User</cp:lastModifiedBy>
  <dcterms:modified xsi:type="dcterms:W3CDTF">2023-04-20T18:10:05Z</dcterms:modified>
  <cp:revision>27</cp:revision>
  <dc:subject/>
  <dc:title>Слайд 1</dc:title>
</cp:coreProperties>
</file>