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D1F-75B6-4F60-B9EC-CABCC3FF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C78-69A6-4C55-8E70-82199CF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F44-E300-4753-A7DF-6B3B92FD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E7F-7BA5-49ED-9475-BD67EB56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050E-9010-46E6-A0FA-D261A06D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2F3-694A-4757-8944-9682F58F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AA56-22DD-43A0-8111-DA4DBF04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3B06-1B8D-497F-B133-035DB4A8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0AE-8D29-4C71-9899-95904F8A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0D8-60BC-4B9F-8CA3-6D4F214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8865-ACC2-4AE7-94E0-1C653A2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C77-F6EA-47A5-9A39-312D9D4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89DA-7645-48C8-B30D-5993260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97C-DE15-4EF0-975B-F0C2883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D33-AFBF-4C56-AD7E-35D3E509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EC6-73B2-4024-88DE-749162ED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6B7-5869-4A6D-AB04-531BEEA0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1AD-428E-4A82-BBD2-162C8116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906-5266-4505-99ED-160EF79C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768-9A0F-42CD-9A03-1766AEE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73C-8EFF-4E7F-AB22-1097E1A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2A6-1787-4662-97F3-F9B30CA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849-B710-4BA4-BFBF-C0F496F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8DF-65C2-4430-AF14-4B45698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acfe8598629.png"/>
          <p:cNvPicPr/>
          <p:nvPr/>
        </p:nvPicPr>
        <p:blipFill>
          <a:blip r:embed="rId3"/>
          <a:stretch/>
        </p:blipFill>
        <p:spPr>
          <a:xfrm>
            <a:off x="6500880" y="4643280"/>
            <a:ext cx="242892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7AB-CC5F-4578-BD71-35E9929F9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4566-59B5-4692-8105-2F781A80E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ндивидуальная кар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физического развит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 физической подготовленности обучающегося с ОВ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Calibri"/>
              </a:rPr>
              <a:t>Медведева Марина Викторовн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учитель физической 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ГКОУ УР «Воткинская шко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libri"/>
              </a:rPr>
              <a:t>для обучающихся с ОВЗ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85716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становление Правительства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т 29.12.2001 № 9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Об общероссийской системе мониторинга состояния физического здоровья населения, физического развития детей, подрост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и молодежи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42960" y="142920"/>
            <a:ext cx="778680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Цель мониторинга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тслеживать динамику показателей физического развития и физической подготовленности учащихся разных возрастных групп и использование этой информации для определения основных приоритетов дальнейшего развития деятельности школы в области здоровьесбере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85840" y="151920"/>
            <a:ext cx="8858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равнивать физическую подготовлен-ность учащегося в разные годы его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воевременно вносить коррективы в содержание программ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водить соответствующий отбор для занятий тем или иным видом спорта, для участия в соревнова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являть преимущества и недостатки применяемых средств, мет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учения и форм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Мониторинг индивидуального физического развития и физической подготовленности учащегося ГКОУ УР«Воткинская школа для обучающихся с ОВЗ»</a:t>
            </a: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928800"/>
          <a:ext cx="6114960" cy="977760"/>
        </p:xfrm>
        <a:graphic>
          <a:graphicData uri="http://schemas.openxmlformats.org/drawingml/2006/table">
            <a:tbl>
              <a:tblPr/>
              <a:tblGrid>
                <a:gridCol w="727200"/>
                <a:gridCol w="691920"/>
                <a:gridCol w="974880"/>
                <a:gridCol w="898560"/>
                <a:gridCol w="1411200"/>
                <a:gridCol w="1411200"/>
              </a:tblGrid>
              <a:tr h="50148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-ная груп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казания по видам движен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ы в области ФК/с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3"/>
          <p:cNvSpPr/>
          <p:nvPr/>
        </p:nvSpPr>
        <p:spPr>
          <a:xfrm>
            <a:off x="1735200" y="590400"/>
            <a:ext cx="56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милия, имя учащегося____________________ Дата рождения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2185920"/>
          <a:ext cx="6143760" cy="4132440"/>
        </p:xfrm>
        <a:graphic>
          <a:graphicData uri="http://schemas.openxmlformats.org/drawingml/2006/table">
            <a:tbl>
              <a:tblPr/>
              <a:tblGrid>
                <a:gridCol w="1589040"/>
                <a:gridCol w="569880"/>
                <a:gridCol w="568440"/>
                <a:gridCol w="569880"/>
                <a:gridCol w="568440"/>
                <a:gridCol w="569880"/>
                <a:gridCol w="569880"/>
                <a:gridCol w="568440"/>
                <a:gridCol w="569880"/>
              </a:tblGrid>
              <a:tr h="157320"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30м /60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лыжах (1 к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ок в длину с места (с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ие  теннисного мяча в цель с расст.6 м. (кол-во попаданий из 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вперед из поло-жения сидя на полу с прямыми ногами (с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 из виса  на высок. перекладине (М), поднимание туловища за 1 мин (Д) (кол-в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ибание и рагибание рук в упоре лежа на полу (кол-в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ок баскетбольного мяча в кольцо(кол- во попаданий из 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2 ногах на скакалке (за 20 се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, должность проводившего обслед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5"/>
          <p:cNvSpPr/>
          <p:nvPr/>
        </p:nvSpPr>
        <p:spPr>
          <a:xfrm>
            <a:off x="3089520" y="1947600"/>
            <a:ext cx="29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оказатели физической подгото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словия провед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ес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й способ выполн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е условия выполн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динаковые измерения и одинаковая их точ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мерно одинаковое суточное время проведения т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мерно одинаковый характер предшествующе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Контрольные упраж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г 30, 60 м с высокого и низкого старта;          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ыжок в длину с места;              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г на лыжах (1 км)наклоны вперёд сидя на по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тание  теннисного мяча в цель с расст.6 м. (кол-во попаданий из 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клон вперед из положения сидя на полу с прямыми ногами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тягивание из виса  на высок. перекладине (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нимание туловища за 1 мин (Д) (кол-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гибание и разгибание рук в упоре лежа на полу (кол-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росок баскетбольного мяча в кольцо(кол- во попаданий из 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ыжки на 2 ногах на скакалке (за 20 се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4572000" cy="646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03:37Z</dcterms:created>
  <dc:creator>Helen</dc:creator>
  <dc:description/>
  <dc:language>en-US</dc:language>
  <cp:lastModifiedBy>User</cp:lastModifiedBy>
  <dcterms:modified xsi:type="dcterms:W3CDTF">2023-04-20T18:10:05Z</dcterms:modified>
  <cp:revision>27</cp:revision>
  <dc:subject/>
  <dc:title>Слайд 1</dc:title>
</cp:coreProperties>
</file>