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403-7555-4D04-B4EB-80FA20BE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D03-D990-4696-A1F3-8D7CC626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17A-93B4-458D-B608-40E0E631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1DD-E0B1-4A29-8523-33DF3C16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E8E-C79F-40AD-9E07-FB0107C1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B915-2E10-4043-8ED1-C086ECBE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06B2-B189-4CB3-A776-84C4C458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C3F7-2F6D-430D-8CAC-FC97A94F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7493-AD34-4FC7-BA95-0E8965DF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F50D-F2B8-4A74-8F5B-C93F583A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66C-6191-4323-83CF-8EB2B0FF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5921-F886-4CFF-A4FC-697FEAAB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EEBF-C04E-41FB-96A4-04032301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ED4D-7D3B-4FC8-B2DD-2ED5C2D3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1477-CFBA-46DB-988D-EF16246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115C-1DE5-4414-94A9-C7CF5ACD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35EC-1889-46D6-BAD7-9CCC08B8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9801-2780-4E06-BBB0-8182E350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1B4-8F7E-4602-9E13-27C10A3A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4AA-9E5C-4A58-AC73-AC4DA635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7D1-6683-4AA9-977B-553B2CE6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5C9-CB3C-44D2-A557-366D126C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2B4-DA10-4594-A48F-78A5F3E2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610-AED8-4C3F-B29E-56783BCC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4515-8DB9-4DC4-A253-CD30630E26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5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AFC2-7A5D-499E-870C-630BC801ED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424720" cy="19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Georgia"/>
                <a:ea typeface="Arial Unicode MS"/>
              </a:rPr>
              <a:t>Любовь и уважение</a:t>
            </a:r>
            <a:br>
              <a:rPr sz="6000"/>
            </a:br>
            <a:r>
              <a:rPr b="1" i="1" lang="ru-RU" sz="6000" spc="-1" strike="noStrike">
                <a:solidFill>
                  <a:srgbClr val="0000ff"/>
                </a:solidFill>
                <a:latin typeface="Georgia"/>
                <a:ea typeface="Arial Unicode MS"/>
              </a:rPr>
              <a:t> к Отечеству</a:t>
            </a:r>
            <a:endParaRPr b="0" lang="en-US" sz="6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471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Georgia"/>
              </a:rPr>
              <a:t>Христиан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959280" y="1304640"/>
            <a:ext cx="446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Основатель Иисус Христ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E:\Проект\Христианство\церковь.jpg"/>
          <p:cNvPicPr/>
          <p:nvPr/>
        </p:nvPicPr>
        <p:blipFill>
          <a:blip r:embed="rId1"/>
          <a:stretch/>
        </p:blipFill>
        <p:spPr>
          <a:xfrm>
            <a:off x="250920" y="1773360"/>
            <a:ext cx="4105080" cy="27493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1150920" y="4581360"/>
            <a:ext cx="27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ященное сооружение –          храм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5" descr="E:\Проект\Христианство\Библия.png"/>
          <p:cNvPicPr/>
          <p:nvPr/>
        </p:nvPicPr>
        <p:blipFill>
          <a:blip r:embed="rId2"/>
          <a:stretch/>
        </p:blipFill>
        <p:spPr>
          <a:xfrm>
            <a:off x="6912000" y="2060640"/>
            <a:ext cx="2009880" cy="28796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7"/>
          <p:cNvSpPr/>
          <p:nvPr/>
        </p:nvSpPr>
        <p:spPr>
          <a:xfrm>
            <a:off x="5651640" y="4905360"/>
            <a:ext cx="34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вященное писание-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иблия           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2700360" y="6165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мволы – распятие и крест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5" descr="E:\Проект\Христианство\Иисус.jpg"/>
          <p:cNvPicPr/>
          <p:nvPr/>
        </p:nvPicPr>
        <p:blipFill>
          <a:blip r:embed="rId3"/>
          <a:stretch/>
        </p:blipFill>
        <p:spPr>
          <a:xfrm>
            <a:off x="4716360" y="1773360"/>
            <a:ext cx="1839960" cy="2449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th?id=H"/>
          <p:cNvPicPr/>
          <p:nvPr/>
        </p:nvPicPr>
        <p:blipFill>
          <a:blip r:embed="rId4"/>
          <a:stretch/>
        </p:blipFill>
        <p:spPr>
          <a:xfrm>
            <a:off x="4356000" y="4400640"/>
            <a:ext cx="984240" cy="18730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2"/>
          <p:cNvSpPr/>
          <p:nvPr/>
        </p:nvSpPr>
        <p:spPr>
          <a:xfrm>
            <a:off x="5111640" y="51264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всей территории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Georgia"/>
              </a:rPr>
              <a:t>Нравственные идеалы Родин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Picture 4" descr="ANd9GcQInXjZqkNMLMKkF3Ap0I5SkapL7jLnZBAoOkOmbycU2NktvfTl"/>
          <p:cNvPicPr/>
          <p:nvPr/>
        </p:nvPicPr>
        <p:blipFill>
          <a:blip r:embed="rId1"/>
          <a:stretch/>
        </p:blipFill>
        <p:spPr>
          <a:xfrm>
            <a:off x="324000" y="1773360"/>
            <a:ext cx="4032000" cy="2682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ANd9GcQVZOWfWXyBrtOxYXbzMd-PVtCqbZ_c2zO3L9cK6o-Bv7tdYJwhJw"/>
          <p:cNvPicPr/>
          <p:nvPr/>
        </p:nvPicPr>
        <p:blipFill>
          <a:blip r:embed="rId2"/>
          <a:stretch/>
        </p:blipFill>
        <p:spPr>
          <a:xfrm>
            <a:off x="4608360" y="2673360"/>
            <a:ext cx="3780000" cy="25146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6"/>
          <p:cNvSpPr/>
          <p:nvPr/>
        </p:nvSpPr>
        <p:spPr>
          <a:xfrm>
            <a:off x="1079640" y="4545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ТРУЖЕНИК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4824360" y="548172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Arial"/>
              </a:rPr>
              <a:t>КОЛЛЕКТИВИСТ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Georgia"/>
              </a:rPr>
              <a:t>Нравственные идеалы Родин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3" name="Picture 4" descr="ANd9GcSw4MS_QoXoPWpdncIAEGWRvKbOoKRcAsMn4Ppe3mhjdzflVD0Y"/>
          <p:cNvPicPr/>
          <p:nvPr/>
        </p:nvPicPr>
        <p:blipFill>
          <a:blip r:embed="rId1"/>
          <a:stretch/>
        </p:blipFill>
        <p:spPr>
          <a:xfrm>
            <a:off x="576360" y="1449360"/>
            <a:ext cx="2682720" cy="4032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DSC02213"/>
          <p:cNvPicPr/>
          <p:nvPr/>
        </p:nvPicPr>
        <p:blipFill>
          <a:blip r:embed="rId2"/>
          <a:srcRect l="28575" t="0" r="9949" b="0"/>
          <a:stretch/>
        </p:blipFill>
        <p:spPr>
          <a:xfrm>
            <a:off x="5040360" y="2097000"/>
            <a:ext cx="2854440" cy="34927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6"/>
          <p:cNvSpPr/>
          <p:nvPr/>
        </p:nvSpPr>
        <p:spPr>
          <a:xfrm>
            <a:off x="358920" y="591336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ЩИТНИК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896000" y="5842080"/>
            <a:ext cx="34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932360" y="5842080"/>
            <a:ext cx="32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5184720" y="580536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Патриот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ecff"/>
                </a:solidFill>
                <a:latin typeface="Arial"/>
              </a:rPr>
              <a:t>Любовь – это служение Родине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79280" y="3249720"/>
            <a:ext cx="27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могаю бабушкам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90000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зучаю родной край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3132000" y="5084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зучаю родословную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6299280" y="353700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споминаю погибших в день Победы 9 мая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6119640" y="62006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кормлю птиц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ff00"/>
                </a:solidFill>
                <a:latin typeface="Georgia"/>
              </a:rPr>
              <a:t>Моя родословна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50920" y="1305000"/>
            <a:ext cx="500544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Georgia"/>
              </a:rPr>
              <a:t>Нам помогают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ru-RU" sz="3200" spc="-1" strike="noStrike">
                <a:solidFill>
                  <a:srgbClr val="ff99ff"/>
                </a:solidFill>
                <a:latin typeface="Arial"/>
              </a:rPr>
              <a:t>Любовь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Уважение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заимопомощь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Понимание 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оброта 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Georgia"/>
              </a:rPr>
              <a:t>Жизнь человека –  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Georgia"/>
              </a:rPr>
              <a:t> главная ценность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47640" y="3753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я семья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6551640" y="54450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й друг Дениска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1008000" y="616572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и братья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3959280" y="4689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оя первая      учительница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539640" y="1268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Люди, которые помогают мне идти по жизни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ecff"/>
                </a:solidFill>
                <a:latin typeface="Georgia"/>
              </a:rPr>
              <a:t>Мир вашему дому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5" name="Содержимое 7" descr="B-049-0102.JPG"/>
          <p:cNvPicPr/>
          <p:nvPr/>
        </p:nvPicPr>
        <p:blipFill>
          <a:blip r:embed="rId1"/>
          <a:stretch/>
        </p:blipFill>
        <p:spPr>
          <a:xfrm>
            <a:off x="1042920" y="1233360"/>
            <a:ext cx="7164360" cy="537372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Что мы Родиной зовём?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631880"/>
            <a:ext cx="86058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Что мы Родиной зовём?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Дом, в котором мы живём,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И берёзки, вдоль которых,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Рядом с мамой мы идём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Поле с тонким колоском,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Наши праздники и песни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В тёплый вечер под окном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252" name="Mama-i-doch_-Pakulichevy-U-moey-Rossii-dlinnye-kosichki(muzofon.com).mp3" descr=""/>
          <p:cNvPicPr/>
          <p:nvPr/>
        </p:nvPicPr>
        <p:blipFill>
          <a:blip r:embed="rId1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2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ecff"/>
                </a:solidFill>
                <a:latin typeface="Georgia"/>
              </a:rPr>
              <a:t>Символы Росс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92000" y="2133360"/>
            <a:ext cx="75600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gos"/>
          <p:cNvPicPr/>
          <p:nvPr/>
        </p:nvPicPr>
        <p:blipFill>
          <a:blip r:embed="rId1"/>
          <a:stretch/>
        </p:blipFill>
        <p:spPr>
          <a:xfrm>
            <a:off x="1332000" y="1449360"/>
            <a:ext cx="6769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Georgia"/>
              </a:rPr>
              <a:t>Другие символы Росси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Picture 4" descr="ANd9GcSfDC_iiLSq4GIuhCT-T1Kh3Jx-k6RLasiaKxqMo3QA_zLzkwx5"/>
          <p:cNvPicPr/>
          <p:nvPr/>
        </p:nvPicPr>
        <p:blipFill>
          <a:blip r:embed="rId1"/>
          <a:stretch/>
        </p:blipFill>
        <p:spPr>
          <a:xfrm>
            <a:off x="2771640" y="2349360"/>
            <a:ext cx="1455840" cy="1783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ANd9GcSFV_WQXpif7jQeMILSNzbPVw1EITfGvn066qLdwmDQlmp9UFJF"/>
          <p:cNvPicPr/>
          <p:nvPr/>
        </p:nvPicPr>
        <p:blipFill>
          <a:blip r:embed="rId2"/>
          <a:srcRect l="32604" t="0" r="0" b="0"/>
          <a:stretch/>
        </p:blipFill>
        <p:spPr>
          <a:xfrm>
            <a:off x="2448000" y="4616280"/>
            <a:ext cx="2052720" cy="1981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ANd9GcTDMgkUvDSvh5gdB9j0I1piZAwvziDHlDxnOxzpQxeSYNx2xcmL"/>
          <p:cNvPicPr/>
          <p:nvPr/>
        </p:nvPicPr>
        <p:blipFill>
          <a:blip r:embed="rId3"/>
          <a:stretch/>
        </p:blipFill>
        <p:spPr>
          <a:xfrm>
            <a:off x="4788000" y="4616280"/>
            <a:ext cx="1787400" cy="1190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ANd9GcTMrvH1zU5vlGG8tuh_BjZ8F2O3u9o5z8yu4ZUzgLoX-jwq5QcwYg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6696000" y="4869000"/>
            <a:ext cx="2211480" cy="1663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ANd9GcTEQJhePr0fh2jG_68cuA0v8TF1QwPheYI2HO5NVZ5GZ9WWAhhHlQ"/>
          <p:cNvPicPr/>
          <p:nvPr/>
        </p:nvPicPr>
        <p:blipFill>
          <a:blip r:embed="rId5"/>
          <a:srcRect l="21917" t="0" r="21071" b="0"/>
          <a:stretch/>
        </p:blipFill>
        <p:spPr>
          <a:xfrm>
            <a:off x="7236000" y="1989000"/>
            <a:ext cx="1404720" cy="185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ANd9GcQjN_bhOcvLDUAZ8r71RGAFBCS2sHa9M88aisGlsADvMYsEik6q"/>
          <p:cNvPicPr/>
          <p:nvPr/>
        </p:nvPicPr>
        <p:blipFill>
          <a:blip r:embed="rId6"/>
          <a:stretch/>
        </p:blipFill>
        <p:spPr>
          <a:xfrm>
            <a:off x="287280" y="4076640"/>
            <a:ext cx="1714680" cy="2122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ANd9GcQHnr_3uu33h2NdPvvsMVyI0zWMTJBvPjNut9rN8P3zb9i9JROBBQ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4427640" y="1557360"/>
            <a:ext cx="2425680" cy="1892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ANd9GcTySKXTfF5RanqCOqjX3XPKGPQKcNc7KtqsTWEvB_3ZQrP_VZli-Q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250920" y="1413000"/>
            <a:ext cx="2349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Times New Roman"/>
              </a:rPr>
              <a:t>С чего начинается Родина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900000" y="5624640"/>
            <a:ext cx="78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Это мои родители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Моя малая Родина -        село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Picture 5" descr="getImage (24)"/>
          <p:cNvPicPr/>
          <p:nvPr/>
        </p:nvPicPr>
        <p:blipFill>
          <a:blip r:embed="rId1"/>
          <a:stretch/>
        </p:blipFill>
        <p:spPr>
          <a:xfrm>
            <a:off x="395280" y="1665360"/>
            <a:ext cx="2844720" cy="2133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getImage (12)"/>
          <p:cNvPicPr/>
          <p:nvPr/>
        </p:nvPicPr>
        <p:blipFill>
          <a:blip r:embed="rId2"/>
          <a:stretch/>
        </p:blipFill>
        <p:spPr>
          <a:xfrm>
            <a:off x="4824360" y="177336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getImage (26)"/>
          <p:cNvPicPr/>
          <p:nvPr/>
        </p:nvPicPr>
        <p:blipFill>
          <a:blip r:embed="rId3"/>
          <a:stretch/>
        </p:blipFill>
        <p:spPr>
          <a:xfrm>
            <a:off x="5867280" y="4329000"/>
            <a:ext cx="3019680" cy="2265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getImage (28)"/>
          <p:cNvPicPr/>
          <p:nvPr/>
        </p:nvPicPr>
        <p:blipFill>
          <a:blip r:embed="rId4"/>
          <a:stretch/>
        </p:blipFill>
        <p:spPr>
          <a:xfrm>
            <a:off x="1476360" y="411336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Красота природы       моей Родин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15922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5" descr="ANd9GcSHx6SumgXilWVuukTr2ZIJ14lFBT2nuayg0mCBEzRc9VRBjOA-uw"/>
          <p:cNvPicPr/>
          <p:nvPr/>
        </p:nvPicPr>
        <p:blipFill>
          <a:blip r:embed="rId1"/>
          <a:stretch/>
        </p:blipFill>
        <p:spPr>
          <a:xfrm>
            <a:off x="468360" y="1916280"/>
            <a:ext cx="2616120" cy="1739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ANd9GcQHXvkLRjKuiX47ufwu1-Ak00SIyR_-kmH6NB37maftEXkl4FJ-"/>
          <p:cNvPicPr/>
          <p:nvPr/>
        </p:nvPicPr>
        <p:blipFill>
          <a:blip r:embed="rId2"/>
          <a:stretch/>
        </p:blipFill>
        <p:spPr>
          <a:xfrm>
            <a:off x="3456000" y="2168640"/>
            <a:ext cx="2463840" cy="1854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ANd9GcSapJEwamH6Gn1jTdg9tiRMfId-Yk0B66Qw-3dqAGAxAD925o0hog"/>
          <p:cNvPicPr/>
          <p:nvPr/>
        </p:nvPicPr>
        <p:blipFill>
          <a:blip r:embed="rId3"/>
          <a:stretch/>
        </p:blipFill>
        <p:spPr>
          <a:xfrm>
            <a:off x="6408720" y="1700280"/>
            <a:ext cx="2463840" cy="1854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ANd9GcSXnWzX90NqQiEPxI-aBAxxo1puCTJDnmXNIUgGtgrrgd9Udxl4"/>
          <p:cNvPicPr/>
          <p:nvPr/>
        </p:nvPicPr>
        <p:blipFill>
          <a:blip r:embed="rId4"/>
          <a:stretch/>
        </p:blipFill>
        <p:spPr>
          <a:xfrm>
            <a:off x="179280" y="422100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ANd9GcQrK87G2ewVzNrpQ8SCaJca-fnRh4OsovOfjnl7e_D3Xx6RA3xn"/>
          <p:cNvPicPr/>
          <p:nvPr/>
        </p:nvPicPr>
        <p:blipFill>
          <a:blip r:embed="rId5"/>
          <a:stretch/>
        </p:blipFill>
        <p:spPr>
          <a:xfrm>
            <a:off x="3240000" y="4724280"/>
            <a:ext cx="2730600" cy="167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ANd9GcSI1NZgT-knTTankFk06gj_8ixPV2Dze5BI2ZRn8rfZnYReeZJspA"/>
          <p:cNvPicPr/>
          <p:nvPr/>
        </p:nvPicPr>
        <p:blipFill>
          <a:blip r:embed="rId6"/>
          <a:stretch/>
        </p:blipFill>
        <p:spPr>
          <a:xfrm>
            <a:off x="6227640" y="4184640"/>
            <a:ext cx="27054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оя многонациональная Роди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Picture 4" descr="Socvetie_Ch"/>
          <p:cNvPicPr/>
          <p:nvPr/>
        </p:nvPicPr>
        <p:blipFill>
          <a:blip r:embed="rId1"/>
          <a:stretch/>
        </p:blipFill>
        <p:spPr>
          <a:xfrm>
            <a:off x="5327640" y="4329000"/>
            <a:ext cx="3290760" cy="2211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ANd9GcRbaQfuf52tYtlPfk_lpYs925R-FN9SQoBPPqz8tHYdfgEO8kv_"/>
          <p:cNvPicPr/>
          <p:nvPr/>
        </p:nvPicPr>
        <p:blipFill>
          <a:blip r:embed="rId2"/>
          <a:srcRect l="34064" t="0" r="15558" b="0"/>
          <a:stretch/>
        </p:blipFill>
        <p:spPr>
          <a:xfrm>
            <a:off x="3638520" y="1592280"/>
            <a:ext cx="2171880" cy="2413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ANd9GcSEZumPRsBradc-7jyWqKRZ40yzfYQtvzJBdefiviUoAYKyhfulyA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4000" y="1305000"/>
            <a:ext cx="2193840" cy="291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ANd9GcQ8FNdbmlqlKQjowz1qBs90yZKuY1a_pY4JnZg39jPElrrayrLnqw"/>
          <p:cNvPicPr/>
          <p:nvPr/>
        </p:nvPicPr>
        <p:blipFill>
          <a:blip r:embed="rId4"/>
          <a:stretch/>
        </p:blipFill>
        <p:spPr>
          <a:xfrm>
            <a:off x="684360" y="4578480"/>
            <a:ext cx="2842920" cy="1960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ANd9GcQ0zE03Q8YtJPqXAxLP_HU1spMEwl1mgB_mLHp-l50jboMtRpbjeg"/>
          <p:cNvPicPr/>
          <p:nvPr/>
        </p:nvPicPr>
        <p:blipFill>
          <a:blip r:embed="rId5"/>
          <a:stretch/>
        </p:blipFill>
        <p:spPr>
          <a:xfrm>
            <a:off x="6624720" y="1376280"/>
            <a:ext cx="18540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Georgia"/>
              </a:rPr>
              <a:t>Религии моей Родин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4" descr="ANd9GcQX-VjVokB0jk498vg1wUjErfPzHnvR_99MMk__LKNMXZN-3E8vYw"/>
          <p:cNvPicPr/>
          <p:nvPr/>
        </p:nvPicPr>
        <p:blipFill>
          <a:blip r:embed="rId1"/>
          <a:stretch/>
        </p:blipFill>
        <p:spPr>
          <a:xfrm>
            <a:off x="900000" y="3897360"/>
            <a:ext cx="3382920" cy="20746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ANd9GcRG1Km3xkHx3x-sS0-y-i62Kiomv14NxkowZFw2uZNNihLzfk8nng"/>
          <p:cNvPicPr/>
          <p:nvPr/>
        </p:nvPicPr>
        <p:blipFill>
          <a:blip r:embed="rId2"/>
          <a:stretch/>
        </p:blipFill>
        <p:spPr>
          <a:xfrm>
            <a:off x="647640" y="1015920"/>
            <a:ext cx="3276720" cy="2179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216000" y="3141720"/>
            <a:ext cx="44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ристианство-храм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1403280" y="6308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826920" y="60580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слам  - мечеть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12_Ioninskij_-_Akimovskij_Zvon_(K.Kijanceva_V.Korolev_L.Kulakova).mp3" descr=""/>
          <p:cNvPicPr/>
          <p:nvPr/>
        </p:nvPicPr>
        <p:blipFill>
          <a:blip r:embed="rId3"/>
          <a:stretch/>
        </p:blipFill>
        <p:spPr>
          <a:xfrm>
            <a:off x="358920" y="5157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Руководство иудаизмом. ВЕРХОВНЫЙ РАВВИНАТ еврейская религиозная институция, облеченная верховным авторитетом в вопросах, касающихся религиозных учреждений, судопроизводства и администрации в рамках какой-либо страны или региона. РАВВИН (от евр. «великий» и отсюда – «учитель») - духовный представитель еврейской общины, исполняющий в ней обязанности наставника, проповедника, блюстителя и толкователярелигиозного закона, а прежде присоединявший к ним и функции судейские."/>
          <p:cNvPicPr/>
          <p:nvPr/>
        </p:nvPicPr>
        <p:blipFill>
          <a:blip r:embed="rId4"/>
          <a:srcRect l="79728" t="66646" r="2362" b="3286"/>
          <a:stretch/>
        </p:blipFill>
        <p:spPr>
          <a:xfrm>
            <a:off x="6300720" y="981000"/>
            <a:ext cx="2001960" cy="25192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6"/>
          <p:cNvSpPr/>
          <p:nvPr/>
        </p:nvSpPr>
        <p:spPr>
          <a:xfrm>
            <a:off x="5327640" y="3608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Иудаизм - Синагога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8" descr="E:\Курсы\4127852.jpg"/>
          <p:cNvPicPr/>
          <p:nvPr/>
        </p:nvPicPr>
        <p:blipFill>
          <a:blip r:embed="rId5"/>
          <a:stretch/>
        </p:blipFill>
        <p:spPr>
          <a:xfrm>
            <a:off x="5904000" y="42210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8"/>
          <p:cNvSpPr/>
          <p:nvPr/>
        </p:nvSpPr>
        <p:spPr>
          <a:xfrm>
            <a:off x="5543640" y="6093000"/>
            <a:ext cx="33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уддизм – Ступа 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644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Maisk</cp:lastModifiedBy>
  <dcterms:modified xsi:type="dcterms:W3CDTF">2023-04-20T17:23:58Z</dcterms:modified>
  <cp:revision>32</cp:revision>
  <dc:subject/>
  <dc:title>Слайд 1</dc:title>
</cp:coreProperties>
</file>