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8E5-1B04-442B-982A-6AD32DE3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A37-A8EC-4BBA-A792-D7E5D1ED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9A2-7DA4-430D-A96A-82219E09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1AA-4D02-4D0A-94E3-3F6BF35E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3E1-CA28-40C8-8005-B771A3C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ED1C-C13D-49FD-8A1C-08480A4D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7F9-B982-4E86-99CE-F2926F32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0B86-34EF-49D6-BABE-E58EFF2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F182-6847-4B99-801A-05E6E3A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0CA3-8C31-4446-9155-BD5F5BE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017-FD79-4ED9-8D48-4970FE80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9058-3AE6-4D23-BD7B-481A4BA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04BE-ABF0-4E60-BB7A-7522A3A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199-0084-46CF-A90E-F8E6871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2262-800A-4CC6-B983-7C333BF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9A99-1F35-4558-85C4-15410BCF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2C4C-6947-47FA-876B-12B8D736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B914-673C-4E3F-A463-18FACFBB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5E3-5BF4-4199-9144-138C18F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0A4-8CBE-44BA-8D4A-2754FCA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A25-DD3E-444B-81C7-0B85CA1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BEB-F702-44B4-8E08-3095981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D7C-1B67-4E63-866D-6251676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318-DD32-4BA1-B761-1B75002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96F-C278-45FA-A803-068BB6A5F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D0AD-EAAF-4099-A3C6-21914F6677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42472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Georgia"/>
                <a:ea typeface="Arial Unicode MS"/>
              </a:rPr>
              <a:t>Любовь и уважение</a:t>
            </a:r>
            <a:br>
              <a:rPr sz="6000"/>
            </a:br>
            <a:r>
              <a:rPr b="1" i="1" lang="ru-RU" sz="6000" spc="-1" strike="noStrike">
                <a:solidFill>
                  <a:srgbClr val="0000ff"/>
                </a:solidFill>
                <a:latin typeface="Georgia"/>
                <a:ea typeface="Arial Unicode MS"/>
              </a:rPr>
              <a:t> к Отечеству</a:t>
            </a:r>
            <a:endParaRPr b="0" lang="en-US" sz="6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Georgia"/>
              </a:rPr>
              <a:t>Христиан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9280" y="1304640"/>
            <a:ext cx="446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снователь Иисус Христ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E:\Проект\Христианство\церковь.jpg"/>
          <p:cNvPicPr/>
          <p:nvPr/>
        </p:nvPicPr>
        <p:blipFill>
          <a:blip r:embed="rId1"/>
          <a:stretch/>
        </p:blipFill>
        <p:spPr>
          <a:xfrm>
            <a:off x="250920" y="1773360"/>
            <a:ext cx="4105080" cy="2749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150920" y="458136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ященное сооружение –          храм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E:\Проект\Христианство\Библия.png"/>
          <p:cNvPicPr/>
          <p:nvPr/>
        </p:nvPicPr>
        <p:blipFill>
          <a:blip r:embed="rId2"/>
          <a:stretch/>
        </p:blipFill>
        <p:spPr>
          <a:xfrm>
            <a:off x="6912000" y="2060640"/>
            <a:ext cx="2009880" cy="28796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5651640" y="4905360"/>
            <a:ext cx="34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ященное писание-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блия           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700360" y="61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мволы – распятие и крест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5" descr="E:\Проект\Христианство\Иисус.jpg"/>
          <p:cNvPicPr/>
          <p:nvPr/>
        </p:nvPicPr>
        <p:blipFill>
          <a:blip r:embed="rId3"/>
          <a:stretch/>
        </p:blipFill>
        <p:spPr>
          <a:xfrm>
            <a:off x="4716360" y="1773360"/>
            <a:ext cx="1839960" cy="2449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th?id=H"/>
          <p:cNvPicPr/>
          <p:nvPr/>
        </p:nvPicPr>
        <p:blipFill>
          <a:blip r:embed="rId4"/>
          <a:stretch/>
        </p:blipFill>
        <p:spPr>
          <a:xfrm>
            <a:off x="4356000" y="4400640"/>
            <a:ext cx="984240" cy="18730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5111640" y="5126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всей территории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Нравственные идеалы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4" descr="ANd9GcQInXjZqkNMLMKkF3Ap0I5SkapL7jLnZBAoOkOmbycU2NktvfTl"/>
          <p:cNvPicPr/>
          <p:nvPr/>
        </p:nvPicPr>
        <p:blipFill>
          <a:blip r:embed="rId1"/>
          <a:stretch/>
        </p:blipFill>
        <p:spPr>
          <a:xfrm>
            <a:off x="324000" y="1773360"/>
            <a:ext cx="4032000" cy="2682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ANd9GcQVZOWfWXyBrtOxYXbzMd-PVtCqbZ_c2zO3L9cK6o-Bv7tdYJwhJw"/>
          <p:cNvPicPr/>
          <p:nvPr/>
        </p:nvPicPr>
        <p:blipFill>
          <a:blip r:embed="rId2"/>
          <a:stretch/>
        </p:blipFill>
        <p:spPr>
          <a:xfrm>
            <a:off x="4608360" y="2673360"/>
            <a:ext cx="3780000" cy="2514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6"/>
          <p:cNvSpPr/>
          <p:nvPr/>
        </p:nvSpPr>
        <p:spPr>
          <a:xfrm>
            <a:off x="1079640" y="4545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ТРУЖЕНИК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824360" y="5481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Arial"/>
              </a:rPr>
              <a:t>КОЛЛЕКТИВИСТ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Нравственные идеалы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Picture 4" descr="ANd9GcSw4MS_QoXoPWpdncIAEGWRvKbOoKRcAsMn4Ppe3mhjdzflVD0Y"/>
          <p:cNvPicPr/>
          <p:nvPr/>
        </p:nvPicPr>
        <p:blipFill>
          <a:blip r:embed="rId1"/>
          <a:stretch/>
        </p:blipFill>
        <p:spPr>
          <a:xfrm>
            <a:off x="576360" y="1449360"/>
            <a:ext cx="2682720" cy="4032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SC02213"/>
          <p:cNvPicPr/>
          <p:nvPr/>
        </p:nvPicPr>
        <p:blipFill>
          <a:blip r:embed="rId2"/>
          <a:srcRect l="28575" t="0" r="9949" b="0"/>
          <a:stretch/>
        </p:blipFill>
        <p:spPr>
          <a:xfrm>
            <a:off x="5040360" y="2097000"/>
            <a:ext cx="2854440" cy="3492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358920" y="591336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ЩИТНИК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896000" y="5842080"/>
            <a:ext cx="34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932360" y="5842080"/>
            <a:ext cx="32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184720" y="580536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Патриот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ecff"/>
                </a:solidFill>
                <a:latin typeface="Arial"/>
              </a:rPr>
              <a:t>Любовь – это служение Родине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79280" y="324972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могаю бабушкам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90000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учаю родной край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3132000" y="508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учаю родословную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6299280" y="353700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поминаю погибших в день Победы 9 мая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6119640" y="620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кормлю птиц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ff00"/>
                </a:solidFill>
                <a:latin typeface="Georgia"/>
              </a:rPr>
              <a:t>Моя родословна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50920" y="1305000"/>
            <a:ext cx="500544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Georgia"/>
              </a:rPr>
              <a:t>Нам помогают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ff99ff"/>
                </a:solidFill>
                <a:latin typeface="Arial"/>
              </a:rPr>
              <a:t>Любов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Уважение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заимопомощ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Понимание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брота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Georgia"/>
              </a:rPr>
              <a:t>Жизнь человека –  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Georgia"/>
              </a:rPr>
              <a:t> главная ценность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47640" y="3753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я семь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6551640" y="5445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й друг Дениска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008000" y="61657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и братья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3959280" y="4689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я первая      учительниц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39640" y="1268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юди, которые помогают мне идти по жизни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Georgia"/>
              </a:rPr>
              <a:t>Мир вашему дом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Содержимое 7" descr="B-049-0102.JPG"/>
          <p:cNvPicPr/>
          <p:nvPr/>
        </p:nvPicPr>
        <p:blipFill>
          <a:blip r:embed="rId1"/>
          <a:stretch/>
        </p:blipFill>
        <p:spPr>
          <a:xfrm>
            <a:off x="1042920" y="1233360"/>
            <a:ext cx="7164360" cy="53737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Что мы Родиной зовём?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631880"/>
            <a:ext cx="86058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Что мы Родиной зовём?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Дом, в котором мы живём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И берёзки, вдоль которых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Рядом с мамой мы идём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Поле с тонким колоском,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аши праздники и песни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 тёплый вечер под окном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252" name="Mama-i-doch_-Pakulichevy-U-moey-Rossii-dlinnye-kosichki(muzofon.com).mp3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2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Georgia"/>
              </a:rPr>
              <a:t>Символы Росс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2000" y="2133360"/>
            <a:ext cx="75600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s"/>
          <p:cNvPicPr/>
          <p:nvPr/>
        </p:nvPicPr>
        <p:blipFill>
          <a:blip r:embed="rId1"/>
          <a:stretch/>
        </p:blipFill>
        <p:spPr>
          <a:xfrm>
            <a:off x="1332000" y="1449360"/>
            <a:ext cx="676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Georgia"/>
              </a:rPr>
              <a:t>Другие символы Росс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ANd9GcSfDC_iiLSq4GIuhCT-T1Kh3Jx-k6RLasiaKxqMo3QA_zLzkwx5"/>
          <p:cNvPicPr/>
          <p:nvPr/>
        </p:nvPicPr>
        <p:blipFill>
          <a:blip r:embed="rId1"/>
          <a:stretch/>
        </p:blipFill>
        <p:spPr>
          <a:xfrm>
            <a:off x="2771640" y="2349360"/>
            <a:ext cx="1455840" cy="178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ANd9GcSFV_WQXpif7jQeMILSNzbPVw1EITfGvn066qLdwmDQlmp9UFJF"/>
          <p:cNvPicPr/>
          <p:nvPr/>
        </p:nvPicPr>
        <p:blipFill>
          <a:blip r:embed="rId2"/>
          <a:srcRect l="32604" t="0" r="0" b="0"/>
          <a:stretch/>
        </p:blipFill>
        <p:spPr>
          <a:xfrm>
            <a:off x="2448000" y="4616280"/>
            <a:ext cx="2052720" cy="1981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ANd9GcTDMgkUvDSvh5gdB9j0I1piZAwvziDHlDxnOxzpQxeSYNx2xcmL"/>
          <p:cNvPicPr/>
          <p:nvPr/>
        </p:nvPicPr>
        <p:blipFill>
          <a:blip r:embed="rId3"/>
          <a:stretch/>
        </p:blipFill>
        <p:spPr>
          <a:xfrm>
            <a:off x="4788000" y="4616280"/>
            <a:ext cx="1787400" cy="1190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ANd9GcTMrvH1zU5vlGG8tuh_BjZ8F2O3u9o5z8yu4ZUzgLoX-jwq5QcwYg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696000" y="4869000"/>
            <a:ext cx="2211480" cy="166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ANd9GcTEQJhePr0fh2jG_68cuA0v8TF1QwPheYI2HO5NVZ5GZ9WWAhhHlQ"/>
          <p:cNvPicPr/>
          <p:nvPr/>
        </p:nvPicPr>
        <p:blipFill>
          <a:blip r:embed="rId5"/>
          <a:srcRect l="21917" t="0" r="21071" b="0"/>
          <a:stretch/>
        </p:blipFill>
        <p:spPr>
          <a:xfrm>
            <a:off x="7236000" y="1989000"/>
            <a:ext cx="1404720" cy="185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ANd9GcQjN_bhOcvLDUAZ8r71RGAFBCS2sHa9M88aisGlsADvMYsEik6q"/>
          <p:cNvPicPr/>
          <p:nvPr/>
        </p:nvPicPr>
        <p:blipFill>
          <a:blip r:embed="rId6"/>
          <a:stretch/>
        </p:blipFill>
        <p:spPr>
          <a:xfrm>
            <a:off x="287280" y="4076640"/>
            <a:ext cx="1714680" cy="212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ANd9GcQHnr_3uu33h2NdPvvsMVyI0zWMTJBvPjNut9rN8P3zb9i9JROBBQ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427640" y="1557360"/>
            <a:ext cx="2425680" cy="1892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ANd9GcTySKXTfF5RanqCOqjX3XPKGPQKcNc7KtqsTWEvB_3ZQrP_VZli-Q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50920" y="1413000"/>
            <a:ext cx="2349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Times New Roman"/>
              </a:rPr>
              <a:t>С чего начинается Родина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900000" y="562464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Это мои родители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оя малая Родина -        сел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5" descr="getImage (24)"/>
          <p:cNvPicPr/>
          <p:nvPr/>
        </p:nvPicPr>
        <p:blipFill>
          <a:blip r:embed="rId1"/>
          <a:stretch/>
        </p:blipFill>
        <p:spPr>
          <a:xfrm>
            <a:off x="395280" y="166536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getImage (12)"/>
          <p:cNvPicPr/>
          <p:nvPr/>
        </p:nvPicPr>
        <p:blipFill>
          <a:blip r:embed="rId2"/>
          <a:stretch/>
        </p:blipFill>
        <p:spPr>
          <a:xfrm>
            <a:off x="4824360" y="1773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getImage (26)"/>
          <p:cNvPicPr/>
          <p:nvPr/>
        </p:nvPicPr>
        <p:blipFill>
          <a:blip r:embed="rId3"/>
          <a:stretch/>
        </p:blipFill>
        <p:spPr>
          <a:xfrm>
            <a:off x="5867280" y="4329000"/>
            <a:ext cx="3019680" cy="2265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getImage (28)"/>
          <p:cNvPicPr/>
          <p:nvPr/>
        </p:nvPicPr>
        <p:blipFill>
          <a:blip r:embed="rId4"/>
          <a:stretch/>
        </p:blipFill>
        <p:spPr>
          <a:xfrm>
            <a:off x="1476360" y="4113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Красота природы       моей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5922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ANd9GcSHx6SumgXilWVuukTr2ZIJ14lFBT2nuayg0mCBEzRc9VRBjOA-uw"/>
          <p:cNvPicPr/>
          <p:nvPr/>
        </p:nvPicPr>
        <p:blipFill>
          <a:blip r:embed="rId1"/>
          <a:stretch/>
        </p:blipFill>
        <p:spPr>
          <a:xfrm>
            <a:off x="468360" y="1916280"/>
            <a:ext cx="2616120" cy="1739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ANd9GcQHXvkLRjKuiX47ufwu1-Ak00SIyR_-kmH6NB37maftEXkl4FJ-"/>
          <p:cNvPicPr/>
          <p:nvPr/>
        </p:nvPicPr>
        <p:blipFill>
          <a:blip r:embed="rId2"/>
          <a:stretch/>
        </p:blipFill>
        <p:spPr>
          <a:xfrm>
            <a:off x="3456000" y="2168640"/>
            <a:ext cx="2463840" cy="185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ANd9GcSapJEwamH6Gn1jTdg9tiRMfId-Yk0B66Qw-3dqAGAxAD925o0hog"/>
          <p:cNvPicPr/>
          <p:nvPr/>
        </p:nvPicPr>
        <p:blipFill>
          <a:blip r:embed="rId3"/>
          <a:stretch/>
        </p:blipFill>
        <p:spPr>
          <a:xfrm>
            <a:off x="6408720" y="1700280"/>
            <a:ext cx="2463840" cy="185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Nd9GcSXnWzX90NqQiEPxI-aBAxxo1puCTJDnmXNIUgGtgrrgd9Udxl4"/>
          <p:cNvPicPr/>
          <p:nvPr/>
        </p:nvPicPr>
        <p:blipFill>
          <a:blip r:embed="rId4"/>
          <a:stretch/>
        </p:blipFill>
        <p:spPr>
          <a:xfrm>
            <a:off x="179280" y="4221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QrK87G2ewVzNrpQ8SCaJca-fnRh4OsovOfjnl7e_D3Xx6RA3xn"/>
          <p:cNvPicPr/>
          <p:nvPr/>
        </p:nvPicPr>
        <p:blipFill>
          <a:blip r:embed="rId5"/>
          <a:stretch/>
        </p:blipFill>
        <p:spPr>
          <a:xfrm>
            <a:off x="3240000" y="4724280"/>
            <a:ext cx="27306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ANd9GcSI1NZgT-knTTankFk06gj_8ixPV2Dze5BI2ZRn8rfZnYReeZJspA"/>
          <p:cNvPicPr/>
          <p:nvPr/>
        </p:nvPicPr>
        <p:blipFill>
          <a:blip r:embed="rId6"/>
          <a:stretch/>
        </p:blipFill>
        <p:spPr>
          <a:xfrm>
            <a:off x="6227640" y="4184640"/>
            <a:ext cx="2705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оя многонациональная Род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Socvetie_Ch"/>
          <p:cNvPicPr/>
          <p:nvPr/>
        </p:nvPicPr>
        <p:blipFill>
          <a:blip r:embed="rId1"/>
          <a:stretch/>
        </p:blipFill>
        <p:spPr>
          <a:xfrm>
            <a:off x="5327640" y="4329000"/>
            <a:ext cx="3290760" cy="2211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ANd9GcRbaQfuf52tYtlPfk_lpYs925R-FN9SQoBPPqz8tHYdfgEO8kv_"/>
          <p:cNvPicPr/>
          <p:nvPr/>
        </p:nvPicPr>
        <p:blipFill>
          <a:blip r:embed="rId2"/>
          <a:srcRect l="34064" t="0" r="15558" b="0"/>
          <a:stretch/>
        </p:blipFill>
        <p:spPr>
          <a:xfrm>
            <a:off x="3638520" y="1592280"/>
            <a:ext cx="2171880" cy="241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ANd9GcSEZumPRsBradc-7jyWqKRZ40yzfYQtvzJBdefiviUoAYKyhfulyA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4000" y="1305000"/>
            <a:ext cx="2193840" cy="291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ANd9GcQ8FNdbmlqlKQjowz1qBs90yZKuY1a_pY4JnZg39jPElrrayrLnqw"/>
          <p:cNvPicPr/>
          <p:nvPr/>
        </p:nvPicPr>
        <p:blipFill>
          <a:blip r:embed="rId4"/>
          <a:stretch/>
        </p:blipFill>
        <p:spPr>
          <a:xfrm>
            <a:off x="684360" y="4578480"/>
            <a:ext cx="2842920" cy="1960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ANd9GcQ0zE03Q8YtJPqXAxLP_HU1spMEwl1mgB_mLHp-l50jboMtRpbjeg"/>
          <p:cNvPicPr/>
          <p:nvPr/>
        </p:nvPicPr>
        <p:blipFill>
          <a:blip r:embed="rId5"/>
          <a:stretch/>
        </p:blipFill>
        <p:spPr>
          <a:xfrm>
            <a:off x="6624720" y="1376280"/>
            <a:ext cx="1854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Georgia"/>
              </a:rPr>
              <a:t>Религии моей Род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4" descr="ANd9GcQX-VjVokB0jk498vg1wUjErfPzHnvR_99MMk__LKNMXZN-3E8vYw"/>
          <p:cNvPicPr/>
          <p:nvPr/>
        </p:nvPicPr>
        <p:blipFill>
          <a:blip r:embed="rId1"/>
          <a:stretch/>
        </p:blipFill>
        <p:spPr>
          <a:xfrm>
            <a:off x="900000" y="3897360"/>
            <a:ext cx="3382920" cy="207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ANd9GcRG1Km3xkHx3x-sS0-y-i62Kiomv14NxkowZFw2uZNNihLzfk8nng"/>
          <p:cNvPicPr/>
          <p:nvPr/>
        </p:nvPicPr>
        <p:blipFill>
          <a:blip r:embed="rId2"/>
          <a:stretch/>
        </p:blipFill>
        <p:spPr>
          <a:xfrm>
            <a:off x="647640" y="1015920"/>
            <a:ext cx="3276720" cy="2179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216000" y="3141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ристианство-храм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1403280" y="630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826920" y="60580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лам  - мечеть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12_Ioninskij_-_Akimovskij_Zvon_(K.Kijanceva_V.Korolev_L.Kulakova).mp3" descr=""/>
          <p:cNvPicPr/>
          <p:nvPr/>
        </p:nvPicPr>
        <p:blipFill>
          <a:blip r:embed="rId3"/>
          <a:stretch/>
        </p:blipFill>
        <p:spPr>
          <a:xfrm>
            <a:off x="35892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Руководство иудаизмом. ВЕРХОВНЫЙ РАВВИНАТ еврейская религиозная институция, облеченная верховным авторитетом в вопросах, касающихся религиозных учреждений, судопроизводства и администрации в рамках какой-либо страны или региона. РАВВИН (от евр. «великий» и отсюда – «учитель») - духовный представитель еврейской общины, исполняющий в ней обязанности наставника, проповедника, блюстителя и толкователярелигиозного закона, а прежде присоединявший к ним и функции судейские."/>
          <p:cNvPicPr/>
          <p:nvPr/>
        </p:nvPicPr>
        <p:blipFill>
          <a:blip r:embed="rId4"/>
          <a:srcRect l="79728" t="66646" r="2362" b="3286"/>
          <a:stretch/>
        </p:blipFill>
        <p:spPr>
          <a:xfrm>
            <a:off x="6300720" y="981000"/>
            <a:ext cx="2001960" cy="2519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6"/>
          <p:cNvSpPr/>
          <p:nvPr/>
        </p:nvSpPr>
        <p:spPr>
          <a:xfrm>
            <a:off x="5327640" y="3608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Иудаизм - Синагог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8" descr="E:\Курсы\4127852.jpg"/>
          <p:cNvPicPr/>
          <p:nvPr/>
        </p:nvPicPr>
        <p:blipFill>
          <a:blip r:embed="rId5"/>
          <a:stretch/>
        </p:blipFill>
        <p:spPr>
          <a:xfrm>
            <a:off x="5904000" y="42210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8"/>
          <p:cNvSpPr/>
          <p:nvPr/>
        </p:nvSpPr>
        <p:spPr>
          <a:xfrm>
            <a:off x="5543640" y="6093000"/>
            <a:ext cx="33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уддизм – Ступа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644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Maisk</cp:lastModifiedBy>
  <dcterms:modified xsi:type="dcterms:W3CDTF">2023-04-20T17:23:58Z</dcterms:modified>
  <cp:revision>32</cp:revision>
  <dc:subject/>
  <dc:title>Слайд 1</dc:title>
</cp:coreProperties>
</file>