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086-4669-426F-8742-2654AA70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20B-318F-44D0-8D89-DEAE9C98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4C8-1C4C-43F9-8F26-8DA9A4CC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EFA-E5D0-479E-854F-6D834557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C86-3999-4BE0-82CF-2C6A2711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6C9-4499-405D-9C40-94B3027C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BB5-93F7-4D92-8761-A7EB5E7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23B-8555-4FE8-99C0-640298CE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F40-1F0B-424F-A241-F1DD564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1A9-99F1-401F-A509-1B5D3CD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098-2273-401D-9B7B-82CD77A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CE7-DFA9-4082-BF31-F27E04E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CAD4-C213-41BE-8349-C391AED54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hyperlink" Target="http://21region.org/uploads/posts/2011-05/1305429207_motivator-16941.jpg" TargetMode="External"/><Relationship Id="rId3" Type="http://schemas.openxmlformats.org/officeDocument/2006/relationships/hyperlink" Target="http://900igr.net/datai/muzyka/Detskij-albom-CHajkovskogo/0004-004-CHajkovskij.jpg" TargetMode="External"/><Relationship Id="rId4" Type="http://schemas.openxmlformats.org/officeDocument/2006/relationships/hyperlink" Target="http://sao.mos.ru/upload/medialibrary/578/studenty-v-muzee.jpg" TargetMode="External"/><Relationship Id="rId5" Type="http://schemas.openxmlformats.org/officeDocument/2006/relationships/hyperlink" Target="http://www.bestourism.com/img/items/big/6771/The-British-Museum-in-London_Exhibit-in-the-Department-of-Greek-and-Roman-Antiquities_7372.jpg" TargetMode="External"/><Relationship Id="rId6" Type="http://schemas.openxmlformats.org/officeDocument/2006/relationships/hyperlink" Target="http://www.keminfo.ru/image/upload/syraryz6.jpg" TargetMode="External"/><Relationship Id="rId7" Type="http://schemas.openxmlformats.org/officeDocument/2006/relationships/hyperlink" Target="http://f1.mylove.ru/lY2WVVjsRp.gif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Назовите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сферы общественной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Социальн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Экономиче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Политиче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alibri"/>
              </a:rPr>
              <a:t>Духовн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овите отлич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14680"/>
          <a:ext cx="9144000" cy="1066680"/>
        </p:xfrm>
        <a:graphic>
          <a:graphicData uri="http://schemas.openxmlformats.org/drawingml/2006/table">
            <a:tbl>
              <a:tblPr/>
              <a:tblGrid>
                <a:gridCol w="4456080"/>
                <a:gridCol w="46879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ультурный челов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культурный человек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" descr="http://www.keminfo.ru/image/upload/syraryz6.jpg"/>
          <p:cNvPicPr/>
          <p:nvPr/>
        </p:nvPicPr>
        <p:blipFill>
          <a:blip r:embed="rId1"/>
          <a:stretch/>
        </p:blipFill>
        <p:spPr>
          <a:xfrm>
            <a:off x="214200" y="3000240"/>
            <a:ext cx="4521240" cy="300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f1.mylove.ru/lY2WVVjsRp.gif"/>
          <p:cNvPicPr/>
          <p:nvPr/>
        </p:nvPicPr>
        <p:blipFill>
          <a:blip r:embed="rId2"/>
          <a:stretch/>
        </p:blipFill>
        <p:spPr>
          <a:xfrm>
            <a:off x="5072040" y="2928960"/>
            <a:ext cx="3751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600" spc="-1" strike="noStrike">
                <a:solidFill>
                  <a:srgbClr val="006600"/>
                </a:solidFill>
                <a:latin typeface="Calibri"/>
              </a:rPr>
              <a:t>Нрав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принятые, высокочтимые, особо оберегаемые обществом образцы поведения,  которые можно считать правилами должного и приличествующего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«Нравы говорящего убеждают больше, чем его речи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блиций Си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римский по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C:\Users\asdk\Desktop\сир.jpg"/>
          <p:cNvPicPr/>
          <p:nvPr/>
        </p:nvPicPr>
        <p:blipFill>
          <a:blip r:embed="rId1"/>
          <a:stretch/>
        </p:blipFill>
        <p:spPr>
          <a:xfrm>
            <a:off x="1285920" y="1785960"/>
            <a:ext cx="3809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800" spc="-1" strike="noStrike">
                <a:solidFill>
                  <a:srgbClr val="006600"/>
                </a:solidFill>
                <a:latin typeface="Calibri"/>
              </a:rPr>
              <a:t>Духовная сфера  является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Calibri"/>
              </a:rPr>
              <a:t>частью культур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Культура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Высшее проявлении человеческой деятельность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её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Главную роль играют морально-нравственные принци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Духовное богатств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Все важное и ценное, что человечество создало за долгую историю своего существования, результаты духовной деятельност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Calibri"/>
              </a:rPr>
              <a:t>Культурные ценност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Ценности имеющие историческое, художественное, научное или иное культурное значени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Культурное наслед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Часть материальной и духовной культуры, созданное прошлыми поколениями, выдержавшее испытание временем и передающаяся следующим поколениям как нечто ценное и почитаемо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семирное наслед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Природные и культурные ценности. Достояние его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Списки публикует ЮНЕС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Создание, усвоение и распространение духовных богатств</a:t>
            </a: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2146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Что изображено на картин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asdk\Desktop\художник.jpg"/>
          <p:cNvPicPr/>
          <p:nvPr/>
        </p:nvPicPr>
        <p:blipFill>
          <a:blip r:embed="rId1"/>
          <a:srcRect l="2700" t="2525" r="2700" b="10664"/>
          <a:stretch/>
        </p:blipFill>
        <p:spPr>
          <a:xfrm>
            <a:off x="0" y="1428840"/>
            <a:ext cx="2836800" cy="371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asdk\Desktop\чайковский.jpg"/>
          <p:cNvPicPr/>
          <p:nvPr/>
        </p:nvPicPr>
        <p:blipFill>
          <a:blip r:embed="rId2"/>
          <a:stretch/>
        </p:blipFill>
        <p:spPr>
          <a:xfrm>
            <a:off x="2786040" y="2766960"/>
            <a:ext cx="2571840" cy="4091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asdk\Desktop\музей.jpg"/>
          <p:cNvPicPr/>
          <p:nvPr/>
        </p:nvPicPr>
        <p:blipFill>
          <a:blip r:embed="rId3"/>
          <a:stretch/>
        </p:blipFill>
        <p:spPr>
          <a:xfrm>
            <a:off x="5357880" y="1357200"/>
            <a:ext cx="35002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ятели театра и кин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дор Бондарч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ер, режиссёр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asdk\Desktop\волчик.jpg"/>
          <p:cNvPicPr/>
          <p:nvPr/>
        </p:nvPicPr>
        <p:blipFill>
          <a:blip r:embed="rId1"/>
          <a:stretch/>
        </p:blipFill>
        <p:spPr>
          <a:xfrm>
            <a:off x="357120" y="1071720"/>
            <a:ext cx="4643640" cy="3479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атральный  режиссёр, актри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лина Волче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C:\Users\asdk\Desktop\бондар.jpg"/>
          <p:cNvPicPr/>
          <p:nvPr/>
        </p:nvPicPr>
        <p:blipFill>
          <a:blip r:embed="rId2"/>
          <a:stretch/>
        </p:blipFill>
        <p:spPr>
          <a:xfrm>
            <a:off x="5357880" y="1214280"/>
            <a:ext cx="29527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трудники музеев и библиоте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asdk\Desktop\библ.jpg"/>
          <p:cNvPicPr/>
          <p:nvPr/>
        </p:nvPicPr>
        <p:blipFill>
          <a:blip r:embed="rId1"/>
          <a:stretch/>
        </p:blipFill>
        <p:spPr>
          <a:xfrm>
            <a:off x="285840" y="1714680"/>
            <a:ext cx="4371840" cy="3471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sdk\Desktop\еставрат.jpg"/>
          <p:cNvPicPr/>
          <p:nvPr/>
        </p:nvPicPr>
        <p:blipFill>
          <a:blip r:embed="rId2"/>
          <a:stretch/>
        </p:blipFill>
        <p:spPr>
          <a:xfrm>
            <a:off x="4714920" y="33577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§ 9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ть терми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 8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лад об одном из памятников из списка ЮНЕС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42960"/>
            <a:ext cx="4971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Урок полезен, все поня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2    Лишь кое-что чуть-чуть не яс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Еще придется потрудитьс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bacc6"/>
                </a:solidFill>
                <a:latin typeface="Calibri"/>
              </a:rPr>
              <a:t>3.    Да трубно все таки учи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asdk\Desktop\улыбка.jpg"/>
          <p:cNvPicPr/>
          <p:nvPr/>
        </p:nvPicPr>
        <p:blipFill>
          <a:blip r:embed="rId1"/>
          <a:stretch/>
        </p:blipFill>
        <p:spPr>
          <a:xfrm>
            <a:off x="5715000" y="214200"/>
            <a:ext cx="2502000" cy="187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asdk\Desktop\вопрос.jpg"/>
          <p:cNvPicPr/>
          <p:nvPr/>
        </p:nvPicPr>
        <p:blipFill>
          <a:blip r:embed="rId2"/>
          <a:stretch/>
        </p:blipFill>
        <p:spPr>
          <a:xfrm>
            <a:off x="5715000" y="207180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asdk\Desktop\грусть.jpg"/>
          <p:cNvPicPr/>
          <p:nvPr/>
        </p:nvPicPr>
        <p:blipFill>
          <a:blip r:embed="rId3"/>
          <a:stretch/>
        </p:blipFill>
        <p:spPr>
          <a:xfrm>
            <a:off x="5715000" y="4286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C:\Users\asdk\Desktop\0_6d337_ebd0c7e5_XL1.png"/>
          <p:cNvPicPr/>
          <p:nvPr/>
        </p:nvPicPr>
        <p:blipFill>
          <a:blip r:embed="rId1"/>
          <a:stretch/>
        </p:blipFill>
        <p:spPr>
          <a:xfrm>
            <a:off x="2527200" y="1600200"/>
            <a:ext cx="40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28800" y="571320"/>
            <a:ext cx="75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тератур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равченко А.И., Певцова Е.А. Обществознание: учебник для 6 класса/ А.И. Кравченко, Е.А.Певцова.- 2-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.-М.: ООО  «Русское слово-учебник», 2013 § 9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нтернет-ресурсы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pedsovet.su/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21region.org/uploads/posts/2011-05/1305429207_motivator-169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йковский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900igr.net/datai/muzyka/Detskij-albom-CHajkovskogo/0004-004-CHajkovskij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ей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ao.mos.ru/upload/medialibrary/578/studenty-v-muze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р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bestourism.com/img/items/big/6771/The-British-Museum-in-London_Exhibit-in-the-Department-of-Greek-and-Roman-Antiquities_737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дорогу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keminfo.ru/image/upload/syraryz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к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f1.mylove.ru/lY2WVVjsR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imnedemis.com/upload/kisi-resimleri/publius-syrus_13050815053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ob.ru/upimg/issue/37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че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k.ru/upload/iblock_mk/475/59/e6/be/DETAIL_PICTURE_62882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ндарчу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chnosti.net/photos/282/130555472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е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stgu.ru/pic/dcontent/22487.sl_body.DSCF439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gidel.ru/img/2008/june/4librarian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о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source=wiz&amp;fp=1&amp;uinfo=ww-1329-wh-570-fw-1104-fh-448-pd-1&amp;p=1&amp;text=%D1%88%D0%BA%D0%BE%D0%BB%D1%8C%D0%BD%D1%8B%D0%B9%20%D0%B7%D0%B2%D0%BE%D0%BD%D0%BE%D0%BA&amp;noreask=1&amp;pos=35&amp;rpt=simage&amp;lr=20694&amp;img_url=http%3A%2F%2Fallforchildren.ru%2Fpictures%2Fschool1_s%2Fschool010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iki.syktsu.ru/images/4/49/Img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iets.ru/data/cache/2011may/17/07/221058_70055-700x50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0.proshkolu.ru/content/media/pic/std/4000000/3976000/3975831-ab2ab1356abd49c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м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Духовная сфера об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Духовная сфер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alibri"/>
              </a:rPr>
              <a:t>Сфера отношений людей по поводу различных духовных ценностей: их создания, распространения, и усвоения всеми слоями обще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Духовные цен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Моральные нор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Нравственные идеал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Тради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Обыча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Религиозные нор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Произведения искус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Научные знания и те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Духовная сфер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является частью культу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Культур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Высшие проявления человеческая деятельность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её результа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Главную роль играют морально-нравственные принцип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Два измерения культу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Материаль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ё созданное человеческими ру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Духов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ления человеческой деятельности  в области культуры, науки, музейного и библиотечного де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онравственные духовные ценности и поступк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928520"/>
            <a:ext cx="82580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а  поведения     мифы   законы  лопа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овая машина      знания     шк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рковь    скульптура   верования  кар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эль   альтруизм  театральный спектакль     украшения     свадьба    обмен подар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триотизм   книга  одежда  чест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царский замок   совестливость 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2960" y="1214280"/>
          <a:ext cx="8001000" cy="10004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00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риальн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уховн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86800" y="1600200"/>
            <a:ext cx="17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поставь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4240" y="1285560"/>
            <a:ext cx="25718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Искус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ау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66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4.    Религ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285560"/>
            <a:ext cx="4041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омогает бороться со злом ради утверждения на Земле любви и доб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Благодаря …. Знания передаются последующим поколени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Отражает мир в художественных обр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Открывает новые знания создает передовые техн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7:52:10Z</dcterms:created>
  <dc:creator>Admin</dc:creator>
  <dc:description/>
  <dc:language>en-US</dc:language>
  <cp:lastModifiedBy>Uchitel</cp:lastModifiedBy>
  <dcterms:modified xsi:type="dcterms:W3CDTF">2019-04-09T12:28:10Z</dcterms:modified>
  <cp:revision>36</cp:revision>
  <dc:subject/>
  <dc:title>Экология.</dc:title>
</cp:coreProperties>
</file>