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AE0C-9C21-4EB8-BED2-5311E02C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2CB1-4D61-4407-B5EC-7DA187A7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2FE9-6F50-465D-8A45-E959B678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2BC0-D4A2-4932-ADA1-A1BDC68C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0B1F-2B68-4BE9-8B52-532D021B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DED3-AF86-4E45-8885-9D58B418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9F99-F19D-4513-A7A7-FB8A4744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1A5B-DF79-4A2B-AF77-DC609301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F3E0-540E-41A9-9B9D-331B7A2A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7792-E55A-498C-9B56-B0F74B8D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6E64-D3C3-4B43-8796-D86B4FE1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F85D-CC2F-48E5-8C68-9FD90257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24F1-E2C0-499F-B556-0EE513EFAA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pedsovet.su/" TargetMode="External"/><Relationship Id="rId2" Type="http://schemas.openxmlformats.org/officeDocument/2006/relationships/hyperlink" Target="http://21region.org/uploads/posts/2011-05/1305429207_motivator-16941.jpg" TargetMode="External"/><Relationship Id="rId3" Type="http://schemas.openxmlformats.org/officeDocument/2006/relationships/hyperlink" Target="http://900igr.net/datai/muzyka/Detskij-albom-CHajkovskogo/0004-004-CHajkovskij.jpg" TargetMode="External"/><Relationship Id="rId4" Type="http://schemas.openxmlformats.org/officeDocument/2006/relationships/hyperlink" Target="http://sao.mos.ru/upload/medialibrary/578/studenty-v-muzee.jpg" TargetMode="External"/><Relationship Id="rId5" Type="http://schemas.openxmlformats.org/officeDocument/2006/relationships/hyperlink" Target="http://www.bestourism.com/img/items/big/6771/The-British-Museum-in-London_Exhibit-in-the-Department-of-Greek-and-Roman-Antiquities_7372.jpg" TargetMode="External"/><Relationship Id="rId6" Type="http://schemas.openxmlformats.org/officeDocument/2006/relationships/hyperlink" Target="http://www.keminfo.ru/image/upload/syraryz6.jpg" TargetMode="External"/><Relationship Id="rId7" Type="http://schemas.openxmlformats.org/officeDocument/2006/relationships/hyperlink" Target="http://f1.mylove.ru/lY2WVVjsRp.gif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alibri"/>
              </a:rPr>
              <a:t>Назовите </a:t>
            </a:r>
            <a:br>
              <a:rPr sz="4400"/>
            </a:br>
            <a:r>
              <a:rPr b="0" lang="ru-RU" sz="4400" spc="-1" strike="noStrike">
                <a:solidFill>
                  <a:srgbClr val="006600"/>
                </a:solidFill>
                <a:latin typeface="Calibri"/>
              </a:rPr>
              <a:t>сферы общественной жиз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Calibri"/>
              </a:rPr>
              <a:t>Социальная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Calibri"/>
              </a:rPr>
              <a:t>Экономическа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Calibri"/>
              </a:rPr>
              <a:t>Политическа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Calibri"/>
              </a:rPr>
              <a:t>Духовная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зовите отлич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1714680"/>
          <a:ext cx="9144000" cy="1066680"/>
        </p:xfrm>
        <a:graphic>
          <a:graphicData uri="http://schemas.openxmlformats.org/drawingml/2006/table">
            <a:tbl>
              <a:tblPr/>
              <a:tblGrid>
                <a:gridCol w="4456080"/>
                <a:gridCol w="468792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ультурный челове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культурный человек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67" name="Picture 2" descr="http://www.keminfo.ru/image/upload/syraryz6.jpg"/>
          <p:cNvPicPr/>
          <p:nvPr/>
        </p:nvPicPr>
        <p:blipFill>
          <a:blip r:embed="rId1"/>
          <a:stretch/>
        </p:blipFill>
        <p:spPr>
          <a:xfrm>
            <a:off x="214200" y="3000240"/>
            <a:ext cx="4521240" cy="3009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f1.mylove.ru/lY2WVVjsRp.gif"/>
          <p:cNvPicPr/>
          <p:nvPr/>
        </p:nvPicPr>
        <p:blipFill>
          <a:blip r:embed="rId2"/>
          <a:stretch/>
        </p:blipFill>
        <p:spPr>
          <a:xfrm>
            <a:off x="5072040" y="2928960"/>
            <a:ext cx="37512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6600" spc="-1" strike="noStrike">
                <a:solidFill>
                  <a:srgbClr val="006600"/>
                </a:solidFill>
                <a:latin typeface="Calibri"/>
              </a:rPr>
              <a:t>Нрав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принятые, высокочтимые, особо оберегаемые обществом образцы поведения,  которые можно считать правилами должного и приличествующего повед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alibri"/>
              </a:rPr>
              <a:t>«Нравы говорящего убеждают больше, чем его речи»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ублиций Си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ревнеримский поэ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C:\Users\asdk\Desktop\сир.jpg"/>
          <p:cNvPicPr/>
          <p:nvPr/>
        </p:nvPicPr>
        <p:blipFill>
          <a:blip r:embed="rId1"/>
          <a:stretch/>
        </p:blipFill>
        <p:spPr>
          <a:xfrm>
            <a:off x="1285920" y="1785960"/>
            <a:ext cx="380988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800" spc="-1" strike="noStrike">
                <a:solidFill>
                  <a:srgbClr val="006600"/>
                </a:solidFill>
                <a:latin typeface="Calibri"/>
              </a:rPr>
              <a:t>Духовная сфера  является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6600"/>
                </a:solidFill>
                <a:latin typeface="Calibri"/>
              </a:rPr>
              <a:t>частью культуры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Calibri"/>
              </a:rPr>
              <a:t>Культура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Высшее проявлении человеческой деятельность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её результа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Главную роль играют морально-нравственные принцип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Calibri"/>
              </a:rPr>
              <a:t>Духовное богатство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46c0a"/>
                </a:solidFill>
                <a:latin typeface="Calibri"/>
              </a:rPr>
              <a:t>Все важное и ценное, что человечество создало за долгую историю своего существования, результаты духовной деятельности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00"/>
                </a:solidFill>
                <a:latin typeface="Calibri"/>
              </a:rPr>
              <a:t>Культурные ценности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46c0a"/>
                </a:solidFill>
                <a:latin typeface="Calibri"/>
              </a:rPr>
              <a:t>Ценности имеющие историческое, художественное, научное или иное культурное значение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Calibri"/>
              </a:rPr>
              <a:t>Культурное наследие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Calibri"/>
              </a:rPr>
              <a:t>Часть материальной и духовной культуры, созданное прошлыми поколениями, выдержавшее испытание временем и передающаяся следующим поколениям как нечто ценное и почитаемо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семирное наслед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Calibri"/>
              </a:rPr>
              <a:t>Природные и культурные ценности. Достояние его человеч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Calibri"/>
              </a:rPr>
              <a:t>Списки публикует ЮНЕС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9144000" cy="40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alibri"/>
              </a:rPr>
              <a:t>Создание, усвоение и распространение духовных богатств</a:t>
            </a:r>
            <a:r>
              <a:rPr b="0" lang="ru-RU" sz="4400" spc="-1" strike="noStrike">
                <a:solidFill>
                  <a:srgbClr val="006600"/>
                </a:solidFill>
                <a:latin typeface="Calibri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521460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alibri"/>
              </a:rPr>
              <a:t>Что изображено на картинк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asdk\Desktop\художник.jpg"/>
          <p:cNvPicPr/>
          <p:nvPr/>
        </p:nvPicPr>
        <p:blipFill>
          <a:blip r:embed="rId1"/>
          <a:srcRect l="2700" t="2525" r="2700" b="10664"/>
          <a:stretch/>
        </p:blipFill>
        <p:spPr>
          <a:xfrm>
            <a:off x="0" y="1428840"/>
            <a:ext cx="2836800" cy="3714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Users\asdk\Desktop\чайковский.jpg"/>
          <p:cNvPicPr/>
          <p:nvPr/>
        </p:nvPicPr>
        <p:blipFill>
          <a:blip r:embed="rId2"/>
          <a:stretch/>
        </p:blipFill>
        <p:spPr>
          <a:xfrm>
            <a:off x="2786040" y="2766960"/>
            <a:ext cx="2571840" cy="4091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Users\asdk\Desktop\музей.jpg"/>
          <p:cNvPicPr/>
          <p:nvPr/>
        </p:nvPicPr>
        <p:blipFill>
          <a:blip r:embed="rId3"/>
          <a:stretch/>
        </p:blipFill>
        <p:spPr>
          <a:xfrm>
            <a:off x="5357880" y="1357200"/>
            <a:ext cx="350028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ятели театра и кино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48320" y="1600200"/>
            <a:ext cx="40384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едор Бондарчу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ер, режиссёр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C:\Users\asdk\Desktop\волчик.jpg"/>
          <p:cNvPicPr/>
          <p:nvPr/>
        </p:nvPicPr>
        <p:blipFill>
          <a:blip r:embed="rId1"/>
          <a:stretch/>
        </p:blipFill>
        <p:spPr>
          <a:xfrm>
            <a:off x="357120" y="1071720"/>
            <a:ext cx="4643640" cy="3479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атральный  режиссёр, актрис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лина Волче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C:\Users\asdk\Desktop\бондар.jpg"/>
          <p:cNvPicPr/>
          <p:nvPr/>
        </p:nvPicPr>
        <p:blipFill>
          <a:blip r:embed="rId2"/>
          <a:stretch/>
        </p:blipFill>
        <p:spPr>
          <a:xfrm>
            <a:off x="5357880" y="1214280"/>
            <a:ext cx="295272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трудники музеев и библиотек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C:\Users\asdk\Desktop\библ.jpg"/>
          <p:cNvPicPr/>
          <p:nvPr/>
        </p:nvPicPr>
        <p:blipFill>
          <a:blip r:embed="rId1"/>
          <a:stretch/>
        </p:blipFill>
        <p:spPr>
          <a:xfrm>
            <a:off x="285840" y="1714680"/>
            <a:ext cx="4371840" cy="3471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asdk\Desktop\еставрат.jpg"/>
          <p:cNvPicPr/>
          <p:nvPr/>
        </p:nvPicPr>
        <p:blipFill>
          <a:blip r:embed="rId2"/>
          <a:stretch/>
        </p:blipFill>
        <p:spPr>
          <a:xfrm>
            <a:off x="4714920" y="33577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§ 9-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ть термин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. 81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клад об одном из памятников из списка ЮНЕС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642960"/>
            <a:ext cx="49719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Урок полезен, все понят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2    Лишь кое-что чуть-чуть не яс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Еще придется потрудиться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acc6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4bacc6"/>
                </a:solidFill>
                <a:latin typeface="Calibri"/>
              </a:rPr>
              <a:t>3.    Да трубно все таки учить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Users\asdk\Desktop\улыбка.jpg"/>
          <p:cNvPicPr/>
          <p:nvPr/>
        </p:nvPicPr>
        <p:blipFill>
          <a:blip r:embed="rId1"/>
          <a:stretch/>
        </p:blipFill>
        <p:spPr>
          <a:xfrm>
            <a:off x="5715000" y="214200"/>
            <a:ext cx="2502000" cy="1876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asdk\Desktop\вопрос.jpg"/>
          <p:cNvPicPr/>
          <p:nvPr/>
        </p:nvPicPr>
        <p:blipFill>
          <a:blip r:embed="rId2"/>
          <a:stretch/>
        </p:blipFill>
        <p:spPr>
          <a:xfrm>
            <a:off x="5715000" y="2071800"/>
            <a:ext cx="2357280" cy="2357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Users\asdk\Desktop\грусть.jpg"/>
          <p:cNvPicPr/>
          <p:nvPr/>
        </p:nvPicPr>
        <p:blipFill>
          <a:blip r:embed="rId3"/>
          <a:stretch/>
        </p:blipFill>
        <p:spPr>
          <a:xfrm>
            <a:off x="5715000" y="4286160"/>
            <a:ext cx="23572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Содержимое 3" descr="C:\Users\asdk\Desktop\0_6d337_ebd0c7e5_XL1.png"/>
          <p:cNvPicPr/>
          <p:nvPr/>
        </p:nvPicPr>
        <p:blipFill>
          <a:blip r:embed="rId1"/>
          <a:stretch/>
        </p:blipFill>
        <p:spPr>
          <a:xfrm>
            <a:off x="2527200" y="1600200"/>
            <a:ext cx="408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28800" y="571320"/>
            <a:ext cx="75009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итератур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Кравченко А.И., Певцова Е.А. Обществознание: учебник для 6 класса/ А.И. Кравченко, Е.А.Певцова.- 2-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.-М.: ООО  «Русское слово-учебник», 2013 § 9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нтернет-ресурсы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pedsovet.su/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ник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21region.org/uploads/posts/2011-05/1305429207_motivator-1694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йковский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900igr.net/datai/muzyka/Detskij-albom-CHajkovskogo/0004-004-CHajkovskij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ей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sao.mos.ru/upload/medialibrary/578/studenty-v-muzee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фора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bestourism.com/img/items/big/6771/The-British-Museum-in-London_Exhibit-in-the-Department-of-Greek-and-Roman-Antiquities_737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дорогу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keminfo.ru/image/upload/syraryz6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ака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f1.mylove.ru/lY2WVVjsRp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kimnedemis.com/upload/kisi-resimleri/publius-syrus_13050815053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атр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ob.ru/upimg/issue/37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чек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k.ru/upload/iblock_mk/475/59/e6/be/DETAIL_PICTURE_628823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ндарчук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ichnosti.net/photos/282/13055547286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е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pstgu.ru/pic/dcontent/22487.sl_body.DSCF4393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блиотек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gidel.ru/img/2008/june/4librarians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онок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source=wiz&amp;fp=1&amp;uinfo=ww-1329-wh-570-fw-1104-fh-448-pd-1&amp;p=1&amp;text=%D1%88%D0%BA%D0%BE%D0%BB%D1%8C%D0%BD%D1%8B%D0%B9%20%D0%B7%D0%B2%D0%BE%D0%BD%D0%BE%D0%BA&amp;noreask=1&amp;pos=35&amp;rpt=simage&amp;lr=20694&amp;img_url=http%3A%2F%2Fallforchildren.ru%2Fpictures%2Fschool1_s%2Fschool0105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iki.syktsu.ru/images/4/49/Img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iets.ru/data/cache/2011may/17/07/221058_70055-700x500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g10.proshkolu.ru/content/media/pic/std/4000000/3976000/3975831-ab2ab1356abd49c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ема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alibri"/>
              </a:rPr>
              <a:t>Духовная сфера общ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alibri"/>
              </a:rPr>
              <a:t>Духовная сфера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Calibri"/>
              </a:rPr>
              <a:t>Сфера отношений людей по поводу различных духовных ценностей: их создания, распространения, и усвоения всеми слоями общест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alibri"/>
              </a:rPr>
              <a:t>Духовные ценност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alibri"/>
              </a:rPr>
              <a:t>Моральные норм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alibri"/>
              </a:rPr>
              <a:t>Нравственные идеалы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alibri"/>
              </a:rPr>
              <a:t>Традици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alibri"/>
              </a:rPr>
              <a:t>Обыча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alibri"/>
              </a:rPr>
              <a:t>Религиозные норм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alibri"/>
              </a:rPr>
              <a:t>Произведения искусст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alibri"/>
              </a:rPr>
              <a:t>Научные знания и теор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6600"/>
                </a:solidFill>
                <a:latin typeface="Calibri"/>
              </a:rPr>
              <a:t>Духовная сфера </a:t>
            </a:r>
            <a:br>
              <a:rPr sz="4400"/>
            </a:br>
            <a:r>
              <a:rPr b="0" lang="ru-RU" sz="4400" spc="-1" strike="noStrike">
                <a:solidFill>
                  <a:srgbClr val="006600"/>
                </a:solidFill>
                <a:latin typeface="Calibri"/>
              </a:rPr>
              <a:t>является частью культур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46c0a"/>
                </a:solidFill>
                <a:latin typeface="Calibri"/>
              </a:rPr>
              <a:t>Культур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46c0a"/>
                </a:solidFill>
                <a:latin typeface="Calibri"/>
              </a:rPr>
              <a:t>Высшие проявления человеческая деятельность 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46c0a"/>
                </a:solidFill>
                <a:latin typeface="Calibri"/>
              </a:rPr>
              <a:t>её результа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46c0a"/>
                </a:solidFill>
                <a:latin typeface="Calibri"/>
              </a:rPr>
              <a:t>Главную роль играют морально-нравственные принципы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alibri"/>
              </a:rPr>
              <a:t>Два измерения культур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13840" y="1600200"/>
            <a:ext cx="42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Материальн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ё созданное человеческими рук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Духовн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явления человеческой деятельности  в области культуры, науки, музейного и библиотечного дел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оконравственные духовные ценности и поступки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alibri"/>
              </a:rPr>
              <a:t>Заполните таблиц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928520"/>
            <a:ext cx="825804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вила  поведения     мифы   законы  лопа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овая машина      знания     школ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рковь    скульптура   верования  карт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уэль   альтруизм  театральный спектакль     украшения     свадьба    обмен подарка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триотизм   книга  одежда  честн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ыцарский замок   совестливость  язы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2960" y="1214280"/>
          <a:ext cx="8001000" cy="100044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500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териальная культур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уховная культур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00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686800" y="1600200"/>
            <a:ext cx="171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поставьт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14240" y="1285560"/>
            <a:ext cx="25718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66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Искусст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66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66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Нау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66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66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4.    Религ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4720" y="1285560"/>
            <a:ext cx="40417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Помогает бороться со злом ради утверждения на Земле любви и добр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Благодаря …. Знания передаются последующим поколения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Отражает мир в художественных образ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Открывает новые знания создает передовые технолог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17:52:10Z</dcterms:created>
  <dc:creator>Admin</dc:creator>
  <dc:description/>
  <dc:language>en-US</dc:language>
  <cp:lastModifiedBy>Uchitel</cp:lastModifiedBy>
  <dcterms:modified xsi:type="dcterms:W3CDTF">2019-04-09T12:28:10Z</dcterms:modified>
  <cp:revision>36</cp:revision>
  <dc:subject/>
  <dc:title>Экология.</dc:title>
</cp:coreProperties>
</file>