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CD8-CB8C-4A38-9E2B-EF5A10F6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157-4CDF-4A96-A133-2177BF7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5D7-4574-415E-955B-725885B2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40F-D689-408D-BC69-0290AA10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AB5-DF11-41AE-A47E-4296F553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982E-3878-4528-B9FB-E37C6745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0CAD-77EB-449B-98AF-E11E2F1A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0A7-DCB3-42AB-A214-13CDFA6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0384-5B6E-4A8B-BFA9-2BC3AF6C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1C9-A552-44FF-81E0-26AF3D08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D016-B3EE-4B5F-B7CC-D34B3B1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217-CD5A-45E6-91C1-7AF427D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2E86-DC88-4149-98C0-29A30CA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E9E-4810-41E8-AB32-A024076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34F-45FD-4A6B-A8E8-F116C9D1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2F67-C611-49D9-98E0-AEA1B6F8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2F75-56C4-4C62-A7D2-BB278521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E173-A1EE-4A9A-85D6-235A940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534E-030D-4B9B-9155-689BD85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B97E-ED46-43E3-8393-C40E7EE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D078-2F32-4C70-A36C-AC08FAE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2F88-268E-4BDB-9F9F-7E0A8A2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749-BEB6-4746-9994-B851BECE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4245-99DC-4867-BF78-2C8B80C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662B-4EAC-4674-9F22-2CB0F7A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B00A-63A6-46C1-8105-D8A6380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C1CD-9EEB-4872-95EE-0F9A25D0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29FD-3B6C-44DA-8DD3-A293B3A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6AA2-E9B6-4D49-95B2-23A3FFF9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F0A8-8288-4C9D-A30C-1480EC42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91B7-3159-4032-AE41-F95A750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88DC-C632-4BDD-95F2-96C0C3E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339B-FE16-481D-8A6A-2464AD8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4D9-50A9-495C-AC6D-524965DC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E845-049A-46EC-AE5E-B8B5F482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8B1B-1D6A-4F9E-A11B-DF32F86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3083-78B0-427A-B10B-5EAFD58C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199D-D03D-4CBD-AD57-3334AED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B2CA-816D-468A-BE26-52425DC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AA89-87E0-4F45-A322-5BE7417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6AFE-64C0-4A6A-B790-84E973C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A5D8-A7CB-4BE7-A468-7F16C9C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2A59-A118-4967-BBF3-7571B869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345F-F724-46E8-A359-544F6A70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57D-532A-4242-B5B5-F1FB4ACD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B9B8-5E17-483F-B705-DAA07BC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8120-2061-4119-882A-AF4E426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2AFCA-0338-4BA9-9B30-A1CD167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02B5-17E2-4D51-8885-CE1F15B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4828-CDF7-4CF3-8AD3-E04580C1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A87C-41AD-4400-B5F8-080F4B9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385D-606D-4902-816F-B3BD4EA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7042-EB49-4A02-A2AB-3960E17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A7971-D128-4579-BFBB-13EB97E6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737BE-A1ED-4ADC-98F2-1F67322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1F7-947A-4404-87CC-173873A1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2762-29D2-4F3C-8F07-B34FCE0E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941-83D5-44D7-B43B-18652DF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F94-C55F-4B34-B67B-C6AAD3E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C71-743B-4E2B-97DA-FC261C8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A6A9D9-3D0D-4423-8582-38E0C2B1299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C5110-C42C-43D9-AA2A-736E702F2F3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F2A5EC-2668-4106-9F89-DCAE4D0BC6F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8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9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4A275E-4C52-474F-B383-29168E6366D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9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0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1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3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4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6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7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6F9B5-6287-40C1-B632-C4052536E01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457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ормирование ключевых компетенций на уроках истории и обществознания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00320" cy="17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чебно- познаватель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49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311040" indent="-2178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еполагания, планирования, анализа, рефлексии, самооценки учебно-познавательной деятельности.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ых компетенций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Информацион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-2455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, формируются умения самостоятельно искать, анализировать и отбирать необходимую информацию, организовывать, преобразовывать, сохранять и передавать ее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Коммуникатив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-25128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 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Социально- трудов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52440" indent="-246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Принципы компетентностного подхода: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ирование собственной деятельности учащимися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ент на самостоятельную и продуктивную деятельность на урок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контроль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 ученика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я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Этапы компетентностного уро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иров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Таблица 1"/>
          <p:cNvGraphicFramePr/>
          <p:nvPr/>
        </p:nvGraphicFramePr>
        <p:xfrm>
          <a:off x="785880" y="857160"/>
          <a:ext cx="7572240" cy="5214600"/>
        </p:xfrm>
        <a:graphic>
          <a:graphicData uri="http://schemas.openxmlformats.org/drawingml/2006/table">
            <a:tbl>
              <a:tblPr/>
              <a:tblGrid>
                <a:gridCol w="3785760"/>
                <a:gridCol w="3786480"/>
              </a:tblGrid>
              <a:tr h="347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я – самоопределение, мотивация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я – определение места знания в системе, распределение ролей в группе, выработка алгоритм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ны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самостоятельную, продуктивную деятельность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– оценка приобретенного опыта, формирование мотивации для дальнейше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424456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424456"/>
                </a:solidFill>
                <a:latin typeface="Times New Roman"/>
              </a:rPr>
              <a:t>Для формирования ключевых компетенций наиболее подходят интерактивные методы и формы обучения: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озговой штурм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евая и деловая игр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од «Синквейна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«Инсент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1000080" y="1000080"/>
            <a:ext cx="72147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чебная сит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такая особая единица учебного процесса, в которой дети с помощью учителя обнаруживают предмет своего действия, исследуя его, совершая разнообразные учебные действия. Изучаемый учебный материал выступает как материал для создания учебной ситуации, в которой ребенок совершает некоторые (специфичные для данного учебного предмета) действия, осваивает характерные для данной области способы действия, т.е. приобретает некоторы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Таблица 1"/>
          <p:cNvGraphicFramePr/>
          <p:nvPr/>
        </p:nvGraphicFramePr>
        <p:xfrm>
          <a:off x="571320" y="500040"/>
          <a:ext cx="7786440" cy="6248520"/>
        </p:xfrm>
        <a:graphic>
          <a:graphicData uri="http://schemas.openxmlformats.org/drawingml/2006/table">
            <a:tbl>
              <a:tblPr/>
              <a:tblGrid>
                <a:gridCol w="1811520"/>
                <a:gridCol w="2412360"/>
                <a:gridCol w="3562560"/>
              </a:tblGrid>
              <a:tr h="24912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временных собы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я известных лю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ая ситу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зговой штур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хронолог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ристическ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656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опросов общественного м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татистических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, дискуссия, деб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учебных филь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кар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текстом учеб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овар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, деловая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я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равнительной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и предл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ый микро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квей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и предл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«Если ученик в школе сам ничего не научился творить, то в жизни он всегда будет только подражать и копировать»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                                 Л.Н.Толстой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«Стратегия модернизации образования»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главного результата рассматривается готовность и способность молодых людей, заканчивающих школу, нести личную ответственность  как за собственное  благополучие, так и благополучие обществ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Т.о. основным результатом деятельности образовательного учреждения должна стать не  система знаний, умений и навыков сама по себе, а набор ключевых компетентностей в интеллектуальной, гражданско-правовой, коммуникативной, информационных сферах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Термин «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» - происходит от латинского «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</a:rPr>
              <a:t>Competentia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» – что означает ведение, способность, принадлежность по праву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4038120" cy="41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круга вопросов, в которых субъект обладает познаниями ( используется в объективном (или фактическом) смысле при обозначении ведения, компетентности субъекта)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8320" y="2643120"/>
            <a:ext cx="4038120" cy="41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круга полномочий, которыми наделен субъект (употребляется в формальном (или юридическом) смысле при характеристике прав и обязанностей субъекта)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240" cy="40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Образовательная компетен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совокупность смысловых ориентаций, знаний умений, навыков и опыта деятельности ученика по отношению к определенному кругу объектов реальной действительности, необходимых для осуществления личностно и социально- значимой продуктивной деятельност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ерархия компетенций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2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евые компетенции - относятся к общему (метапредметному) содержанию образования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предметные компетенции- относятся к определенному кругу учебных предметов и образовательных областей (надпредметные)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ные компетенции – частные по отношению к двум предыдущим уровням компетенции, имеющие конкретное описание и возможность формирования в рамках учебных предмето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Ценностно- смыслов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-25704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Общекультур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51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-досуговой сфере, например, владение эффективными способами организации свободного времени. Сюда же относится опыт освоения учеником научной картины мира, расширяющейся до культурологического и всечеловеческого понимания мира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07</TotalTime>
  <Application>LibreOffice/7.4.7.2$Linux_X86_64 LibreOffice_project/40$Build-2</Application>
  <AppVersion>15.0000</AppVersion>
  <Words>906</Words>
  <Paragraphs>106</Paragraphs>
  <Company>DG Win&amp;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5:55:44Z</dcterms:created>
  <dc:creator>Admin</dc:creator>
  <dc:description/>
  <dc:language>en-US</dc:language>
  <cp:lastModifiedBy>Admin</cp:lastModifiedBy>
  <dcterms:modified xsi:type="dcterms:W3CDTF">2011-11-13T10:38:58Z</dcterms:modified>
  <cp:revision>12</cp:revision>
  <dc:subject/>
  <dc:title>Формирование ключевых компетенций на уроках истории и обществозн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