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55E-B4E1-40E4-A3A2-1B9EA928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940-3DB7-43FE-BBBE-C6AF39B0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EE1-2BF0-4CF1-AF1C-3C2952B7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710-B563-4999-B574-A485DC93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5079-D0EF-4D9B-B852-31FFADC9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40F3-80A4-4ACA-89F8-E39D877B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31B5-C82B-4B28-93CA-983456C9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5789-E860-419A-A85C-1DE68257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7359-0427-4136-8F69-97D3ECFE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FD11-CB9B-4F34-BFD0-F041479A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B217-0AB9-4C8C-86AA-3895B2FA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65E-5894-488C-9AB7-A662AF8D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7D08-DED9-457D-A43B-C9280D9A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BA25-DFD0-4F31-BC36-5AABC4AE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CDA3-CDD4-4781-9A81-99DEC05A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F976-CF76-4E6B-8060-EAA55A50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15E3-3AD4-46DF-B848-6E98FCE9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9700A-BF3E-4271-A425-E4B67F6F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11572-6055-4D70-ABB6-B4C7FD09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4D81-A855-4679-BC26-C6587E97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5CD3-56E8-4788-969F-80B05733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0DB5-8020-49E6-91D4-499A6588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7C1-C998-4CC9-83F2-36F61F4D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32B8-CF97-43B3-B803-8AD1790D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75C2-ACC1-43A3-9685-A95F14C2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B04D0-0D67-4F47-8D42-AA9BAEE4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732A-C0E3-45D9-BF4C-FC0E1A5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EC82-CDC3-4B20-A476-DD3F22BF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40C8-D811-4F39-9FEE-D0E02ED5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C741-A855-4AD9-8937-4F18B98A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10B47-EE80-48D3-99DC-85185ECB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433A7-DA9E-48CB-A616-08B34A0F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69414-05C4-43D4-B118-F82B629D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7E0-F271-440A-BB22-FBD469E8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9BA17-1A0A-4694-BC21-EF34D206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E0D8-0BCF-41F2-B40D-4824F89E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0FC04-7488-4AC7-A1B2-2B3B5EBB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318F8-4F3E-4E3A-99BD-BC413146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7E97-F2A7-4A8D-8609-16FA05F7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667C4-A4DB-450F-BA7A-5EE27A2F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7997C-83BA-457F-88BA-B0086219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6582-3E0E-4263-B47D-186FDE07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D3EC4-61A2-4F8D-B918-F60822BA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D2871-E650-439D-964F-8E76F065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32F-D919-4F4D-9068-44B504C3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6D7F5-B58F-4DE9-9C3F-0D5F2812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13290-E8A1-4753-937E-122CE8C5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C0E0E-4726-4C7A-A4CD-063A6FCB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57480-2DFB-4271-8738-860676D2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0A15E-E373-41B8-B64E-213BDB82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93DF9-1532-4195-B928-6470476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D4A92-8394-4861-868A-E6AE2ECB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65A5-26E7-458F-9453-ADAAFA3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08017-1E0F-4625-B7FC-FC17EC42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F10C-BF74-48FF-B995-6CFD9115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958-D94D-468E-8C4F-774266E4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6FBCF-2E35-45CF-94DC-0E4DB428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8F8-569C-4C72-A15D-E1B6A9CC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502-9B8F-453E-AD06-E8E19F6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268-84D1-43EE-A85E-150E60A7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EF8947-5497-422E-8D10-D12289D68D1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CDD0D4-0DEA-419C-9E6A-EEFD9EE5FA8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4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D4AE3B-ED76-47FC-81D2-6DE131CA810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78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79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body"/>
          </p:nvPr>
        </p:nvSpPr>
        <p:spPr>
          <a:xfrm>
            <a:off x="464832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5AA9D9-8E25-4F32-B4FA-D0D270E8DCD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9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0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1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3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4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6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7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dt" idx="13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D4F969-C444-4211-AB88-FC5DDD99628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4578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ормирование ключевых компетенций на уроках истории и обществознания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3857760"/>
            <a:ext cx="4900320" cy="17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Учебно- познавательн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240" cy="49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6000"/>
          </a:bodyPr>
          <a:p>
            <a:pPr marL="311040" indent="-2178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 Сюда входят знания и умения организаци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еполагания, планирования, анализа, рефлексии, самооценки учебно-познавательной деятельности.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отношению к изучаемым объектам ученик овладевает креативными навыками продуктивной деятельности: добыванием знаний непосредственно из реальности, владением приемами действий в нестандартных ситуациях, эвристическими методами решения проблем. В рамках данных компетенций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Информационн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-24552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мощи реальных объектов (телевизор, магнитофон, телефон, факс, компьютер, принтер, модем, копир) и информационных технологий (аудио- видеозапись, электронная почта, СМИ, Интернет), формируются умения самостоятельно искать, анализировать и отбирать необходимую информацию, организовывать, преобразовывать, сохранять и передавать ее. Данные компетенции обеспечивают навыки деятельности ученика по отношению к информации, содержащейся в учебных предметах и образовательных областях, а также в окружающем мире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Коммуникативн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24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59640" indent="-25128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 знание необходимых языков, способов взаимодействия с окружающими и удаленными людьми и событиями, навыки работы в группе, владение различными социальными ролями в коллективе. Ученик должен уметь представить себя, написать письмо, анкету, заявление, задать вопрос, вести дискуссию и др. Для освоения данных компетенций в учебном процессе фиксируется необходимое и достаточное количество реальных объектов коммуникации и способов работы с ними для ученика каждой ступени обучения в рамках каждого изучаемого предмета или образовательной област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Социально- трудов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24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352440" indent="-246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начают владение знаниями и опытом в сфере гражданско-общественной деятельности (выполнение роли гражданина, наблюдателя, избирателя, представителя), в социально-трудовой сфере (права потребителя, покупателя, клиента, производителя), в сфере семейных отношений и обязанностей, в вопросах экономики и права, в области профессионального самоопределения. Сюда входят, например, умения анализировать ситуацию на рынке труда, действовать в соответствии с личной и общественной выгодой, владеть этикой трудовых и гражданских взаимоотношений. Ученик овладевает минимально необходимыми для жизни в современном обществе навыками социальной активности и функциональной грамотности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Принципы компетентностного подхода: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24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еполагание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ирование собственной деятельности учащимися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цент на самостоятельную и продуктивную деятельность на уроке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контроль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оценка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флексия ученика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я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Этапы компетентностного уро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еполагание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ирование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ятельность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Таблица 1"/>
          <p:cNvGraphicFramePr/>
          <p:nvPr/>
        </p:nvGraphicFramePr>
        <p:xfrm>
          <a:off x="785880" y="857160"/>
          <a:ext cx="7572240" cy="5214600"/>
        </p:xfrm>
        <a:graphic>
          <a:graphicData uri="http://schemas.openxmlformats.org/drawingml/2006/table">
            <a:tbl>
              <a:tblPr/>
              <a:tblGrid>
                <a:gridCol w="3785760"/>
                <a:gridCol w="3786480"/>
              </a:tblGrid>
              <a:tr h="347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ые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полагания – самоопределение, мотивация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-смысл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я – определение места знания в системе, распределение ролей в группе, выработка алгоритма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ный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 на самостоятельную, продуктивную деятельность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ый – оценка приобретенного опыта, формирование мотивации для дальнейшей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-смысл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/>
                        <a:buChar char=""/>
                        <a:tabLst>
                          <a:tab algn="l" pos="228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424456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424456"/>
                </a:solidFill>
                <a:latin typeface="Times New Roman"/>
              </a:rPr>
              <a:t>Для формирования ключевых компетенций наиболее подходят интерактивные методы и формы обучения: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озговой штурм»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уссия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евая и деловая игр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тод «Синквейна»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«Инсент»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1000080" y="1000080"/>
            <a:ext cx="721476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чебная ситу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такая особая единица учебного процесса, в которой дети с помощью учителя обнаруживают предмет своего действия, исследуя его, совершая разнообразные учебные действия. Изучаемый учебный материал выступает как материал для создания учебной ситуации, в которой ребенок совершает некоторые (специфичные для данного учебного предмета) действия, осваивает характерные для данной области способы действия, т.е. приобретает некоторы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Таблица 1"/>
          <p:cNvGraphicFramePr/>
          <p:nvPr/>
        </p:nvGraphicFramePr>
        <p:xfrm>
          <a:off x="571320" y="500040"/>
          <a:ext cx="7786440" cy="6248520"/>
        </p:xfrm>
        <a:graphic>
          <a:graphicData uri="http://schemas.openxmlformats.org/drawingml/2006/table">
            <a:tbl>
              <a:tblPr/>
              <a:tblGrid>
                <a:gridCol w="1811520"/>
                <a:gridCol w="2412360"/>
                <a:gridCol w="3562560"/>
              </a:tblGrid>
              <a:tr h="24912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ы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полаг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-смысл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современных собы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казывания известных люд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ая ситу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докум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зговой штур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хронолог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ристическая бес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656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опросов общественного м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статистических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ут, дискуссия, деб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мотр учебных филь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докум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кар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текстом учеб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словар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евая, деловая иг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я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сравнительной 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ри предло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ый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-смысл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труд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вободный микро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квей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ри предло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«Если ученик в школе сам ничего не научился творить, то в жизни он всегда будет только подражать и копировать»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                                 Л.Н.Толстой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24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«Стратегия модернизации образования»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честве главного результата рассматривается готовность и способность молодых людей, заканчивающих школу, нести личную ответственность  как за собственное  благополучие, так и благополучие обществ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Т.о. основным результатом деятельности образовательного учреждения должна стать не  система знаний, умений и навыков сама по себе, а набор ключевых компетентностей в интеллектуальной, гражданско-правовой, коммуникативной, информационных сферах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Термин «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омпетенция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» - происходит от латинского «</a:t>
            </a:r>
            <a:r>
              <a:rPr b="0" lang="en-US" sz="2800" spc="-1" strike="noStrike">
                <a:solidFill>
                  <a:srgbClr val="424456"/>
                </a:solidFill>
                <a:latin typeface="Times New Roman"/>
              </a:rPr>
              <a:t>Competentia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» – что означает ведение, способность, принадлежность по праву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4038120" cy="41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пределения круга вопросов, в которых субъект обладает познаниями ( используется в объективном (или фактическом) смысле при обозначении ведения, компетентности субъекта)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48320" y="2643120"/>
            <a:ext cx="4038120" cy="41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пределения круга полномочий, которыми наделен субъект (употребляется в формальном (или юридическом) смысле при характеристике прав и обязанностей субъекта)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229240" cy="40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Образовательная компетенция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это совокупность смысловых ориентаций, знаний умений, навыков и опыта деятельности ученика по отношению к определенному кругу объектов реальной действительности, необходимых для осуществления личностно и социально- значимой продуктивной деятельности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Иерархия компетенций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24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ючевые компетенции - относятся к общему (метапредметному) содержанию образования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предметные компетенции- относятся к определенному кругу учебных предметов и образовательных областей (надпредметные)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метные компетенции – частные по отношению к двум предыдущим уровням компетенции, имеющие конкретное описание и возможность формирования в рамках учебных предметов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Ценностно- смыслов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24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67560" indent="-25704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компетенции в сфере мировоззрения, связанные с ценностными ориентирами ученика, его способностью видеть и понимать окружающий мир, ориентироваться в нем, осознавать свою роль и предназначение, уметь выбирать целевые и смысловые установки для своих действий и поступков, принимать решения. Данные компетенции обеспечивают механизм самоопределения ученика в ситуациях учебной и иной деятельности. От них зависит индивидуальная образовательная траектория ученика и программа его жизнедеятельности в целом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Общекультурные компетенц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240" cy="51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322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уг вопросов, по отношению к которым ученик должен быть хорошо осведомлен, обладать познаниями и опытом деятельности, это – особенности национальной и общечеловеческой культуры, духовно-нравственные основы жизни человека и человечества, отдельных народов, культурологические основы семейных, социальных, общественных явлений и традиций, роль науки и религии в жизни человека, их влияние на мир, компетенции в бытовой и культурно-досуговой сфере, например, владение эффективными способами организации свободного времени. Сюда же относится опыт освоения учеником научной картины мира, расширяющейся до культурологического и всечеловеческого понимания мира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107</TotalTime>
  <Application>LibreOffice/7.4.7.2$Linux_X86_64 LibreOffice_project/40$Build-2</Application>
  <AppVersion>15.0000</AppVersion>
  <Words>906</Words>
  <Paragraphs>106</Paragraphs>
  <Company>DG Win&amp;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5:55:44Z</dcterms:created>
  <dc:creator>Admin</dc:creator>
  <dc:description/>
  <dc:language>en-US</dc:language>
  <cp:lastModifiedBy>Admin</cp:lastModifiedBy>
  <dcterms:modified xsi:type="dcterms:W3CDTF">2011-11-13T10:38:58Z</dcterms:modified>
  <cp:revision>12</cp:revision>
  <dc:subject/>
  <dc:title>Формирование ключевых компетенций на уроках истории и обществозн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