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892-34A7-420D-9891-ECA40F25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DD3-712F-45CA-B629-B5DBCEA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175-2A0D-450A-8CFF-819A3045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09E-1396-4BE0-AB8F-2CBCE9D8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5CA-59F9-470A-9A63-11719435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683F-3B45-4285-9F63-2BAB4458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C6B6-8E97-4B9E-99E1-FFC341B3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5FA-4778-4C3F-A556-8AD33B9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D32C-758E-4E6F-A5EE-621798C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3EC-6DBB-4B57-AF14-274A65ED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866C-8E91-486A-B20F-4A1EACE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901-E934-4CD0-AA29-BD2D53D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656B-B6E4-4D45-823F-7615E19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A02F-A17A-453F-ABD6-7D4FA96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2324-0D3B-43ED-9A37-A64C9C7C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02A-7941-42F9-815A-4D4600B9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D9C0-1191-472B-B8A9-A276FC7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833-3B09-4E81-85BF-B7D897E6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50E-3FD4-4410-ABBE-67C4FBC9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F9A-1C31-4248-BE1C-B808E4E9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EF1-CE2F-48B8-9D83-63B88F4A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039-470E-4B20-BFB0-060C1D6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D13-B734-419E-A89E-CAEA3FA8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8AB-2584-47B9-B37A-1F5C075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A93-505C-49CA-BDA8-DA24F72CAF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4182-6E73-4289-864A-C742FC444B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Археологические памятник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Тулдун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ь-Ингу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тоянка (неоли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 на приустьевом участке р. Ингур, левого притока р. Витим, на террасе близ фермы с одноименным назв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1 – на 20-25 – метровой террасе правого берега р. Ингур был найден нуклеус. Культурный слой не зафиксиров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2 находится на цокольной террасе левого приустьевого мыса. Находки: несколько отщеп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та в 1977 г. В.М. Ветровым и А.П. Трифоновым. Материалы в 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Усть-Эги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05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лан – Ха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могильник (бронзовый век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ходится в 15 км от центральной усадьбы колхоза им. К. Маркаса на рч. Маракте. Памятник отмечен в дневнике Хоринского отряда 1954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Копия P80"/>
          <p:cNvPicPr/>
          <p:nvPr/>
        </p:nvPicPr>
        <p:blipFill>
          <a:blip r:embed="rId1"/>
          <a:stretch/>
        </p:blipFill>
        <p:spPr>
          <a:xfrm>
            <a:off x="5508720" y="1773360"/>
            <a:ext cx="36352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0712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последнее время краеведение как отдельная область исторической науки получило большое развитие. Мя стали более пристально изучать историю своего родного края, «малой» Родины, где родились. Наряду с этим возникает интерес и к далекому, прошлому своего края – к эпохе времен неолита. Какие люди жили на нашей земле за тысячи, сотни лет до нас, чем они занимались, какими орудиями труда владели, что одевали , что ели – на все эти вопросы дает ответ археология. Археологические памятники Еравны как неотъемлемая часть историко-культурного наследия района вызывают глубокий и неподдельный интерес не только у специалис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ПАСИБО ЗА ВНИМАНИЕ!!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оложительного туристического имиджа Ерав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«банка данных» об археологических рай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стимулировать интерес молодых к историко – культурному, природному потенциалу своей «малой» Роди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собрать максимально полную базу данных о малоизвестных археологических памятниках Еравны, которые могут быть использованы для привлечения тур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007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 территории нашего района находятся много археологических памятников времен неолита, все они до конца хорошо не изучены. В нашей работе мы хотим показать географию археологических памятников Еравны, и в будущем, думается, можно разработать туристический маршрут «Неолитические стоянки Еравны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странах, где богатая археологическая история, вдумчиво и рационально подходят к памятникам такого рода: создаются целые археологические комплексы, куда приезжают любознательные туристы и за деньги знакомятся с результатами археологических экспедиций. Думается, что и у нас, в будущем будет такж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рта стоянок Ерав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2" descr="C:\Documents and Settings\Учеба\Рабочий стол\1.jpg"/>
          <p:cNvPicPr/>
          <p:nvPr/>
        </p:nvPicPr>
        <p:blipFill>
          <a:blip r:embed="rId1"/>
          <a:stretch/>
        </p:blipFill>
        <p:spPr>
          <a:xfrm>
            <a:off x="500040" y="1285920"/>
            <a:ext cx="8643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Сосново - Озёрск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нова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тоянка (неоли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 в 6 км от северо – восточной окраины села, на перешейке между озерами Сосновое и Хаймисан (Сухое озеро). Материал собран в осыпях карьера и на оставшейся неразрешенной поверхности террасы площадью до 900 км. 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ки: миниатюрные скребки из халцедона, наконечники с вогнутыми основаниями, нуклеусы: фрагменты керамики со шнуровым орнаментом или с отпечатками с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е сведения о стоянке принадлежат Г.Ф. Дебецу и относятся к 1925 г. И.В. Антонщенко – Олененвым в 1967 г. и 1968 г. произведен сбор подъемного материала. В 1970 г. Л.Г. Ивашина обследовала стоянку, ею были заложены 4 шурф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екции хранятся в МИ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Гунда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нд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стоянка (не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ложена на древних озерных валах между озерами Гунда и Аршан на юго – восточной окраине поселка. Культурный слой разрушен карьером по добыче гравия. Находки в осыпях карьера: отщепы, скребки, ножевитные пластины, мелкие фрагменты кера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рыта в 1966 г. В.П. Приходько. В 1970 г. Л.Г. Ивашиной заложены шурф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лекции хранятся в МИ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Исинг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. Исинга, на холме Бухусан. Неолитические могилы имели каменные кладки круглой и овально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ки: издели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хуса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могильник (неолит – средневековь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тся к югу от села, на краю 10 – 12-метровой террасы южного берега из рога (рыболовная блесна из когтя медведя в Фоме рыбки с крючком, роговые пластины с пазами для вкладышей и без них); шило, изделие из клыка кабана, кинжаловидные острия; изделия из камня – наконечники стрел треугольной формы, заготовки наконечников стрел и дротиков, проколки из тонких пластинок халцедона, резцы, стерженьки рыболовных крючков; керамика – гладкостенная и шнуровая, выполненная техникой выколачивания; украшения – бусы из зубов марала, перламутровых раковин, бисер из кости, украшения из расщепленных клыков каб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дки над могилами железного века подобны неолитическим. Находки: железные и костяные наконечники стрел разной формы, железные удилы и стремена, костяные наконечники на лук, железные ножи, пряжка и бронзовая серь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Л.Г. Ивашиной в 1970 г. В 1970 – 73 гг. ею было раскопано 27 могил (15 неолитических, 1 бронзового века, 10 средневековы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и хранятся в МИ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. Поперечн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Поперечной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ильник (бронзовый век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ходится пред переездом через р. Поперечную. Плиточная могила больших размеров в настоящее время практически разрушена. Рядом с ней каменный кург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фиксирована А.П. Окладниковым в 194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10:38Z</dcterms:created>
  <dc:creator>OEM</dc:creator>
  <dc:description/>
  <dc:language>en-US</dc:language>
  <cp:lastModifiedBy>Учитель</cp:lastModifiedBy>
  <dcterms:modified xsi:type="dcterms:W3CDTF">2009-01-16T05:23:47Z</dcterms:modified>
  <cp:revision>3</cp:revision>
  <dc:subject/>
  <dc:title>Археологические памятники</dc:title>
</cp:coreProperties>
</file>