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884-91F9-481F-ADE6-AB550750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7F0-0DD1-41C6-B640-755BA22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CAF-F7C4-4C62-9DE5-6D99E862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7B1-ECAB-4657-8E2A-9C67D459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628C-AE64-4678-9E93-BC093E60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87B-2966-49B1-B51E-233CC5AA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2ECE-1FF6-4B95-86BA-EFAE956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92E4-66CD-449D-8F7B-00971AC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C9A2-F5EC-4428-B727-7C98313E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6809-C82D-404F-9B6E-E20A3DE6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5C5B-C0B1-405F-ADB0-FF8EBD4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DE1-76D7-45F0-A8E0-C12C9B1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BA73-9489-4A22-A4FF-626AC2F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05D9-34C1-4659-BDCF-E3D7A87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5A54-9AC9-44C8-89B8-2A653B7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80A6-D621-422D-B91C-1AB1F77B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4F2E-3123-48F6-BC1B-162C95A6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2BB-F227-434D-A31B-2E8C951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1D0-E579-46F9-9A90-5B7C9B51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CFF-7B8D-4835-A4E4-8F77F766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ABB-472E-41AF-B1C1-BF01F9BE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46B-D2C2-4DD6-BB1D-A3D2962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663-2F20-40D2-81E9-EBA4026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205-ECC3-4A8A-9160-CD79ADA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0CF1-71F6-4C58-9ED0-E60A0D5567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36B2-2EA4-4519-AB5D-F93FD1A3AC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Археологические памятник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Тулдун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ь-Ингу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тоянка (неоли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 на приустьевом участке р. Ингур, левого притока р. Витим, на террасе близ фермы с одноименным назв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1 – на 20-25 – метровой террасе правого берега р. Ингур был найден нуклеус. Культурный слой не зафиксиров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2 находится на цокольной террасе левого приустьевого мыса. Находки: несколько отщеп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та в 1977 г. В.М. Ветровым и А.П. Трифоновым. Материалы в 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Усть-Эги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05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лан – Ха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могильник (бронзовый век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ходится в 15 км от центральной усадьбы колхоза им. К. Маркаса на рч. Маракте. Памятник отмечен в дневнике Хоринского отряда 1954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Копия P80"/>
          <p:cNvPicPr/>
          <p:nvPr/>
        </p:nvPicPr>
        <p:blipFill>
          <a:blip r:embed="rId1"/>
          <a:stretch/>
        </p:blipFill>
        <p:spPr>
          <a:xfrm>
            <a:off x="5508720" y="1773360"/>
            <a:ext cx="36352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0712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последнее время краеведение как отдельная область исторической науки получило большое развитие. Мя стали более пристально изучать историю своего родного края, «малой» Родины, где родились. Наряду с этим возникает интерес и к далекому, прошлому своего края – к эпохе времен неолита. Какие люди жили на нашей земле за тысячи, сотни лет до нас, чем они занимались, какими орудиями труда владели, что одевали , что ели – на все эти вопросы дает ответ археология. Археологические памятники Еравны как неотъемлемая часть историко-культурного наследия района вызывают глубокий и неподдельный интерес не только у специалис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ПАСИБО ЗА ВНИМАНИЕ!!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оложительного туристического имиджа Ерав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«банка данных» об археологических рай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стимулировать интерес молодых к историко – культурному, природному потенциалу своей «малой» Роди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собрать максимально полную базу данных о малоизвестных археологических памятниках Еравны, которые могут быть использованы для привлечения тур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007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 территории нашего района находятся много археологических памятников времен неолита, все они до конца хорошо не изучены. В нашей работе мы хотим показать географию археологических памятников Еравны, и в будущем, думается, можно разработать туристический маршрут «Неолитические стоянки Еравны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странах, где богатая археологическая история, вдумчиво и рационально подходят к памятникам такого рода: создаются целые археологические комплексы, куда приезжают любознательные туристы и за деньги знакомятся с результатами археологических экспедиций. Думается, что и у нас, в будущем будет такж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рта стоянок Ерав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2" descr="C:\Documents and Settings\Учеба\Рабочий стол\1.jpg"/>
          <p:cNvPicPr/>
          <p:nvPr/>
        </p:nvPicPr>
        <p:blipFill>
          <a:blip r:embed="rId1"/>
          <a:stretch/>
        </p:blipFill>
        <p:spPr>
          <a:xfrm>
            <a:off x="500040" y="1285920"/>
            <a:ext cx="8643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Сосново - Озёрск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нова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тоянка (неоли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 в 6 км от северо – восточной окраины села, на перешейке между озерами Сосновое и Хаймисан (Сухое озеро). Материал собран в осыпях карьера и на оставшейся неразрешенной поверхности террасы площадью до 900 км. 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ки: миниатюрные скребки из халцедона, наконечники с вогнутыми основаниями, нуклеусы: фрагменты керамики со шнуровым орнаментом или с отпечатками с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е сведения о стоянке принадлежат Г.Ф. Дебецу и относятся к 1925 г. И.В. Антонщенко – Олененвым в 1967 г. и 1968 г. произведен сбор подъемного материала. В 1970 г. Л.Г. Ивашина обследовала стоянку, ею были заложены 4 шурф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екции хранятся в МИ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Гунда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нд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стоянка (не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ложена на древних озерных валах между озерами Гунда и Аршан на юго – восточной окраине поселка. Культурный слой разрушен карьером по добыче гравия. Находки в осыпях карьера: отщепы, скребки, ножевитные пластины, мелкие фрагменты кера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рыта в 1966 г. В.П. Приходько. В 1970 г. Л.Г. Ивашиной заложены шурф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лекции хранятся в МИ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Исинг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. Исинга, на холме Бухусан. Неолитические могилы имели каменные кладки круглой и овально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ки: издели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хуса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могильник (неолит – средневековь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тся к югу от села, на краю 10 – 12-метровой террасы южного берега из рога (рыболовная блесна из когтя медведя в Фоме рыбки с крючком, роговые пластины с пазами для вкладышей и без них); шило, изделие из клыка кабана, кинжаловидные острия; изделия из камня – наконечники стрел треугольной формы, заготовки наконечников стрел и дротиков, проколки из тонких пластинок халцедона, резцы, стерженьки рыболовных крючков; керамика – гладкостенная и шнуровая, выполненная техникой выколачивания; украшения – бусы из зубов марала, перламутровых раковин, бисер из кости, украшения из расщепленных клыков каб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дки над могилами железного века подобны неолитическим. Находки: железные и костяные наконечники стрел разной формы, железные удилы и стремена, костяные наконечники на лук, железные ножи, пряжка и бронзовая серь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Л.Г. Ивашиной в 1970 г. В 1970 – 73 гг. ею было раскопано 27 могил (15 неолитических, 1 бронзового века, 10 средневековы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и хранятся в МИ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Поперечн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Поперечной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ильник (бронзовый век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ходится пред переездом через р. Поперечную. Плиточная могила больших размеров в настоящее время практически разрушена. Рядом с ней каменный кург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фиксирована А.П. Окладниковым в 194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10:38Z</dcterms:created>
  <dc:creator>OEM</dc:creator>
  <dc:description/>
  <dc:language>en-US</dc:language>
  <cp:lastModifiedBy>Учитель</cp:lastModifiedBy>
  <dcterms:modified xsi:type="dcterms:W3CDTF">2009-01-16T05:23:47Z</dcterms:modified>
  <cp:revision>3</cp:revision>
  <dc:subject/>
  <dc:title>Археологические памятники</dc:title>
</cp:coreProperties>
</file>