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4D6-6157-46E9-BAD0-FE11F925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049-1183-48BD-B35A-1791414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35C-B61C-4172-BC93-9E76B52C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985-E46C-455D-8C97-9F05934C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90B-B8E0-4676-826E-241EA0B2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A09-66B7-440D-B7A5-9717B97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154-69C1-4301-AFA9-C455D27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BBC-29C6-406E-935C-CF33018E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0FE-019A-4C68-B210-AF7911D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A42-36DE-4235-BD35-1586322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985-DCF6-4B2A-BA3C-415DF08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193-1562-4D5A-BDE5-1243B9E0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28C-4976-4D92-9AD3-222F60321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74333s006.edusite.ru/images/p8_portnov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Выполнила: ученица  3 Б класса МБОУ «СОШ №6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Коврова Бадья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Руководитель: учитель начальных классов высшей квалификационной категории Терех М.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История «МБОУ СОШ №6» в задачах по матема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s://sun9-65.userapi.com/c840321/v840321679/89ca9/vNGaYlqXVck.jpg"/>
          <p:cNvPicPr/>
          <p:nvPr/>
        </p:nvPicPr>
        <p:blipFill>
          <a:blip r:embed="rId1"/>
          <a:stretch/>
        </p:blipFill>
        <p:spPr>
          <a:xfrm>
            <a:off x="395280" y="2060640"/>
            <a:ext cx="8300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62год- школа становится восьмилетней №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7-десятилетняя школа №6 ( школа переезжает в новое зд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95 - муниципальное общеобразовательное учреждение «Средняя общеобразовательная школа №6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0г.- муниципальное бюджетное общеобразовательное учреждение «Средняя общеобразовательная школа №6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часть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Составление оригинального задачника на основе полученных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Апробация нашего задачника на обучающихся 3-х классов наше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задачник вош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Задачи основанные на историческом материале о жизн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дачи об учителях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Задачи основанные на современных фактах о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Математический юбилейный кроссв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снованные на историческом материа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1 году Средней общеобразовательной школе №6 города Верхнего Уфалея исполниться 95 лет. В каком году была основана шко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преле - мае 1941 г, в школе прошел месячник по посадке деревьев, каждый учащийся посадил  по 5 деревьев. Всего посадили 200 саженцев. Сколько ребят участвовали в посад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б учителях шко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929 году директором школы стал Уткин Дмитрий Васильевич, а в 1940 году он был переведен для работы в РОНО, сколько лет он проработал в школ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высшей квалификационной категории. «Отличник народного просвещения» Портнова Галина Ильинична в 1962 году была направлена по комсомольской путёвке на работу вожатой в школу.  С 1964 года работала учителем математики начальной школы, С 1981г. по 2006г. - в МБОУ СОШ №6.была бессменным завучем школы. Сколько всего лет Галина Ильинична посвятила школе №6? Сколько лет она работала завучем школ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portnov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797360"/>
            <a:ext cx="155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снованные на современных фактах 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20 -2021 году  в школе обучается  554 ученика. Из них 246 учащиеся начальных классов. Сколько ребят обучается в старшем и среднем звен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2001 года в нашей школе ежегодно проходит «Театральный фестиваль». Какой раз пройдёт этот фестиваль в 2021 год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sun9-34.userapi.com/impf/c840433/v840433616/7f13c/Gk_koxGvyHU.jpg?size=1280x854&amp;quality=96&amp;sign=c3fc66d7568f348bc5c387b6d41f4e2b&amp;type=album"/>
          <p:cNvPicPr/>
          <p:nvPr/>
        </p:nvPicPr>
        <p:blipFill>
          <a:blip r:embed="rId1"/>
          <a:stretch/>
        </p:blipFill>
        <p:spPr>
          <a:xfrm>
            <a:off x="4859280" y="3933720"/>
            <a:ext cx="3845160" cy="256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s://sun9-24.userapi.com/impf/cUz8RPwyjqtmLFeTlomG8WWSNNbMcEBLcnYh9A/4ES9b5rm8_c.jpg?size=1280x854&amp;quality=96&amp;sign=ece3c9dd88f4b1b979931287fa492e6d&amp;type=album"/>
          <p:cNvPicPr/>
          <p:nvPr/>
        </p:nvPicPr>
        <p:blipFill>
          <a:blip r:embed="rId2"/>
          <a:stretch/>
        </p:blipFill>
        <p:spPr>
          <a:xfrm>
            <a:off x="826920" y="4005360"/>
            <a:ext cx="36784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билей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63640" y="1397160"/>
          <a:ext cx="5178600" cy="4408200"/>
        </p:xfrm>
        <a:graphic>
          <a:graphicData uri="http://schemas.openxmlformats.org/drawingml/2006/table">
            <a:tbl>
              <a:tblPr/>
              <a:tblGrid>
                <a:gridCol w="246240"/>
                <a:gridCol w="247680"/>
                <a:gridCol w="245880"/>
                <a:gridCol w="246240"/>
                <a:gridCol w="247680"/>
                <a:gridCol w="245880"/>
                <a:gridCol w="246240"/>
                <a:gridCol w="247320"/>
                <a:gridCol w="246240"/>
                <a:gridCol w="246240"/>
                <a:gridCol w="247320"/>
                <a:gridCol w="246240"/>
                <a:gridCol w="245880"/>
                <a:gridCol w="247680"/>
                <a:gridCol w="246240"/>
                <a:gridCol w="245880"/>
                <a:gridCol w="247680"/>
                <a:gridCol w="246240"/>
                <a:gridCol w="245880"/>
                <a:gridCol w="247680"/>
                <a:gridCol w="246240"/>
              </a:tblGrid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Первый директор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Куда ребята нашей школы отправляли тёплые вещи и продукты во время Великой Отечественной вой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Фестиваль, который проходит в нашей школе каждый год в апреле меся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Мероприятие, которое проводится каждый год в учительский праздник в нашей школе: день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Сколько лет было нашей школе в 2016 год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Где устраивали концерты ученики нашей школы во время Великой Отечественной вой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Директор, который управляет школой с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Учитель, который с 1981г. по 2006г. - в МБОУ СОШ №6.был бессменным завучем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Директор, который возглавлял школу в трудные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 Имя какого великого русского писателя носит наша шко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я задачи из нашего сборника, ученики не только учились находить ответы на поставленные вопросы, но и одновременно изучали историю шко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а гипотеза о том, что составление и решение авторских задач помогают больше узнать о родной школе и улучшить результаты в решении текстовых задач, подтвердилась. Цели работы достиг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родной школы изучена нами старательно, но не достаточно. В дальнейшем мы планируем продолжить ее изучение, а также биографии выдающихся  учителей и выпускников наше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ьность исследовательской работы связана, в первую очередь, со знаменательной датой - в ноябре 2021 года нашей школе исполнится 95 лет. Во-вторых, у многих школьников возникают проблемы, когда необходимо решить текстовые задачи по математике. Узнавать что-то из истории, решая задачи, это увлекательно, ведь решить математическую задачу и получить ответ на вопрос интереснее, чем просто узнать какой-то фа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ть сборник «История МБОУ «СОШ №6» в задачах по математике» с использованием исторических сведений о МБОУ СОШ №6 города Верхнего Уфал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исторические архивы, фотодокументы МБОУ «СОШ №6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виды текстовых задач, методы и приемы их составления и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текстовые задачи на основе исторических фактов и данных о родной шк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и апробировать сборник на уроках математики в 3-х  классах МБОУ СОШ №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презентацию, содержащую основные факты истории МБОУ «СОШ №6» и текстовые задачи, опирающиеся на исторические да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и решение авторских задач помогают больше узнать о родной школе и улучшить результаты в решении текстовых задач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1484280"/>
            <a:ext cx="81471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сюжетные (текстовые) и бессюже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стандартные 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которых есть общих правила, их решения) и нестандартные(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которых нет общих правил, определяющих общее направление их реш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простые и составные (простые решаются в одно действие, составные- в 2 и более действ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632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горитм составления задачи на историческом материал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бор фактических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историческая справ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ыбор математического содержания и типа зада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становление зависимости между чис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оставление условия задачи, ее решение и оформление (название задачи, иллюстра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я «МБОУ СОШ №6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6 год- начальная школа № 15 открыла свои двери для уче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32-начальная школа № 15 заключает договор с доменным цехом Никелевого комбината: учащиеся устанавливают над рабочими культурное шефство, а те, в свою очередь, разрабатывают программу производственного обучения на базе мастерски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30-е годы начальная школа №15 переезжает в новое здание на углу улиц Ленина и Уфалейская, но и этого помещения вскоре  становится мало, позже пристраивается второй (каменный) эт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годы войны (1941-45гг) начальная школа № 15 получает статус неполной (семилетней) средней школы №' 2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user</cp:lastModifiedBy>
  <dcterms:modified xsi:type="dcterms:W3CDTF">2023-04-21T15:11:12Z</dcterms:modified>
  <cp:revision>20</cp:revision>
  <dc:subject/>
  <dc:title>Презентация PowerPoint</dc:title>
</cp:coreProperties>
</file>