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16C5-BC9E-4329-906A-B47B1789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CF2-C0DD-491B-86EE-6E8F91DB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68B-94BC-44B9-A13F-3BDE9D6F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B3F-54BD-4589-BEED-59632678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817-11D6-4608-8000-75AA372E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5B0-FCC6-49AC-A25D-B55D6E30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766-3733-45CE-9AE6-18807308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F89-650A-4B8D-A059-1C2943C0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012-2B41-4830-B5B8-6B625658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03D-1203-4A38-B262-AF30FB2A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CA9-0E4E-433E-A27D-08E01027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2B11-B8C0-45CF-9854-92068887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5428-98E2-4F67-A809-A9625250E9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74333s006.edusite.ru/images/p8_portnova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Calibri"/>
              </a:rPr>
              <a:t>Выполнила: ученица  3 Б класса МБОУ «СОШ №6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Calibri"/>
              </a:rPr>
              <a:t>Коврова Бадья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Calibri"/>
              </a:rPr>
              <a:t>Руководитель: учитель начальных классов высшей квалификационной категории Терех М.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32523"/>
                </a:solidFill>
                <a:latin typeface="Calibri"/>
              </a:rPr>
              <a:t>История «МБОУ СОШ №6» в задачах по математи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s://sun9-65.userapi.com/c840321/v840321679/89ca9/vNGaYlqXVck.jpg"/>
          <p:cNvPicPr/>
          <p:nvPr/>
        </p:nvPicPr>
        <p:blipFill>
          <a:blip r:embed="rId1"/>
          <a:stretch/>
        </p:blipFill>
        <p:spPr>
          <a:xfrm>
            <a:off x="395280" y="2060640"/>
            <a:ext cx="83008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62год- школа становится восьмилетней №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77-десятилетняя школа №6 ( школа переезжает в новое зда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95 - муниципальное общеобразовательное учреждение «Средняя общеобразовательная школа №6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010г.- муниципальное бюджетное общеобразовательное учреждение «Средняя общеобразовательная школа №6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ктическая часть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Составление оригинального задачника на основе полученных зн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Апробация нашего задачника на обучающихся 3-х классов нашей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задачник вош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Задачи основанные на историческом материале о жизни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Задачи об учителях шко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Задачи основанные на современных фактах о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Математический юбилейный кроссвор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основанные на историческом материа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2021 году Средней общеобразовательной школе №6 города Верхнего Уфалея исполниться 95 лет. В каком году была основана шко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апреле - мае 1941 г, в школе прошел месячник по посадке деревьев, каждый учащийся посадил  по 5 деревьев. Всего посадили 200 саженцев. Сколько ребят участвовали в посад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об учителях шко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1929 году директором школы стал Уткин Дмитрий Васильевич, а в 1940 году он был переведен для работы в РОНО, сколько лет он проработал в школ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 высшей квалификационной категории. «Отличник народного просвещения» Портнова Галина Ильинична в 1962 году была направлена по комсомольской путёвке на работу вожатой в школу.  С 1964 года работала учителем математики начальной школы, С 1981г. по 2006г. - в МБОУ СОШ №6.была бессменным завучем школы. Сколько всего лет Галина Ильинична посвятила школе №6? Сколько лет она работала завучем школ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4" descr="portnov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797360"/>
            <a:ext cx="15591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основанные на современных фактах о шк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2020 -2021 году  в школе обучается  554 ученика. Из них 246 учащиеся начальных классов. Сколько ребят обучается в старшем и среднем звен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2001 года в нашей школе ежегодно проходит «Театральный фестиваль». Какой раз пройдёт этот фестиваль в 2021 год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s://sun9-34.userapi.com/impf/c840433/v840433616/7f13c/Gk_koxGvyHU.jpg?size=1280x854&amp;quality=96&amp;sign=c3fc66d7568f348bc5c387b6d41f4e2b&amp;type=album"/>
          <p:cNvPicPr/>
          <p:nvPr/>
        </p:nvPicPr>
        <p:blipFill>
          <a:blip r:embed="rId1"/>
          <a:stretch/>
        </p:blipFill>
        <p:spPr>
          <a:xfrm>
            <a:off x="4859280" y="3933720"/>
            <a:ext cx="3845160" cy="2563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s://sun9-24.userapi.com/impf/cUz8RPwyjqtmLFeTlomG8WWSNNbMcEBLcnYh9A/4ES9b5rm8_c.jpg?size=1280x854&amp;quality=96&amp;sign=ece3c9dd88f4b1b979931287fa492e6d&amp;type=album"/>
          <p:cNvPicPr/>
          <p:nvPr/>
        </p:nvPicPr>
        <p:blipFill>
          <a:blip r:embed="rId2"/>
          <a:stretch/>
        </p:blipFill>
        <p:spPr>
          <a:xfrm>
            <a:off x="826920" y="4005360"/>
            <a:ext cx="367848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Юбилейный кроссвор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763640" y="1397160"/>
          <a:ext cx="5178600" cy="4408200"/>
        </p:xfrm>
        <a:graphic>
          <a:graphicData uri="http://schemas.openxmlformats.org/drawingml/2006/table">
            <a:tbl>
              <a:tblPr/>
              <a:tblGrid>
                <a:gridCol w="246240"/>
                <a:gridCol w="247680"/>
                <a:gridCol w="245880"/>
                <a:gridCol w="246240"/>
                <a:gridCol w="247680"/>
                <a:gridCol w="245880"/>
                <a:gridCol w="246240"/>
                <a:gridCol w="247320"/>
                <a:gridCol w="246240"/>
                <a:gridCol w="246240"/>
                <a:gridCol w="247320"/>
                <a:gridCol w="246240"/>
                <a:gridCol w="245880"/>
                <a:gridCol w="247680"/>
                <a:gridCol w="246240"/>
                <a:gridCol w="245880"/>
                <a:gridCol w="247680"/>
                <a:gridCol w="246240"/>
                <a:gridCol w="245880"/>
                <a:gridCol w="247680"/>
                <a:gridCol w="246240"/>
              </a:tblGrid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2462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Первый директор шко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Куда ребята нашей школы отправляли тёплые вещи и продукты во время Великой Отечественной войн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Фестиваль, который проходит в нашей школе каждый год в апреле месяц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Мероприятие, которое проводится каждый год в учительский праздник в нашей школе: день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Сколько лет было нашей школе в 2016 год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 Где устраивали концерты ученики нашей школы во время Великой Отечественной войн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Директор, который управляет школой с 1997 г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 Учитель, который с 1981г. по 2006г. - в МБОУ СОШ №6.был бессменным завучем шко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 Директор, который возглавлял школу в трудные годы Великой Отечественной вой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  Имя какого великого русского писателя носит наша школ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ая задачи из нашего сборника, ученики не только учились находить ответы на поставленные вопросы, но и одновременно изучали историю школ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ша гипотеза о том, что составление и решение авторских задач помогают больше узнать о родной школе и улучшить результаты в решении текстовых задач, подтвердилась. Цели работы достигну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я родной школы изучена нами старательно, но не достаточно. В дальнейшем мы планируем продолжить ее изучение, а также биографии выдающихся  учителей и выпускников нашей шко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ьность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уальность исследовательской работы связана, в первую очередь, со знаменательной датой - в ноябре 2021 года нашей школе исполнится 95 лет. Во-вторых, у многих школьников возникают проблемы, когда необходимо решить текстовые задачи по математике. Узнавать что-то из истории, решая задачи, это увлекательно, ведь решить математическую задачу и получить ответ на вопрос интереснее, чем просто узнать какой-то фак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 проект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ть сборник «История МБОУ «СОШ №6» в задачах по математике» с использованием исторических сведений о МБОУ СОШ №6 города Верхнего Уфале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чи проек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ить исторические архивы, фотодокументы МБОУ «СОШ №6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ить виды текстовых задач, методы и приемы их составления и реш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ить текстовые задачи на основе исторических фактов и данных о родной школ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ить и апробировать сборник на уроках математики в 3-х  классах МБОУ СОШ №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ить презентацию, содержащую основные факты истории МБОУ «СОШ №6» и текстовые задачи, опирающиеся на исторические дан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ие и решение авторских задач помогают больше узнать о родной школе и улучшить результаты в решении текстовых задач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9280" y="1484280"/>
            <a:ext cx="81471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сюжетные (текстовые) и бессюжет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стандартные 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для которых есть общих правила, их решения) и нестандартные(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для которых нет общих правил, определяющих общее направление их реше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простые и составные (простые решаются в одно действие, составные- в 2 и более действи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ссификация зад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632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лгоритм составления задачи на историческом материале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бор фактических данны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историческая справ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выбор математического содержания и типа задач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установление зависимости между числ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оставление условия задачи, ее решение и оформление (название задачи, иллюстрац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тория «МБОУ СОШ №6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26 год- начальная школа № 15 открыла свои двери для ученик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32-начальная школа № 15 заключает договор с доменным цехом Никелевого комбината: учащиеся устанавливают над рабочими культурное шефство, а те, в свою очередь, разрабатывают программу производственного обучения на базе мастерски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30-е годы начальная школа №15 переезжает в новое здание на углу улиц Ленина и Уфалейская, но и этого помещения вскоре  становится мало, позже пристраивается второй (каменный) этаж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годы войны (1941-45гг) начальная школа № 15 получает статус неполной (семилетней) средней школы №' 2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2:51:07Z</dcterms:created>
  <dc:creator>User</dc:creator>
  <dc:description/>
  <dc:language>en-US</dc:language>
  <cp:lastModifiedBy>user</cp:lastModifiedBy>
  <dcterms:modified xsi:type="dcterms:W3CDTF">2023-04-21T15:11:12Z</dcterms:modified>
  <cp:revision>20</cp:revision>
  <dc:subject/>
  <dc:title>Презентация PowerPoint</dc:title>
</cp:coreProperties>
</file>