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7CC-4624-4465-9501-3485E750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191-03D6-4791-8DFC-643C2D47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38F-84E6-414A-BDB6-F6649939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B07-AEA1-418A-8624-1D7F7BFA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556-9AB4-42E4-8917-EDEB098F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875-A258-4F47-AC8B-2A27EBD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5BD-C24C-4372-9A5F-221DD20A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AF8-60F0-43EA-A9A3-F81A28F9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B5F-697B-40AF-9CE5-2A393424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AD1-FCCE-47A1-999B-8150A38E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6C6-D74A-4532-8E4D-A009DDB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D5F-2FDF-481A-AC65-9A6E08D0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7CFB-39BF-405E-973F-6D0CB27BC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53735"/>
                </a:solidFill>
                <a:latin typeface="Calibri"/>
              </a:rPr>
              <a:t>В мире пластили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2920" y="4005360"/>
            <a:ext cx="356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Работу выполнил  ученик 3Б класса МБОУ «СОШ №6» города Верхний Уфа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Яковлев Зах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Руководитель: Терех М.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s://my-book-shop.ru/image/product/5/2008851.jpg"/>
          <p:cNvPicPr/>
          <p:nvPr/>
        </p:nvPicPr>
        <p:blipFill>
          <a:blip r:embed="rId1"/>
          <a:stretch/>
        </p:blipFill>
        <p:spPr>
          <a:xfrm>
            <a:off x="1403280" y="2565360"/>
            <a:ext cx="31212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ика безопасности при работе с пластилино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уйся специальной доской для пластил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        Во время  работы пользуйся  тряпочкой для вытирания ру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        Перед тем как мыть руки, тщательно  вытри  их тряпоч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        Мой руки с теплой  водой  с мыл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        При работе используются стеки-ножи для пластилина, вытри их после окончания работы. Во время резания их тоже надо протирать, ведь ты пользуешься пластилином разного цвета. Они не острые, но будь при работе внимательным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        Если кусочек пластилина случайно попал  на одежду  или ковер. Тщательно соскреби его, а  оставшееся пятно хорошенько протри тряпочкой, смоченной керосином, а затем застира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некоторых видов пластилин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42920" y="1397160"/>
          <a:ext cx="6624720" cy="5238720"/>
        </p:xfrm>
        <a:graphic>
          <a:graphicData uri="http://schemas.openxmlformats.org/drawingml/2006/table">
            <a:tbl>
              <a:tblPr/>
              <a:tblGrid>
                <a:gridCol w="1128960"/>
                <a:gridCol w="687240"/>
                <a:gridCol w="687240"/>
                <a:gridCol w="882720"/>
                <a:gridCol w="789120"/>
                <a:gridCol w="1276200"/>
                <a:gridCol w="1173240"/>
              </a:tblGrid>
              <a:tr h="3045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ластил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ч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сть ц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лин классический «Луг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ц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ч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езин, воск, масло, наполнители пигме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ая цена, богатый выбор ц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о для лепки «Пластишка» 4 ц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пластич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, пищевые соли, мука, красители, ароматизатор, консерв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 мелкую моторику, не прилипает к рук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лин скульптурный мяг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к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т размин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фин, мел, каолин, пигменты, бели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лин экологически чистый и безвредный, он не принесет вреда ребен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лин восковой мяг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ц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ч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хмал, церезин, парафин, масло, пигме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 и пластичный, хорошо отмывается, хочу рекомендов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иковый пластили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ц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пластич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ерные гранулы, полимерное связующее, краситель, ароматизатор, глитт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, развивает моторику рук, цена - кач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 пластилин с алоэ в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ц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ч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осковой основе с добавлением кукурузного крахмала, вазелиновое масло, экстракт алоэ в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уется семьям с детьми от 3 лет. С ним могут играть даже взрослы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4"/>
          <p:cNvSpPr/>
          <p:nvPr/>
        </p:nvSpPr>
        <p:spPr>
          <a:xfrm>
            <a:off x="4411440" y="9036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т- пластилин «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 BERRY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» с алоэ вер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8Xlegu97130"/>
          <p:cNvPicPr/>
          <p:nvPr/>
        </p:nvPicPr>
        <p:blipFill>
          <a:blip r:embed="rId1"/>
          <a:stretch/>
        </p:blipFill>
        <p:spPr>
          <a:xfrm>
            <a:off x="1763640" y="1413000"/>
            <a:ext cx="49942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риковый пласти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5SYnyR8yADY"/>
          <p:cNvPicPr/>
          <p:nvPr/>
        </p:nvPicPr>
        <p:blipFill>
          <a:blip r:embed="rId1"/>
          <a:stretch/>
        </p:blipFill>
        <p:spPr>
          <a:xfrm>
            <a:off x="1692360" y="12636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о для лепки «Пласти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3XBnAQiSOrU"/>
          <p:cNvPicPr/>
          <p:nvPr/>
        </p:nvPicPr>
        <p:blipFill>
          <a:blip r:embed="rId1"/>
          <a:stretch/>
        </p:blipFill>
        <p:spPr>
          <a:xfrm>
            <a:off x="2124000" y="1197000"/>
            <a:ext cx="51562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стилин «Классическ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qDsm_5o3C6Q"/>
          <p:cNvPicPr/>
          <p:nvPr/>
        </p:nvPicPr>
        <p:blipFill>
          <a:blip r:embed="rId1"/>
          <a:stretch/>
        </p:blipFill>
        <p:spPr>
          <a:xfrm>
            <a:off x="2050920" y="1484280"/>
            <a:ext cx="496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стилин скульптур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rNGBD4stYs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стилин восков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UXXcJ-lOAT4"/>
          <p:cNvPicPr/>
          <p:nvPr/>
        </p:nvPicPr>
        <p:blipFill>
          <a:blip r:embed="rId1"/>
          <a:stretch/>
        </p:blipFill>
        <p:spPr>
          <a:xfrm>
            <a:off x="2124000" y="1773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тер- класс «Лепим динозавр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Как слепить динозавра из пластилина"/>
          <p:cNvPicPr/>
          <p:nvPr/>
        </p:nvPicPr>
        <p:blipFill>
          <a:blip r:embed="rId1"/>
          <a:stretch/>
        </p:blipFill>
        <p:spPr>
          <a:xfrm>
            <a:off x="1484280" y="2060640"/>
            <a:ext cx="56800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Как слепить динозавра из пластилина"/>
          <p:cNvPicPr/>
          <p:nvPr/>
        </p:nvPicPr>
        <p:blipFill>
          <a:blip r:embed="rId1"/>
          <a:stretch/>
        </p:blipFill>
        <p:spPr>
          <a:xfrm>
            <a:off x="684360" y="1197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" descr="Как слепить динозавра из пластилина"/>
          <p:cNvPicPr/>
          <p:nvPr/>
        </p:nvPicPr>
        <p:blipFill>
          <a:blip r:embed="rId2"/>
          <a:stretch/>
        </p:blipFill>
        <p:spPr>
          <a:xfrm>
            <a:off x="3203640" y="1268280"/>
            <a:ext cx="2448000" cy="18385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429080" y="21481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Как слепить динозавра из пластилина"/>
          <p:cNvPicPr/>
          <p:nvPr/>
        </p:nvPicPr>
        <p:blipFill>
          <a:blip r:embed="rId3"/>
          <a:stretch/>
        </p:blipFill>
        <p:spPr>
          <a:xfrm>
            <a:off x="5867280" y="1268280"/>
            <a:ext cx="2333880" cy="1752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Как слепить динозавра из пластилина"/>
          <p:cNvPicPr/>
          <p:nvPr/>
        </p:nvPicPr>
        <p:blipFill>
          <a:blip r:embed="rId4"/>
          <a:stretch/>
        </p:blipFill>
        <p:spPr>
          <a:xfrm>
            <a:off x="684360" y="2924280"/>
            <a:ext cx="2400120" cy="1800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376520" y="207180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2" descr="Как слепить динозавра из пластилина"/>
          <p:cNvPicPr/>
          <p:nvPr/>
        </p:nvPicPr>
        <p:blipFill>
          <a:blip r:embed="rId5"/>
          <a:stretch/>
        </p:blipFill>
        <p:spPr>
          <a:xfrm>
            <a:off x="3132000" y="306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Как слепить динозавра из пластилина"/>
          <p:cNvPicPr/>
          <p:nvPr/>
        </p:nvPicPr>
        <p:blipFill>
          <a:blip r:embed="rId6"/>
          <a:stretch/>
        </p:blipFill>
        <p:spPr>
          <a:xfrm>
            <a:off x="5796000" y="306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Как слепить динозавра из пластилина"/>
          <p:cNvPicPr/>
          <p:nvPr/>
        </p:nvPicPr>
        <p:blipFill>
          <a:blip r:embed="rId7"/>
          <a:stretch/>
        </p:blipFill>
        <p:spPr>
          <a:xfrm>
            <a:off x="1908000" y="47973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Как слепить динозавра из пластилина"/>
          <p:cNvPicPr/>
          <p:nvPr/>
        </p:nvPicPr>
        <p:blipFill>
          <a:blip r:embed="rId8"/>
          <a:stretch/>
        </p:blipFill>
        <p:spPr>
          <a:xfrm>
            <a:off x="5003640" y="5067360"/>
            <a:ext cx="2381400" cy="179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4393800" y="2167200"/>
            <a:ext cx="3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0" y="3789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4358880" y="62344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816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мое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ить понятие  о  приемах работы  с пластилином, узнать историю пластилина, что входит в его состав, каких видов он бывает. На практике сравнить разные виды пласти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20210311_121303"/>
          <p:cNvPicPr/>
          <p:nvPr/>
        </p:nvPicPr>
        <p:blipFill>
          <a:blip r:embed="rId1"/>
          <a:stretch/>
        </p:blipFill>
        <p:spPr>
          <a:xfrm>
            <a:off x="4465800" y="191628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20210311_121000"/>
          <p:cNvPicPr/>
          <p:nvPr/>
        </p:nvPicPr>
        <p:blipFill>
          <a:blip r:embed="rId2"/>
          <a:stretch/>
        </p:blipFill>
        <p:spPr>
          <a:xfrm>
            <a:off x="755640" y="206064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369800"/>
            <a:ext cx="7859880" cy="49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ходе нашей работы мы выяснили, что в магазинах большой выбор разных видов пластили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обычного классического до скульптурного.  Каждый из них имеет свою особ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Мы  сравнили несколько видов пластилина, узнали какие достоинства и недостатки е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каждого из них.  Исходя из этого, мы делаем вывод, что каждый  может выбрать себе пластилин по душе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 убедились, что пластилин- это материал для развития творческих способностей, игры с пластили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вают познавательные способности – внимание, память. Проведённый нами мастер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ень понравился ребя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 и задачи которые мы ставили в начале работы достигнуты. Гипотеза подтвержд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Прямоугольник 3" descr=""/>
          <p:cNvPicPr/>
          <p:nvPr/>
        </p:nvPicPr>
        <p:blipFill>
          <a:blip r:embed="rId1"/>
          <a:stretch/>
        </p:blipFill>
        <p:spPr>
          <a:xfrm>
            <a:off x="792000" y="2792520"/>
            <a:ext cx="752976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Изучить подробно научную литературу по данному вопросу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 Составить  памятку «Правила  работы  с пластилином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Провести мастер класс для одноклассников и учащихся начальной школы 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Определить качественный  состав  пластилина, изучить приемы и правила  работы  с пластили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 Приобрести некоторые виды пластилина, провести сравнительный анализ. Выяснить какой пластилин лучше всего подходит для работы, изготовив из каждого вида подел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оте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ет много видов пластилина, из него можно сотворить абсолютно все: свой красочный мир, полный приключений и необычных существ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в качественный  состав  пластилина, изучив приемы и правила  работы  с пластилином, мы сможем повысить  интерес учащихся к работе  с пластилином на уроках и во внеурочное врем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стил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  Поиск и изучение специальной литерату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  Сравнительный анализ накопленного  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опоставление дан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ластилин - это пластичный материал для лепки, состоящий из глины и воска с добавлением жиров, вазелина и других веществ, препятствующих высыханию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s://st.chs-toys.ru/6/2305/175/.jpg"/>
          <p:cNvPicPr/>
          <p:nvPr/>
        </p:nvPicPr>
        <p:blipFill>
          <a:blip r:embed="rId1"/>
          <a:stretch/>
        </p:blipFill>
        <p:spPr>
          <a:xfrm>
            <a:off x="2411280" y="3860640"/>
            <a:ext cx="450864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пластил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ычный детский пласти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ессиональный скульптурный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рт-пластил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ариковый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стывающий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вающий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луоресцентный 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ламутровый пласти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стилин на раститель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fs.znanio.ru/methodology/images/9a/0b/9a0b333982bc93ee0a1152484517f0a3c65a6b53.jpg"/>
          <p:cNvPicPr/>
          <p:nvPr/>
        </p:nvPicPr>
        <p:blipFill>
          <a:blip r:embed="rId1"/>
          <a:stretch/>
        </p:blipFill>
        <p:spPr>
          <a:xfrm>
            <a:off x="468360" y="38736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а смешивания цве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блица смешивания цвет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зовый (для лепки рук, ног, лица) = 1/5 красного + 4/5 бел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но-серый (для лепки волка) = 3/5 черного + 2/5 бел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тло-серый (для лепки зайчика) = 7/8 белого + 1/8 чер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латовый (травянистый) = 1/2 зеленого + 1/2 желт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тло-зеленый(для листочков) = 1/3 желт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тло-зеленый(для листочков) = 1/3 желтого + 2/3 зеленого. Если добавить 1/5 белого, можно использовать для выполнения молодых листоч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олетовый = 1/3 красного + 3/3 сине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хра =1/ желтого + 1/2 коричнев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user</cp:lastModifiedBy>
  <dcterms:modified xsi:type="dcterms:W3CDTF">2023-04-21T15:03:35Z</dcterms:modified>
  <cp:revision>18</cp:revision>
  <dc:subject/>
  <dc:title>Презентация PowerPoint</dc:title>
</cp:coreProperties>
</file>