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B23-2963-4EC2-83D2-0907F5C4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107-066F-4C3C-81C8-93CC4520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550-3A41-4D77-8A76-9D946100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582-600C-4A09-9B40-749B8156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A5A-B5E2-48CD-A6F1-4908018D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1F8-7C30-43B5-9CAF-A6998C8B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360-C554-41B9-AE7D-F420A9CE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15F-2CA4-4421-9430-3D96C479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B69-63E2-4FA4-88F9-96A1A133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2E4-188E-449F-9A31-96A1D8C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D42-98ED-466D-91CC-27ED01B3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74C-0588-4EA1-A5C6-3FCEED5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4736-F36B-432F-97B6-EEA830602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093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опросы для виктор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36450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134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05092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164360" y="4797360"/>
            <a:ext cx="1979640" cy="12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236000" y="2133720"/>
            <a:ext cx="1908000" cy="107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164360" y="0"/>
            <a:ext cx="1979640" cy="126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132000" y="2133720"/>
            <a:ext cx="2808360" cy="1679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5300640"/>
            <a:ext cx="2050920" cy="132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0" y="1916280"/>
            <a:ext cx="2124000" cy="1415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 1918 по 1991 год официальным флагом России был красный стяг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кой государственный символ сохранил идею красного цвета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5949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Знамя Побе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де и когда был описан современный флаг России и порядок его официального использования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3933360"/>
            <a:ext cx="871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Федеральном конституционном закон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«О Государственном флаге Российской Федерации» от 25 декабря 200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Что такое флаг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3886200"/>
            <a:ext cx="8713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Символ или знак, сделанный из тка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14716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о времена правления какого царя появился триколор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Алексея Михайловича (отец Петра Первого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075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каком году впервые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ело-сине-красный флаг стал приниматься как государственный флаг Росс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4941720"/>
            <a:ext cx="860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0 ноября 1705 г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Что означает каждый цвет на флаге России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Белая поло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бода, откровенность, благор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33720"/>
            <a:ext cx="8964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иняя пол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городица, верность честность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560" y="5195880"/>
            <a:ext cx="844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асная поло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жавность,  мужество, смелость,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33847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4036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кой еще один флаг почитался, как и государственный, в истории России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5157360"/>
            <a:ext cx="843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Андреевский фла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713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к назывался проект флага, придуманного Петром I и включенного в международные атласы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534492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Флаг Москов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3628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то стали означать цвета триколора в конце XIX век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443700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Единство трех народо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великороссов, малороссов и белору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ие цвета флага Российской империи были до 1896 года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Черный, желтый, бел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3744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27:16Z</dcterms:created>
  <dc:creator>света</dc:creator>
  <dc:description/>
  <dc:language>en-US</dc:language>
  <cp:lastModifiedBy>света</cp:lastModifiedBy>
  <dcterms:modified xsi:type="dcterms:W3CDTF">2007-11-24T10:30:02Z</dcterms:modified>
  <cp:revision>3</cp:revision>
  <dc:subject/>
  <dc:title>Вопросы для викторины</dc:title>
</cp:coreProperties>
</file>