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FDF7-A933-49EA-ACE3-985C8E4B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92C6-85E2-48F4-9E6A-53A3BAB9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AC27-74D4-4591-8AFC-38B4E8AF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88C0-935C-49ED-8A9F-8E7C5D3E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5B54-9E12-4653-8DE4-08FDBFAE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9CE4-311C-4CE7-AEE2-D29CEA86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68BF-6907-4555-AFC0-2B8EF88F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8E14-4A40-4613-B034-3A778401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593B-5BE9-41B1-8B4D-FE3BC81F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DBDA-F189-4BB2-9C3F-84A469B5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4A62-CF11-4870-AB11-71CB41D5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3BE5-A4D4-4E1F-B407-C7516D35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07BA-2274-4F53-80F4-B059E3D81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093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Вопросы для виктори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364500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Arial"/>
              </a:rPr>
              <a:t>Фла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4000" cy="1341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2050920" cy="1297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164360" y="4797360"/>
            <a:ext cx="1979640" cy="122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236000" y="2133720"/>
            <a:ext cx="1908000" cy="1079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164360" y="0"/>
            <a:ext cx="1979640" cy="1268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132000" y="2133720"/>
            <a:ext cx="2808360" cy="1679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0" y="5300640"/>
            <a:ext cx="2050920" cy="1320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0" y="1916280"/>
            <a:ext cx="2124000" cy="1415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9647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 1918 по 1991 год официальным флагом России был красный стяг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акой государственный символ сохранил идею красного цвета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5949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Знамя Побе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255600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64072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де и когда был описан современный флаг России и порядок его официального использования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8920" y="3933360"/>
            <a:ext cx="8713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Федеральном конституционном закон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«О Государственном флаге Российской Федерации» от 25 декабря 2000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Что такое флаг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8920" y="3886200"/>
            <a:ext cx="871380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Символ или знак, сделанный из тка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8147160" cy="39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Во времена правления какого царя появился триколор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4797000"/>
            <a:ext cx="87138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Алексея Михайловича (отец Петра Первого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659640" y="0"/>
            <a:ext cx="24843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5075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 каком году впервые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бело-сине-красный флаг стал приниматься как государственный флаг Росси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4941720"/>
            <a:ext cx="8605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20 ноября 1705 год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77080" y="0"/>
            <a:ext cx="226692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Что означает каждый цвет на флаге России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Белая поло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обода, откровенность, благород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933720"/>
            <a:ext cx="89647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Синяя пол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городица, верность честность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7560" y="5195880"/>
            <a:ext cx="84452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Красная поло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ржавность,  мужество, смелость,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338472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684036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Какой еще один флаг почитался, как и государственный, в истории России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5157360"/>
            <a:ext cx="843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Arial"/>
              </a:rPr>
              <a:t>Андреевский фла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2556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713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Как назывался проект флага, придуманного Петром I и включенного в международные атласы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534492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Флаг Москов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36280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Что стали означать цвета триколора в конце XIX века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4437000"/>
            <a:ext cx="8893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Единство трех народов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: великороссов, малороссов и белорус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978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Какие цвета флага Российской империи были до 1896 года?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Черный, желтый, бел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700360" y="3429000"/>
            <a:ext cx="37447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3:27:16Z</dcterms:created>
  <dc:creator>света</dc:creator>
  <dc:description/>
  <dc:language>en-US</dc:language>
  <cp:lastModifiedBy>света</cp:lastModifiedBy>
  <dcterms:modified xsi:type="dcterms:W3CDTF">2007-11-24T10:30:02Z</dcterms:modified>
  <cp:revision>3</cp:revision>
  <dc:subject/>
  <dc:title>Вопросы для викторины</dc:title>
</cp:coreProperties>
</file>