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5.png" ContentType="image/png"/>
  <Override PartName="/ppt/media/image16.png" ContentType="image/png"/>
  <Override PartName="/ppt/media/image14.png" ContentType="image/png"/>
  <Override PartName="/ppt/media/image10.jpeg" ContentType="image/jpeg"/>
  <Override PartName="/ppt/media/image23.png" ContentType="image/png"/>
  <Override PartName="/ppt/media/image13.jpeg" ContentType="image/jpeg"/>
  <Override PartName="/ppt/media/image40.jpeg" ContentType="image/jpeg"/>
  <Override PartName="/ppt/media/image28.png" ContentType="image/png"/>
  <Override PartName="/ppt/media/image30.png" ContentType="image/png"/>
  <Override PartName="/ppt/media/image37.jpeg" ContentType="image/jpeg"/>
  <Override PartName="/ppt/media/image34.png" ContentType="image/png"/>
  <Override PartName="/ppt/media/image12.jpeg" ContentType="image/jpeg"/>
  <Override PartName="/ppt/media/image35.png" ContentType="image/png"/>
  <Override PartName="/ppt/media/image5.jpeg" ContentType="image/jpeg"/>
  <Override PartName="/ppt/media/image36.jpeg" ContentType="image/jpeg"/>
  <Override PartName="/ppt/media/image39.jpeg" ContentType="image/jpeg"/>
  <Override PartName="/ppt/media/image8.jpeg" ContentType="image/jpeg"/>
  <Override PartName="/ppt/media/image38.png" ContentType="image/png"/>
  <Override PartName="/ppt/media/image9.jpeg" ContentType="image/jpeg"/>
  <Override PartName="/ppt/media/image41.png" ContentType="image/png"/>
  <Override PartName="/ppt/media/image31.png" ContentType="image/png"/>
  <Override PartName="/ppt/media/image43.png" ContentType="image/png"/>
  <Override PartName="/ppt/media/image7.png" ContentType="image/png"/>
  <Override PartName="/ppt/media/image1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8000"/>
              </a:lnSpc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Click to move the slide</a:t>
            </a:r>
            <a:endParaRPr b="0" lang="en-GB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F160D90-FA5F-45A1-828B-91D23F8AC5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8000" cy="48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>
              <a:buNone/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DejaVu Sans"/>
              <a:ea typeface="DejaVu San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dt" idx="7"/>
          </p:nvPr>
        </p:nvSpPr>
        <p:spPr>
          <a:xfrm>
            <a:off x="4278240" y="0"/>
            <a:ext cx="3279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DejaVu Sans"/>
              <a:ea typeface="DejaVu Sans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DejaVu Sans"/>
              <a:ea typeface="DejaVu Sans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  <a:ea typeface="DejaVu Sans"/>
              </a:defRPr>
            </a:lvl1pPr>
          </a:lstStyle>
          <a:p>
            <a: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</a:tabLst>
            </a:pPr>
            <a:fld id="{65F3950F-6392-45AF-B84F-80BFB891B6F8}" type="slidenum">
              <a:rPr b="0" lang="en-US" sz="1400" spc="-1" strike="noStrike">
                <a:solidFill>
                  <a:srgbClr val="000000"/>
                </a:solidFill>
                <a:latin typeface="DejaVu Serif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8000" cy="48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>
              <a:buNone/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DejaVu Sans"/>
              <a:ea typeface="DejaVu San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dt" idx="34"/>
          </p:nvPr>
        </p:nvSpPr>
        <p:spPr>
          <a:xfrm>
            <a:off x="4278240" y="0"/>
            <a:ext cx="3279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DejaVu Sans"/>
              <a:ea typeface="DejaVu San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ftr" idx="35"/>
          </p:nvPr>
        </p:nvSpPr>
        <p:spPr>
          <a:xfrm>
            <a:off x="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DejaVu Sans"/>
              <a:ea typeface="DejaVu Sans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 type="sldNum" idx="36"/>
          </p:nvPr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  <a:ea typeface="DejaVu Sans"/>
              </a:defRPr>
            </a:lvl1pPr>
          </a:lstStyle>
          <a:p>
            <a: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</a:tabLst>
            </a:pPr>
            <a:fld id="{023DB58C-779F-490E-A93C-BEB3DA294336}" type="slidenum">
              <a:rPr b="0" lang="en-US" sz="1400" spc="-1" strike="noStrike">
                <a:solidFill>
                  <a:srgbClr val="000000"/>
                </a:solidFill>
                <a:latin typeface="DejaVu Serif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8000" cy="48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>
              <a:buNone/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DejaVu Sans"/>
              <a:ea typeface="DejaVu San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dt" idx="37"/>
          </p:nvPr>
        </p:nvSpPr>
        <p:spPr>
          <a:xfrm>
            <a:off x="4278240" y="0"/>
            <a:ext cx="3279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DejaVu Sans"/>
              <a:ea typeface="DejaVu Sans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38"/>
          </p:nvPr>
        </p:nvSpPr>
        <p:spPr>
          <a:xfrm>
            <a:off x="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DejaVu Sans"/>
              <a:ea typeface="DejaVu Sans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 type="sldNum" idx="39"/>
          </p:nvPr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  <a:ea typeface="DejaVu Sans"/>
              </a:defRPr>
            </a:lvl1pPr>
          </a:lstStyle>
          <a:p>
            <a: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</a:tabLst>
            </a:pPr>
            <a:fld id="{730D7447-118D-46D2-8078-33A63A744D62}" type="slidenum">
              <a:rPr b="0" lang="en-US" sz="1400" spc="-1" strike="noStrike">
                <a:solidFill>
                  <a:srgbClr val="000000"/>
                </a:solidFill>
                <a:latin typeface="DejaVu Serif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8000" cy="48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>
              <a:buNone/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DejaVu Sans"/>
              <a:ea typeface="DejaVu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dt" idx="40"/>
          </p:nvPr>
        </p:nvSpPr>
        <p:spPr>
          <a:xfrm>
            <a:off x="4278240" y="0"/>
            <a:ext cx="3279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DejaVu Sans"/>
              <a:ea typeface="DejaVu San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ftr" idx="41"/>
          </p:nvPr>
        </p:nvSpPr>
        <p:spPr>
          <a:xfrm>
            <a:off x="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DejaVu Sans"/>
              <a:ea typeface="DejaVu Sans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 type="sldNum" idx="42"/>
          </p:nvPr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  <a:ea typeface="DejaVu Sans"/>
              </a:defRPr>
            </a:lvl1pPr>
          </a:lstStyle>
          <a:p>
            <a: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</a:tabLst>
            </a:pPr>
            <a:fld id="{1553944E-EB15-4D75-9E09-441E74BE1D36}" type="slidenum">
              <a:rPr b="0" lang="en-US" sz="1400" spc="-1" strike="noStrike">
                <a:solidFill>
                  <a:srgbClr val="000000"/>
                </a:solidFill>
                <a:latin typeface="DejaVu Serif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8000" cy="48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>
              <a:buNone/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DejaVu Sans"/>
              <a:ea typeface="DejaVu San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dt" idx="43"/>
          </p:nvPr>
        </p:nvSpPr>
        <p:spPr>
          <a:xfrm>
            <a:off x="4278240" y="0"/>
            <a:ext cx="3279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DejaVu Sans"/>
              <a:ea typeface="DejaVu San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ftr" idx="44"/>
          </p:nvPr>
        </p:nvSpPr>
        <p:spPr>
          <a:xfrm>
            <a:off x="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DejaVu Sans"/>
              <a:ea typeface="DejaVu Sans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 type="sldNum" idx="45"/>
          </p:nvPr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  <a:ea typeface="DejaVu Sans"/>
              </a:defRPr>
            </a:lvl1pPr>
          </a:lstStyle>
          <a:p>
            <a: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</a:tabLst>
            </a:pPr>
            <a:fld id="{CC30A096-00A2-4550-976F-6BFC282EF4C4}" type="slidenum">
              <a:rPr b="0" lang="en-US" sz="1400" spc="-1" strike="noStrike">
                <a:solidFill>
                  <a:srgbClr val="000000"/>
                </a:solidFill>
                <a:latin typeface="DejaVu Serif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8000" cy="48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>
              <a:buNone/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DejaVu Sans"/>
              <a:ea typeface="DejaVu Sans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dt" idx="46"/>
          </p:nvPr>
        </p:nvSpPr>
        <p:spPr>
          <a:xfrm>
            <a:off x="4278240" y="0"/>
            <a:ext cx="3279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DejaVu Sans"/>
              <a:ea typeface="DejaVu Sans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ftr" idx="47"/>
          </p:nvPr>
        </p:nvSpPr>
        <p:spPr>
          <a:xfrm>
            <a:off x="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DejaVu Sans"/>
              <a:ea typeface="DejaVu Sans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 type="sldNum" idx="48"/>
          </p:nvPr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  <a:ea typeface="DejaVu Sans"/>
              </a:defRPr>
            </a:lvl1pPr>
          </a:lstStyle>
          <a:p>
            <a: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</a:tabLst>
            </a:pPr>
            <a:fld id="{20580B62-B17D-4D44-87BE-CED313F7EB8E}" type="slidenum">
              <a:rPr b="0" lang="en-US" sz="1400" spc="-1" strike="noStrike">
                <a:solidFill>
                  <a:srgbClr val="000000"/>
                </a:solidFill>
                <a:latin typeface="DejaVu Serif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8000" cy="48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>
              <a:buNone/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DejaVu Sans"/>
              <a:ea typeface="DejaVu San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dt" idx="49"/>
          </p:nvPr>
        </p:nvSpPr>
        <p:spPr>
          <a:xfrm>
            <a:off x="4278240" y="0"/>
            <a:ext cx="3279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DejaVu Sans"/>
              <a:ea typeface="DejaVu Sans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ftr" idx="50"/>
          </p:nvPr>
        </p:nvSpPr>
        <p:spPr>
          <a:xfrm>
            <a:off x="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DejaVu Sans"/>
              <a:ea typeface="DejaVu Sans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 type="sldNum" idx="51"/>
          </p:nvPr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  <a:ea typeface="DejaVu Sans"/>
              </a:defRPr>
            </a:lvl1pPr>
          </a:lstStyle>
          <a:p>
            <a: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</a:tabLst>
            </a:pPr>
            <a:fld id="{73612EE6-5182-4265-B3D3-0EC8D743000C}" type="slidenum">
              <a:rPr b="0" lang="en-US" sz="1400" spc="-1" strike="noStrike">
                <a:solidFill>
                  <a:srgbClr val="000000"/>
                </a:solidFill>
                <a:latin typeface="DejaVu Serif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8000" cy="48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>
              <a:buNone/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DejaVu Sans"/>
              <a:ea typeface="DejaVu Sans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dt" idx="52"/>
          </p:nvPr>
        </p:nvSpPr>
        <p:spPr>
          <a:xfrm>
            <a:off x="4278240" y="0"/>
            <a:ext cx="3279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DejaVu Sans"/>
              <a:ea typeface="DejaVu Sans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ftr" idx="53"/>
          </p:nvPr>
        </p:nvSpPr>
        <p:spPr>
          <a:xfrm>
            <a:off x="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DejaVu Sans"/>
              <a:ea typeface="DejaVu Sans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 type="sldNum" idx="54"/>
          </p:nvPr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  <a:ea typeface="DejaVu Sans"/>
              </a:defRPr>
            </a:lvl1pPr>
          </a:lstStyle>
          <a:p>
            <a: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</a:tabLst>
            </a:pPr>
            <a:fld id="{240D203B-C0F3-45A7-8FFC-727D24AF4564}" type="slidenum">
              <a:rPr b="0" lang="en-US" sz="1400" spc="-1" strike="noStrike">
                <a:solidFill>
                  <a:srgbClr val="000000"/>
                </a:solidFill>
                <a:latin typeface="DejaVu Serif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8000" cy="48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>
              <a:buNone/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DejaVu Sans"/>
              <a:ea typeface="DejaVu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dt" idx="55"/>
          </p:nvPr>
        </p:nvSpPr>
        <p:spPr>
          <a:xfrm>
            <a:off x="4278240" y="0"/>
            <a:ext cx="3279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DejaVu Sans"/>
              <a:ea typeface="DejaVu San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ftr" idx="56"/>
          </p:nvPr>
        </p:nvSpPr>
        <p:spPr>
          <a:xfrm>
            <a:off x="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DejaVu Sans"/>
              <a:ea typeface="DejaVu Sans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 type="sldNum" idx="57"/>
          </p:nvPr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  <a:ea typeface="DejaVu Sans"/>
              </a:defRPr>
            </a:lvl1pPr>
          </a:lstStyle>
          <a:p>
            <a: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</a:tabLst>
            </a:pPr>
            <a:fld id="{804438C3-469D-4968-9708-7D213032A844}" type="slidenum">
              <a:rPr b="0" lang="en-US" sz="1400" spc="-1" strike="noStrike">
                <a:solidFill>
                  <a:srgbClr val="000000"/>
                </a:solidFill>
                <a:latin typeface="DejaVu Serif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8000" cy="48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>
              <a:buNone/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DejaVu Sans"/>
              <a:ea typeface="DejaVu San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dt" idx="58"/>
          </p:nvPr>
        </p:nvSpPr>
        <p:spPr>
          <a:xfrm>
            <a:off x="4278240" y="0"/>
            <a:ext cx="3279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DejaVu Sans"/>
              <a:ea typeface="DejaVu Sans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ftr" idx="59"/>
          </p:nvPr>
        </p:nvSpPr>
        <p:spPr>
          <a:xfrm>
            <a:off x="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DejaVu Sans"/>
              <a:ea typeface="DejaVu Sans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 type="sldNum" idx="60"/>
          </p:nvPr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  <a:ea typeface="DejaVu Sans"/>
              </a:defRPr>
            </a:lvl1pPr>
          </a:lstStyle>
          <a:p>
            <a: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</a:tabLst>
            </a:pPr>
            <a:fld id="{F3E88517-2D86-42A6-BB19-8CD707DCDAEC}" type="slidenum">
              <a:rPr b="0" lang="en-US" sz="1400" spc="-1" strike="noStrike">
                <a:solidFill>
                  <a:srgbClr val="000000"/>
                </a:solidFill>
                <a:latin typeface="DejaVu Serif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>
              <a:buNone/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fld id="{F08F2343-79D1-4D6F-B295-8C7EA393B77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DejaVu Sans"/>
              <a:ea typeface="DejaVu San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dt" idx="10"/>
          </p:nvPr>
        </p:nvSpPr>
        <p:spPr>
          <a:xfrm>
            <a:off x="4278240" y="0"/>
            <a:ext cx="3279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DejaVu Sans"/>
              <a:ea typeface="DejaVu Sans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ftr" idx="11"/>
          </p:nvPr>
        </p:nvSpPr>
        <p:spPr>
          <a:xfrm>
            <a:off x="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DejaVu Sans"/>
              <a:ea typeface="DejaVu Sans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 type="sldNum" idx="12"/>
          </p:nvPr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  <a:ea typeface="DejaVu Sans"/>
              </a:defRPr>
            </a:lvl1pPr>
          </a:lstStyle>
          <a:p>
            <a: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</a:tabLst>
            </a:pPr>
            <a:fld id="{5A27D6F6-EF17-449B-A5D6-3F53D5F94154}" type="slidenum">
              <a:rPr b="0" lang="en-US" sz="1400" spc="-1" strike="noStrike">
                <a:solidFill>
                  <a:srgbClr val="000000"/>
                </a:solidFill>
                <a:latin typeface="DejaVu Serif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8000" cy="48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>
              <a:buNone/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DejaVu Sans"/>
              <a:ea typeface="DejaVu San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dt" idx="13"/>
          </p:nvPr>
        </p:nvSpPr>
        <p:spPr>
          <a:xfrm>
            <a:off x="4278240" y="0"/>
            <a:ext cx="3279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DejaVu Sans"/>
              <a:ea typeface="DejaVu Sans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ftr" idx="14"/>
          </p:nvPr>
        </p:nvSpPr>
        <p:spPr>
          <a:xfrm>
            <a:off x="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DejaVu Sans"/>
              <a:ea typeface="DejaVu Sans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 type="sldNum" idx="15"/>
          </p:nvPr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  <a:ea typeface="DejaVu Sans"/>
              </a:defRPr>
            </a:lvl1pPr>
          </a:lstStyle>
          <a:p>
            <a: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</a:tabLst>
            </a:pPr>
            <a:fld id="{D0208BAC-A844-49C6-B61D-AB1B888644C6}" type="slidenum">
              <a:rPr b="0" lang="en-US" sz="1400" spc="-1" strike="noStrike">
                <a:solidFill>
                  <a:srgbClr val="000000"/>
                </a:solidFill>
                <a:latin typeface="DejaVu Serif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8000" cy="48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>
              <a:buNone/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DejaVu Sans"/>
              <a:ea typeface="DejaVu Sans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dt" idx="16"/>
          </p:nvPr>
        </p:nvSpPr>
        <p:spPr>
          <a:xfrm>
            <a:off x="4278240" y="0"/>
            <a:ext cx="3279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DejaVu Sans"/>
              <a:ea typeface="DejaVu Sans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ftr" idx="17"/>
          </p:nvPr>
        </p:nvSpPr>
        <p:spPr>
          <a:xfrm>
            <a:off x="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DejaVu Sans"/>
              <a:ea typeface="DejaVu Sans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 type="sldNum" idx="18"/>
          </p:nvPr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  <a:ea typeface="DejaVu Sans"/>
              </a:defRPr>
            </a:lvl1pPr>
          </a:lstStyle>
          <a:p>
            <a: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</a:tabLst>
            </a:pPr>
            <a:fld id="{557A9A75-BFA1-40DA-966F-44C822577A8F}" type="slidenum">
              <a:rPr b="0" lang="en-US" sz="1400" spc="-1" strike="noStrike">
                <a:solidFill>
                  <a:srgbClr val="000000"/>
                </a:solidFill>
                <a:latin typeface="DejaVu Serif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8000" cy="48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>
              <a:buNone/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DejaVu Sans"/>
              <a:ea typeface="DejaVu San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dt" idx="19"/>
          </p:nvPr>
        </p:nvSpPr>
        <p:spPr>
          <a:xfrm>
            <a:off x="4278240" y="0"/>
            <a:ext cx="3279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DejaVu Sans"/>
              <a:ea typeface="DejaVu Sans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ftr" idx="20"/>
          </p:nvPr>
        </p:nvSpPr>
        <p:spPr>
          <a:xfrm>
            <a:off x="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DejaVu Sans"/>
              <a:ea typeface="DejaVu Sans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 type="sldNum" idx="21"/>
          </p:nvPr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  <a:ea typeface="DejaVu Sans"/>
              </a:defRPr>
            </a:lvl1pPr>
          </a:lstStyle>
          <a:p>
            <a: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</a:tabLst>
            </a:pPr>
            <a:fld id="{F368612F-05EF-43E2-9542-B7ED115603EC}" type="slidenum">
              <a:rPr b="0" lang="en-US" sz="1400" spc="-1" strike="noStrike">
                <a:solidFill>
                  <a:srgbClr val="000000"/>
                </a:solidFill>
                <a:latin typeface="DejaVu Serif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8000" cy="48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>
              <a:buNone/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DejaVu Sans"/>
              <a:ea typeface="DejaVu Sans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dt" idx="22"/>
          </p:nvPr>
        </p:nvSpPr>
        <p:spPr>
          <a:xfrm>
            <a:off x="4278240" y="0"/>
            <a:ext cx="3279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DejaVu Sans"/>
              <a:ea typeface="DejaVu Sans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ftr" idx="23"/>
          </p:nvPr>
        </p:nvSpPr>
        <p:spPr>
          <a:xfrm>
            <a:off x="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DejaVu Sans"/>
              <a:ea typeface="DejaVu Sans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 type="sldNum" idx="24"/>
          </p:nvPr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  <a:ea typeface="DejaVu Sans"/>
              </a:defRPr>
            </a:lvl1pPr>
          </a:lstStyle>
          <a:p>
            <a: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</a:tabLst>
            </a:pPr>
            <a:fld id="{E9B0F443-6930-4E69-B95B-5FDA259265B4}" type="slidenum">
              <a:rPr b="0" lang="en-US" sz="1400" spc="-1" strike="noStrike">
                <a:solidFill>
                  <a:srgbClr val="000000"/>
                </a:solidFill>
                <a:latin typeface="DejaVu Serif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8000" cy="48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>
              <a:buNone/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DejaVu Sans"/>
              <a:ea typeface="DejaVu Sans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dt" idx="25"/>
          </p:nvPr>
        </p:nvSpPr>
        <p:spPr>
          <a:xfrm>
            <a:off x="4278240" y="0"/>
            <a:ext cx="3279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DejaVu Sans"/>
              <a:ea typeface="DejaVu Sans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ftr" idx="26"/>
          </p:nvPr>
        </p:nvSpPr>
        <p:spPr>
          <a:xfrm>
            <a:off x="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DejaVu Sans"/>
              <a:ea typeface="DejaVu Sans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 type="sldNum" idx="27"/>
          </p:nvPr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  <a:ea typeface="DejaVu Sans"/>
              </a:defRPr>
            </a:lvl1pPr>
          </a:lstStyle>
          <a:p>
            <a: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</a:tabLst>
            </a:pPr>
            <a:fld id="{F61F5BA0-B93C-4ED1-A636-4A080681C156}" type="slidenum">
              <a:rPr b="0" lang="en-US" sz="1400" spc="-1" strike="noStrike">
                <a:solidFill>
                  <a:srgbClr val="000000"/>
                </a:solidFill>
                <a:latin typeface="DejaVu Serif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8000" cy="48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>
              <a:buNone/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DejaVu Sans"/>
              <a:ea typeface="DejaVu San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dt" idx="28"/>
          </p:nvPr>
        </p:nvSpPr>
        <p:spPr>
          <a:xfrm>
            <a:off x="4278240" y="0"/>
            <a:ext cx="3279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DejaVu Sans"/>
              <a:ea typeface="DejaVu Sans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29"/>
          </p:nvPr>
        </p:nvSpPr>
        <p:spPr>
          <a:xfrm>
            <a:off x="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DejaVu Sans"/>
              <a:ea typeface="DejaVu Sans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30"/>
          </p:nvPr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  <a:ea typeface="DejaVu Sans"/>
              </a:defRPr>
            </a:lvl1pPr>
          </a:lstStyle>
          <a:p>
            <a: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</a:tabLst>
            </a:pPr>
            <a:fld id="{5A044857-1771-410A-9ACE-C567B492B545}" type="slidenum">
              <a:rPr b="0" lang="en-US" sz="1400" spc="-1" strike="noStrike">
                <a:solidFill>
                  <a:srgbClr val="000000"/>
                </a:solidFill>
                <a:latin typeface="DejaVu Serif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8000" cy="48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>
              <a:buNone/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DejaVu Sans"/>
              <a:ea typeface="DejaVu 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dt" idx="31"/>
          </p:nvPr>
        </p:nvSpPr>
        <p:spPr>
          <a:xfrm>
            <a:off x="4278240" y="0"/>
            <a:ext cx="3279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DejaVu Sans"/>
              <a:ea typeface="DejaVu 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ftr" idx="32"/>
          </p:nvPr>
        </p:nvSpPr>
        <p:spPr>
          <a:xfrm>
            <a:off x="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DejaVu Sans"/>
              <a:ea typeface="DejaVu Sans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 type="sldNum" idx="33"/>
          </p:nvPr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  <a:ea typeface="DejaVu Sans"/>
              </a:defRPr>
            </a:lvl1pPr>
          </a:lstStyle>
          <a:p>
            <a: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</a:tabLst>
            </a:pPr>
            <a:fld id="{5BFF5EA6-6FB3-46A6-B8DE-7CA53ED054BC}" type="slidenum">
              <a:rPr b="0" lang="en-US" sz="1400" spc="-1" strike="noStrike">
                <a:solidFill>
                  <a:srgbClr val="000000"/>
                </a:solidFill>
                <a:latin typeface="DejaVu Serif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91CF-1B48-44CD-ADED-583B6E3EB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</a:pPr>
            <a:endParaRPr b="0" lang="en-GB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672D-3D39-4144-A968-E54E541D7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</a:pPr>
            <a:endParaRPr b="0" lang="en-GB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E614-EF8E-4D79-9A17-B05484A4C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</a:pPr>
            <a:endParaRPr b="0" lang="en-GB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188B-2547-46BC-AF59-BBE84A3F8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</a:pPr>
            <a:endParaRPr b="0" lang="en-GB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10F4-CFA8-499B-85C4-B44C1FBAC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</a:pPr>
            <a:endParaRPr b="0" lang="en-GB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7406-F1EA-4BBA-92DE-53E336055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</a:pPr>
            <a:endParaRPr b="0" lang="en-GB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7620-2C27-4EDD-BCB9-C1811D233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</a:pPr>
            <a:endParaRPr b="0" lang="en-GB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BCAB-CD96-4EE1-BE01-C4A25416D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21A9-763E-4C96-BFAC-43E38DF7E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</a:pPr>
            <a:endParaRPr b="0" lang="en-GB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8813-A6D3-40B7-AD60-8ECFD7CC8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</a:pPr>
            <a:endParaRPr b="0" lang="en-GB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774D-56F8-4DCD-A846-0A61FA0E8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</a:pPr>
            <a:endParaRPr b="0" lang="en-GB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712D-C3AC-46C9-AE09-BE69F65E1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0120" cy="36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2240" cy="36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0120" cy="36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</a:tabLst>
              <a:defRPr b="0" lang="ru-RU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</a:tabLst>
            </a:pPr>
            <a:fld id="{A467BC07-384D-4BE4-8511-6AE36F4AD2E4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GB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8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GB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4000" indent="-324000">
              <a:lnSpc>
                <a:spcPct val="98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24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GB" sz="2400" spc="-1" strike="noStrike">
              <a:solidFill>
                <a:srgbClr val="000000"/>
              </a:solidFill>
              <a:latin typeface="DejaVu Sans"/>
            </a:endParaRPr>
          </a:p>
          <a:p>
            <a:pPr lvl="2" marL="1296000" indent="-288000">
              <a:lnSpc>
                <a:spcPct val="98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GB" sz="2000" spc="-1" strike="noStrike">
              <a:solidFill>
                <a:srgbClr val="000000"/>
              </a:solidFill>
              <a:latin typeface="DejaVu Sans"/>
            </a:endParaRPr>
          </a:p>
          <a:p>
            <a:pPr lvl="3" marL="1728000" indent="-216000">
              <a:lnSpc>
                <a:spcPct val="98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20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GB" sz="2000" spc="-1" strike="noStrike">
              <a:solidFill>
                <a:srgbClr val="000000"/>
              </a:solidFill>
              <a:latin typeface="DejaVu Sans"/>
            </a:endParaRPr>
          </a:p>
          <a:p>
            <a:pPr lvl="4" marL="2160000" indent="-216000">
              <a:lnSpc>
                <a:spcPct val="98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GB" sz="2000" spc="-1" strike="noStrike">
              <a:solidFill>
                <a:srgbClr val="000000"/>
              </a:solidFill>
              <a:latin typeface="DejaVu Sans"/>
            </a:endParaRPr>
          </a:p>
          <a:p>
            <a:pPr lvl="5" marL="2592000" indent="-216000">
              <a:lnSpc>
                <a:spcPct val="98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GB" sz="2000" spc="-1" strike="noStrike">
              <a:solidFill>
                <a:srgbClr val="000000"/>
              </a:solidFill>
              <a:latin typeface="DejaVu Sans"/>
            </a:endParaRPr>
          </a:p>
          <a:p>
            <a:pPr lvl="6" marL="3024000" indent="-216000">
              <a:lnSpc>
                <a:spcPct val="98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GB" sz="20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image" Target="../media/image26.png"/><Relationship Id="rId8" Type="http://schemas.openxmlformats.org/officeDocument/2006/relationships/image" Target="../media/image26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7.jpeg"/><Relationship Id="rId13" Type="http://schemas.openxmlformats.org/officeDocument/2006/relationships/image" Target="../media/image28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4.png"/><Relationship Id="rId9" Type="http://schemas.openxmlformats.org/officeDocument/2006/relationships/image" Target="../media/image35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75320" cy="68814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3080" y="1487520"/>
            <a:ext cx="8930880" cy="1785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rcRect l="0" t="0" r="51889" b="0"/>
          <a:stretch/>
        </p:blipFill>
        <p:spPr>
          <a:xfrm>
            <a:off x="30240" y="3551400"/>
            <a:ext cx="1999800" cy="33224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826920" y="333360"/>
            <a:ext cx="7848360" cy="18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1026"/>
              </a:spcAft>
              <a:tabLst>
                <a:tab algn="l" pos="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Calibri"/>
              </a:rPr>
              <a:t>РМО музыкальных руководителе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6237360"/>
            <a:ext cx="39603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DejaVu Sans"/>
              </a:rPr>
              <a:t>Вольск, 20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59280" y="3868560"/>
            <a:ext cx="4141440" cy="13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ко Лариса Геннадьевна, музыкальный руководитель МДОУ «Детский сад № 51 р. п. Сенно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gradFill rotWithShape="0">
            <a:gsLst>
              <a:gs pos="0">
                <a:srgbClr val="feffe2"/>
              </a:gs>
              <a:gs pos="100000">
                <a:srgbClr val="ffffa1"/>
              </a:gs>
            </a:gsLst>
            <a:lin ang="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DejaVu Sans"/>
              </a:rPr>
              <a:t>Они наход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9640" y="260280"/>
            <a:ext cx="8135640" cy="35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6000" indent="-216000"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Bookman Old Style"/>
                <a:ea typeface="DejaVu Sans"/>
              </a:rPr>
              <a:t>Развивающая сре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Bookman Old Style"/>
                <a:ea typeface="DejaVu Sans"/>
              </a:rPr>
              <a:t>Детские музыкальные инструмент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Clr>
                <a:srgbClr val="10253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Bookman Old Style"/>
                <a:ea typeface="DejaVu Sans"/>
              </a:rPr>
              <a:t>со звуком неопределённой высоты (погремушки, бубны, барабаны, маракасы, тарелки, румбы, треугольники, кастаньеты, трещотки, деревянные палочки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Clr>
                <a:srgbClr val="10253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Bookman Old Style"/>
                <a:ea typeface="DejaVu Sans"/>
              </a:rPr>
              <a:t>с диатоническим и хроматическим звукорядом ударные (металлофон, ксилофон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27640" y="3728880"/>
            <a:ext cx="44240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Bookman Old Style"/>
                <a:ea typeface="DejaVu Sans"/>
              </a:rPr>
              <a:t>• </a:t>
            </a:r>
            <a:r>
              <a:rPr b="0" lang="ru-RU" sz="2400" spc="-1" strike="noStrike">
                <a:solidFill>
                  <a:srgbClr val="10253f"/>
                </a:solidFill>
                <a:latin typeface="Bookman Old Style"/>
                <a:ea typeface="DejaVu Sans"/>
              </a:rPr>
              <a:t>озвученные музыкальные игрушки ( музыкальная книжка, молоточек, органчики, музыкальная шкатулка, музыкальные волчки, музыкальные колокольчик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79280" y="3838680"/>
            <a:ext cx="4301640" cy="29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2320" y="20520"/>
            <a:ext cx="9143640" cy="6857640"/>
          </a:xfrm>
          <a:prstGeom prst="rect">
            <a:avLst/>
          </a:prstGeom>
          <a:gradFill rotWithShape="0">
            <a:gsLst>
              <a:gs pos="0">
                <a:srgbClr val="feffe2"/>
              </a:gs>
              <a:gs pos="100000">
                <a:srgbClr val="ffffa1"/>
              </a:gs>
            </a:gsLst>
            <a:lin ang="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8960" y="260280"/>
            <a:ext cx="8645040" cy="68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6000" indent="-216000"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  <a:ea typeface="DejaVu Sans"/>
              </a:rPr>
              <a:t>     </a:t>
            </a:r>
            <a:r>
              <a:rPr b="0" lang="ru-RU" sz="2800" spc="-1" strike="noStrike">
                <a:solidFill>
                  <a:srgbClr val="7030a0"/>
                </a:solidFill>
                <a:latin typeface="Bookman Old Style"/>
                <a:ea typeface="DejaVu Sans"/>
              </a:rPr>
              <a:t>Использование музыкальных инструментов в возрастной группе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  <a:ea typeface="DejaVu Sans"/>
              </a:rPr>
              <a:t> </a:t>
            </a:r>
            <a:r>
              <a:rPr b="0" lang="ru-RU" sz="2800" spc="-1" strike="noStrike">
                <a:solidFill>
                  <a:srgbClr val="7030a0"/>
                </a:solidFill>
                <a:latin typeface="Bookman Old Style"/>
                <a:ea typeface="DejaVu Sans"/>
              </a:rPr>
              <a:t>младший дошкольный возрас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Clr>
                <a:srgbClr val="10253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Bookman Old Style"/>
                <a:ea typeface="DejaVu Sans"/>
              </a:rPr>
              <a:t>Игрушки-инструменты со звуком неопределённой высоты: бубен, барабан (с кожаной основой), погремушки, колокольчи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Clr>
                <a:srgbClr val="10253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Bookman Old Style"/>
                <a:ea typeface="DejaVu Sans"/>
              </a:rPr>
              <a:t>Игрушки-инструменты с фиксированным звуком – органчики, шарман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Clr>
                <a:srgbClr val="10253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Bookman Old Style"/>
                <a:ea typeface="DejaVu Sans"/>
              </a:rPr>
              <a:t>деревянные палочки, деревя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Bookman Old Style"/>
                <a:ea typeface="DejaVu Sans"/>
              </a:rPr>
              <a:t>лож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Clr>
                <a:srgbClr val="10253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Bookman Old Style"/>
                <a:ea typeface="DejaVu Sans"/>
              </a:rPr>
              <a:t>Треугольник, металлофон (во втор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Bookman Old Style"/>
                <a:ea typeface="DejaVu Sans"/>
              </a:rPr>
              <a:t>половине средней групп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516720" y="4826160"/>
            <a:ext cx="2312640" cy="17712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771640" y="1773360"/>
            <a:ext cx="4016160" cy="145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0" y="0"/>
            <a:ext cx="9140400" cy="6854400"/>
            <a:chOff x="0" y="0"/>
            <a:chExt cx="9140400" cy="6854400"/>
          </a:xfrm>
        </p:grpSpPr>
        <p:sp>
          <p:nvSpPr>
            <p:cNvPr id="100" name=""/>
            <p:cNvSpPr/>
            <p:nvPr/>
          </p:nvSpPr>
          <p:spPr>
            <a:xfrm>
              <a:off x="0" y="0"/>
              <a:ext cx="9140400" cy="6854400"/>
            </a:xfrm>
            <a:prstGeom prst="rect">
              <a:avLst/>
            </a:prstGeom>
            <a:gradFill rotWithShape="0">
              <a:gsLst>
                <a:gs pos="0">
                  <a:srgbClr val="feffe2"/>
                </a:gs>
                <a:gs pos="100000">
                  <a:srgbClr val="ffffa1"/>
                </a:gs>
              </a:gsLst>
              <a:lin ang="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6948360" y="5300640"/>
              <a:ext cx="2192040" cy="155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" name=""/>
          <p:cNvSpPr/>
          <p:nvPr/>
        </p:nvSpPr>
        <p:spPr>
          <a:xfrm>
            <a:off x="318960" y="260280"/>
            <a:ext cx="8645040" cy="27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6000" indent="-216000"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  <a:ea typeface="DejaVu Sans"/>
              </a:rPr>
              <a:t>     </a:t>
            </a:r>
            <a:r>
              <a:rPr b="0" lang="ru-RU" sz="2800" spc="-1" strike="noStrike">
                <a:solidFill>
                  <a:srgbClr val="7030a0"/>
                </a:solidFill>
                <a:latin typeface="Bookman Old Style"/>
                <a:ea typeface="DejaVu Sans"/>
              </a:rPr>
              <a:t>Использование музыкальных инструментов в возрастной групп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Bookman Old Style"/>
                <a:ea typeface="DejaVu Sans"/>
              </a:rPr>
              <a:t>Старший дошкольный возраст: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  <a:ea typeface="DejaVu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buClr>
                <a:srgbClr val="10253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Bookman Old Style"/>
                <a:ea typeface="DejaVu Sans"/>
              </a:rPr>
              <a:t>треугольник, трещотка, бубны, румба, маракасы, кастаньеты, металлофоны, ксилофоны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841920" y="3006720"/>
            <a:ext cx="3252600" cy="18489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rcRect l="0" t="14969" r="0" b="14969"/>
          <a:stretch/>
        </p:blipFill>
        <p:spPr>
          <a:xfrm>
            <a:off x="4662360" y="4816440"/>
            <a:ext cx="2522160" cy="17665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rcRect l="0" t="36339" r="4914" b="0"/>
          <a:stretch/>
        </p:blipFill>
        <p:spPr>
          <a:xfrm>
            <a:off x="318960" y="4307040"/>
            <a:ext cx="4533480" cy="22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gradFill rotWithShape="0">
            <a:gsLst>
              <a:gs pos="0">
                <a:srgbClr val="feffe2"/>
              </a:gs>
              <a:gs pos="100000">
                <a:srgbClr val="ffffa1"/>
              </a:gs>
            </a:gsLst>
            <a:lin ang="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189000"/>
            <a:ext cx="8642160" cy="64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6000" indent="-216000"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r>
              <a:rPr b="0" lang="ru-RU" sz="3000" spc="-1" strike="noStrike">
                <a:solidFill>
                  <a:srgbClr val="7030a0"/>
                </a:solidFill>
                <a:latin typeface="Bookman Old Style"/>
                <a:ea typeface="DejaVu Sans"/>
              </a:rPr>
              <a:t>Этапы обучения игре в шумовом оркестре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buClr>
                <a:srgbClr val="10253f"/>
              </a:buClr>
              <a:buFont typeface="Times New Roman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</a:tabLst>
            </a:pPr>
            <a:r>
              <a:rPr b="0" lang="ru-RU" sz="2800" spc="-1" strike="noStrike">
                <a:solidFill>
                  <a:srgbClr val="10253f"/>
                </a:solidFill>
                <a:latin typeface="Bookman Old Style"/>
                <a:ea typeface="DejaVu Sans"/>
              </a:rPr>
              <a:t>«Молчим — слушаем — играем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r>
              <a:rPr b="0" lang="ru-RU" sz="2800" spc="-1" strike="noStrike">
                <a:solidFill>
                  <a:srgbClr val="10253f"/>
                </a:solidFill>
                <a:latin typeface="Bookman Old Style"/>
                <a:ea typeface="DejaVu Sans"/>
              </a:rPr>
              <a:t>2.  «Медленно — быстр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r>
              <a:rPr b="0" lang="ru-RU" sz="2800" spc="-1" strike="noStrike">
                <a:solidFill>
                  <a:srgbClr val="10253f"/>
                </a:solidFill>
                <a:latin typeface="Bookman Old Style"/>
                <a:ea typeface="DejaVu Sans"/>
              </a:rPr>
              <a:t>3. «Молчим, слушаем — медленно — быстр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rcRect l="21175" t="6795" r="63607" b="6533"/>
          <a:stretch/>
        </p:blipFill>
        <p:spPr>
          <a:xfrm>
            <a:off x="1066680" y="2928960"/>
            <a:ext cx="807840" cy="9126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rcRect l="22768" t="6795" r="61108" b="6533"/>
          <a:stretch/>
        </p:blipFill>
        <p:spPr>
          <a:xfrm>
            <a:off x="1822320" y="2928960"/>
            <a:ext cx="866520" cy="9234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3517920" y="2928960"/>
            <a:ext cx="833040" cy="9126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5165640" y="1409760"/>
            <a:ext cx="853560" cy="934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rcRect l="35393" t="68883" r="56551" b="20536"/>
          <a:stretch/>
        </p:blipFill>
        <p:spPr>
          <a:xfrm>
            <a:off x="1209600" y="1413000"/>
            <a:ext cx="947520" cy="936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rcRect l="35393" t="68883" r="56551" b="20536"/>
          <a:stretch/>
        </p:blipFill>
        <p:spPr>
          <a:xfrm>
            <a:off x="3043080" y="1409760"/>
            <a:ext cx="947520" cy="9345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7"/>
          <a:srcRect l="35393" t="68883" r="56551" b="20536"/>
          <a:stretch/>
        </p:blipFill>
        <p:spPr>
          <a:xfrm>
            <a:off x="977760" y="4761000"/>
            <a:ext cx="983880" cy="9712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8"/>
          <a:srcRect l="35393" t="68883" r="56551" b="20536"/>
          <a:stretch/>
        </p:blipFill>
        <p:spPr>
          <a:xfrm>
            <a:off x="2797200" y="4764240"/>
            <a:ext cx="980640" cy="9680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9"/>
          <a:srcRect l="21175" t="6795" r="63607" b="6533"/>
          <a:stretch/>
        </p:blipFill>
        <p:spPr>
          <a:xfrm>
            <a:off x="4608360" y="4761000"/>
            <a:ext cx="860040" cy="971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0"/>
          <a:srcRect l="22768" t="6795" r="61108" b="6533"/>
          <a:stretch/>
        </p:blipFill>
        <p:spPr>
          <a:xfrm>
            <a:off x="5381640" y="4759200"/>
            <a:ext cx="914040" cy="9727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1"/>
          <a:stretch/>
        </p:blipFill>
        <p:spPr>
          <a:xfrm>
            <a:off x="7020000" y="4743360"/>
            <a:ext cx="902880" cy="9885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12"/>
          <a:stretch/>
        </p:blipFill>
        <p:spPr>
          <a:xfrm>
            <a:off x="7240680" y="5545080"/>
            <a:ext cx="1785600" cy="12744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13"/>
          <a:stretch/>
        </p:blipFill>
        <p:spPr>
          <a:xfrm>
            <a:off x="139680" y="5545080"/>
            <a:ext cx="1677600" cy="127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9162720" cy="6901920"/>
          </a:xfrm>
          <a:prstGeom prst="rect">
            <a:avLst/>
          </a:prstGeom>
          <a:gradFill rotWithShape="0">
            <a:gsLst>
              <a:gs pos="0">
                <a:srgbClr val="feffe2"/>
              </a:gs>
              <a:gs pos="100000">
                <a:srgbClr val="ffffa1"/>
              </a:gs>
            </a:gsLst>
            <a:lin ang="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08000" y="5157720"/>
            <a:ext cx="2368080" cy="15822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684360" y="189000"/>
            <a:ext cx="8208720" cy="39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71280"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buClr>
                <a:srgbClr val="10253f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253f"/>
                </a:solidFill>
                <a:latin typeface="Bookman Old Style"/>
                <a:ea typeface="DejaVu Sans"/>
              </a:rPr>
              <a:t>  </a:t>
            </a:r>
            <a:r>
              <a:rPr b="0" lang="ru-RU" sz="2800" spc="-1" strike="noStrike">
                <a:solidFill>
                  <a:srgbClr val="10253f"/>
                </a:solidFill>
                <a:latin typeface="Bookman Old Style"/>
                <a:ea typeface="DejaVu Sans"/>
              </a:rPr>
              <a:t>Игра по подгрупп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71280"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71280"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71280"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71280"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71280"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r>
              <a:rPr b="0" lang="ru-RU" sz="2800" spc="-1" strike="noStrike">
                <a:solidFill>
                  <a:srgbClr val="10253f"/>
                </a:solidFill>
                <a:latin typeface="Bookman Old Style"/>
                <a:ea typeface="DejaVu Sans"/>
              </a:rPr>
              <a:t>5.  Работа над ритмическими рисун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rcRect l="4274" t="17260" r="50109" b="34289"/>
          <a:stretch/>
        </p:blipFill>
        <p:spPr>
          <a:xfrm>
            <a:off x="2476440" y="1249200"/>
            <a:ext cx="2779200" cy="22143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rcRect l="51057" t="27818" r="34490" b="51192"/>
          <a:stretch/>
        </p:blipFill>
        <p:spPr>
          <a:xfrm>
            <a:off x="2471760" y="1249200"/>
            <a:ext cx="649080" cy="6249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rcRect l="22130" t="25000" r="0" b="50012"/>
          <a:stretch/>
        </p:blipFill>
        <p:spPr>
          <a:xfrm>
            <a:off x="3090960" y="1249200"/>
            <a:ext cx="2165040" cy="738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rcRect l="8463" t="11404" r="40718" b="61560"/>
          <a:stretch/>
        </p:blipFill>
        <p:spPr>
          <a:xfrm>
            <a:off x="2476440" y="1959120"/>
            <a:ext cx="647280" cy="6616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rcRect l="51111" t="2131" r="36046" b="76570"/>
          <a:stretch/>
        </p:blipFill>
        <p:spPr>
          <a:xfrm>
            <a:off x="2471760" y="2736720"/>
            <a:ext cx="651960" cy="6440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/>
          <a:srcRect l="22130" t="25000" r="0" b="50012"/>
          <a:stretch/>
        </p:blipFill>
        <p:spPr>
          <a:xfrm>
            <a:off x="3090960" y="2736720"/>
            <a:ext cx="2165040" cy="7362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8"/>
          <a:stretch/>
        </p:blipFill>
        <p:spPr>
          <a:xfrm>
            <a:off x="1292400" y="4292640"/>
            <a:ext cx="6632280" cy="13219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9"/>
          <a:stretch/>
        </p:blipFill>
        <p:spPr>
          <a:xfrm>
            <a:off x="6713640" y="5192640"/>
            <a:ext cx="2201400" cy="158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0" y="0"/>
            <a:ext cx="9140400" cy="6854400"/>
            <a:chOff x="0" y="0"/>
            <a:chExt cx="9140400" cy="6854400"/>
          </a:xfrm>
        </p:grpSpPr>
        <p:sp>
          <p:nvSpPr>
            <p:cNvPr id="133" name=""/>
            <p:cNvSpPr/>
            <p:nvPr/>
          </p:nvSpPr>
          <p:spPr>
            <a:xfrm>
              <a:off x="0" y="0"/>
              <a:ext cx="9140400" cy="6854400"/>
            </a:xfrm>
            <a:prstGeom prst="rect">
              <a:avLst/>
            </a:prstGeom>
            <a:gradFill rotWithShape="0">
              <a:gsLst>
                <a:gs pos="0">
                  <a:srgbClr val="feffe2"/>
                </a:gs>
                <a:gs pos="100000">
                  <a:srgbClr val="ffffa1"/>
                </a:gs>
              </a:gsLst>
              <a:lin ang="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" descr=""/>
            <p:cNvPicPr/>
            <p:nvPr/>
          </p:nvPicPr>
          <p:blipFill>
            <a:blip r:embed="rId1"/>
            <a:stretch/>
          </p:blipFill>
          <p:spPr>
            <a:xfrm rot="10800000">
              <a:off x="360" y="360"/>
              <a:ext cx="2336400" cy="166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"/>
          <p:cNvSpPr/>
          <p:nvPr/>
        </p:nvSpPr>
        <p:spPr>
          <a:xfrm>
            <a:off x="4605480" y="1643040"/>
            <a:ext cx="18396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70000" y="189000"/>
            <a:ext cx="7722720" cy="25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r>
              <a:rPr b="0" lang="ru-RU" sz="3600" spc="-1" strike="noStrike">
                <a:solidFill>
                  <a:srgbClr val="10253f"/>
                </a:solidFill>
                <a:latin typeface="Bookman Old Style"/>
                <a:ea typeface="DejaVu Sans"/>
              </a:rPr>
              <a:t> </a:t>
            </a:r>
            <a:r>
              <a:rPr b="0" lang="ru-RU" sz="3600" spc="-1" strike="noStrike">
                <a:solidFill>
                  <a:srgbClr val="7030a0"/>
                </a:solidFill>
                <a:latin typeface="Bookman Old Style"/>
                <a:ea typeface="DejaVu Sans"/>
              </a:rPr>
              <a:t>Дайте детям в руки инструменты – пусть побудут музыкантам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2305080" y="1987560"/>
            <a:ext cx="453348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0" y="0"/>
            <a:ext cx="9140400" cy="6854400"/>
            <a:chOff x="0" y="0"/>
            <a:chExt cx="9140400" cy="6854400"/>
          </a:xfrm>
        </p:grpSpPr>
        <p:sp>
          <p:nvSpPr>
            <p:cNvPr id="139" name=""/>
            <p:cNvSpPr/>
            <p:nvPr/>
          </p:nvSpPr>
          <p:spPr>
            <a:xfrm>
              <a:off x="0" y="0"/>
              <a:ext cx="9140400" cy="6854400"/>
            </a:xfrm>
            <a:prstGeom prst="rect">
              <a:avLst/>
            </a:prstGeom>
            <a:gradFill rotWithShape="0">
              <a:gsLst>
                <a:gs pos="0">
                  <a:srgbClr val="feffe2"/>
                </a:gs>
                <a:gs pos="100000">
                  <a:srgbClr val="ffffa1"/>
                </a:gs>
              </a:gsLst>
              <a:lin ang="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0" name="" descr=""/>
            <p:cNvPicPr/>
            <p:nvPr/>
          </p:nvPicPr>
          <p:blipFill>
            <a:blip r:embed="rId1"/>
            <a:stretch/>
          </p:blipFill>
          <p:spPr>
            <a:xfrm>
              <a:off x="5572080" y="4311720"/>
              <a:ext cx="3568320" cy="2542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"/>
          <p:cNvSpPr/>
          <p:nvPr/>
        </p:nvSpPr>
        <p:spPr>
          <a:xfrm>
            <a:off x="108000" y="0"/>
            <a:ext cx="89704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Bookman Old Style"/>
                <a:ea typeface="DejaVu Sans"/>
              </a:rPr>
              <a:t>Самодельные шумовые инструмент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646200"/>
            <a:ext cx="9162720" cy="62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-12600" y="-9360"/>
            <a:ext cx="9169200" cy="68832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354400" y="17640"/>
            <a:ext cx="51296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  <a:ea typeface="DejaVu Sans"/>
              </a:rPr>
              <a:t>Шумовой оркест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3097080" y="3286080"/>
            <a:ext cx="3644640" cy="36446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0" y="1195560"/>
            <a:ext cx="3444480" cy="34430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5486400" y="622440"/>
            <a:ext cx="3389040" cy="33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0" y="0"/>
            <a:ext cx="9140400" cy="6854400"/>
            <a:chOff x="0" y="0"/>
            <a:chExt cx="9140400" cy="6854400"/>
          </a:xfrm>
        </p:grpSpPr>
        <p:sp>
          <p:nvSpPr>
            <p:cNvPr id="149" name=""/>
            <p:cNvSpPr/>
            <p:nvPr/>
          </p:nvSpPr>
          <p:spPr>
            <a:xfrm>
              <a:off x="0" y="0"/>
              <a:ext cx="9140400" cy="6854400"/>
            </a:xfrm>
            <a:prstGeom prst="rect">
              <a:avLst/>
            </a:prstGeom>
            <a:gradFill rotWithShape="0">
              <a:gsLst>
                <a:gs pos="0">
                  <a:srgbClr val="feffe2"/>
                </a:gs>
                <a:gs pos="100000">
                  <a:srgbClr val="ffffa1"/>
                </a:gs>
              </a:gsLst>
              <a:lin ang="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0" name="" descr=""/>
            <p:cNvPicPr/>
            <p:nvPr/>
          </p:nvPicPr>
          <p:blipFill>
            <a:blip r:embed="rId1"/>
            <a:stretch/>
          </p:blipFill>
          <p:spPr>
            <a:xfrm>
              <a:off x="5572080" y="4311720"/>
              <a:ext cx="3568320" cy="254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" descr=""/>
            <p:cNvPicPr/>
            <p:nvPr/>
          </p:nvPicPr>
          <p:blipFill>
            <a:blip r:embed="rId2"/>
            <a:stretch/>
          </p:blipFill>
          <p:spPr>
            <a:xfrm rot="10800000">
              <a:off x="360" y="0"/>
              <a:ext cx="3711240" cy="2644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2" name=""/>
          <p:cNvSpPr/>
          <p:nvPr/>
        </p:nvSpPr>
        <p:spPr>
          <a:xfrm>
            <a:off x="1918440" y="2857680"/>
            <a:ext cx="57268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  <a:ea typeface="DejaVu Sans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gradFill rotWithShape="0">
            <a:gsLst>
              <a:gs pos="0">
                <a:srgbClr val="feffe2"/>
              </a:gs>
              <a:gs pos="100000">
                <a:srgbClr val="ffffa1"/>
              </a:gs>
            </a:gsLst>
            <a:lin ang="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16000" indent="-216000"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Bookman Old Style"/>
                <a:ea typeface="DejaVu Sans"/>
              </a:rPr>
              <a:t>Художественно-эстетическое развитие по ФГОС предполагает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ts val="3501"/>
              </a:lnSpc>
              <a:spcBef>
                <a:spcPts val="26"/>
              </a:spcBef>
              <a:spcAft>
                <a:spcPts val="26"/>
              </a:spcAft>
              <a:buClr>
                <a:srgbClr val="10253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Bookman Old Style"/>
                <a:ea typeface="DejaVu Sans"/>
              </a:rPr>
              <a:t>развитие предпосылок ценностно-смыслового восприятия произведений искусства (словесного, изобразительного, музыкального), мира приро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ts val="3501"/>
              </a:lnSpc>
              <a:spcBef>
                <a:spcPts val="26"/>
              </a:spcBef>
              <a:spcAft>
                <a:spcPts val="26"/>
              </a:spcAft>
              <a:buClr>
                <a:srgbClr val="10253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Bookman Old Style"/>
                <a:ea typeface="DejaVu Sans"/>
              </a:rPr>
              <a:t>формирования элементарных представлений о видах искусств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ts val="3501"/>
              </a:lnSpc>
              <a:spcBef>
                <a:spcPts val="26"/>
              </a:spcBef>
              <a:spcAft>
                <a:spcPts val="26"/>
              </a:spcAft>
              <a:buClr>
                <a:srgbClr val="10253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Bookman Old Style"/>
                <a:ea typeface="DejaVu Sans"/>
              </a:rPr>
              <a:t>восприятие музыки, художественной литературы, фольклор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ts val="3501"/>
              </a:lnSpc>
              <a:spcBef>
                <a:spcPts val="26"/>
              </a:spcBef>
              <a:spcAft>
                <a:spcPts val="26"/>
              </a:spcAft>
              <a:buClr>
                <a:srgbClr val="10253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Bookman Old Style"/>
                <a:ea typeface="DejaVu Sans"/>
              </a:rPr>
              <a:t>стимулирование сопереживания персонажам художественных произвед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r">
              <a:lnSpc>
                <a:spcPts val="3501"/>
              </a:lnSpc>
              <a:spcBef>
                <a:spcPts val="26"/>
              </a:spcBef>
              <a:spcAft>
                <a:spcPts val="26"/>
              </a:spcAft>
              <a:buClr>
                <a:srgbClr val="10253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Bookman Old Style"/>
                <a:ea typeface="DejaVu Sans"/>
              </a:rPr>
              <a:t>реализацию самостоятельной творческой деятельности детей.</a:t>
            </a:r>
            <a:r>
              <a:rPr b="0" lang="ru-RU" sz="2400" spc="-1" strike="noStrike">
                <a:solidFill>
                  <a:srgbClr val="10253f"/>
                </a:solidFill>
                <a:latin typeface="Bookman Old Style"/>
                <a:ea typeface="DejaVu Sans"/>
              </a:rPr>
              <a:t>	</a:t>
            </a:r>
            <a:r>
              <a:rPr b="0" lang="ru-RU" sz="2400" spc="-1" strike="noStrike">
                <a:solidFill>
                  <a:srgbClr val="10253f"/>
                </a:solidFill>
                <a:latin typeface="Bookman Old Style"/>
                <a:ea typeface="DejaVu Sans"/>
              </a:rPr>
              <a:t>	</a:t>
            </a:r>
            <a:r>
              <a:rPr b="0" lang="ru-RU" sz="2400" spc="-1" strike="noStrike">
                <a:solidFill>
                  <a:srgbClr val="10253f"/>
                </a:solidFill>
                <a:latin typeface="Bookman Old Style"/>
                <a:ea typeface="DejaVu San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ts val="3501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Bookman Old Style"/>
                <a:ea typeface="DejaVu Sans"/>
              </a:rPr>
              <a:t>	</a:t>
            </a:r>
            <a:r>
              <a:rPr b="0" lang="ru-RU" sz="2400" spc="-1" strike="noStrike">
                <a:solidFill>
                  <a:srgbClr val="10253f"/>
                </a:solidFill>
                <a:latin typeface="Bookman Old Style"/>
                <a:ea typeface="DejaVu Sans"/>
              </a:rPr>
              <a:t>	</a:t>
            </a:r>
            <a:r>
              <a:rPr b="0" lang="ru-RU" sz="2400" spc="-1" strike="noStrike">
                <a:solidFill>
                  <a:srgbClr val="10253f"/>
                </a:solidFill>
                <a:latin typeface="Bookman Old Style"/>
                <a:ea typeface="DejaVu San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1920" y="4871880"/>
            <a:ext cx="2646000" cy="19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0"/>
            <a:ext cx="9140400" cy="6854400"/>
            <a:chOff x="0" y="0"/>
            <a:chExt cx="9140400" cy="6854400"/>
          </a:xfrm>
        </p:grpSpPr>
        <p:sp>
          <p:nvSpPr>
            <p:cNvPr id="56" name=""/>
            <p:cNvSpPr/>
            <p:nvPr/>
          </p:nvSpPr>
          <p:spPr>
            <a:xfrm>
              <a:off x="0" y="0"/>
              <a:ext cx="9140400" cy="6854400"/>
            </a:xfrm>
            <a:prstGeom prst="rect">
              <a:avLst/>
            </a:prstGeom>
            <a:gradFill rotWithShape="0">
              <a:gsLst>
                <a:gs pos="0">
                  <a:srgbClr val="feffe2"/>
                </a:gs>
                <a:gs pos="100000">
                  <a:srgbClr val="ffffa1"/>
                </a:gs>
              </a:gsLst>
              <a:lin ang="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" name="" descr=""/>
            <p:cNvPicPr/>
            <p:nvPr/>
          </p:nvPicPr>
          <p:blipFill>
            <a:blip r:embed="rId1"/>
            <a:stretch/>
          </p:blipFill>
          <p:spPr>
            <a:xfrm>
              <a:off x="0" y="5518080"/>
              <a:ext cx="2479320" cy="1331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" name=""/>
          <p:cNvSpPr/>
          <p:nvPr/>
        </p:nvSpPr>
        <p:spPr>
          <a:xfrm>
            <a:off x="279360" y="168120"/>
            <a:ext cx="8756280" cy="60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6000" indent="449280"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216000" indent="449280" algn="ctr">
              <a:lnSpc>
                <a:spcPts val="36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  <a:ea typeface="Calibri"/>
              </a:rPr>
              <a:t>Интегративное качество личности ребенка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449280" algn="ctr">
              <a:lnSpc>
                <a:spcPts val="36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  <a:ea typeface="Calibri"/>
              </a:rPr>
              <a:t>музыкальная культур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449280" algn="just"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r>
              <a:rPr b="0" lang="ru-RU" sz="2200" spc="-1" strike="noStrike">
                <a:solidFill>
                  <a:srgbClr val="7030a0"/>
                </a:solidFill>
                <a:latin typeface="Bookman Old Style"/>
                <a:ea typeface="Calibri"/>
              </a:rPr>
              <a:t>формируется на основ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6000" indent="449280" algn="just"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buClr>
                <a:srgbClr val="10253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</a:tabLst>
            </a:pPr>
            <a:r>
              <a:rPr b="0" lang="ru-RU" sz="2200" spc="-1" strike="noStrike">
                <a:solidFill>
                  <a:srgbClr val="10253f"/>
                </a:solidFill>
                <a:latin typeface="Bookman Old Style"/>
                <a:ea typeface="Calibri"/>
              </a:rPr>
              <a:t>эмоциональной отзывчивости на высоко-художественные произведения музыкального искусства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6000" indent="449280" algn="just"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buClr>
                <a:srgbClr val="10253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</a:tabLst>
            </a:pPr>
            <a:r>
              <a:rPr b="0" lang="ru-RU" sz="2200" spc="-1" strike="noStrike">
                <a:solidFill>
                  <a:srgbClr val="10253f"/>
                </a:solidFill>
                <a:latin typeface="Bookman Old Style"/>
                <a:ea typeface="Calibri"/>
              </a:rPr>
              <a:t>образного мышления и воображения, накопления интонационного познавательно-ценностного опыта в творческой музыкальной деятельности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6000" indent="449280" algn="just"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buClr>
                <a:srgbClr val="10253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</a:tabLst>
            </a:pPr>
            <a:r>
              <a:rPr b="0" lang="ru-RU" sz="2200" spc="-1" strike="noStrike">
                <a:solidFill>
                  <a:srgbClr val="10253f"/>
                </a:solidFill>
                <a:latin typeface="Bookman Old Style"/>
                <a:ea typeface="Calibri"/>
              </a:rPr>
              <a:t>развития всех компонентов музыкально-эстетического сознания — эмоций, чувств, интересов, </a:t>
            </a:r>
            <a:r>
              <a:rPr b="0" lang="ru-RU" sz="2200" spc="-1" strike="noStrike">
                <a:solidFill>
                  <a:srgbClr val="10253f"/>
                </a:solidFill>
                <a:latin typeface="Bookman Old Style"/>
                <a:ea typeface="Calibri"/>
              </a:rPr>
              <a:t>	</a:t>
            </a:r>
            <a:r>
              <a:rPr b="0" lang="ru-RU" sz="2200" spc="-1" strike="noStrike">
                <a:solidFill>
                  <a:srgbClr val="10253f"/>
                </a:solidFill>
                <a:latin typeface="Bookman Old Style"/>
                <a:ea typeface="Calibri"/>
              </a:rPr>
              <a:t>потребностей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6000" indent="449280" algn="just"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r>
              <a:rPr b="0" lang="ru-RU" sz="2200" spc="-1" strike="noStrike">
                <a:solidFill>
                  <a:srgbClr val="10253f"/>
                </a:solidFill>
                <a:latin typeface="Bookman Old Style"/>
                <a:ea typeface="Calibri"/>
              </a:rPr>
              <a:t>	</a:t>
            </a:r>
            <a:r>
              <a:rPr b="0" lang="ru-RU" sz="2200" spc="-1" strike="noStrike">
                <a:solidFill>
                  <a:srgbClr val="10253f"/>
                </a:solidFill>
                <a:latin typeface="Bookman Old Style"/>
                <a:ea typeface="Calibri"/>
              </a:rPr>
              <a:t> </a:t>
            </a:r>
            <a:r>
              <a:rPr b="0" lang="ru-RU" sz="2200" spc="-1" strike="noStrike">
                <a:solidFill>
                  <a:srgbClr val="10253f"/>
                </a:solidFill>
                <a:latin typeface="Bookman Old Style"/>
                <a:ea typeface="Calibri"/>
              </a:rPr>
              <a:t>вкуса, представлений об идеал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-19080" y="14400"/>
            <a:ext cx="9159480" cy="6854400"/>
            <a:chOff x="-19080" y="14400"/>
            <a:chExt cx="9159480" cy="6854400"/>
          </a:xfrm>
        </p:grpSpPr>
        <p:sp>
          <p:nvSpPr>
            <p:cNvPr id="60" name=""/>
            <p:cNvSpPr/>
            <p:nvPr/>
          </p:nvSpPr>
          <p:spPr>
            <a:xfrm>
              <a:off x="0" y="14400"/>
              <a:ext cx="9140400" cy="6854400"/>
            </a:xfrm>
            <a:prstGeom prst="rect">
              <a:avLst/>
            </a:prstGeom>
            <a:gradFill rotWithShape="0">
              <a:gsLst>
                <a:gs pos="0">
                  <a:srgbClr val="feffe2"/>
                </a:gs>
                <a:gs pos="100000">
                  <a:srgbClr val="ffffa1"/>
                </a:gs>
              </a:gsLst>
              <a:lin ang="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" descr=""/>
            <p:cNvPicPr/>
            <p:nvPr/>
          </p:nvPicPr>
          <p:blipFill>
            <a:blip r:embed="rId1"/>
            <a:stretch/>
          </p:blipFill>
          <p:spPr>
            <a:xfrm>
              <a:off x="-19080" y="5059440"/>
              <a:ext cx="2400120" cy="1809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"/>
          <p:cNvSpPr/>
          <p:nvPr/>
        </p:nvSpPr>
        <p:spPr>
          <a:xfrm>
            <a:off x="428760" y="1643040"/>
            <a:ext cx="842940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42920" y="189000"/>
            <a:ext cx="7992720" cy="58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6000" indent="-216000" algn="ctr"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Bookman Old Style"/>
                <a:ea typeface="DejaVu Sans"/>
              </a:rPr>
              <a:t>Виды музыкальной деятельнос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buClr>
                <a:srgbClr val="10253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Bookman Old Style"/>
                <a:ea typeface="DejaVu Sans"/>
              </a:rPr>
              <a:t>восприяти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buClr>
                <a:srgbClr val="10253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Bookman Old Style"/>
                <a:ea typeface="DejaVu Sans"/>
              </a:rPr>
              <a:t>исполнительств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buClr>
                <a:srgbClr val="10253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Bookman Old Style"/>
                <a:ea typeface="DejaVu Sans"/>
              </a:rPr>
              <a:t>творчеств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buClr>
                <a:srgbClr val="10253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Bookman Old Style"/>
                <a:ea typeface="DejaVu Sans"/>
              </a:rPr>
              <a:t>музыкально-образовательная деятельност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buClr>
                <a:srgbClr val="10253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Bookman Old Style"/>
                <a:ea typeface="DejaVu Sans"/>
              </a:rPr>
              <a:t>музыкально-игровая деятельность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Bookman Old Style"/>
                <a:ea typeface="DejaVu Sans"/>
              </a:rPr>
              <a:t>Игра на детских музыкальных инструмента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Bookman Old Style"/>
                <a:ea typeface="DejaVu Sans"/>
              </a:rPr>
              <a:t>приобщает детей к совместной, коллективной деятельности со сверстниками  - элементарному </a:t>
            </a:r>
            <a:r>
              <a:rPr b="0" lang="ru-RU" sz="2400" spc="-1" strike="noStrike">
                <a:solidFill>
                  <a:srgbClr val="10253f"/>
                </a:solidFill>
                <a:latin typeface="Bookman Old Style"/>
                <a:ea typeface="DejaVu Sans"/>
              </a:rPr>
              <a:t>	</a:t>
            </a:r>
            <a:r>
              <a:rPr b="0" lang="ru-RU" sz="2400" spc="-1" strike="noStrike">
                <a:solidFill>
                  <a:srgbClr val="10253f"/>
                </a:solidFill>
                <a:latin typeface="Bookman Old Style"/>
                <a:ea typeface="DejaVu Sans"/>
              </a:rPr>
              <a:t>музицирова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12600" y="0"/>
            <a:ext cx="9140400" cy="6854400"/>
            <a:chOff x="12600" y="0"/>
            <a:chExt cx="9140400" cy="6854400"/>
          </a:xfrm>
        </p:grpSpPr>
        <p:sp>
          <p:nvSpPr>
            <p:cNvPr id="65" name=""/>
            <p:cNvSpPr/>
            <p:nvPr/>
          </p:nvSpPr>
          <p:spPr>
            <a:xfrm>
              <a:off x="12600" y="0"/>
              <a:ext cx="9140400" cy="6854400"/>
            </a:xfrm>
            <a:prstGeom prst="rect">
              <a:avLst/>
            </a:prstGeom>
            <a:gradFill rotWithShape="0">
              <a:gsLst>
                <a:gs pos="0">
                  <a:srgbClr val="feffe2"/>
                </a:gs>
                <a:gs pos="100000">
                  <a:srgbClr val="ffffa1"/>
                </a:gs>
              </a:gsLst>
              <a:lin ang="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" name="" descr=""/>
            <p:cNvPicPr/>
            <p:nvPr/>
          </p:nvPicPr>
          <p:blipFill>
            <a:blip r:embed="rId1"/>
            <a:stretch/>
          </p:blipFill>
          <p:spPr>
            <a:xfrm>
              <a:off x="46080" y="5300640"/>
              <a:ext cx="2347560" cy="155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" name=""/>
          <p:cNvSpPr/>
          <p:nvPr/>
        </p:nvSpPr>
        <p:spPr>
          <a:xfrm>
            <a:off x="395280" y="41400"/>
            <a:ext cx="8494200" cy="70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6000" indent="-216000" algn="ctr"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Bookman Old Style"/>
                <a:ea typeface="Times New Roman"/>
              </a:rPr>
              <a:t>Задачи музыкального воспитания дошкольник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buClr>
                <a:srgbClr val="10253f"/>
              </a:buClr>
              <a:buFont typeface="Symbol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Bookman Old Style"/>
                <a:ea typeface="Times New Roman"/>
              </a:rPr>
              <a:t>накапливать опыт восприятия произведений мировой музыкальной культур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buClr>
                <a:srgbClr val="10253f"/>
              </a:buClr>
              <a:buFont typeface="Symbol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Bookman Old Style"/>
                <a:ea typeface="Times New Roman"/>
              </a:rPr>
              <a:t>развивать творческое воображение (образные высказывания о музыке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buClr>
                <a:srgbClr val="10253f"/>
              </a:buClr>
              <a:buFont typeface="Symbol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Bookman Old Style"/>
                <a:ea typeface="Times New Roman"/>
              </a:rPr>
              <a:t>вызывать и поддерживать интерес к музык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buClr>
                <a:srgbClr val="10253f"/>
              </a:buClr>
              <a:buFont typeface="Symbol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Bookman Old Style"/>
                <a:ea typeface="Times New Roman"/>
              </a:rPr>
              <a:t>развивать  музыкальные способности и исполнительские возможности дет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buClr>
                <a:srgbClr val="10253f"/>
              </a:buClr>
              <a:buFont typeface="Symbol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Bookman Old Style"/>
                <a:ea typeface="Times New Roman"/>
              </a:rPr>
              <a:t>формировать навыки и умения игры на детских </a:t>
            </a:r>
            <a:r>
              <a:rPr b="0" lang="ru-RU" sz="2400" spc="-1" strike="noStrike">
                <a:solidFill>
                  <a:srgbClr val="10253f"/>
                </a:solidFill>
                <a:latin typeface="Bookman Old Style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10253f"/>
                </a:solidFill>
                <a:latin typeface="Bookman Old Style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10253f"/>
                </a:solidFill>
                <a:latin typeface="Bookman Old Style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10253f"/>
                </a:solidFill>
                <a:latin typeface="Bookman Old Style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10253f"/>
                </a:solidFill>
                <a:latin typeface="Bookman Old Style"/>
                <a:ea typeface="Times New Roman"/>
              </a:rPr>
              <a:t>музыкальных инструментах.</a:t>
            </a:r>
            <a:r>
              <a:rPr b="1" i="1" lang="ru-RU" sz="2400" spc="-1" strike="noStrike">
                <a:solidFill>
                  <a:srgbClr val="10253f"/>
                </a:solidFill>
                <a:latin typeface="Bookman Old Style"/>
                <a:ea typeface="DejaVu Sans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0" y="0"/>
            <a:ext cx="9140400" cy="6911640"/>
            <a:chOff x="0" y="0"/>
            <a:chExt cx="9140400" cy="6911640"/>
          </a:xfrm>
        </p:grpSpPr>
        <p:sp>
          <p:nvSpPr>
            <p:cNvPr id="69" name=""/>
            <p:cNvSpPr/>
            <p:nvPr/>
          </p:nvSpPr>
          <p:spPr>
            <a:xfrm>
              <a:off x="0" y="0"/>
              <a:ext cx="9140400" cy="6854400"/>
            </a:xfrm>
            <a:prstGeom prst="rect">
              <a:avLst/>
            </a:prstGeom>
            <a:gradFill rotWithShape="0">
              <a:gsLst>
                <a:gs pos="0">
                  <a:srgbClr val="feffe2"/>
                </a:gs>
                <a:gs pos="100000">
                  <a:srgbClr val="ffffa1"/>
                </a:gs>
              </a:gsLst>
              <a:lin ang="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6696000" y="5299200"/>
              <a:ext cx="2263320" cy="161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" name=""/>
          <p:cNvSpPr/>
          <p:nvPr/>
        </p:nvSpPr>
        <p:spPr>
          <a:xfrm>
            <a:off x="1979640" y="119160"/>
            <a:ext cx="6984720" cy="37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Bookman Old Style"/>
                <a:ea typeface="DejaVu Sans"/>
              </a:rPr>
              <a:t>Классик отечественного музыкознания, ученый – музыковед, педаго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Bookman Old Style"/>
                <a:ea typeface="DejaVu Sans"/>
              </a:rPr>
              <a:t>Борис Владимирович Асафье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Bookman Old Style"/>
                <a:ea typeface="DejaVu Sans"/>
              </a:rPr>
              <a:t> </a:t>
            </a:r>
            <a:r>
              <a:rPr b="0" i="1" lang="ru-RU" sz="2400" spc="-1" strike="noStrike">
                <a:solidFill>
                  <a:srgbClr val="10253f"/>
                </a:solidFill>
                <a:latin typeface="Bookman Old Style"/>
                <a:ea typeface="DejaVu Sans"/>
              </a:rPr>
              <a:t>«Активное действование с музыкой, ее воспроизведение ведет к обогащению …жизненного опыта и знания о мире через слух, восприятию изнутри материала, которым оперирует музы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  <a:ea typeface="DejaVu San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rcRect l="13645" t="5443" r="18842" b="14013"/>
          <a:stretch/>
        </p:blipFill>
        <p:spPr>
          <a:xfrm>
            <a:off x="250920" y="119160"/>
            <a:ext cx="1944360" cy="27842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rcRect l="10180" t="5655" r="7901" b="11293"/>
          <a:stretch/>
        </p:blipFill>
        <p:spPr>
          <a:xfrm>
            <a:off x="6877080" y="3424320"/>
            <a:ext cx="2122200" cy="26823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50920" y="3213000"/>
            <a:ext cx="676872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Bookman Old Style"/>
                <a:ea typeface="DejaVu Sans"/>
              </a:rPr>
              <a:t>Русский и советский музыковед, педагог, композитор, музыкальный деятель Болеслав Леопольдович Явор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10253f"/>
                </a:solidFill>
                <a:latin typeface="Bookman Old Style"/>
                <a:ea typeface="DejaVu Sans"/>
              </a:rPr>
              <a:t>«элементарное» музицирование способствует развитию творческих способностей ребенка, активизирует его мышление. Через звуки дети получают возможность для самовыражения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3760" y="0"/>
            <a:ext cx="9143640" cy="6857640"/>
          </a:xfrm>
          <a:prstGeom prst="rect">
            <a:avLst/>
          </a:prstGeom>
          <a:gradFill rotWithShape="0">
            <a:gsLst>
              <a:gs pos="0">
                <a:srgbClr val="feffe2"/>
              </a:gs>
              <a:gs pos="100000">
                <a:srgbClr val="ffffa1"/>
              </a:gs>
            </a:gsLst>
            <a:lin ang="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5087880"/>
            <a:ext cx="2484000" cy="17697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484360" y="333360"/>
            <a:ext cx="6190920" cy="248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Bookman Old Style"/>
                <a:ea typeface="DejaVu Sans"/>
              </a:rPr>
              <a:t>Австрийский композитор и педагог Карл Ор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10253f"/>
                </a:solidFill>
                <a:latin typeface="Bookman Old Style"/>
                <a:ea typeface="DejaVu Sans"/>
              </a:rPr>
              <a:t>«Для успешного приобщения к музыкальной деятельности в руках у ребёнка должен быть инструмен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rcRect l="24186" t="0" r="26609" b="0"/>
          <a:stretch/>
        </p:blipFill>
        <p:spPr>
          <a:xfrm>
            <a:off x="343080" y="476280"/>
            <a:ext cx="1798200" cy="20476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rcRect l="4165" t="9417" r="3874" b="9407"/>
          <a:stretch/>
        </p:blipFill>
        <p:spPr>
          <a:xfrm>
            <a:off x="2627280" y="4600440"/>
            <a:ext cx="6359040" cy="21967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47760" y="2550960"/>
            <a:ext cx="8496000" cy="20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3101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r>
              <a:rPr b="0" lang="ru-RU" sz="2300" spc="-1" strike="noStrike">
                <a:solidFill>
                  <a:srgbClr val="10253f"/>
                </a:solidFill>
                <a:latin typeface="Bookman Old Style"/>
                <a:ea typeface="DejaVu Sans"/>
              </a:rPr>
              <a:t>Создатель специального комплекта инструментов, для музыкального воспитания детей, называемый “Орфофский набор”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01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r>
              <a:rPr b="0" lang="ru-RU" sz="2300" spc="-1" strike="noStrike">
                <a:solidFill>
                  <a:srgbClr val="10253f"/>
                </a:solidFill>
                <a:latin typeface="Bookman Old Style"/>
                <a:ea typeface="DejaVu Sans"/>
              </a:rPr>
              <a:t>Инструментарий - ключ для подхода к элементарному музыкальному музицированию с группами детей</a:t>
            </a:r>
            <a:r>
              <a:rPr b="0" lang="ru-RU" sz="2400" spc="-1" strike="noStrike">
                <a:solidFill>
                  <a:srgbClr val="10253f"/>
                </a:solidFill>
                <a:latin typeface="Bookman Old Style"/>
                <a:ea typeface="DejaVu Sans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1000" y="4602240"/>
            <a:ext cx="2410920" cy="9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ts val="33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r>
              <a:rPr b="0" lang="ru-RU" sz="2300" spc="-1" strike="noStrike">
                <a:solidFill>
                  <a:srgbClr val="10253f"/>
                </a:solidFill>
                <a:latin typeface="Bookman Old Style"/>
                <a:ea typeface="DejaVu Sans"/>
              </a:rPr>
              <a:t>независимо от их дарований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0"/>
            <a:ext cx="9140400" cy="6854400"/>
            <a:chOff x="0" y="0"/>
            <a:chExt cx="9140400" cy="6854400"/>
          </a:xfrm>
        </p:grpSpPr>
        <p:sp>
          <p:nvSpPr>
            <p:cNvPr id="83" name=""/>
            <p:cNvSpPr/>
            <p:nvPr/>
          </p:nvSpPr>
          <p:spPr>
            <a:xfrm>
              <a:off x="0" y="0"/>
              <a:ext cx="9140400" cy="6854400"/>
            </a:xfrm>
            <a:prstGeom prst="rect">
              <a:avLst/>
            </a:prstGeom>
            <a:gradFill rotWithShape="0">
              <a:gsLst>
                <a:gs pos="0">
                  <a:srgbClr val="feffe2"/>
                </a:gs>
                <a:gs pos="100000">
                  <a:srgbClr val="ffffa1"/>
                </a:gs>
              </a:gsLst>
              <a:lin ang="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" name="" descr=""/>
            <p:cNvPicPr/>
            <p:nvPr/>
          </p:nvPicPr>
          <p:blipFill>
            <a:blip r:embed="rId1"/>
            <a:stretch/>
          </p:blipFill>
          <p:spPr>
            <a:xfrm>
              <a:off x="4932360" y="3782880"/>
              <a:ext cx="3946320" cy="2917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" name=""/>
          <p:cNvSpPr/>
          <p:nvPr/>
        </p:nvSpPr>
        <p:spPr>
          <a:xfrm>
            <a:off x="611280" y="285840"/>
            <a:ext cx="813708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6000" indent="-216000"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Bookman Old Style"/>
                <a:ea typeface="DejaVu Sans"/>
              </a:rPr>
              <a:t>Цел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Clr>
                <a:srgbClr val="10253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Bookman Old Style"/>
                <a:ea typeface="DejaVu Sans"/>
              </a:rPr>
              <a:t>Знакомство детей с шумовыми музыкальными инструментами и способами игры на ни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Clr>
                <a:srgbClr val="10253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Bookman Old Style"/>
                <a:ea typeface="DejaVu Sans"/>
              </a:rPr>
              <a:t>Развитие сотрудничества в группе, умения чувствовать партнё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Clr>
                <a:srgbClr val="10253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Bookman Old Style"/>
                <a:ea typeface="DejaVu Sans"/>
              </a:rPr>
              <a:t>Создание условий для самостоятельных музыкальных импровизаций дет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Clr>
                <a:srgbClr val="10253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Bookman Old Style"/>
                <a:ea typeface="DejaVu Sans"/>
              </a:rPr>
              <a:t>Игровое обучение совместному исполнительств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68360" y="3825720"/>
            <a:ext cx="3166560" cy="298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0" y="0"/>
            <a:ext cx="9140400" cy="6854400"/>
            <a:chOff x="0" y="0"/>
            <a:chExt cx="9140400" cy="6854400"/>
          </a:xfrm>
        </p:grpSpPr>
        <p:sp>
          <p:nvSpPr>
            <p:cNvPr id="88" name=""/>
            <p:cNvSpPr/>
            <p:nvPr/>
          </p:nvSpPr>
          <p:spPr>
            <a:xfrm>
              <a:off x="0" y="0"/>
              <a:ext cx="9140400" cy="6854400"/>
            </a:xfrm>
            <a:prstGeom prst="rect">
              <a:avLst/>
            </a:prstGeom>
            <a:gradFill rotWithShape="0">
              <a:gsLst>
                <a:gs pos="0">
                  <a:srgbClr val="feffe2"/>
                </a:gs>
                <a:gs pos="100000">
                  <a:srgbClr val="ffffa1"/>
                </a:gs>
              </a:gsLst>
              <a:lin ang="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" name="" descr=""/>
            <p:cNvPicPr/>
            <p:nvPr/>
          </p:nvPicPr>
          <p:blipFill>
            <a:blip r:embed="rId1"/>
            <a:stretch/>
          </p:blipFill>
          <p:spPr>
            <a:xfrm>
              <a:off x="200160" y="4076640"/>
              <a:ext cx="3588840" cy="2542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" name=""/>
          <p:cNvSpPr/>
          <p:nvPr/>
        </p:nvSpPr>
        <p:spPr>
          <a:xfrm>
            <a:off x="611280" y="285840"/>
            <a:ext cx="8137080" cy="55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6000" indent="-216000"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Bookman Old Style"/>
                <a:ea typeface="DejaVu Sans"/>
              </a:rPr>
              <a:t>Задач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buClr>
                <a:srgbClr val="10253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Bookman Old Style"/>
                <a:ea typeface="DejaVu Sans"/>
              </a:rPr>
              <a:t>создать атмосферу комфорта, творческого исследования звуковых возможностей каждого из инструментов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buClr>
                <a:srgbClr val="10253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Bookman Old Style"/>
                <a:ea typeface="DejaVu Sans"/>
              </a:rPr>
              <a:t>дать возможность свободно импровизировать на шумовых инструмент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buClr>
                <a:srgbClr val="10253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Bookman Old Style"/>
                <a:ea typeface="DejaVu Sans"/>
              </a:rPr>
              <a:t>развивать способности детей к организованной работе в ансамбле под управлением дирижё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86080" indent="-343080" algn="ctr"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buClr>
                <a:srgbClr val="10253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Bookman Old Style"/>
                <a:ea typeface="Arial"/>
              </a:rPr>
              <a:t>развивать творческое воображение и слуховую фантази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">
  <a:themeElements>
    <a:clrScheme name="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8</TotalTime>
  <Application>LibreOffice/7.4.7.2$Linux_X86_64 LibreOffice_project/40$Build-2</Application>
  <AppVersion>15.0000</AppVersion>
  <Paragraphs>8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3T15:32:10Z</dcterms:created>
  <dc:creator>Ольга</dc:creator>
  <dc:description/>
  <dc:language>en-US</dc:language>
  <cp:lastModifiedBy>HP</cp:lastModifiedBy>
  <dcterms:modified xsi:type="dcterms:W3CDTF">2023-04-22T11:43:33Z</dcterms:modified>
  <cp:revision>7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8</vt:r8>
  </property>
  <property fmtid="{D5CDD505-2E9C-101B-9397-08002B2CF9AE}" pid="3" name="PresentationFormat">
    <vt:lpwstr>On-screen Show (4:3)</vt:lpwstr>
  </property>
  <property fmtid="{D5CDD505-2E9C-101B-9397-08002B2CF9AE}" pid="4" name="Slides">
    <vt:r8>18</vt:r8>
  </property>
</Properties>
</file>