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1.png" ContentType="image/png"/>
  <Override PartName="/ppt/media/image31.png" ContentType="image/png"/>
  <Override PartName="/ppt/media/image4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14D62-1C3E-43F0-AFC3-2A238D330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7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CEEEDF8D-6E54-4904-BAEC-A14D9864647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34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35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36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D95D511C-E19D-4374-9EA4-5920DB745BC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37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39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ABDDE0E0-686C-4080-8823-DE96F08092E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40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41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42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BFA21749-B729-428C-A92E-DD9047E528C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43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44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45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880C723D-9E66-4CF7-ABC8-1B11FF94015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dt" idx="46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47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48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A64A3D0-B059-46BF-BBC2-A08E44DFFD78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49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0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51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2225FD02-2052-4238-8719-E06C7BB700E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dt" idx="52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53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54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ADD02D86-AFBB-4AFC-B47F-B86ADEA42FDE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dt" idx="55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56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57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D8E454EE-E3F2-4935-80AE-E43403698DB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58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59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60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08455EB-3FAC-4DF5-8DE4-7E886D619C2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fld id="{8D3FA03A-A54C-45CF-B290-AF7325BAAC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0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600B76A9-57BC-4355-B19E-47CD7A0A99F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9564A140-A203-4BAA-8A12-1A80223A0E7A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6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96A9B5B5-CBF1-4491-BC48-82940C8D5BF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9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72F51DC-473A-412D-AE76-A52286FFD31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22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EFF1DB73-93F0-4DFF-B7F9-DE162D8362D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25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1DE2151C-94E7-4306-A2DA-829CB036263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9D466DB-C19F-45AC-A8C1-A6F493CC80E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31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32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33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22F288A-C3FA-4B44-8F61-EBE408F36D5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C2C-424B-48F8-B854-F13EEB66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773-3C20-4B5F-8632-11EFB13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ABB-50F6-4FD2-B05A-2D6178B3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D32-FA30-4F1B-9EE5-B99C8734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7EB-B35E-4620-BC7A-A6BEE66D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638-95AA-4798-902D-1571E4F8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F4A-75A3-4591-94D7-6146EF01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708-356C-4767-BD73-2CCE8BF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756-5013-4CA6-995D-DD7A4DBB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EA2-093E-403F-9F5F-0394D48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549-BBEB-44F6-8C97-182D55B4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276-FF77-42E6-84ED-FF2A898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12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224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012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</a:tabLst>
            </a:pPr>
            <a:fld id="{5B8F5175-6BC9-4F8C-995F-4CC22050C2B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4000" indent="-324000">
              <a:lnSpc>
                <a:spcPct val="9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6000" indent="-288000">
              <a:lnSpc>
                <a:spcPct val="9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3" marL="1728000" indent="-216000">
              <a:lnSpc>
                <a:spcPct val="9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4" marL="2160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5" marL="2592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6" marL="3024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5320" cy="688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080" y="1487520"/>
            <a:ext cx="8930880" cy="178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51889" b="0"/>
          <a:stretch/>
        </p:blipFill>
        <p:spPr>
          <a:xfrm>
            <a:off x="30240" y="3551400"/>
            <a:ext cx="1999800" cy="33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333360"/>
            <a:ext cx="784836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1026"/>
              </a:spcAft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МО музыкальных руководи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6237360"/>
            <a:ext cx="39603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Вольск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3868560"/>
            <a:ext cx="414144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ко Лариса Геннадьевна, музыкальный руководитель МДОУ «Детский сад № 51 р. п. Сенн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DejaVu Sans"/>
              </a:rPr>
              <a:t>Они нах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60280"/>
            <a:ext cx="813564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Развивающ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етские музыкальные инструм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 звуком неопределённой высоты (погремушки, бубны, барабаны, маракасы, тарелки, румбы, треугольники, кастаньеты, трещотки, деревянные палоч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 диатоническим и хроматическим звукорядом ударные (металлофон, ксилоф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3728880"/>
            <a:ext cx="4424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•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озвученные музыкальные игрушки ( музыкальная книжка, молоточек, органчики, музыкальная шкатулка, музыкальные волчки, музыкальные колокольч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3838680"/>
            <a:ext cx="4301640" cy="29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320" y="2052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960" y="260280"/>
            <a:ext cx="864504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Использование музыкальных инструментов в возрастной групп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младший дошкольный возрас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ушки-инструменты со звуком неопределённой высоты: бубен, барабан (с кожаной основой), погремушки, колокольч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ушки-инструменты с фиксированным звуком – органчики, шарма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еревянные палочки, дерев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ло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реугольник, металлофон (во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половине средней групп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4826160"/>
            <a:ext cx="2312640" cy="1771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4016160" cy="14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948360" y="5300640"/>
              <a:ext cx="219204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18960" y="260280"/>
            <a:ext cx="864504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Использование музыкальных инструментов в возрастной груп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Старший дошкольный возраст: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реугольник, трещотка, бубны, румба, маракасы, кастаньеты, металлофоны, ксилофон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41920" y="3006720"/>
            <a:ext cx="3252600" cy="184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14969" r="0" b="14969"/>
          <a:stretch/>
        </p:blipFill>
        <p:spPr>
          <a:xfrm>
            <a:off x="4662360" y="4816440"/>
            <a:ext cx="2522160" cy="176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36339" r="4914" b="0"/>
          <a:stretch/>
        </p:blipFill>
        <p:spPr>
          <a:xfrm>
            <a:off x="318960" y="4307040"/>
            <a:ext cx="45334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89000"/>
            <a:ext cx="8642160" cy="64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Этапы обучения игре в шумовом оркестр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Молчим — слушаем — игра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2.  «Медленно — быст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3. «Молчим, слушаем — медленно — быст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1175" t="6795" r="63607" b="6533"/>
          <a:stretch/>
        </p:blipFill>
        <p:spPr>
          <a:xfrm>
            <a:off x="1066680" y="2928960"/>
            <a:ext cx="807840" cy="91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22768" t="6795" r="61108" b="6533"/>
          <a:stretch/>
        </p:blipFill>
        <p:spPr>
          <a:xfrm>
            <a:off x="1822320" y="2928960"/>
            <a:ext cx="866520" cy="923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517920" y="2928960"/>
            <a:ext cx="833040" cy="912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65640" y="1409760"/>
            <a:ext cx="853560" cy="93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35393" t="68883" r="56551" b="20536"/>
          <a:stretch/>
        </p:blipFill>
        <p:spPr>
          <a:xfrm>
            <a:off x="1209600" y="1413000"/>
            <a:ext cx="94752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5393" t="68883" r="56551" b="20536"/>
          <a:stretch/>
        </p:blipFill>
        <p:spPr>
          <a:xfrm>
            <a:off x="3043080" y="1409760"/>
            <a:ext cx="947520" cy="93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35393" t="68883" r="56551" b="20536"/>
          <a:stretch/>
        </p:blipFill>
        <p:spPr>
          <a:xfrm>
            <a:off x="977760" y="4761000"/>
            <a:ext cx="983880" cy="97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35393" t="68883" r="56551" b="20536"/>
          <a:stretch/>
        </p:blipFill>
        <p:spPr>
          <a:xfrm>
            <a:off x="2797200" y="4764240"/>
            <a:ext cx="980640" cy="96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rcRect l="21175" t="6795" r="63607" b="6533"/>
          <a:stretch/>
        </p:blipFill>
        <p:spPr>
          <a:xfrm>
            <a:off x="4608360" y="4761000"/>
            <a:ext cx="860040" cy="97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rcRect l="22768" t="6795" r="61108" b="6533"/>
          <a:stretch/>
        </p:blipFill>
        <p:spPr>
          <a:xfrm>
            <a:off x="5381640" y="4759200"/>
            <a:ext cx="914040" cy="97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020000" y="4743360"/>
            <a:ext cx="902880" cy="98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7240680" y="5545080"/>
            <a:ext cx="1785600" cy="127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139680" y="5545080"/>
            <a:ext cx="1677600" cy="12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62720" cy="690192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5157720"/>
            <a:ext cx="2368080" cy="158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189000"/>
            <a:ext cx="820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 </a:t>
            </a: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а по под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5.  Работа над ритмическими рису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274" t="17260" r="50109" b="34289"/>
          <a:stretch/>
        </p:blipFill>
        <p:spPr>
          <a:xfrm>
            <a:off x="2476440" y="1249200"/>
            <a:ext cx="2779200" cy="22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51057" t="27818" r="34490" b="51192"/>
          <a:stretch/>
        </p:blipFill>
        <p:spPr>
          <a:xfrm>
            <a:off x="2471760" y="1249200"/>
            <a:ext cx="649080" cy="62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22130" t="25000" r="0" b="50012"/>
          <a:stretch/>
        </p:blipFill>
        <p:spPr>
          <a:xfrm>
            <a:off x="3090960" y="1249200"/>
            <a:ext cx="2165040" cy="73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8463" t="11404" r="40718" b="61560"/>
          <a:stretch/>
        </p:blipFill>
        <p:spPr>
          <a:xfrm>
            <a:off x="2476440" y="1959120"/>
            <a:ext cx="647280" cy="66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rcRect l="51111" t="2131" r="36046" b="76570"/>
          <a:stretch/>
        </p:blipFill>
        <p:spPr>
          <a:xfrm>
            <a:off x="2471760" y="2736720"/>
            <a:ext cx="651960" cy="64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22130" t="25000" r="0" b="50012"/>
          <a:stretch/>
        </p:blipFill>
        <p:spPr>
          <a:xfrm>
            <a:off x="3090960" y="2736720"/>
            <a:ext cx="2165040" cy="73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1292400" y="4292640"/>
            <a:ext cx="6632280" cy="1321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713640" y="5192640"/>
            <a:ext cx="22014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60" y="360"/>
              <a:ext cx="2336400" cy="166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4605480" y="164304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0000" y="189000"/>
            <a:ext cx="7722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Дайте детям в руки инструменты – пусть побудут музыкант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305080" y="1987560"/>
            <a:ext cx="45334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572080" y="4311720"/>
              <a:ext cx="3568320" cy="25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108000" y="0"/>
            <a:ext cx="897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Самодельные шумовые инструм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646200"/>
            <a:ext cx="9162720" cy="62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2600" y="-9360"/>
            <a:ext cx="9169200" cy="6883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54400" y="17640"/>
            <a:ext cx="512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  <a:ea typeface="DejaVu Sans"/>
              </a:rPr>
              <a:t>Шумовой оркес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97080" y="3286080"/>
            <a:ext cx="3644640" cy="364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1195560"/>
            <a:ext cx="3444480" cy="344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86400" y="622440"/>
            <a:ext cx="33890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572080" y="4311720"/>
              <a:ext cx="3568320" cy="25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60" y="0"/>
              <a:ext cx="3711240" cy="26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1918440" y="2857680"/>
            <a:ext cx="57268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Художественно-эстетическое развитие по ФГОС предполагает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тие предпосылок ценностно-смыслового восприятия произведений искусства (словесного, изобразительного, музыкального), мира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формирования элементарных представлений о видах искус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восприятие музыки, художественной литературы, фолькл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тимулирование сопереживания персонажам художественных произ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еализацию самостоятельной творческой деятельности детей.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920" y="4871880"/>
            <a:ext cx="2646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5518080"/>
              <a:ext cx="2479320" cy="13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79360" y="168120"/>
            <a:ext cx="875628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44928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ctr">
              <a:lnSpc>
                <a:spcPts val="36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Calibri"/>
              </a:rPr>
              <a:t>Интегративное качество личности ребен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ctr">
              <a:lnSpc>
                <a:spcPts val="36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Calibri"/>
              </a:rPr>
              <a:t>музыкальная 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формируется на основ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эмоциональной отзывчивости на высоко-художественные произведения музыкального искусств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образного мышления и воображения, накопления интонационного познавательно-ценностного опыта в творческой музыка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развития всех компонентов музыкально-эстетического сознания — эмоций, чувств, интересов, 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	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потреб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	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вкуса, представлений об иде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19080" y="14400"/>
            <a:ext cx="9159480" cy="6854400"/>
            <a:chOff x="-19080" y="14400"/>
            <a:chExt cx="9159480" cy="6854400"/>
          </a:xfrm>
        </p:grpSpPr>
        <p:sp>
          <p:nvSpPr>
            <p:cNvPr id="60" name=""/>
            <p:cNvSpPr/>
            <p:nvPr/>
          </p:nvSpPr>
          <p:spPr>
            <a:xfrm>
              <a:off x="0" y="1440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-19080" y="5059440"/>
              <a:ext cx="2400120" cy="18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28760" y="1643040"/>
            <a:ext cx="84294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89000"/>
            <a:ext cx="799272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Виды музыка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восприят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сполнитель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ворч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ыкально-образовательная дея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ыкально-игров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а на детских музыкальных инструмен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приобщает детей к совместной, коллективной деятельности со сверстниками  - элементарному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иц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2600" y="0"/>
            <a:ext cx="9140400" cy="6854400"/>
            <a:chOff x="12600" y="0"/>
            <a:chExt cx="9140400" cy="6854400"/>
          </a:xfrm>
        </p:grpSpPr>
        <p:sp>
          <p:nvSpPr>
            <p:cNvPr id="65" name=""/>
            <p:cNvSpPr/>
            <p:nvPr/>
          </p:nvSpPr>
          <p:spPr>
            <a:xfrm>
              <a:off x="1260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46080" y="5300640"/>
              <a:ext cx="234756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95280" y="41400"/>
            <a:ext cx="8494200" cy="70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Задачи музыкального воспитан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накапливать опыт восприятия произведений мировой музыкаль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развивать творческое воображение (образные высказывания о музы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вызывать и поддерживать интерес к му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развивать  музыкальные способности и исполнительские возмож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формировать навыки и умения игры на детских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музыкальных инструментах.</a:t>
            </a: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0400" cy="6911640"/>
            <a:chOff x="0" y="0"/>
            <a:chExt cx="9140400" cy="691164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6696000" y="5299200"/>
              <a:ext cx="2263320" cy="161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979640" y="119160"/>
            <a:ext cx="69847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Классик отечественного музыкознания, ученый – музыковед, педаг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Борис Владимирович Асафь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</a:t>
            </a: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Активное действование с музыкой, ее воспроизведение ведет к обогащению …жизненного опыта и знания о мире через слух, восприятию изнутри материала, которым оперирует му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3645" t="5443" r="18842" b="14013"/>
          <a:stretch/>
        </p:blipFill>
        <p:spPr>
          <a:xfrm>
            <a:off x="250920" y="119160"/>
            <a:ext cx="1944360" cy="278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10180" t="5655" r="7901" b="11293"/>
          <a:stretch/>
        </p:blipFill>
        <p:spPr>
          <a:xfrm>
            <a:off x="6877080" y="3424320"/>
            <a:ext cx="2122200" cy="268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3213000"/>
            <a:ext cx="6768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Русский и советский музыковед, педагог, композитор, музыкальный деятель Болеслав Леопольдович Явор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элементарное» музицирование способствует развитию творческих способностей ребенка, активизирует его мышление. Через звуки дети получают возможность для самовыражения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76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087880"/>
            <a:ext cx="2484000" cy="176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84360" y="333360"/>
            <a:ext cx="619092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Австрийский композитор и педагог Карл О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Для успешного приобщения к музыкальной деятельности в руках у ребёнка должен быть инстру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24186" t="0" r="26609" b="0"/>
          <a:stretch/>
        </p:blipFill>
        <p:spPr>
          <a:xfrm>
            <a:off x="343080" y="476280"/>
            <a:ext cx="1798200" cy="2047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4165" t="9417" r="3874" b="9407"/>
          <a:stretch/>
        </p:blipFill>
        <p:spPr>
          <a:xfrm>
            <a:off x="2627280" y="4600440"/>
            <a:ext cx="6359040" cy="219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7760" y="2550960"/>
            <a:ext cx="8496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1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тель специального комплекта инструментов, для музыкального воспитания детей, называемый “Орфофский набор”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нструментарий - ключ для подхода к элементарному музыкальному музицированию с группами детей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1000" y="4602240"/>
            <a:ext cx="24109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3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независимо от их дарова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932360" y="3782880"/>
              <a:ext cx="3946320" cy="29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611280" y="285840"/>
            <a:ext cx="813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Ц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Знакомство детей с шумовыми музыкальными инструментами и способами игры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тие сотрудничества в группе, умения чувствовать партнё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ние условий для самостоятельных музыкальных импровизаций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овое обучение совместному исполнитель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3825720"/>
            <a:ext cx="316656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00160" y="4076640"/>
              <a:ext cx="3588840" cy="25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11280" y="285840"/>
            <a:ext cx="813708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За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ть атмосферу комфорта, творческого исследования звуковых возможностей каждого из инструментов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ать возможность свободно импровизировать на шумовых инструмен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вать способности детей к организованной работе в ансамбле под управлением дирижё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Arial"/>
              </a:rPr>
              <a:t>развивать творческое воображение и слуховую фантаз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">
  <a:themeElements>
    <a:clrScheme name="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5:32:10Z</dcterms:created>
  <dc:creator>Ольга</dc:creator>
  <dc:description/>
  <dc:language>en-US</dc:language>
  <cp:lastModifiedBy>HP</cp:lastModifiedBy>
  <dcterms:modified xsi:type="dcterms:W3CDTF">2023-04-22T11:43:33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