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79C-04C2-4630-845A-DD6B2165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716-47C0-4070-A086-8F3B80B7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181-7C43-4CFC-99F3-DA8BAA79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743-0BC1-466A-97A5-1CCBECA3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60A-0A6A-4758-9B15-CEB02AFA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261-0EB8-4104-8A59-8D971A69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E59-8D49-42F1-8883-DADCEDD1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0D1-F324-4612-ABF5-A6C657A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458-F2A6-4306-9DBA-E56EDCCF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6C4-5A06-45F0-B0E8-1289DAC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135-1944-4B43-8C04-57F1B318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8C7-D35D-49BE-ABFE-63E92372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5AFC-10F4-494C-9A8B-4B9B9BC2B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ёт о работе комбинированной группы «Умники и умницы» за 2020-2021 учебный г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чтец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2868480" cy="4051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3108240" y="2781360"/>
            <a:ext cx="3038400" cy="405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6276960" y="2755800"/>
            <a:ext cx="273672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гостях у 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826920" y="2311560"/>
            <a:ext cx="3745080" cy="4430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4859280" y="2311560"/>
            <a:ext cx="3411720" cy="4430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ля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507960" y="2046240"/>
            <a:ext cx="4340160" cy="481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5076720" y="2046240"/>
            <a:ext cx="365292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«Лучшая новогодняя игр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58784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исные ок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324000" y="2141640"/>
            <a:ext cx="4032000" cy="4527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3"/>
          <a:stretch/>
        </p:blipFill>
        <p:spPr>
          <a:xfrm>
            <a:off x="4716360" y="2141640"/>
            <a:ext cx="4140360" cy="4527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«Снежная построй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489120" cy="4294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1009800" y="2276640"/>
            <a:ext cx="321948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ставка к 23 февра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2"/>
          <a:stretch/>
        </p:blipFill>
        <p:spPr>
          <a:xfrm>
            <a:off x="2987640" y="2046240"/>
            <a:ext cx="415620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сля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684360" y="2046240"/>
            <a:ext cx="3600360" cy="4811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3"/>
          <a:stretch/>
        </p:blipFill>
        <p:spPr>
          <a:xfrm>
            <a:off x="4967280" y="2046240"/>
            <a:ext cx="376236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ция «Космонав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760" y="198864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2484360" y="2187720"/>
            <a:ext cx="460872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0T17:34:09Z</dcterms:created>
  <dc:creator>Пользователь Windows</dc:creator>
  <dc:description/>
  <dc:language>en-US</dc:language>
  <cp:lastModifiedBy>RePack by Diakov</cp:lastModifiedBy>
  <dcterms:modified xsi:type="dcterms:W3CDTF">2021-05-27T03:33:09Z</dcterms:modified>
  <cp:revision>25</cp:revision>
  <dc:subject/>
  <dc:title>Слайд 1</dc:title>
</cp:coreProperties>
</file>