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CCAA-FA1C-4AD4-AE93-C11B3062D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13D3-48C7-4ACB-B12C-88FCCF2E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5A92-33B3-4F01-A249-4C4FA8E3E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5ED8-56CB-4EDF-B663-422788A59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919C-CFCC-4793-B43E-92DC70F2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8D42-D5AB-4687-A9A6-034C7D06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36EC-E5C3-4C1F-B63B-4F9A3DAF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962F-2036-4B03-BAF2-5F7F9660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A415-5902-470F-BC98-E4EE87B6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0904-63ED-4464-B7D8-073217DF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2A0D-A1B3-4883-8F95-66AD023A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7137-AC7F-4E17-8E22-5B3243CC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81DD-C30E-44E5-BD55-EA82C916A3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довой отчёт о работе комбинированной группы «Умники и умницы» за 2020-2021 учебный год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0040" y="1142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нкурс чтец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2045880"/>
            <a:ext cx="91440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3" descr=""/>
          <p:cNvPicPr/>
          <p:nvPr/>
        </p:nvPicPr>
        <p:blipFill>
          <a:blip r:embed="rId2"/>
          <a:stretch/>
        </p:blipFill>
        <p:spPr>
          <a:xfrm>
            <a:off x="108000" y="2781360"/>
            <a:ext cx="2868480" cy="40510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4" descr=""/>
          <p:cNvPicPr/>
          <p:nvPr/>
        </p:nvPicPr>
        <p:blipFill>
          <a:blip r:embed="rId3"/>
          <a:stretch/>
        </p:blipFill>
        <p:spPr>
          <a:xfrm>
            <a:off x="3108240" y="2781360"/>
            <a:ext cx="3038400" cy="40510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"/>
          <p:cNvPicPr/>
          <p:nvPr/>
        </p:nvPicPr>
        <p:blipFill>
          <a:blip r:embed="rId4"/>
          <a:stretch/>
        </p:blipFill>
        <p:spPr>
          <a:xfrm>
            <a:off x="6276960" y="2755800"/>
            <a:ext cx="2736720" cy="40766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асибо за внимание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0040" y="1142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 гостях у сказ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2045880"/>
            <a:ext cx="91440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1" descr=""/>
          <p:cNvPicPr/>
          <p:nvPr/>
        </p:nvPicPr>
        <p:blipFill>
          <a:blip r:embed="rId2"/>
          <a:stretch/>
        </p:blipFill>
        <p:spPr>
          <a:xfrm>
            <a:off x="826920" y="2311560"/>
            <a:ext cx="3745080" cy="44305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2" descr=""/>
          <p:cNvPicPr/>
          <p:nvPr/>
        </p:nvPicPr>
        <p:blipFill>
          <a:blip r:embed="rId3"/>
          <a:stretch/>
        </p:blipFill>
        <p:spPr>
          <a:xfrm>
            <a:off x="4859280" y="2311560"/>
            <a:ext cx="3411720" cy="44305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1142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ляд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2045880"/>
            <a:ext cx="91440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2"/>
          <a:stretch/>
        </p:blipFill>
        <p:spPr>
          <a:xfrm>
            <a:off x="507960" y="2046240"/>
            <a:ext cx="4340160" cy="48117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"/>
          <p:cNvPicPr/>
          <p:nvPr/>
        </p:nvPicPr>
        <p:blipFill>
          <a:blip r:embed="rId3"/>
          <a:stretch/>
        </p:blipFill>
        <p:spPr>
          <a:xfrm>
            <a:off x="5076720" y="2046240"/>
            <a:ext cx="3652920" cy="48117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0" y="2045880"/>
            <a:ext cx="91440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курс «Лучшая новогодняя игруш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4" descr=""/>
          <p:cNvPicPr/>
          <p:nvPr/>
        </p:nvPicPr>
        <p:blipFill>
          <a:blip r:embed="rId2"/>
          <a:stretch/>
        </p:blipFill>
        <p:spPr>
          <a:xfrm>
            <a:off x="2556000" y="1916280"/>
            <a:ext cx="4587840" cy="49417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1142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списные ок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2045880"/>
            <a:ext cx="91440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3" descr=""/>
          <p:cNvPicPr/>
          <p:nvPr/>
        </p:nvPicPr>
        <p:blipFill>
          <a:blip r:embed="rId2"/>
          <a:stretch/>
        </p:blipFill>
        <p:spPr>
          <a:xfrm>
            <a:off x="324000" y="2141640"/>
            <a:ext cx="4032000" cy="45273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"/>
          <p:cNvPicPr/>
          <p:nvPr/>
        </p:nvPicPr>
        <p:blipFill>
          <a:blip r:embed="rId3"/>
          <a:stretch/>
        </p:blipFill>
        <p:spPr>
          <a:xfrm>
            <a:off x="4716360" y="2141640"/>
            <a:ext cx="4140360" cy="45273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1142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нкурс «Снежная постройк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2045880"/>
            <a:ext cx="91440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"/>
          <p:cNvPicPr/>
          <p:nvPr/>
        </p:nvPicPr>
        <p:blipFill>
          <a:blip r:embed="rId2"/>
          <a:stretch/>
        </p:blipFill>
        <p:spPr>
          <a:xfrm>
            <a:off x="4788000" y="2276640"/>
            <a:ext cx="3489120" cy="42940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"/>
          <p:cNvPicPr/>
          <p:nvPr/>
        </p:nvPicPr>
        <p:blipFill>
          <a:blip r:embed="rId3"/>
          <a:stretch/>
        </p:blipFill>
        <p:spPr>
          <a:xfrm>
            <a:off x="1009800" y="2276640"/>
            <a:ext cx="3219480" cy="42940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0040" y="1142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ыставка к 23 феврал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2045880"/>
            <a:ext cx="91440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3" descr=""/>
          <p:cNvPicPr/>
          <p:nvPr/>
        </p:nvPicPr>
        <p:blipFill>
          <a:blip r:embed="rId2"/>
          <a:stretch/>
        </p:blipFill>
        <p:spPr>
          <a:xfrm>
            <a:off x="2987640" y="2046240"/>
            <a:ext cx="4156200" cy="44784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040" y="1142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асляниц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2045880"/>
            <a:ext cx="91440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3" descr=""/>
          <p:cNvPicPr/>
          <p:nvPr/>
        </p:nvPicPr>
        <p:blipFill>
          <a:blip r:embed="rId2"/>
          <a:stretch/>
        </p:blipFill>
        <p:spPr>
          <a:xfrm>
            <a:off x="684360" y="2046240"/>
            <a:ext cx="3600360" cy="48117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4" descr=""/>
          <p:cNvPicPr/>
          <p:nvPr/>
        </p:nvPicPr>
        <p:blipFill>
          <a:blip r:embed="rId3"/>
          <a:stretch/>
        </p:blipFill>
        <p:spPr>
          <a:xfrm>
            <a:off x="4967280" y="2046240"/>
            <a:ext cx="3762360" cy="48117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0040" y="1142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кция «Космонавт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3760" y="1988640"/>
            <a:ext cx="91440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3" descr=""/>
          <p:cNvPicPr/>
          <p:nvPr/>
        </p:nvPicPr>
        <p:blipFill>
          <a:blip r:embed="rId2"/>
          <a:stretch/>
        </p:blipFill>
        <p:spPr>
          <a:xfrm>
            <a:off x="2484360" y="2187720"/>
            <a:ext cx="4608720" cy="46688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10T17:34:09Z</dcterms:created>
  <dc:creator>Пользователь Windows</dc:creator>
  <dc:description/>
  <dc:language>en-US</dc:language>
  <cp:lastModifiedBy>RePack by Diakov</cp:lastModifiedBy>
  <dcterms:modified xsi:type="dcterms:W3CDTF">2021-05-27T03:33:09Z</dcterms:modified>
  <cp:revision>25</cp:revision>
  <dc:subject/>
  <dc:title>Слайд 1</dc:title>
</cp:coreProperties>
</file>