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D42-E186-441A-8980-D8702F45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0A7-E889-4D65-81EC-59D3C5E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25C-518A-40B6-ABC5-F3D90FCE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47F-D870-459B-9772-7CEB49BC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E22-780A-4962-9D1C-5B24F0B8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803-0D63-47D4-96FA-A16734D6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D3E-D600-45AA-813B-D3311B8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27B-4F09-4F31-9500-893AA9A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148-2294-4E49-8DA3-63EFF28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8C5-66D6-4DFD-B5ED-4B58D05E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60A-1EDA-4A7C-80B2-310045C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71C-9166-4407-BDB0-3456480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C602-D3F6-45AE-A477-C39434D26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13840" cy="1414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067280" y="2706840"/>
            <a:ext cx="47894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нгатуллина Ад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 «Гимназия»п.г.т Богатые Саб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бинского муниципального района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:                                                                 Рахимова Миляуша Мансуровна                                                           учитель биологии и географии                                                                    втор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3105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Миляуша\Desktop\Гулина\DSC03223.JPG"/>
          <p:cNvPicPr/>
          <p:nvPr/>
        </p:nvPicPr>
        <p:blipFill>
          <a:blip r:embed="rId1"/>
          <a:stretch/>
        </p:blipFill>
        <p:spPr>
          <a:xfrm>
            <a:off x="4714920" y="836640"/>
            <a:ext cx="4249800" cy="2862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42840"/>
            <a:ext cx="7211880" cy="779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179280" y="91620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ека является правым притоком р. Ка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еша протекает по терри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укморского, Лаишевск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стречинского, Сабинског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рского районов. Исток ре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лежит у села Ятмас-Дуса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укморского района. Устье у се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адули  Лаишевского рай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ее впадают 54 прит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амым большим притоком является р. Ну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лина реки   составляет 304 км. Площадь водосбора 4180 к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Водосбор реки Меша представляет собой волнистую равнину, расчлененными долинами притоков и оврагов.  Русло реки извилистое, местами разветвляется и образует рукава.  Ширина речной долины от 30 до 50 км.  Ширина реки от2 до 10 м, глубина от 0.2 до 2 м. Скорость течения реки составляет от 0,2 до 0,6 м/с. Средний многолетний слой годового стока в устье 162 мм. Слой стока половодья 113 мм. Река средней водности. В пределах Сабинского и Тюлячинского районов находится 170 км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1663560" y="115920"/>
            <a:ext cx="5737320" cy="1073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179280" y="1223640"/>
            <a:ext cx="561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находится на территории Мешабашского лесничества, которой входит в состав Сабинского лесхоза, кв. 37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часток склонового пихтового леса, расположенного среди полей. Почвы здесь карбонатные.  Здесь сохранились разновозрастные сосново-елово-пихтовые наса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едких видов растений, занесенных в Красную книгу РТ, встречаются: колокольчик круглолистный, подъельник обыкновенный, зимолюбка зонтичная и др. Одно из мест гнездования кедровки - вида, занесенного в Красную книгу 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ы охраны: Запрет выпаса скота, сенокошения, рубок леса, за исключением санитар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Миляуша\Desktop\Гулина\2010-12-13\097.JPG"/>
          <p:cNvPicPr/>
          <p:nvPr/>
        </p:nvPicPr>
        <p:blipFill>
          <a:blip r:embed="rId2"/>
          <a:stretch/>
        </p:blipFill>
        <p:spPr>
          <a:xfrm>
            <a:off x="5867280" y="1413000"/>
            <a:ext cx="304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23760"/>
            <a:ext cx="9144000" cy="1182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79280" y="941400"/>
            <a:ext cx="8425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казник  расположен на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мадышского, Сабинск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ыбно-Слободского, Пестреч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йонов. Общая площадь за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ляет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131,67  г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ницы заказника: 100 метровая з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равому берегу реки Ме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т автомобильной дор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зань - Набережные Чел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 села Старая Икшурма и село Аб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юг  через р. Арташ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Владимир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южной опушке Кутлубукашского и Тюлячинского лесничеств и до с. Рыбная Слобода, от  с.Русский Ошняк до шоссе Каза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Набережные Челны и до моста через р.Меша.Большую территорию заказника составляют леса и полевые угодья.  По территории заказника протекают реки Меша, Нырса, Берсут, Бетька, Ошняк. Фауна представлена типично таежными видами: ель сосна.Основное значение объ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это охрана охотничье - промысловой фауны: белки, серой куропатки,  и бобра включенного в Красную Книгу РТ. На территории заказника ведется большая работа по предотвращению браконьерства, а также  ограничена ох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643280" y="928800"/>
            <a:ext cx="42674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1" descr=""/>
          <p:cNvPicPr/>
          <p:nvPr/>
        </p:nvPicPr>
        <p:blipFill>
          <a:blip r:embed="rId1"/>
          <a:stretch/>
        </p:blipFill>
        <p:spPr>
          <a:xfrm>
            <a:off x="1103400" y="96840"/>
            <a:ext cx="6924600" cy="10731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2"/>
          <a:srcRect l="2414" t="0" r="11902" b="0"/>
          <a:stretch/>
        </p:blipFill>
        <p:spPr>
          <a:xfrm>
            <a:off x="3635280" y="3278160"/>
            <a:ext cx="5273640" cy="339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SC03263"/>
          <p:cNvPicPr/>
          <p:nvPr/>
        </p:nvPicPr>
        <p:blipFill>
          <a:blip r:embed="rId3"/>
          <a:stretch/>
        </p:blipFill>
        <p:spPr>
          <a:xfrm>
            <a:off x="179280" y="1197000"/>
            <a:ext cx="4068720" cy="3052800"/>
          </a:xfrm>
          <a:prstGeom prst="rect">
            <a:avLst/>
          </a:prstGeom>
          <a:ln w="28440">
            <a:solidFill>
              <a:srgbClr val="17365d"/>
            </a:solidFill>
            <a:miter/>
          </a:ln>
        </p:spPr>
      </p:pic>
      <p:sp>
        <p:nvSpPr>
          <p:cNvPr id="80" name="Rectangle 5"/>
          <p:cNvSpPr/>
          <p:nvPr/>
        </p:nvSpPr>
        <p:spPr>
          <a:xfrm>
            <a:off x="4284720" y="1204200"/>
            <a:ext cx="485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ритория имеет статус государственного заказника местного значения. Общая площадь составляет 1376 га, всего заказни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личество зон равно числу пасек в районе. Находятся вокруг пас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1262160" y="189000"/>
            <a:ext cx="5973840" cy="718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50920" y="694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территории Мешабашского лесничества на площади в 11,25 га заложен дендрологический сад име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ургалея Миннихановича Минниха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65680" y="1344600"/>
            <a:ext cx="5039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ендрологический сад нач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здаваться в 2003 году докто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/х наук профессором Кот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ихаилом  Михайлович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роекту предусмотрено вве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07 древесных и кустарниковых ви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десь собраны редчайшие рас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Азии- 40 %, Америки- 32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 Европы- 28%. В настоящее врем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ллекция дендросада вклю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24 вида, относящимис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9 семействам и 64 родам дере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 кустарников.  Дендросад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экспозиционную гру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вересковый с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альпин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24000" y="47844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альпинарии посажены 80 видов многолетних цветочных 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д альпинарием построен декоративный водоем площадью 438 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6438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, биогеоценоз – это живой организм, который находится в постоянном развитии. Деревья, как и люди, рождаются, растут, достигают зрелости, размножаются, стареют и умирают. Ослабленные старые древостои подвергаются массовому нападению энтомовредителей, поражаются грибными болезнями. Все это приводит к массовому усыханию деревьев, деградации экосистемы и гибели памятника природы. Только своевременные меры по обеспечению смены поколений могут сохранить памятник. Поэтому живые памятники природы можно сохранить до естественного распада насаждения, заменив  старые деревья благонадежным подрос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щее планеты и судьба человечества сегодня во многом зависит от таких категорий, как культура мира, толерантность и экологическая безопасность. Большое дело как всегда начинается с маленького шага. Каждый может внести свою лепту в сохранение чистоты окружающей среды и защиту природы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2914560" y="189000"/>
            <a:ext cx="3614760" cy="83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792000"/>
            <a:ext cx="8785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кология стала самым  громким  словом на Земле, громче войны и стихи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вучащее на всех языках одинаково, оно выражает одно и то же понятие вселенской беды, никогда прежде не существовавшей в подобных масштабах и тяжест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.Г.Распутин (19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ятельность человека сильно изменила облик природных ландшафтов. Особенно сильным изменениям подверглась живая природа: произошло изреживание растительности, сокращение ареалов животных и даже гибель многих видов, уменьшилась площадь лес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кологические проблемы лесов  сложны и многообразны. Важнейшей проблемой  уже более столетия волнующей многих специалистов в области лесопользования и управления лесами, является проблема истощения лесных ресурсов. Идет резкое ухудшение  качества лес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ктуальность темы  моего выступления обусловлена кризисным состоянием природы, обострением глобальных проблем современной цивилизации, ухудшением экологической ситуации во многих точках земного шар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82520"/>
            <a:ext cx="2487600" cy="744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Миляуша\Desktop\Гулина\DSC0323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859280" y="1085760"/>
            <a:ext cx="3911760" cy="277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500720" y="40204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ницы проходят: на севере с Балтасинским  районом, на северо-востоке с Кукморским, на юге с    Тюлячинским и Рыбно-     Слободским, на северо-западе с Арским рай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7778880" cy="725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0" y="1125360"/>
            <a:ext cx="4859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Сабинский район расположен на севере Республики Татарстан, в центральной части Предкам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Его площадь  - 1090 в.к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Миляуша\Desktop\Сабинский район\map.png"/>
          <p:cNvPicPr/>
          <p:nvPr/>
        </p:nvPicPr>
        <p:blipFill>
          <a:blip r:embed="rId3"/>
          <a:stretch/>
        </p:blipFill>
        <p:spPr>
          <a:xfrm>
            <a:off x="250920" y="3511440"/>
            <a:ext cx="4176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0"/>
            <a:ext cx="709452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79280" y="76500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района входит 67 сел и 1 поселок городского типа. Центр района – п.г.т. Богатые Сабы удален от Казани  на 98 км. Географическое положение района выгодное, во-первых, из-за близости к столице, во-вторых, через район проходит транзитная железнодорожная магистраль Казань-Екатеринбург, в-третьих, из-за равнинности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User\Desktop\Рисунок1.jpg"/>
          <p:cNvPicPr/>
          <p:nvPr/>
        </p:nvPicPr>
        <p:blipFill>
          <a:blip r:embed="rId2"/>
          <a:stretch/>
        </p:blipFill>
        <p:spPr>
          <a:xfrm>
            <a:off x="5072040" y="1338120"/>
            <a:ext cx="37148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865080" y="128520"/>
            <a:ext cx="1828800" cy="706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250920" y="86400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ритория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имает верх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бассейна р. Ме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ном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мистая равн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енная речными долинами на широкие пологие гряды. В рельефе четко прослеживаются четыре водораз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верный – между верховьями р. Меши и уходящими на юг ее прит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адный – между реками М.Меша и Саб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Юго-восточный – между притоками Казкаш и Ин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альный – между притоками  Сабинка и Казк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267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5565960" cy="706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44360" y="1218960"/>
            <a:ext cx="889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полезным ископаемым района относятся: запасы извести, глин, песка, бутового камня. Мощные торфяники  остались в Тюлячинском  районе. Залежи кирпичной глины разбросаны по всей территории района. В последние годы ее использовали для получения стройматериала. Кирпичный завод в деревнях Юлбат, Туктар. Залежи бутового камня также распространены почти повсеместно, но больше вблизи селений Олыяз и  Средние Сабы. Песок на территории района низкого качества и поэтому в строительстве применяется редко.  По заключению Казанской зональной агрохимлаборатории  известковые туфы, находящиеся на территориях с. Шицы, с.Б.Шинар и Тимершик содержат 25-34% СаСОз, что определяет их пригодность к внесению в почв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0" y="55440"/>
            <a:ext cx="4248000" cy="706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5280" y="633240"/>
            <a:ext cx="828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с почво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ем районе обусловле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ональным географическим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ением на стыке лес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лесостепной зон, но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м под воздействи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сной расти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чвенном покрове  преобладают лесные дерново-подзолистые почвы, дерново-карбонатные, лугово-болотные, аллювиальные почвы. Почвы района глинистые и тяжелосуглинистые – 65%, среднесуглинистые – 26%, легкосуглинистые – 2,7%. Тяжелосуглинистые почвы без достаточного внесения органических удобрений склонны к заплыванию, образованию почвенной корки, способствуют развитию водной эрозии. 73% почв района имеют кислую реакцию, и нуждаются в известковании. Почвенный бонитет района оценивается в 24,2 бал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Миляуша\Desktop\Рисунок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054320" y="404640"/>
            <a:ext cx="4478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Миляуша\Desktop\Рисунок1.jpg"/>
          <p:cNvPicPr/>
          <p:nvPr/>
        </p:nvPicPr>
        <p:blipFill>
          <a:blip r:embed="rId1"/>
          <a:stretch/>
        </p:blipFill>
        <p:spPr>
          <a:xfrm>
            <a:off x="4500720" y="428760"/>
            <a:ext cx="4244760" cy="2855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3431880" cy="706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79280" y="1090440"/>
            <a:ext cx="882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 расположен в з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ренно-континент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имата с холодной зи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ым летом и достаточ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м осадков. Сред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а января равна – 14 град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температура июля равна +19,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осадков 468 мм. Бывают годы с недостаточным увлажнением. Поэтому необходимы систематические мероприятия по накоплению и сохранению влаги в почве. Снежный покров лежит на полях 140-155 дней. Наибольшая высота снежного покрова достигает в середине марта. Лето длится до 3-х месяцев. Продолжительность вегетационного периода около 170 дней. Осень характеризуется дождливой погодой, при которой обеспечиваются нужные запасы влаги в почве. В целом климатические условия благоприятны для возделывания в районе многих сельскохозяйственных куль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Миляуша\Desktop\Гулина\DSC03261.JPG"/>
          <p:cNvPicPr/>
          <p:nvPr/>
        </p:nvPicPr>
        <p:blipFill>
          <a:blip r:embed="rId1">
            <a:lum bright="10000"/>
          </a:blip>
          <a:srcRect l="2749" t="4851" r="2749" b="0"/>
          <a:stretch/>
        </p:blipFill>
        <p:spPr>
          <a:xfrm>
            <a:off x="4867200" y="982800"/>
            <a:ext cx="4097520" cy="30938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" descr=""/>
          <p:cNvPicPr/>
          <p:nvPr/>
        </p:nvPicPr>
        <p:blipFill>
          <a:blip r:embed="rId2"/>
          <a:stretch/>
        </p:blipFill>
        <p:spPr>
          <a:xfrm>
            <a:off x="249120" y="55440"/>
            <a:ext cx="4829400" cy="706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79280" y="969120"/>
            <a:ext cx="87138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ная сеть Сабинского рай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ная часть бассейна Волг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ая река Меша – правы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ток Камы. Ее длина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елах райо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35 к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ка Меша имеет прито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Сабинка, Казкаш, Нысы, Иныш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Питание рек смешанно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с преобладанием снегового питания. За 5-10 весенних дней стекает более 60%  годового количества воды. Район относительно обеспечен водными ресурсами, но требуется проводить  мероприятия по регулированию весеннего временного  стока для лучшего обеспечения вод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2:32:21Z</dcterms:created>
  <dc:creator>Миляуша</dc:creator>
  <dc:description/>
  <dc:language>en-US</dc:language>
  <cp:lastModifiedBy>User</cp:lastModifiedBy>
  <dcterms:modified xsi:type="dcterms:W3CDTF">2023-04-24T08:15:26Z</dcterms:modified>
  <cp:revision>39</cp:revision>
  <dc:subject/>
  <dc:title>Слайд 1</dc:title>
</cp:coreProperties>
</file>