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CB0-E8DF-4A4C-9313-D917D004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99B-A998-45D1-BE3C-49380540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96F-940A-47DB-A47B-A7146F4B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8E9-E938-4AF7-8C3A-B1B6B42F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5F7-D353-484C-881C-D750ABD6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9F6-1831-436C-B53F-74E8AAA7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0CF-2D59-4F81-A0D8-024EC6B7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6A4-4AD1-4664-904C-3660ACA5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96B-88C6-4526-A757-3A5772D4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EC6-6ED9-42D0-B8A7-8A65C1B4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F7C-631F-49BF-AA2F-4DB8EB1D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396-D760-4166-917C-6EE38E58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00CD-67E7-42E9-9806-5A100B92B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1476360" y="1341360"/>
            <a:ext cx="74167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ультация для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«Развитие речи детей через музык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427640" y="4900680"/>
            <a:ext cx="39607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нова  М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2554200" y="55440"/>
            <a:ext cx="4376880" cy="6462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 flipV="1" rot="10800000">
            <a:off x="3978360" y="6074280"/>
            <a:ext cx="295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Times New Roman"/>
                <a:ea typeface="Calibri"/>
              </a:rPr>
              <a:t>Апрель 2023 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08000" y="189000"/>
            <a:ext cx="871200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речевое музиц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гра на музыкальных инструментах – это один из видов детской исполнительской деятельности. Игра на музыкальных инструментах развивает мускулатуру и мелкую моторику пальцев рук, способствует координации музыкального мышления и двигательных функций организма, развивает фантазию, творческие способности, музыкальный вкус, учит понимать и любить му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а музыкальных занятиях в нашем детском саду дети активно занимаются логоритмикой, которая основана на использовании связи слова, музыки и движения. Другими словами, дети под музыку произносят ритмизованный тек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Логоритмика – система упражнений, заданий, игр на основе сочетания музыки и движения, музыки и слова, музыки, слова и движения, направленная на решение коррекционных, образовательных и оздоровитель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Это укрепляет мышечный аппарат, развивает голос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етоды и приемы логоритмики, используются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ных видах музыка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5219640" y="4076640"/>
            <a:ext cx="322596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24000" y="115920"/>
            <a:ext cx="8569080" cy="60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Дорогие родите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Эмоционально общайтесь с ребёнком с момента ро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Создавайте условия для общения с другими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ойте с вашими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казывайте стихи ру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Двигайтесь вместе с ними под любую му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узицируйте на детских музыкальных инструмен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оощряйте ребёнка, когда он сам двигается и поёт, услышав песню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ся наша жизнь пронизана музыкой: мы поем, напеваем, насвистываем, прихлопываем различные рит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ет музыкально неспособных детей, это уже давно доказа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 даже не сомневайтесь: развитие музыкальных навыков обязательно поможет вашему ребенку в будущем успешно обучаться в школ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Работая с детьми, мы должны помнить, что «Ребёнок – это не сосуд, который нужно наполнить, а факел – который нужно зажеч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68360" y="476280"/>
            <a:ext cx="83516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Сегодня я хочу поговорить о том, как можно развивать речь ребёнка через 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оследние годы, к сожалению, отмечается увеличение количества детей, имеющих нарушение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Для получения хороших результатов обязательно взаимодействие всех педагогов ДОУ и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Музыкальное воспитание детей в детском саду имеет большое значение для развития речи детей. В нашем детском саду на музыкальных занятиях развитию речи уделяется м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Основная задача музыкального воспитания: воспитывать любовь и интерес к музыки. Эта задача решается путем развития музыкального восприятия и сл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2843280" y="4797360"/>
            <a:ext cx="3168720" cy="162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24000" y="189000"/>
            <a:ext cx="85690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п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Конечно, основной вид музыкальной деятельности, наиболее тесно связанный с развитием речи –это п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опевки и песни приучают пользоваться естественным голосом без напряжения и крика, вырабатывают умение владеть голосом: петь громко и тих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ение дает так же возможность вырабатывать у детей протяжное произнесение гласных звуков и четкое, внятное, но не утрированное произнесение согласных звуков, приучает детей ясно и четко, без лишнего напряжения произносить слова песни, т.е. помогает вырабатывать хорошую дикц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Большинство детских песенок состоит из простых, часто повторяющихся слов, а основным средством овладения языком и развития речи является повтор. Дети даже не осознают, что через повторение они заучивают слова, так как произносят их снова и снова, запоминание куплетов из песен развивает умение составлять фразы и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 сами, того не замечая, дети изучают основы поэзи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50920" y="212760"/>
            <a:ext cx="849780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ение требует четкой работы артикуляционного аппарата (губы, язык), это, конечно, помогает развитию четкой дикции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ение помогает развитию даже навыка чтения. Дети овладевают ритмическим строем языка, ведь им приходится припевать каждый слог. При пении дети неосознанно рифмуют определенные сло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Есть и другие примеры того, как пение способствует развитию речевых навыков. Например, пополнение словарного запаса ребенка, знакомство с новыми понятиями. Это может происходить не только на занятиях в детском саду, но и дома, с вашей помощью, дорогие мамы, папы, бабушки, деду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се части музыкального занятия способствуют развитию у детей нормального темпа и ритма, вырабатывают слитность и плавность речи, умение пользоваться интонационными средствами выраз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узыка развивает способность различать зву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а слух, развивает у детей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способность выражать мысли слов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движениями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5437080" y="4218120"/>
            <a:ext cx="3164040" cy="1858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201600"/>
            <a:ext cx="835164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гол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Большое внимание уделяю голосу ребёнка. Голос – инструмент общения, сигналы в речи, интон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Детям очень нравятся развивающие игры с голосом. Это подражающие игры со звуками мира (кашель, чихание, голоса животных и птиц, неживой природы: часики, дождик, скрип дверей, звук автомашин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 этих играх непроизвольно формируется звукообразование. Если систематически использовать развивающие игры с голосом, то можно почувствовать, как дети выплескивают дополнительную энергию, учатся послушать свой голос и поиграть с ним. В таких упражнениях развивается интонационный и фонематический зв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2879640" y="3933720"/>
            <a:ext cx="324000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50920" y="115920"/>
            <a:ext cx="8569080" cy="61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артикуляционн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 ходе работы над текстом, разучиваемой песни, проводим работу по коррекции устной речи. В этом нам помогает артикуляционная гимнастика. В неё включаем упражнения для языка, щёк, губ, а также мимические упражнения, направленные на развитие подвижности речевых органов. Такие упражнения вызывают положительные эмоции у детей, а также развивают мим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акже, для успешного развития артикуляции и чистоты интонирования мы используем так называемые фонопедические упражнения, которые являются наиболее эффективными для развития певческих навыков (с музыкальным сопровождением и без нег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ак как известно, что в пении органы дыхания играют ведущую роль, поэтому необходимо закаливание органов дыхания, укрепление мышц носогло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ы используем еще эти упражнения и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вития чувства ритма, так как выдох и вдо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ы проделываем на стаккато и легат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а разные дли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 работе над дикцией нами используется прием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роговаривание текста одними губами в раз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емпах, начиная с медле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5651640" y="4290840"/>
            <a:ext cx="273672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08000" y="115920"/>
            <a:ext cx="8785080" cy="47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пальчиковы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Кроме пения, речь ребёнка можно развивать через другие виды музыка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дной из важнейших задач при организации работы по преодолению и профилактике речевых нарушений у детей является – развитие мелкой мо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 своё время И. Кант мудро изложил: «Рука — это вышедший наружу мозг челове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витие мелкой моторики положительно влияет на активизацию речевых центров в головном мозге. Эта зона расположена близко от речевой моторной зоны. Учёные отмечают, что проекция кисти руки занимает одну треть в коре головного мозга. Следовательно, тренировка тонких движений пальцев рук оказывает большое влияние на развитие активной речи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дним из направлений совместной деятельности музыкального руководителя являются музыкально – пальчиковы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чень нравятся детям пальчиковые игры под музыку, но она не должна при этом быть с четко подчеркнутым ритмом и излишне громким звучанием. Хочется отметить, что виды музыкально – пальчиковой гимнастики усложняются в зависимости от возраста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3133800" y="5010120"/>
            <a:ext cx="2577960" cy="145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50920" y="260280"/>
            <a:ext cx="871380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дви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Замечательный музыкант и педагог Карл Орф, считал, что музыка, движение и речь не являются обособленными друг от друга, а представляют собой единое целое для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оэтому любые движения под музыку развивают и музыкальный слух, и двигательные способности, и те психические процессы, которые лежат в их основе и способствуют эмоциональному и психофизическому развитию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Занятия движениями под музыку в сопровождении с речью имеют неоценимое значение. В процессе освоения движений под музыку дети учатся ориентироваться на музыку как на особый сигнал к действию и движению, у них совершенствуется моторика (общая, мелкая и артикуляционная), координация движений, развивается произвольность движений, коммуникативные способности, формируются и развиваются представления о связи музыки, движений и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Движения под музыкальное сопровождение положи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лияют на развитие слуха, внимания, памя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оспитывают временную ориентиров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ногими учеными отмечено, что чем вы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двигательная активность ребен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ем лучше развивается его 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6372360" y="4149720"/>
            <a:ext cx="1800000" cy="158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50920" y="260280"/>
            <a:ext cx="8642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ритмодекла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а первом плане в ритмодекламации выступает соединение одного из важнейших параметров музыкального языка — ритма — и выразительного речевого интон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Чёткая ритмическая организация музыкально-исполнительского процесса активизирует у детей развитие внимания, сосредоточенности, быстроты реакции, координации слуха, голоса и движения, способствует интенсивному развитию чувства ри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сполнение ритмодекламаций развивает у детей весь комплекс музыкальных способностей: музыкальную отзывчивость, эмоциональность, творческое воображение, эстетическое восприятие музыки, чувство уверенности в себе, осознание своей значимости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Речь и музыкально-дидактически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о – дидактические игры, дидактические задания, некоторые игры с пением способствуют развитию фонетико – фонематического сл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 необходимо развивать у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ховое внимание и слуховую пам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0T18:05:47Z</dcterms:created>
  <dc:creator>Татьяна</dc:creator>
  <dc:description/>
  <dc:language>en-US</dc:language>
  <cp:lastModifiedBy>jene4ka-87@mail.ru</cp:lastModifiedBy>
  <dcterms:modified xsi:type="dcterms:W3CDTF">2023-04-24T13:12:38Z</dcterms:modified>
  <cp:revision>22</cp:revision>
  <dc:subject/>
  <dc:title>Слайд 1</dc:title>
</cp:coreProperties>
</file>