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0FAF3-4DFD-4733-86A6-6C385F9BA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1B884-46F4-4298-9CBD-91D34F53A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BF4EB-B4F6-4377-A34E-E9DF56032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CFF62-8232-44A2-A72D-D1CBF9B03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C5CC3-8CF5-402D-B2E7-32921ADF7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79ABB-0F5D-439F-8F37-8FA62F468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9C458-05CB-4E6F-A34A-4BFA12CF5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87F20-EFEF-43AF-AAF4-D21C4C1B7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AC357-0FD7-4F9D-A8B1-FCC02E2F0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13910-FA88-43C7-A7BC-9DF5E97ED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DD5F6-7B96-40A6-9855-51D0C8819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CF689-0E80-4BC1-8A78-EFD44B80D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414B0-C7B7-43E0-81ED-D83684C1E82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Прямоугольник 1"/>
          <p:cNvSpPr/>
          <p:nvPr/>
        </p:nvSpPr>
        <p:spPr>
          <a:xfrm>
            <a:off x="1476360" y="1341360"/>
            <a:ext cx="7416720" cy="12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7000"/>
              </a:lnSpc>
              <a:spcBef>
                <a:spcPts val="18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Консультация для родителе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7000"/>
              </a:lnSpc>
              <a:spcBef>
                <a:spcPts val="18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70c0"/>
                </a:solidFill>
                <a:latin typeface="Arial"/>
                <a:ea typeface="Times New Roman"/>
              </a:rPr>
              <a:t>«Развитие речи детей через музыку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Прямоугольник 2"/>
          <p:cNvSpPr/>
          <p:nvPr/>
        </p:nvSpPr>
        <p:spPr>
          <a:xfrm>
            <a:off x="4427640" y="4900680"/>
            <a:ext cx="3960720" cy="9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зыкальный руководитель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тинова  М.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Прямоугольник 4" descr=""/>
          <p:cNvPicPr/>
          <p:nvPr/>
        </p:nvPicPr>
        <p:blipFill>
          <a:blip r:embed="rId2"/>
          <a:stretch/>
        </p:blipFill>
        <p:spPr>
          <a:xfrm>
            <a:off x="2554200" y="55440"/>
            <a:ext cx="4376880" cy="646200"/>
          </a:xfrm>
          <a:prstGeom prst="rect">
            <a:avLst/>
          </a:prstGeom>
          <a:ln w="0">
            <a:noFill/>
          </a:ln>
        </p:spPr>
      </p:pic>
      <p:sp>
        <p:nvSpPr>
          <p:cNvPr id="45" name="Прямоугольник 4"/>
          <p:cNvSpPr/>
          <p:nvPr/>
        </p:nvSpPr>
        <p:spPr>
          <a:xfrm flipV="1" rot="10800000">
            <a:off x="3978360" y="6074280"/>
            <a:ext cx="2952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cc"/>
                </a:solidFill>
                <a:latin typeface="Times New Roman"/>
                <a:ea typeface="Calibri"/>
              </a:rPr>
              <a:t>Апрель 2023 г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Прямоугольник 1"/>
          <p:cNvSpPr/>
          <p:nvPr/>
        </p:nvSpPr>
        <p:spPr>
          <a:xfrm>
            <a:off x="108000" y="189000"/>
            <a:ext cx="8712000" cy="46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7000"/>
              </a:lnSpc>
              <a:spcAft>
                <a:spcPts val="18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ff"/>
                </a:solidFill>
                <a:latin typeface="Arial"/>
                <a:ea typeface="Times New Roman"/>
              </a:rPr>
              <a:t>Речь и речевое музицирова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33"/>
                </a:solidFill>
                <a:latin typeface="Arial"/>
                <a:ea typeface="Times New Roman"/>
              </a:rPr>
              <a:t>Игра на музыкальных инструментах – это один из видов детской исполнительской деятельности. Игра на музыкальных инструментах развивает мускулатуру и мелкую моторику пальцев рук, способствует координации музыкального мышления и двигательных функций организма, развивает фантазию, творческие способности, музыкальный вкус, учит понимать и любить музык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33"/>
                </a:solidFill>
                <a:latin typeface="Arial"/>
                <a:ea typeface="Times New Roman"/>
              </a:rPr>
              <a:t>На музыкальных занятиях в нашем детском саду дети активно занимаются логоритмикой, которая основана на использовании связи слова, музыки и движения. Другими словами, дети под музыку произносят ритмизованный текст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33"/>
                </a:solidFill>
                <a:latin typeface="Arial"/>
                <a:ea typeface="Times New Roman"/>
              </a:rPr>
              <a:t>Логоритмика – система упражнений, заданий, игр на основе сочетания музыки и движения, музыки и слова, музыки, слова и движения, направленная на решение коррекционных, образовательных и оздоровительных задач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33"/>
                </a:solidFill>
                <a:latin typeface="Arial"/>
                <a:ea typeface="Times New Roman"/>
              </a:rPr>
              <a:t>Это укрепляет мышечный аппарат, развивает голос ребенк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33"/>
                </a:solidFill>
                <a:latin typeface="Arial"/>
                <a:ea typeface="Times New Roman"/>
              </a:rPr>
              <a:t>Методы и приемы логоритмики, используются 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33"/>
                </a:solidFill>
                <a:latin typeface="Arial"/>
                <a:ea typeface="Times New Roman"/>
              </a:rPr>
              <a:t>разных видах музыкальной деятель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Рисунок 3" descr=""/>
          <p:cNvPicPr/>
          <p:nvPr/>
        </p:nvPicPr>
        <p:blipFill>
          <a:blip r:embed="rId1"/>
          <a:stretch/>
        </p:blipFill>
        <p:spPr>
          <a:xfrm>
            <a:off x="5219640" y="4076640"/>
            <a:ext cx="3225960" cy="181620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Прямоугольник 1"/>
          <p:cNvSpPr/>
          <p:nvPr/>
        </p:nvSpPr>
        <p:spPr>
          <a:xfrm>
            <a:off x="324000" y="115920"/>
            <a:ext cx="8569080" cy="60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ff"/>
                </a:solidFill>
                <a:latin typeface="Arial"/>
                <a:ea typeface="Times New Roman"/>
              </a:rPr>
              <a:t>Дорогие родители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33"/>
                </a:solidFill>
                <a:latin typeface="Arial"/>
                <a:ea typeface="Times New Roman"/>
              </a:rPr>
              <a:t>Эмоционально общайтесь с ребёнком с момента рожде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33"/>
                </a:solidFill>
                <a:latin typeface="Arial"/>
                <a:ea typeface="Times New Roman"/>
              </a:rPr>
              <a:t>Создавайте условия для общения с другими детьм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33"/>
                </a:solidFill>
                <a:latin typeface="Arial"/>
                <a:ea typeface="Times New Roman"/>
              </a:rPr>
              <a:t>Пойте с вашими детьм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33"/>
                </a:solidFill>
                <a:latin typeface="Arial"/>
                <a:ea typeface="Times New Roman"/>
              </a:rPr>
              <a:t>Рассказывайте стихи рукам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33"/>
                </a:solidFill>
                <a:latin typeface="Arial"/>
                <a:ea typeface="Times New Roman"/>
              </a:rPr>
              <a:t>Двигайтесь вместе с ними под любую музык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33"/>
                </a:solidFill>
                <a:latin typeface="Arial"/>
                <a:ea typeface="Times New Roman"/>
              </a:rPr>
              <a:t>Музицируйте на детских музыкальных инструментах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33"/>
                </a:solidFill>
                <a:latin typeface="Arial"/>
                <a:ea typeface="Times New Roman"/>
              </a:rPr>
              <a:t>Поощряйте ребёнка, когда он сам двигается и поёт, услышав песню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7000"/>
              </a:lnSpc>
              <a:spcAft>
                <a:spcPts val="18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33"/>
                </a:solidFill>
                <a:latin typeface="Arial"/>
                <a:ea typeface="Times New Roman"/>
              </a:rPr>
              <a:t>Вся наша жизнь пронизана музыкой: мы поем, напеваем, насвистываем, прихлопываем различные ритмы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7000"/>
              </a:lnSpc>
              <a:spcAft>
                <a:spcPts val="18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33"/>
                </a:solidFill>
                <a:latin typeface="Arial"/>
                <a:ea typeface="Times New Roman"/>
              </a:rPr>
              <a:t>Нет музыкально неспособных детей, это уже давно доказано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7000"/>
              </a:lnSpc>
              <a:spcAft>
                <a:spcPts val="18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33"/>
                </a:solidFill>
                <a:latin typeface="Arial"/>
                <a:ea typeface="Times New Roman"/>
              </a:rPr>
              <a:t>И даже не сомневайтесь: развитие музыкальных навыков обязательно поможет вашему ребенку в будущем успешно обучаться в школе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7000"/>
              </a:lnSpc>
              <a:spcAft>
                <a:spcPts val="18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33"/>
                </a:solidFill>
                <a:latin typeface="Arial"/>
                <a:ea typeface="Times New Roman"/>
              </a:rPr>
              <a:t>Работая с детьми, мы должны помнить, что «Ребёнок – это не сосуд, который нужно наполнить, а факел – который нужно зажечь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Прямоугольник 1"/>
          <p:cNvSpPr/>
          <p:nvPr/>
        </p:nvSpPr>
        <p:spPr>
          <a:xfrm>
            <a:off x="468360" y="476280"/>
            <a:ext cx="8351640" cy="446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7000"/>
              </a:lnSpc>
              <a:spcAft>
                <a:spcPts val="18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Речь и музы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Arial"/>
                <a:ea typeface="Times New Roman"/>
              </a:rPr>
              <a:t>Сегодня я хочу поговорить о том, как можно развивать речь ребёнка через музык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Arial"/>
                <a:ea typeface="Times New Roman"/>
              </a:rPr>
              <a:t>В последние годы, к сожалению, отмечается увеличение количества детей, имеющих нарушение реч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Arial"/>
                <a:ea typeface="Times New Roman"/>
              </a:rPr>
              <a:t>Для получения хороших результатов обязательно взаимодействие всех педагогов ДОУ и родител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Arial"/>
                <a:ea typeface="Times New Roman"/>
              </a:rPr>
              <a:t>Музыкальное воспитание детей в детском саду имеет большое значение для развития речи детей. В нашем детском саду на музыкальных занятиях развитию речи уделяется много вним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Arial"/>
                <a:ea typeface="Times New Roman"/>
              </a:rPr>
              <a:t>Основная задача музыкального воспитания: воспитывать любовь и интерес к музыки. Эта задача решается путем развития музыкального восприятия и слух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Рисунок 3" descr=""/>
          <p:cNvPicPr/>
          <p:nvPr/>
        </p:nvPicPr>
        <p:blipFill>
          <a:blip r:embed="rId1"/>
          <a:stretch/>
        </p:blipFill>
        <p:spPr>
          <a:xfrm>
            <a:off x="2843280" y="4797360"/>
            <a:ext cx="3168720" cy="162720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рямоугольник 1"/>
          <p:cNvSpPr/>
          <p:nvPr/>
        </p:nvSpPr>
        <p:spPr>
          <a:xfrm>
            <a:off x="324000" y="189000"/>
            <a:ext cx="8569080" cy="51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7000"/>
              </a:lnSpc>
              <a:spcAft>
                <a:spcPts val="18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ff"/>
                </a:solidFill>
                <a:latin typeface="Arial"/>
                <a:ea typeface="Times New Roman"/>
              </a:rPr>
              <a:t>Речь и пе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spcAft>
                <a:spcPts val="18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33"/>
                </a:solidFill>
                <a:latin typeface="Arial"/>
                <a:ea typeface="Times New Roman"/>
              </a:rPr>
              <a:t>Конечно, основной вид музыкальной деятельности, наиболее тесно связанный с развитием речи –это пени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spcAft>
                <a:spcPts val="18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33"/>
                </a:solidFill>
                <a:latin typeface="Arial"/>
                <a:ea typeface="Times New Roman"/>
              </a:rPr>
              <a:t>Попевки и песни приучают пользоваться естественным голосом без напряжения и крика, вырабатывают умение владеть голосом: петь громко и тихо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spcAft>
                <a:spcPts val="18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33"/>
                </a:solidFill>
                <a:latin typeface="Arial"/>
                <a:ea typeface="Times New Roman"/>
              </a:rPr>
              <a:t>Пение дает так же возможность вырабатывать у детей протяжное произнесение гласных звуков и четкое, внятное, но не утрированное произнесение согласных звуков, приучает детей ясно и четко, без лишнего напряжения произносить слова песни, т.е. помогает вырабатывать хорошую дикцию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spcAft>
                <a:spcPts val="18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33"/>
                </a:solidFill>
                <a:latin typeface="Arial"/>
                <a:ea typeface="Times New Roman"/>
              </a:rPr>
              <a:t>Большинство детских песенок состоит из простых, часто повторяющихся слов, а основным средством овладения языком и развития речи является повтор. Дети даже не осознают, что через повторение они заучивают слова, так как произносят их снова и снова, запоминание куплетов из песен развивает умение составлять фразы и предложе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spcAft>
                <a:spcPts val="18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33"/>
                </a:solidFill>
                <a:latin typeface="Arial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333333"/>
                </a:solidFill>
                <a:latin typeface="Arial"/>
                <a:ea typeface="Times New Roman"/>
              </a:rPr>
              <a:t>И сами, того не замечая, дети изучают основы поэзии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Прямоугольник 1"/>
          <p:cNvSpPr/>
          <p:nvPr/>
        </p:nvSpPr>
        <p:spPr>
          <a:xfrm>
            <a:off x="250920" y="212760"/>
            <a:ext cx="8497800" cy="51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7000"/>
              </a:lnSpc>
              <a:spcAft>
                <a:spcPts val="18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33"/>
                </a:solidFill>
                <a:latin typeface="Arial"/>
                <a:ea typeface="Times New Roman"/>
              </a:rPr>
              <a:t>Пение требует четкой работы артикуляционного аппарата (губы, язык), это, конечно, помогает развитию четкой дикции ребен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spcAft>
                <a:spcPts val="18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33"/>
                </a:solidFill>
                <a:latin typeface="Arial"/>
                <a:ea typeface="Times New Roman"/>
              </a:rPr>
              <a:t>Пение помогает развитию даже навыка чтения. Дети овладевают ритмическим строем языка, ведь им приходится припевать каждый слог. При пении дети неосознанно рифмуют определенные слог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spcAft>
                <a:spcPts val="18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33"/>
                </a:solidFill>
                <a:latin typeface="Arial"/>
                <a:ea typeface="Times New Roman"/>
              </a:rPr>
              <a:t>Есть и другие примеры того, как пение способствует развитию речевых навыков. Например, пополнение словарного запаса ребенка, знакомство с новыми понятиями. Это может происходить не только на занятиях в детском саду, но и дома, с вашей помощью, дорогие мамы, папы, бабушки, дедушк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spcAft>
                <a:spcPts val="18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33"/>
                </a:solidFill>
                <a:latin typeface="Arial"/>
                <a:ea typeface="Times New Roman"/>
              </a:rPr>
              <a:t>Все части музыкального занятия способствуют развитию у детей нормального темпа и ритма, вырабатывают слитность и плавность речи, умение пользоваться интонационными средствами выразительност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33"/>
                </a:solidFill>
                <a:latin typeface="Arial"/>
                <a:ea typeface="Times New Roman"/>
              </a:rPr>
              <a:t>Музыка развивает способность различать звук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33"/>
                </a:solidFill>
                <a:latin typeface="Arial"/>
                <a:ea typeface="Times New Roman"/>
              </a:rPr>
              <a:t>на слух, развивает у детей воображение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33"/>
                </a:solidFill>
                <a:latin typeface="Arial"/>
                <a:ea typeface="Times New Roman"/>
              </a:rPr>
              <a:t>способность выражать мысли словами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33"/>
                </a:solidFill>
                <a:latin typeface="Arial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333333"/>
                </a:solidFill>
                <a:latin typeface="Arial"/>
                <a:ea typeface="Times New Roman"/>
              </a:rPr>
              <a:t>движениями и жестам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Рисунок 2" descr=""/>
          <p:cNvPicPr/>
          <p:nvPr/>
        </p:nvPicPr>
        <p:blipFill>
          <a:blip r:embed="rId1"/>
          <a:stretch/>
        </p:blipFill>
        <p:spPr>
          <a:xfrm>
            <a:off x="5437080" y="4218120"/>
            <a:ext cx="3164040" cy="185868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Прямоугольник 1"/>
          <p:cNvSpPr/>
          <p:nvPr/>
        </p:nvSpPr>
        <p:spPr>
          <a:xfrm>
            <a:off x="324000" y="201600"/>
            <a:ext cx="8351640" cy="34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7000"/>
              </a:lnSpc>
              <a:spcAft>
                <a:spcPts val="18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ff"/>
                </a:solidFill>
                <a:latin typeface="Arial"/>
                <a:ea typeface="Times New Roman"/>
              </a:rPr>
              <a:t>Речь и голо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spcAft>
                <a:spcPts val="18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33"/>
                </a:solidFill>
                <a:latin typeface="Arial"/>
                <a:ea typeface="Times New Roman"/>
              </a:rPr>
              <a:t>Большое внимание уделяю голосу ребёнка. Голос – инструмент общения, сигналы в речи, интонац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spcAft>
                <a:spcPts val="18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33"/>
                </a:solidFill>
                <a:latin typeface="Arial"/>
                <a:ea typeface="Times New Roman"/>
              </a:rPr>
              <a:t>Детям очень нравятся развивающие игры с голосом. Это подражающие игры со звуками мира (кашель, чихание, голоса животных и птиц, неживой природы: часики, дождик, скрип дверей, звук автомашины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spcAft>
                <a:spcPts val="18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33"/>
                </a:solidFill>
                <a:latin typeface="Arial"/>
                <a:ea typeface="Times New Roman"/>
              </a:rPr>
              <a:t>В этих играх непроизвольно формируется звукообразование. Если систематически использовать развивающие игры с голосом, то можно почувствовать, как дети выплескивают дополнительную энергию, учатся послушать свой голос и поиграть с ним. В таких упражнениях развивается интонационный и фонематический звук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Рисунок 4" descr=""/>
          <p:cNvPicPr/>
          <p:nvPr/>
        </p:nvPicPr>
        <p:blipFill>
          <a:blip r:embed="rId1"/>
          <a:stretch/>
        </p:blipFill>
        <p:spPr>
          <a:xfrm>
            <a:off x="2879640" y="3933720"/>
            <a:ext cx="3240000" cy="254484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Прямоугольник 1"/>
          <p:cNvSpPr/>
          <p:nvPr/>
        </p:nvSpPr>
        <p:spPr>
          <a:xfrm>
            <a:off x="250920" y="115920"/>
            <a:ext cx="8569080" cy="61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7000"/>
              </a:lnSpc>
              <a:spcAft>
                <a:spcPts val="18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ff"/>
                </a:solidFill>
                <a:latin typeface="Arial"/>
                <a:ea typeface="Times New Roman"/>
              </a:rPr>
              <a:t>Речь и артикуляционная гимнасти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spcAft>
                <a:spcPts val="18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33"/>
                </a:solidFill>
                <a:latin typeface="Arial"/>
                <a:ea typeface="Times New Roman"/>
              </a:rPr>
              <a:t>В ходе работы над текстом, разучиваемой песни, проводим работу по коррекции устной речи. В этом нам помогает артикуляционная гимнастика. В неё включаем упражнения для языка, щёк, губ, а также мимические упражнения, направленные на развитие подвижности речевых органов. Такие упражнения вызывают положительные эмоции у детей, а также развивают мимику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spcAft>
                <a:spcPts val="18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33"/>
                </a:solidFill>
                <a:latin typeface="Arial"/>
                <a:ea typeface="Times New Roman"/>
              </a:rPr>
              <a:t>Также, для успешного развития артикуляции и чистоты интонирования мы используем так называемые фонопедические упражнения, которые являются наиболее эффективными для развития певческих навыков (с музыкальным сопровождением и без него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spcAft>
                <a:spcPts val="18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33"/>
                </a:solidFill>
                <a:latin typeface="Arial"/>
                <a:ea typeface="Times New Roman"/>
              </a:rPr>
              <a:t>Так как известно, что в пении органы дыхания играют ведущую роль, поэтому необходимо закаливание органов дыхания, укрепление мышц носоглотк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33"/>
                </a:solidFill>
                <a:latin typeface="Arial"/>
                <a:ea typeface="Times New Roman"/>
              </a:rPr>
              <a:t>Мы используем еще эти упражнения и дл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33"/>
                </a:solidFill>
                <a:latin typeface="Arial"/>
                <a:ea typeface="Times New Roman"/>
              </a:rPr>
              <a:t>развития чувства ритма, так как выдох и вдох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33"/>
                </a:solidFill>
                <a:latin typeface="Arial"/>
                <a:ea typeface="Times New Roman"/>
              </a:rPr>
              <a:t>мы проделываем на стаккато и легато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33"/>
                </a:solidFill>
                <a:latin typeface="Arial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333333"/>
                </a:solidFill>
                <a:latin typeface="Arial"/>
                <a:ea typeface="Times New Roman"/>
              </a:rPr>
              <a:t>на разные длительност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33"/>
                </a:solidFill>
                <a:latin typeface="Arial"/>
                <a:ea typeface="Times New Roman"/>
              </a:rPr>
              <a:t>В работе над дикцией нами используется прием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33"/>
                </a:solidFill>
                <a:latin typeface="Arial"/>
                <a:ea typeface="Times New Roman"/>
              </a:rPr>
              <a:t>проговаривание текста одними губами в разных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33"/>
                </a:solidFill>
                <a:latin typeface="Arial"/>
                <a:ea typeface="Times New Roman"/>
              </a:rPr>
              <a:t>темпах, начиная с медленного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Рисунок 2" descr=""/>
          <p:cNvPicPr/>
          <p:nvPr/>
        </p:nvPicPr>
        <p:blipFill>
          <a:blip r:embed="rId1"/>
          <a:stretch/>
        </p:blipFill>
        <p:spPr>
          <a:xfrm>
            <a:off x="5651640" y="4290840"/>
            <a:ext cx="2736720" cy="182880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Прямоугольник 1"/>
          <p:cNvSpPr/>
          <p:nvPr/>
        </p:nvSpPr>
        <p:spPr>
          <a:xfrm>
            <a:off x="108000" y="115920"/>
            <a:ext cx="8785080" cy="47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ff"/>
                </a:solidFill>
                <a:latin typeface="Arial"/>
                <a:ea typeface="Times New Roman"/>
              </a:rPr>
              <a:t>Речь и пальчиковые игр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33"/>
                </a:solidFill>
                <a:latin typeface="Arial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33"/>
                </a:solidFill>
                <a:latin typeface="Arial"/>
                <a:ea typeface="Times New Roman"/>
              </a:rPr>
              <a:t>Кроме пения, речь ребёнка можно развивать через другие виды музыкальной деятельност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33"/>
                </a:solidFill>
                <a:latin typeface="Arial"/>
                <a:ea typeface="Times New Roman"/>
              </a:rPr>
              <a:t>Одной из важнейших задач при организации работы по преодолению и профилактике речевых нарушений у детей является – развитие мелкой моторик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33"/>
                </a:solidFill>
                <a:latin typeface="Arial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333333"/>
                </a:solidFill>
                <a:latin typeface="Arial"/>
                <a:ea typeface="Times New Roman"/>
              </a:rPr>
              <a:t>В своё время И. Кант мудро изложил: «Рука — это вышедший наружу мозг человека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33"/>
                </a:solidFill>
                <a:latin typeface="Arial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33"/>
                </a:solidFill>
                <a:latin typeface="Arial"/>
                <a:ea typeface="Times New Roman"/>
              </a:rPr>
              <a:t>Развитие мелкой моторики положительно влияет на активизацию речевых центров в головном мозге. Эта зона расположена близко от речевой моторной зоны. Учёные отмечают, что проекция кисти руки занимает одну треть в коре головного мозга. Следовательно, тренировка тонких движений пальцев рук оказывает большое влияние на развитие активной речи ребёнк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33"/>
                </a:solidFill>
                <a:latin typeface="Arial"/>
                <a:ea typeface="Times New Roman"/>
              </a:rPr>
              <a:t>Одним из направлений совместной деятельности музыкального руководителя являются музыкально – пальчиковые игр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33"/>
                </a:solidFill>
                <a:latin typeface="Arial"/>
                <a:ea typeface="Times New Roman"/>
              </a:rPr>
              <a:t>Очень нравятся детям пальчиковые игры под музыку, но она не должна при этом быть с четко подчеркнутым ритмом и излишне громким звучанием. Хочется отметить, что виды музыкально – пальчиковой гимнастики усложняются в зависимости от возраста дете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Рисунок 2" descr=""/>
          <p:cNvPicPr/>
          <p:nvPr/>
        </p:nvPicPr>
        <p:blipFill>
          <a:blip r:embed="rId1"/>
          <a:stretch/>
        </p:blipFill>
        <p:spPr>
          <a:xfrm>
            <a:off x="3133800" y="5010120"/>
            <a:ext cx="2577960" cy="145116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Прямоугольник 1"/>
          <p:cNvSpPr/>
          <p:nvPr/>
        </p:nvSpPr>
        <p:spPr>
          <a:xfrm>
            <a:off x="250920" y="260280"/>
            <a:ext cx="8713800" cy="55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7000"/>
              </a:lnSpc>
              <a:spcAft>
                <a:spcPts val="18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ff"/>
                </a:solidFill>
                <a:latin typeface="Arial"/>
                <a:ea typeface="Times New Roman"/>
              </a:rPr>
              <a:t>Речь и движе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33"/>
                </a:solidFill>
                <a:latin typeface="Arial"/>
                <a:ea typeface="Times New Roman"/>
              </a:rPr>
              <a:t>Замечательный музыкант и педагог Карл Орф, считал, что музыка, движение и речь не являются обособленными друг от друга, а представляют собой единое целое для ребёнк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33"/>
                </a:solidFill>
                <a:latin typeface="Arial"/>
                <a:ea typeface="Times New Roman"/>
              </a:rPr>
              <a:t>Поэтому любые движения под музыку развивают и музыкальный слух, и двигательные способности, и те психические процессы, которые лежат в их основе и способствуют эмоциональному и психофизическому развитию дете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33"/>
                </a:solidFill>
                <a:latin typeface="Arial"/>
                <a:ea typeface="Times New Roman"/>
              </a:rPr>
              <a:t>Занятия движениями под музыку в сопровождении с речью имеют неоценимое значение. В процессе освоения движений под музыку дети учатся ориентироваться на музыку как на особый сигнал к действию и движению, у них совершенствуется моторика (общая, мелкая и артикуляционная), координация движений, развивается произвольность движений, коммуникативные способности, формируются и развиваются представления о связи музыки, движений и реч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33"/>
                </a:solidFill>
                <a:latin typeface="Arial"/>
                <a:ea typeface="Times New Roman"/>
              </a:rPr>
              <a:t>Движения под музыкальное сопровождение положительн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33"/>
                </a:solidFill>
                <a:latin typeface="Arial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333333"/>
                </a:solidFill>
                <a:latin typeface="Arial"/>
                <a:ea typeface="Times New Roman"/>
              </a:rPr>
              <a:t>влияют на развитие слуха, внимания, памяти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33"/>
                </a:solidFill>
                <a:latin typeface="Arial"/>
                <a:ea typeface="Times New Roman"/>
              </a:rPr>
              <a:t>воспитывают временную ориентировку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33"/>
                </a:solidFill>
                <a:latin typeface="Arial"/>
                <a:ea typeface="Times New Roman"/>
              </a:rPr>
              <a:t> </a:t>
            </a:r>
            <a:r>
              <a:rPr b="0" lang="ru-RU" sz="1600" spc="-1" strike="noStrike">
                <a:solidFill>
                  <a:srgbClr val="333333"/>
                </a:solidFill>
                <a:latin typeface="Arial"/>
                <a:ea typeface="Times New Roman"/>
              </a:rPr>
              <a:t>Многими учеными отмечено, что чем выш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33"/>
                </a:solidFill>
                <a:latin typeface="Arial"/>
                <a:ea typeface="Times New Roman"/>
              </a:rPr>
              <a:t>двигательная активность ребенка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33"/>
                </a:solidFill>
                <a:latin typeface="Arial"/>
                <a:ea typeface="Times New Roman"/>
              </a:rPr>
              <a:t>тем лучше развивается его реч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Рисунок 2" descr=""/>
          <p:cNvPicPr/>
          <p:nvPr/>
        </p:nvPicPr>
        <p:blipFill>
          <a:blip r:embed="rId1"/>
          <a:stretch/>
        </p:blipFill>
        <p:spPr>
          <a:xfrm>
            <a:off x="6372360" y="4149720"/>
            <a:ext cx="1800000" cy="158760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Прямоугольник 1"/>
          <p:cNvSpPr/>
          <p:nvPr/>
        </p:nvSpPr>
        <p:spPr>
          <a:xfrm>
            <a:off x="250920" y="260280"/>
            <a:ext cx="8642160" cy="549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7000"/>
              </a:lnSpc>
              <a:spcAft>
                <a:spcPts val="18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ff"/>
                </a:solidFill>
                <a:latin typeface="Arial"/>
                <a:ea typeface="Times New Roman"/>
              </a:rPr>
              <a:t>Речь и ритмодекламац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33"/>
                </a:solidFill>
                <a:latin typeface="Arial"/>
                <a:ea typeface="Times New Roman"/>
              </a:rPr>
              <a:t>На первом плане в ритмодекламации выступает соединение одного из важнейших параметров музыкального языка — ритма — и выразительного речевого интонирова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33"/>
                </a:solidFill>
                <a:latin typeface="Arial"/>
                <a:ea typeface="Times New Roman"/>
              </a:rPr>
              <a:t>Чёткая ритмическая организация музыкально-исполнительского процесса активизирует у детей развитие внимания, сосредоточенности, быстроты реакции, координации слуха, голоса и движения, способствует интенсивному развитию чувства ритм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33"/>
                </a:solidFill>
                <a:latin typeface="Arial"/>
                <a:ea typeface="Times New Roman"/>
              </a:rPr>
              <a:t>Исполнение ритмодекламаций развивает у детей весь комплекс музыкальных способностей: музыкальную отзывчивость, эмоциональность, творческое воображение, эстетическое восприятие музыки, чувство уверенности в себе, осознание своей значимости в коллектив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ff"/>
                </a:solidFill>
                <a:latin typeface="Arial"/>
              </a:rPr>
              <a:t>Речь и музыкально-дидактические игр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узыкально – дидактические игры, дидактические задания, некоторые игры с пением способствуют развитию фонетико – фонематического слух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собо необходимо развивать у дете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луховое внимание и слуховую памят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spcAft>
                <a:spcPts val="18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20T18:05:47Z</dcterms:created>
  <dc:creator>Татьяна</dc:creator>
  <dc:description/>
  <dc:language>en-US</dc:language>
  <cp:lastModifiedBy>jene4ka-87@mail.ru</cp:lastModifiedBy>
  <dcterms:modified xsi:type="dcterms:W3CDTF">2023-04-24T13:12:38Z</dcterms:modified>
  <cp:revision>22</cp:revision>
  <dc:subject/>
  <dc:title>Слайд 1</dc:title>
</cp:coreProperties>
</file>