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9.png" ContentType="image/png"/>
  <Override PartName="/ppt/media/image29.gif" ContentType="image/gif"/>
  <Override PartName="/ppt/media/image5.jpeg" ContentType="image/jpeg"/>
  <Override PartName="/ppt/media/image8.png" ContentType="image/png"/>
  <Override PartName="/ppt/media/image28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19.jpeg" ContentType="image/jpeg"/>
  <Override PartName="/ppt/media/image2.gif" ContentType="image/gif"/>
  <Override PartName="/ppt/media/image27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gif" ContentType="image/gif"/>
  <Override PartName="/ppt/media/image18.png" ContentType="image/png"/>
  <Override PartName="/ppt/media/image15.gif" ContentType="image/gif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7E0-1753-46DB-A432-E4170777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C3C-485B-49BA-AF5D-E0E0328F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638D3-932C-4000-A52D-A80353AD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FA114-EA1A-4279-93B9-341F5B5F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AEB3A-08B0-46EF-9781-13001F46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BF8ED-5CF0-4C77-9E45-7269AB33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34777-022A-4398-8FD3-972FB2B3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3A20C-1E7E-4B41-91AF-5CE1A09C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3442D-D4ED-4AC2-9CDC-2D3D49EB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79E12-E78F-47D5-8DA2-2F295B83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71CC2-9629-4B84-AAAD-B418ED16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50751-8AC8-4D1A-8EF3-DB51D962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18D-5392-4531-8BBB-0447FF1A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3B8EF-ADFD-4457-8D5E-C2B07712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0B22C-9AE9-4A02-B1D8-FBDB708D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ECFCE-0E69-47B2-8687-EC6A1C37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E44D7-EA4A-4EE9-9FED-15C2AB93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0D306-2DC0-4C55-A897-53A56DB7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D70D9-497E-4952-BC87-BBC44F55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36ACD-D7EE-4A93-9EFE-B7B6F186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B57F0-6E8D-4B36-A442-D7198D26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37696-0645-404B-BDA6-278424CE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220A7-CCED-41C7-8031-9175C233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97D-590E-4BDF-8010-E2CCD9C4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68303-7087-4983-ABBA-FC09358F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EFB96-B984-48C0-A632-87D9C595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C810E-1D3B-4AA4-A456-E30BB2D0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4D833-39FD-4787-AB13-BB104CC6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703DF-9FD1-426A-B794-6F499FD9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34F99-A056-4E14-9CD2-56F597A2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E53B3-20FA-4918-9024-8A58EF97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3E3D4-729D-4CA3-9765-6700C36B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9E406-8CBA-41F0-813A-79074546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F96F4-5F29-4E11-994D-B4C3425E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90CF-A045-411F-B5E0-BDCDE0F6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BA953-0819-47EC-9645-E8BC2EDA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94519-0991-42C6-B545-3731734E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3266C-8C05-405F-A7D6-2E55852E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78237-0F83-4589-9A43-0E92B3AA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7EF0C-6979-405D-9A0C-8EFCFF43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99631-D7AF-418C-82DC-47E96679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21ECE-3F94-415C-92FD-D74E5334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C4B66-3274-478B-9841-35403514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7F307-A1AA-4FB0-94DE-2D1EDC7A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22ED9-350E-45F4-AF7E-513AAAD5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602E-88CA-450E-B070-7C866C06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B02D4-CFEF-49DB-ABF1-C8AFC64F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4004A-8FA5-4844-971E-95DBFCCF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F23ED-59F0-470B-8F99-4E5CAEF2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F82C8-1102-4C27-8188-EF4B28FB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BECB5-6C40-4DB5-BA2C-0B8F1809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1D96E-65D8-4A90-854D-8031204F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93B3A-9276-4034-BAD4-FB5F177C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B5D3B-C48B-4694-92AC-8597FCE2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D01BA-731D-4450-9C20-F86F06F8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E29A0-A111-4257-BC94-B267065D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3B11-9965-450E-9812-86D32A5E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9664A-63F5-4E78-9458-79073B07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D4215-404C-4249-ACF0-970B5474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FB34A-0A71-4457-9AB9-72033309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F7993-B05B-4AE4-8F89-64872264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84011-1308-478F-BBA6-20F2806A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E74CB-5809-4043-8734-3A4490AB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253D2-27C8-41B1-95E3-E16194B5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DEFF-525C-4DD3-B512-9C83B870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2F0E-3492-4CF2-B532-EFFADE62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06A5-2ACA-4111-9FAE-88417424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DD61-6874-4779-A341-B4562A6E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7EC-9E3F-438E-8E42-22EAEF53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C4F3-B51E-4C86-AB88-E54A5021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10BC-0999-49FA-A850-5C46046D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8BE0-C6C8-4D21-B608-BEC79176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A9BE-1AF9-4368-90CE-B501D75A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76E5-CFA9-47C9-A9BB-4161959D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F1C78-646C-406D-83A9-D55804DD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E61A-6A44-4948-94D6-BB7CD1AA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1CB37-0131-476F-BFAF-D01F78E6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91CAA-CA1C-4ED9-A962-AAEACCB4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55F8-25CA-4E51-AD23-D1B6B456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88A-6626-49CF-B5CA-2A74EE05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3EE45-0F78-4A30-89E4-566D3083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F63BA-9742-4379-8E9C-1109B011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AD01-390D-4FDA-BBFA-ECE27305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5517-588D-4397-A6B7-80B14A8B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11575-6F9F-4780-9B3D-19AA5CB5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CED92-4DB2-4A27-91E9-8AAB4C5D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8CDA7-9B8E-481E-8A62-89FB9D17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75F83-2452-4851-96F9-FCFB4A26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E08F7-AE25-4E72-9058-7341E7DE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82FEC-C33C-4ACA-8318-FD66B4A3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B83-CCAF-4507-B2E0-8C68374C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50E3E-B6F7-4A8F-AC46-1779C404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F18B1-8EC8-4082-8BE5-27B6C12E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081EB-1029-44D5-81F6-3C33817E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F8142-FC3B-45CB-91A7-F5D79ED5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80DF3-B765-48C3-9182-1251855D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E5917-D8D8-4C2E-86FD-D54EB4B9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B5427-5303-44FC-BA92-9BDB1E7D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6BD8C-AA3F-41EE-B75D-A0308EB4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E67D3-B48F-42DF-8CDC-3DC7A93D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6F898-5B39-4D17-907E-B1F918D3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191-D85D-4B39-A43D-D0A38500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FFDAA-D8AB-4E1A-ADA6-6CB8DC1E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B0DF0-DC48-4FD2-8017-51023BBD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B8C0A-3548-4F31-AA33-0CD483C6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EBC06-5C89-447C-A37B-D7E0ED42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2852E-5D4A-4E1D-9A0A-2242D884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950A5-4F07-4291-89C6-8D44F1F3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A46AD-48C9-4567-8E5E-4593506D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BFF30-8281-4BA8-830B-DE2A0C8F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15A29-42F9-4660-8B7F-C957F160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62820-EC0E-48FE-825B-74169E51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F53-CAEE-425E-884F-B993CC48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B06EA-D2F6-4904-ACE5-769D6B51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21672-AF6F-4607-B01C-3A065069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A5787-F7B2-40EF-A5C8-B1893459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EF450-4CD2-42D5-B8E0-23AC58BE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B07E6-14F8-43B1-A558-49C29279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D3184-78FF-47E7-B0D7-784CC05A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ADEE9-93DC-4035-8BC9-70FDC79E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6A5F9-EDD4-4CE5-B9CA-6220DAE8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B9D6C-E701-476C-A350-83DE18F4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E0CAD-C0CE-49CA-9021-799AAB3E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218-F094-478B-AAC7-2F40200D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B34ED-55EF-41D6-907F-1D97FC1B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4C03C-A135-4474-96BC-5FF2C36E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3A0AC-6FE6-439C-9797-50810FE7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D6E05-B8C8-4C8B-AC20-6B2BFBC5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3DAF2-AC86-4DC6-A7BD-C9FEF676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3E11E-4318-42E1-8A51-196991C1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E4CF5-5C4A-4D26-BD13-8F21170D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52D29-2E1D-4967-AE0D-70351D22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51EDC-B666-4F27-8AE7-FBF4CE29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F2982-761C-4A86-B680-9461A8CF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7AC-D12A-452D-B401-0B6ADD50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FFF56-9EC8-4C9C-88FA-60224B28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2EA3C-2F7A-4BEE-AB1F-629F740C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0C601-3310-4E34-88FC-86D311D1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58890-5DBE-4CE2-A851-78BD4978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F8224-6EB3-49F5-BD96-ED19041F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93732-1DCA-45ED-95DD-FA7A8BEA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590F8-FC09-4012-BE4E-1FF6178D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E319F-C5C0-4B6B-8F64-27F018C2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C1739-F065-4040-9915-03101FDD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ACE19-1AC8-4A73-8556-764CF41D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F43-D4C0-49DC-A780-473EBAC2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FE5A8-DFE4-4928-A35F-AC29B9E1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2067B-56B4-4ADD-A948-E4A2D712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BA994-CC70-4844-8F44-A951FDB3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DE0C2-D242-4473-8952-ECFAB6F7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989CC-E6D0-4046-A56F-398D0471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0693B-C905-4357-AFFA-F2F3BA94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07D79-F6FD-4772-BFAD-B2A41F54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D4910-CD33-4796-9106-B4C334DE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4B7E3-3E9C-4DE5-AC18-A3C3E9D5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19DAB-8E99-429F-A2A7-6FDDC391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77FC-0EC5-419A-8A64-46A2AD0817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80FA-4280-4CEF-BCAE-CE676132A9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57A6-253C-4726-AB7D-013CB94608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D844-D423-4723-A619-4E49A1B018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538B-AFDB-4ADF-BC2D-461E466957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CE6B-59C2-41C8-868F-85B8AEC43A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50D1-6421-4D7D-A2C7-5F0F7316FB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6072-5DFC-48B3-A756-FEF84650A8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8049-EA3E-4492-ADCE-A4EB2B0C83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CEA9-E4EF-4DDE-BF31-5A9C11B578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E440-A8B6-491C-AA8C-1621F4AA2B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AD49-8346-4723-847B-E6BEA3B5E3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5C90-3463-4C63-A459-14FDE229AD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hyperlink" Target="file:///2.ppt" TargetMode="External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5"/>
          <p:cNvSpPr/>
          <p:nvPr/>
        </p:nvSpPr>
        <p:spPr>
          <a:xfrm>
            <a:off x="395280" y="620640"/>
            <a:ext cx="8748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0[1]"/>
          <p:cNvPicPr/>
          <p:nvPr/>
        </p:nvPicPr>
        <p:blipFill>
          <a:blip r:embed="rId1"/>
          <a:stretch/>
        </p:blipFill>
        <p:spPr>
          <a:xfrm>
            <a:off x="642960" y="1571760"/>
            <a:ext cx="3071880" cy="442908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5"/>
          <p:cNvSpPr/>
          <p:nvPr/>
        </p:nvSpPr>
        <p:spPr>
          <a:xfrm>
            <a:off x="3143160" y="2071800"/>
            <a:ext cx="51436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Что значит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быть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счастливым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11" descr="Рисунок30"/>
          <p:cNvPicPr/>
          <p:nvPr/>
        </p:nvPicPr>
        <p:blipFill>
          <a:blip r:embed="rId2"/>
          <a:stretch/>
        </p:blipFill>
        <p:spPr>
          <a:xfrm>
            <a:off x="5643720" y="4857840"/>
            <a:ext cx="1285560" cy="1154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1" descr="Рисунок30"/>
          <p:cNvPicPr/>
          <p:nvPr/>
        </p:nvPicPr>
        <p:blipFill>
          <a:blip r:embed="rId3"/>
          <a:stretch/>
        </p:blipFill>
        <p:spPr>
          <a:xfrm rot="19668000">
            <a:off x="2176200" y="713880"/>
            <a:ext cx="1082520" cy="9716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0" descr="Рисунок29"/>
          <p:cNvPicPr/>
          <p:nvPr/>
        </p:nvPicPr>
        <p:blipFill>
          <a:blip r:embed="rId4"/>
          <a:stretch/>
        </p:blipFill>
        <p:spPr>
          <a:xfrm rot="4344000">
            <a:off x="6872040" y="718920"/>
            <a:ext cx="11876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5"/>
          <p:cNvSpPr/>
          <p:nvPr/>
        </p:nvSpPr>
        <p:spPr>
          <a:xfrm>
            <a:off x="324360" y="518760"/>
            <a:ext cx="766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ужно уважать слабых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http://www.scorcher.ru/art/happiness/happiness1/14.jpg"/>
          <p:cNvPicPr/>
          <p:nvPr/>
        </p:nvPicPr>
        <p:blipFill>
          <a:blip r:embed="rId1"/>
          <a:stretch/>
        </p:blipFill>
        <p:spPr>
          <a:xfrm>
            <a:off x="1143000" y="1643040"/>
            <a:ext cx="6524640" cy="44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436680" y="343800"/>
            <a:ext cx="82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ужно быть смелым и решительны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http://www.scorcher.ru/art/happiness/happiness1/17.jpg"/>
          <p:cNvPicPr/>
          <p:nvPr/>
        </p:nvPicPr>
        <p:blipFill>
          <a:blip r:embed="rId1"/>
          <a:srcRect l="5368" t="0" r="0" b="13915"/>
          <a:stretch/>
        </p:blipFill>
        <p:spPr>
          <a:xfrm>
            <a:off x="826920" y="1916280"/>
            <a:ext cx="7428240" cy="38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5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2743200" cy="30481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"/>
          <p:cNvPicPr/>
          <p:nvPr/>
        </p:nvPicPr>
        <p:blipFill>
          <a:blip r:embed="rId2"/>
          <a:stretch/>
        </p:blipFill>
        <p:spPr>
          <a:xfrm>
            <a:off x="5143680" y="642960"/>
            <a:ext cx="2798640" cy="3079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"/>
          <p:cNvPicPr/>
          <p:nvPr/>
        </p:nvPicPr>
        <p:blipFill>
          <a:blip r:embed="rId3"/>
          <a:stretch/>
        </p:blipFill>
        <p:spPr>
          <a:xfrm>
            <a:off x="2571840" y="3786120"/>
            <a:ext cx="3595680" cy="24354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1" descr="Рисунок31"/>
          <p:cNvPicPr/>
          <p:nvPr/>
        </p:nvPicPr>
        <p:blipFill>
          <a:blip r:embed="rId4"/>
          <a:stretch/>
        </p:blipFill>
        <p:spPr>
          <a:xfrm>
            <a:off x="785880" y="421488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1" descr="Рисунок31"/>
          <p:cNvPicPr/>
          <p:nvPr/>
        </p:nvPicPr>
        <p:blipFill>
          <a:blip r:embed="rId5"/>
          <a:stretch/>
        </p:blipFill>
        <p:spPr>
          <a:xfrm rot="4872000">
            <a:off x="6576840" y="4417560"/>
            <a:ext cx="1584360" cy="1368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9" descr="Рисунок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86120" y="2286000"/>
            <a:ext cx="122400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Прямоугольник 3" descr=""/>
          <p:cNvPicPr/>
          <p:nvPr/>
        </p:nvPicPr>
        <p:blipFill>
          <a:blip r:embed="rId1"/>
          <a:stretch/>
        </p:blipFill>
        <p:spPr>
          <a:xfrm>
            <a:off x="811080" y="3054240"/>
            <a:ext cx="7656480" cy="3438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2" descr="Рисунок4"/>
          <p:cNvPicPr/>
          <p:nvPr/>
        </p:nvPicPr>
        <p:blipFill>
          <a:blip r:embed="rId2"/>
          <a:stretch/>
        </p:blipFill>
        <p:spPr>
          <a:xfrm>
            <a:off x="6764400" y="2565360"/>
            <a:ext cx="1695240" cy="22478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2" descr="Рисунок4"/>
          <p:cNvPicPr/>
          <p:nvPr/>
        </p:nvPicPr>
        <p:blipFill>
          <a:blip r:embed="rId3"/>
          <a:stretch/>
        </p:blipFill>
        <p:spPr>
          <a:xfrm>
            <a:off x="684360" y="2637000"/>
            <a:ext cx="1695240" cy="22478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0" descr="Рисунок5"/>
          <p:cNvPicPr/>
          <p:nvPr/>
        </p:nvPicPr>
        <p:blipFill>
          <a:blip r:embed="rId4"/>
          <a:stretch/>
        </p:blipFill>
        <p:spPr>
          <a:xfrm>
            <a:off x="3274920" y="549360"/>
            <a:ext cx="2664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Объект 3" descr=""/>
          <p:cNvPicPr/>
          <p:nvPr/>
        </p:nvPicPr>
        <p:blipFill>
          <a:blip r:embed="rId1"/>
          <a:stretch/>
        </p:blipFill>
        <p:spPr>
          <a:xfrm>
            <a:off x="950760" y="620640"/>
            <a:ext cx="7419960" cy="5616720"/>
          </a:xfrm>
          <a:prstGeom prst="rect">
            <a:avLst/>
          </a:prstGeom>
          <a:ln w="0">
            <a:noFill/>
          </a:ln>
        </p:spPr>
      </p:pic>
      <p:pic>
        <p:nvPicPr>
          <p:cNvPr id="541" name="Р.Шуман. - «Детские сцены». Полное счастье (www.hotplayer.ru).mp3" descr=""/>
          <p:cNvPicPr/>
          <p:nvPr/>
        </p:nvPicPr>
        <p:blipFill>
          <a:blip r:embed="rId2"/>
          <a:stretch/>
        </p:blipFill>
        <p:spPr>
          <a:xfrm>
            <a:off x="7885080" y="5589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300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43" name="Прямоугольник 4" descr=""/>
          <p:cNvPicPr/>
          <p:nvPr/>
        </p:nvPicPr>
        <p:blipFill>
          <a:blip r:embed="rId2"/>
          <a:stretch/>
        </p:blipFill>
        <p:spPr>
          <a:xfrm>
            <a:off x="969840" y="549360"/>
            <a:ext cx="7363080" cy="743040"/>
          </a:xfrm>
          <a:prstGeom prst="rect">
            <a:avLst/>
          </a:prstGeom>
          <a:ln w="0">
            <a:noFill/>
          </a:ln>
        </p:spPr>
      </p:pic>
      <p:pic>
        <p:nvPicPr>
          <p:cNvPr id="544" name="Прямоугольник 5" descr=""/>
          <p:cNvPicPr/>
          <p:nvPr/>
        </p:nvPicPr>
        <p:blipFill>
          <a:blip r:embed="rId3"/>
          <a:stretch/>
        </p:blipFill>
        <p:spPr>
          <a:xfrm>
            <a:off x="781200" y="1523880"/>
            <a:ext cx="7624440" cy="1073160"/>
          </a:xfrm>
          <a:prstGeom prst="rect">
            <a:avLst/>
          </a:prstGeom>
          <a:ln w="0">
            <a:noFill/>
          </a:ln>
        </p:spPr>
      </p:pic>
      <p:pic>
        <p:nvPicPr>
          <p:cNvPr id="545" name="Прямоугольник 6" descr=""/>
          <p:cNvPicPr/>
          <p:nvPr/>
        </p:nvPicPr>
        <p:blipFill>
          <a:blip r:embed="rId4"/>
          <a:stretch/>
        </p:blipFill>
        <p:spPr>
          <a:xfrm>
            <a:off x="420840" y="2603520"/>
            <a:ext cx="8302320" cy="1803240"/>
          </a:xfrm>
          <a:prstGeom prst="rect">
            <a:avLst/>
          </a:prstGeom>
          <a:ln w="0">
            <a:noFill/>
          </a:ln>
        </p:spPr>
      </p:pic>
      <p:pic>
        <p:nvPicPr>
          <p:cNvPr id="546" name="Прямоугольник 8" descr=""/>
          <p:cNvPicPr/>
          <p:nvPr/>
        </p:nvPicPr>
        <p:blipFill>
          <a:blip r:embed="rId5"/>
          <a:stretch/>
        </p:blipFill>
        <p:spPr>
          <a:xfrm>
            <a:off x="781200" y="4352760"/>
            <a:ext cx="8081640" cy="16146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1" descr="AN136"/>
          <p:cNvPicPr/>
          <p:nvPr/>
        </p:nvPicPr>
        <p:blipFill>
          <a:blip r:embed="rId6"/>
          <a:stretch/>
        </p:blipFill>
        <p:spPr>
          <a:xfrm>
            <a:off x="7500960" y="3571920"/>
            <a:ext cx="107172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1280" y="4996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 счасть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4360" y="1989000"/>
            <a:ext cx="8075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"Поверь мне — счастье только там, где любят нас, где верят нам!" (М. Ю. Лермонтов) (поэ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</a:t>
            </a:r>
            <a:r>
              <a:rPr b="1" lang="ru-RU" sz="3200" spc="-1" strike="noStrike">
                <a:solidFill>
                  <a:srgbClr val="00b0f0"/>
                </a:solidFill>
                <a:latin typeface="Monotype Corsiva"/>
              </a:rPr>
              <a:t>У самого злого человека расцветает лицо, когда ему говорят, что его любят. Стало быть, в этом счастье...»Лев Николаевич Толстой (писат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Monotype Corsiva"/>
              </a:rPr>
              <a:t>«Я рожден, и это все, что необходимо, чтобы быть счастливым.» Альберт Эйнштейн (физ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Рисунок7"/>
          <p:cNvPicPr/>
          <p:nvPr/>
        </p:nvPicPr>
        <p:blipFill>
          <a:blip r:embed="rId1"/>
          <a:stretch/>
        </p:blipFill>
        <p:spPr>
          <a:xfrm>
            <a:off x="7072200" y="500040"/>
            <a:ext cx="1067040" cy="933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9" descr="Рисунок7"/>
          <p:cNvPicPr/>
          <p:nvPr/>
        </p:nvPicPr>
        <p:blipFill>
          <a:blip r:embed="rId2"/>
          <a:stretch/>
        </p:blipFill>
        <p:spPr>
          <a:xfrm>
            <a:off x="1143000" y="571680"/>
            <a:ext cx="1066680" cy="93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5"/>
          <p:cNvSpPr/>
          <p:nvPr/>
        </p:nvSpPr>
        <p:spPr>
          <a:xfrm>
            <a:off x="357120" y="130320"/>
            <a:ext cx="7715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Чтобы быть счастливым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ужно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0" y="629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5" descr="винни"/>
          <p:cNvPicPr/>
          <p:nvPr/>
        </p:nvPicPr>
        <p:blipFill>
          <a:blip r:embed="rId1"/>
          <a:stretch/>
        </p:blipFill>
        <p:spPr>
          <a:xfrm>
            <a:off x="4786200" y="2786040"/>
            <a:ext cx="4357800" cy="38736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4" descr="AN535"/>
          <p:cNvPicPr/>
          <p:nvPr/>
        </p:nvPicPr>
        <p:blipFill>
          <a:blip r:embed="rId2"/>
          <a:stretch/>
        </p:blipFill>
        <p:spPr>
          <a:xfrm>
            <a:off x="500040" y="2857680"/>
            <a:ext cx="1584360" cy="36003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Рисунок15"/>
          <p:cNvPicPr/>
          <p:nvPr/>
        </p:nvPicPr>
        <p:blipFill>
          <a:blip r:embed="rId3"/>
          <a:stretch/>
        </p:blipFill>
        <p:spPr>
          <a:xfrm>
            <a:off x="2857680" y="4857840"/>
            <a:ext cx="152388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4" descr="http://www.scorcher.ru/art/happiness/happiness1/2.jpg"/>
          <p:cNvPicPr/>
          <p:nvPr/>
        </p:nvPicPr>
        <p:blipFill>
          <a:blip r:embed="rId1"/>
          <a:stretch/>
        </p:blipFill>
        <p:spPr>
          <a:xfrm>
            <a:off x="2571840" y="1928880"/>
            <a:ext cx="4103640" cy="4000320"/>
          </a:xfrm>
          <a:prstGeom prst="rect">
            <a:avLst/>
          </a:prstGeom>
          <a:ln w="0">
            <a:noFill/>
          </a:ln>
        </p:spPr>
      </p:pic>
      <p:pic>
        <p:nvPicPr>
          <p:cNvPr id="558" name="Прямоугольник 2" descr=""/>
          <p:cNvPicPr/>
          <p:nvPr/>
        </p:nvPicPr>
        <p:blipFill>
          <a:blip r:embed="rId2"/>
          <a:stretch/>
        </p:blipFill>
        <p:spPr>
          <a:xfrm>
            <a:off x="853920" y="822240"/>
            <a:ext cx="7436160" cy="10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5"/>
          <p:cNvSpPr/>
          <p:nvPr/>
        </p:nvSpPr>
        <p:spPr>
          <a:xfrm>
            <a:off x="285840" y="641520"/>
            <a:ext cx="8558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меть делить радости с другими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http://www.scorcher.ru/art/happiness/happiness1/3.jpg"/>
          <p:cNvPicPr/>
          <p:nvPr/>
        </p:nvPicPr>
        <p:blipFill>
          <a:blip r:embed="rId1"/>
          <a:stretch/>
        </p:blipFill>
        <p:spPr>
          <a:xfrm>
            <a:off x="1563840" y="1989000"/>
            <a:ext cx="600228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5"/>
          <p:cNvSpPr/>
          <p:nvPr/>
        </p:nvSpPr>
        <p:spPr>
          <a:xfrm>
            <a:off x="285840" y="47376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меть много друзей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4" descr="http://www.scorcher.ru/art/happiness/happiness1/6.jpg"/>
          <p:cNvPicPr/>
          <p:nvPr/>
        </p:nvPicPr>
        <p:blipFill>
          <a:blip r:embed="rId1"/>
          <a:stretch/>
        </p:blipFill>
        <p:spPr>
          <a:xfrm>
            <a:off x="1428840" y="1428840"/>
            <a:ext cx="6514920" cy="49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5"/>
          <p:cNvSpPr/>
          <p:nvPr/>
        </p:nvSpPr>
        <p:spPr>
          <a:xfrm>
            <a:off x="971640" y="18360"/>
            <a:ext cx="710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Быть уверенным в себе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http://www.scorcher.ru/art/happiness/happiness1/13.jpg"/>
          <p:cNvPicPr/>
          <p:nvPr/>
        </p:nvPicPr>
        <p:blipFill>
          <a:blip r:embed="rId1"/>
          <a:stretch/>
        </p:blipFill>
        <p:spPr>
          <a:xfrm>
            <a:off x="2571840" y="1714680"/>
            <a:ext cx="3181320" cy="45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4:30:30Z</dcterms:created>
  <dc:creator>ЮЛИЯ</dc:creator>
  <dc:description/>
  <dc:language>en-US</dc:language>
  <cp:lastModifiedBy>user</cp:lastModifiedBy>
  <dcterms:modified xsi:type="dcterms:W3CDTF">2023-04-24T09:01:21Z</dcterms:modified>
  <cp:revision>184</cp:revision>
  <dc:subject/>
  <dc:title>Заполни таблиц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юлия">
    <vt:lpwstr>юлия</vt:lpwstr>
  </property>
</Properties>
</file>