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png" ContentType="image/png"/>
  <Override PartName="/ppt/media/image29.gif" ContentType="image/gif"/>
  <Override PartName="/ppt/media/image5.jpeg" ContentType="image/jpeg"/>
  <Override PartName="/ppt/media/image8.png" ContentType="image/png"/>
  <Override PartName="/ppt/media/image28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19.jpeg" ContentType="image/jpeg"/>
  <Override PartName="/ppt/media/image2.gif" ContentType="image/gif"/>
  <Override PartName="/ppt/media/image27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062-F926-427B-A5D8-4596297D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B3D-74A1-48D6-ADDB-2E008E1F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E3612-5885-4D4D-A768-72768B68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16BDC-44EB-44BD-B442-9E64692D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7644C-583A-42D6-B2E3-BC5B11E1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08F99-AD56-4C90-B9D2-C4AECF8D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06332-1AA3-4F0A-97FA-C24E39A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26A14-90E7-43FF-8897-627B181A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2A7E9-632D-4EB3-AEF9-63284B10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097FE-5B9A-4FA2-A269-B83F56B2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1E14D-979C-4B21-836A-F349EB21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FC653-DE54-455F-BD38-7E2E2F58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B36-EF69-4D3F-95EF-F1239357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198E4-33CD-43B9-BEE3-B3F7B253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8C0CE-DD79-43D6-AB94-448CEC9B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27E0E-CA56-4D26-B9DF-08234093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EE1B5-86B0-46A9-88A1-8BFE1EDF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87D2C-1DE9-4BF1-BFAC-AB285555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74B4E-671C-48A7-A9D0-4B5EA640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591FD-1BF3-4201-B0BF-7F65313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4B48C-37DF-4CBA-A99A-8331ED83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F1657-8F60-4431-A75A-A4CD8B3E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131CF-B12A-4DF0-92E2-58018E7C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2F8-BAA1-4FA4-8635-875259A3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62FC4-8E36-43F9-ABC0-DFD0B66C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CE19B-B5AF-456B-A449-26852B10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0DE7D-1679-466E-A757-10B0D865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25F5A-9DDE-46F5-A08B-7EF84974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D765F-FA73-4512-B6BE-751B42CA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1335D-BA96-4124-82AC-DBB45870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C715C-494F-4AC2-A828-7DC2BA48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B96AB-8FFC-4F40-A149-4C095112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14672-EA04-4A71-8F25-6FE73E2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FB7C2-F81A-4C89-A664-6E87A762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D746-C415-422E-8E7D-891545EB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449E5-7666-47CA-A2A4-12EA6E88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B9CB7-4231-4602-B9D4-13A5501F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F003F-BE4C-4E11-BB47-94B9DE6E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E2B03-967E-48DA-8113-3AF56A2D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1AAEE-4BDB-4395-A661-9340B948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BE2A1-901B-486A-8FE3-84EDD378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D8C40-32D2-48CB-A92C-B7442505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7C48D-0B43-4150-99D3-B53D2F5F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2E4C3-B6B7-4EB0-99D1-AD6EDEEA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862D8-2B64-4C75-9261-DE12A0A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E2A4-47B9-48E9-8D64-5896F7BB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CADBE-F8B8-4143-95B1-F8890A1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C3B30-C19F-4621-9CE5-F9411EF0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F279B-9EB6-42D2-8F8D-8BFAD93A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39CE4-51CB-4689-986A-B423D2A8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5B2AB-13CF-4F18-BD96-52BED83C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8BA5E-2905-43D8-B735-839F6178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6C35A-4578-4DA7-BD95-C371C36E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F4AE7-F91F-4C9A-B788-5249105D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DF229-472A-4B9F-9068-06BD2FF6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460F9-EC0B-48CA-A570-99B26EF2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314E-E3D3-4729-B0F7-CFCAEC38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1CDC4-BCD7-4705-ACE3-FF8A2FA6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20238-A895-4066-8797-AF4C502C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B4E05-F5FB-478F-92F4-F6E15C5C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8AC9B-32CD-4896-8133-CB10C286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C9477-816A-4DE2-9F2F-28622F8B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8D6E3-FDFE-46B8-911F-470E6A78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BAC19-202B-4C86-ABF3-6952D231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9C6B-13F0-44A8-AE67-BC3E7337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2314-34D9-4DD6-B83D-C9907E84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2644-3A1D-4E1D-BB31-77A993BA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FB74-1C41-42BF-AB6D-DF26010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868-70A4-4359-B4EB-E420AEF0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5F21-0292-4478-9071-F91EC18A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B60F-1BE4-402E-8041-596409A4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4F5F-A6FE-4C06-A7F9-52BFB8E6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54F9-BD33-400D-A297-20F2781C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713C-9FEF-4742-B36B-3A5C6C13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B1A2-9CD1-4841-BD98-342423BD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61BA-B7F0-4C37-B31D-126D9AFF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01B5-E4ED-4A7B-9161-1A47AC08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F5C6-972B-43EF-A73B-093D10E2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6F9C-139D-4F19-83D2-4AC2A2F2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94E-0AAF-4981-AAFE-1F489DB6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E8B5-A9C2-47B8-BE91-F6D731FF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4719C-B781-4AEF-8BE2-AB20999E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A484-759C-40B8-BE29-F8C1B1B6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2018-3FB8-48F8-B137-DC5CA0FA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E8B0-AAC2-4F17-909C-5218307E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FEED-FF10-491C-9925-7FB0FE79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2720-159B-4D64-A7EA-8FAE2E5A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CB6DC-7845-487A-AD04-569CEE30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F2D0A-3581-4488-B7E4-10FA1FE5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58F00-E4EB-425F-AA9C-64B05FC9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ACA-2106-42A2-8DB2-24041A26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84AA-26B2-4EAE-8E43-E944CB00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AAF22-AA18-493C-805E-6E6985F9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A996-BBA7-4DB5-B848-253FA036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023B0-2473-4999-9D3E-35B15235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FCD0-A0FF-499C-B7AA-5BE19184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5E1B-3F3A-487F-8B34-EB9EFE80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6660-935A-44EF-8649-90C77AC8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CF3BA-0D0E-42B5-A81B-A308A0FF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A4B43-22D4-49AE-9316-9D0BF5BE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254DA-34A1-4F9B-83A1-7695EAC9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884-6F39-4015-8374-3C1653C9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D307A-53EA-4C28-8ABB-C149A3C5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8045E-0D8D-4A8C-B30B-B319F891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DFFB5-9421-49F7-A4C8-2F0167C5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107C9-BB3A-4478-8BA2-54DBB035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86F3C-FEF9-4CEF-9E5B-FF652F82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D3352-E52F-4BD7-8F17-497EE698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8BA7C-225F-4098-BCF2-8BEB4837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7C6D6-4694-481D-BAB3-0CCD71C8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1778A-189D-48CD-A3F4-762DAE8B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7429-4C02-4397-B8D7-4510B8AE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31C-EDAE-4EB8-8E55-BC1DEE17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79BA1-6871-4CB0-8D28-06A33500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4CF59-DAD2-4791-9173-021E0061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78B11-DF25-40AA-89D3-2A77A4D2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5C71E-087F-4552-9A21-16B3F138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74DC3-02A8-4DD7-A4BA-B7E1BBF1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BDBA6-C397-4FCB-B6D6-B77D32F4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04F72-5A87-45BA-BF08-8816032C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38E2-3333-415E-B80B-A6345213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C45C9-1A30-4274-9EA5-9B6340F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12C76-2592-469F-B90B-8F5A3C00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9CB-AF42-42ED-8EE6-4DC5A42A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6FC4B-03B7-4FA1-9100-997965BF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A8501-B9DD-45C8-AA9B-B0A594BC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DE49A-D654-437E-9980-EC53BF39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8CC7A-D16B-4010-9B85-01D3CA70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BFAE7-C43E-49BE-ABE8-227DE29F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BA4EF-684A-4F92-B32E-093533D4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FAA1E-310A-4031-BBF9-AAF0E25A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B1F25-7A40-4FF3-BDE6-23A2D52E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E38A3-AE66-4D9C-BFD8-CAFAE1BB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E641-5425-4881-B17D-3771EABF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F01-4734-4D78-AB44-E51AEB14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96318-ADC3-4271-AD26-B3586A9B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0B12B-3AA8-4FB8-A94C-0E338DA4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4D22A-3A84-4CEA-9F2F-3AB97854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34C74-25F7-41AE-8D78-86D8DA5C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675C-E015-4D41-888E-A1BD14B5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1EC35-3C44-4FEA-80FD-15F5D11D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906C2-34AE-4915-B12B-C987A23F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E0DC1-2877-4F03-9E56-93AF0AE8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7EC7E-5ED9-456F-AAE7-203BDC0F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F7BED-A970-43E7-AA9B-43FD79B1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9C9-7644-444E-B3E0-CF75D513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977D1-58C9-4ADE-9E95-0D5E9E21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FE60E-83B7-4E10-9936-B523835F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1FBEE-38E3-4802-8177-A1311671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CE305-7BAD-416B-8818-E9975136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33C94-522F-4B07-B5AD-85AB2050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96681-210A-4097-9356-AD9445B5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D9E17-0403-4A8A-BD40-7006A419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09F6D-4CCC-43A7-8EE1-E0BB0630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29709-92CD-4AE7-9851-B05F893C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90A05-8DBB-4765-91A6-5886E94C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E561-E261-49B7-B97B-E0390E6D17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EC74-4D14-456E-BA50-243CC4F815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FEF6-81CC-4FEF-8DFE-B7A68B3870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0A07-E471-498C-B8C4-AB950D2605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18B9-32A7-4827-AA79-98DDFBB5A6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AFAA-AE0E-4716-9247-7395CFC3D1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6113-8DA4-4A5E-9273-E9151C76C9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7171-4A32-4D69-AC05-7D3E3AEC71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5A41-ECD7-4C1D-B5AC-5FF8DCE962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D2A5-4E28-4550-88B8-20BD598FE3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40E2-DBF2-4169-B6CD-0DC355E0F5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AA71-DD6E-4556-A6D5-63EE3695ED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8B60-94E8-47CA-9B0D-5AE3F9BA31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hyperlink" Target="file:///2.ppt" TargetMode="External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5"/>
          <p:cNvSpPr/>
          <p:nvPr/>
        </p:nvSpPr>
        <p:spPr>
          <a:xfrm>
            <a:off x="395280" y="620640"/>
            <a:ext cx="8748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0[1]"/>
          <p:cNvPicPr/>
          <p:nvPr/>
        </p:nvPicPr>
        <p:blipFill>
          <a:blip r:embed="rId1"/>
          <a:stretch/>
        </p:blipFill>
        <p:spPr>
          <a:xfrm>
            <a:off x="642960" y="1571760"/>
            <a:ext cx="3071880" cy="442908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5"/>
          <p:cNvSpPr/>
          <p:nvPr/>
        </p:nvSpPr>
        <p:spPr>
          <a:xfrm>
            <a:off x="3143160" y="2071800"/>
            <a:ext cx="51436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Что значит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быть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счастливым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1" descr="Рисунок30"/>
          <p:cNvPicPr/>
          <p:nvPr/>
        </p:nvPicPr>
        <p:blipFill>
          <a:blip r:embed="rId2"/>
          <a:stretch/>
        </p:blipFill>
        <p:spPr>
          <a:xfrm>
            <a:off x="5643720" y="4857840"/>
            <a:ext cx="1285560" cy="1154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1" descr="Рисунок30"/>
          <p:cNvPicPr/>
          <p:nvPr/>
        </p:nvPicPr>
        <p:blipFill>
          <a:blip r:embed="rId3"/>
          <a:stretch/>
        </p:blipFill>
        <p:spPr>
          <a:xfrm rot="19668000">
            <a:off x="2176200" y="713880"/>
            <a:ext cx="1082520" cy="971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Рисунок29"/>
          <p:cNvPicPr/>
          <p:nvPr/>
        </p:nvPicPr>
        <p:blipFill>
          <a:blip r:embed="rId4"/>
          <a:stretch/>
        </p:blipFill>
        <p:spPr>
          <a:xfrm rot="4344000">
            <a:off x="6872040" y="718920"/>
            <a:ext cx="11876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5"/>
          <p:cNvSpPr/>
          <p:nvPr/>
        </p:nvSpPr>
        <p:spPr>
          <a:xfrm>
            <a:off x="324360" y="518760"/>
            <a:ext cx="766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ужно уважать слабы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http://www.scorcher.ru/art/happiness/happiness1/14.jpg"/>
          <p:cNvPicPr/>
          <p:nvPr/>
        </p:nvPicPr>
        <p:blipFill>
          <a:blip r:embed="rId1"/>
          <a:stretch/>
        </p:blipFill>
        <p:spPr>
          <a:xfrm>
            <a:off x="1143000" y="1643040"/>
            <a:ext cx="6524640" cy="44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436680" y="34380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ужно быть смелым и решительны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http://www.scorcher.ru/art/happiness/happiness1/17.jpg"/>
          <p:cNvPicPr/>
          <p:nvPr/>
        </p:nvPicPr>
        <p:blipFill>
          <a:blip r:embed="rId1"/>
          <a:srcRect l="5368" t="0" r="0" b="13915"/>
          <a:stretch/>
        </p:blipFill>
        <p:spPr>
          <a:xfrm>
            <a:off x="826920" y="1916280"/>
            <a:ext cx="7428240" cy="38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5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2743200" cy="30481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"/>
          <p:cNvPicPr/>
          <p:nvPr/>
        </p:nvPicPr>
        <p:blipFill>
          <a:blip r:embed="rId2"/>
          <a:stretch/>
        </p:blipFill>
        <p:spPr>
          <a:xfrm>
            <a:off x="5143680" y="642960"/>
            <a:ext cx="2798640" cy="3079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"/>
          <p:cNvPicPr/>
          <p:nvPr/>
        </p:nvPicPr>
        <p:blipFill>
          <a:blip r:embed="rId3"/>
          <a:stretch/>
        </p:blipFill>
        <p:spPr>
          <a:xfrm>
            <a:off x="2571840" y="3786120"/>
            <a:ext cx="3595680" cy="2435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1" descr="Рисунок31"/>
          <p:cNvPicPr/>
          <p:nvPr/>
        </p:nvPicPr>
        <p:blipFill>
          <a:blip r:embed="rId4"/>
          <a:stretch/>
        </p:blipFill>
        <p:spPr>
          <a:xfrm>
            <a:off x="785880" y="421488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1" descr="Рисунок31"/>
          <p:cNvPicPr/>
          <p:nvPr/>
        </p:nvPicPr>
        <p:blipFill>
          <a:blip r:embed="rId5"/>
          <a:stretch/>
        </p:blipFill>
        <p:spPr>
          <a:xfrm rot="4872000">
            <a:off x="6576840" y="4417560"/>
            <a:ext cx="1584360" cy="1368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9" descr="Рисунок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86120" y="2286000"/>
            <a:ext cx="122400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Прямоугольник 3" descr=""/>
          <p:cNvPicPr/>
          <p:nvPr/>
        </p:nvPicPr>
        <p:blipFill>
          <a:blip r:embed="rId1"/>
          <a:stretch/>
        </p:blipFill>
        <p:spPr>
          <a:xfrm>
            <a:off x="811080" y="3054240"/>
            <a:ext cx="7656480" cy="3438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Рисунок4"/>
          <p:cNvPicPr/>
          <p:nvPr/>
        </p:nvPicPr>
        <p:blipFill>
          <a:blip r:embed="rId2"/>
          <a:stretch/>
        </p:blipFill>
        <p:spPr>
          <a:xfrm>
            <a:off x="6764400" y="2565360"/>
            <a:ext cx="1695240" cy="22478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2" descr="Рисунок4"/>
          <p:cNvPicPr/>
          <p:nvPr/>
        </p:nvPicPr>
        <p:blipFill>
          <a:blip r:embed="rId3"/>
          <a:stretch/>
        </p:blipFill>
        <p:spPr>
          <a:xfrm>
            <a:off x="684360" y="2637000"/>
            <a:ext cx="1695240" cy="22478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Рисунок5"/>
          <p:cNvPicPr/>
          <p:nvPr/>
        </p:nvPicPr>
        <p:blipFill>
          <a:blip r:embed="rId4"/>
          <a:stretch/>
        </p:blipFill>
        <p:spPr>
          <a:xfrm>
            <a:off x="3274920" y="549360"/>
            <a:ext cx="2664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Объект 3" descr=""/>
          <p:cNvPicPr/>
          <p:nvPr/>
        </p:nvPicPr>
        <p:blipFill>
          <a:blip r:embed="rId1"/>
          <a:stretch/>
        </p:blipFill>
        <p:spPr>
          <a:xfrm>
            <a:off x="950760" y="620640"/>
            <a:ext cx="7419960" cy="5616720"/>
          </a:xfrm>
          <a:prstGeom prst="rect">
            <a:avLst/>
          </a:prstGeom>
          <a:ln w="0">
            <a:noFill/>
          </a:ln>
        </p:spPr>
      </p:pic>
      <p:pic>
        <p:nvPicPr>
          <p:cNvPr id="541" name="Р.Шуман. - «Детские сцены». Полное счастье (www.hotplayer.ru).mp3" descr=""/>
          <p:cNvPicPr/>
          <p:nvPr/>
        </p:nvPicPr>
        <p:blipFill>
          <a:blip r:embed="rId2"/>
          <a:stretch/>
        </p:blipFill>
        <p:spPr>
          <a:xfrm>
            <a:off x="788508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300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43" name="Прямоугольник 4" descr=""/>
          <p:cNvPicPr/>
          <p:nvPr/>
        </p:nvPicPr>
        <p:blipFill>
          <a:blip r:embed="rId2"/>
          <a:stretch/>
        </p:blipFill>
        <p:spPr>
          <a:xfrm>
            <a:off x="969840" y="549360"/>
            <a:ext cx="7363080" cy="743040"/>
          </a:xfrm>
          <a:prstGeom prst="rect">
            <a:avLst/>
          </a:prstGeom>
          <a:ln w="0">
            <a:noFill/>
          </a:ln>
        </p:spPr>
      </p:pic>
      <p:pic>
        <p:nvPicPr>
          <p:cNvPr id="544" name="Прямоугольник 5" descr=""/>
          <p:cNvPicPr/>
          <p:nvPr/>
        </p:nvPicPr>
        <p:blipFill>
          <a:blip r:embed="rId3"/>
          <a:stretch/>
        </p:blipFill>
        <p:spPr>
          <a:xfrm>
            <a:off x="781200" y="1523880"/>
            <a:ext cx="7624440" cy="1073160"/>
          </a:xfrm>
          <a:prstGeom prst="rect">
            <a:avLst/>
          </a:prstGeom>
          <a:ln w="0">
            <a:noFill/>
          </a:ln>
        </p:spPr>
      </p:pic>
      <p:pic>
        <p:nvPicPr>
          <p:cNvPr id="545" name="Прямоугольник 6" descr=""/>
          <p:cNvPicPr/>
          <p:nvPr/>
        </p:nvPicPr>
        <p:blipFill>
          <a:blip r:embed="rId4"/>
          <a:stretch/>
        </p:blipFill>
        <p:spPr>
          <a:xfrm>
            <a:off x="420840" y="2603520"/>
            <a:ext cx="8302320" cy="1803240"/>
          </a:xfrm>
          <a:prstGeom prst="rect">
            <a:avLst/>
          </a:prstGeom>
          <a:ln w="0">
            <a:noFill/>
          </a:ln>
        </p:spPr>
      </p:pic>
      <p:pic>
        <p:nvPicPr>
          <p:cNvPr id="546" name="Прямоугольник 8" descr=""/>
          <p:cNvPicPr/>
          <p:nvPr/>
        </p:nvPicPr>
        <p:blipFill>
          <a:blip r:embed="rId5"/>
          <a:stretch/>
        </p:blipFill>
        <p:spPr>
          <a:xfrm>
            <a:off x="781200" y="4352760"/>
            <a:ext cx="8081640" cy="1614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1" descr="AN136"/>
          <p:cNvPicPr/>
          <p:nvPr/>
        </p:nvPicPr>
        <p:blipFill>
          <a:blip r:embed="rId6"/>
          <a:stretch/>
        </p:blipFill>
        <p:spPr>
          <a:xfrm>
            <a:off x="7500960" y="3571920"/>
            <a:ext cx="10717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4996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 счасть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4360" y="1989000"/>
            <a:ext cx="8075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"Поверь мне — счастье только там, где любят нас, где верят нам!" (М. Ю. Лермонтов) (поэ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</a:t>
            </a:r>
            <a:r>
              <a:rPr b="1" lang="ru-RU" sz="3200" spc="-1" strike="noStrike">
                <a:solidFill>
                  <a:srgbClr val="00b0f0"/>
                </a:solidFill>
                <a:latin typeface="Monotype Corsiva"/>
              </a:rPr>
              <a:t>У самого злого человека расцветает лицо, когда ему говорят, что его любят. Стало быть, в этом счастье...»Лев Николаевич Толстой (писат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Monotype Corsiva"/>
              </a:rPr>
              <a:t>«Я рожден, и это все, что необходимо, чтобы быть счастливым.» Альберт Эйнштейн (физ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Рисунок7"/>
          <p:cNvPicPr/>
          <p:nvPr/>
        </p:nvPicPr>
        <p:blipFill>
          <a:blip r:embed="rId1"/>
          <a:stretch/>
        </p:blipFill>
        <p:spPr>
          <a:xfrm>
            <a:off x="7072200" y="500040"/>
            <a:ext cx="1067040" cy="933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9" descr="Рисунок7"/>
          <p:cNvPicPr/>
          <p:nvPr/>
        </p:nvPicPr>
        <p:blipFill>
          <a:blip r:embed="rId2"/>
          <a:stretch/>
        </p:blipFill>
        <p:spPr>
          <a:xfrm>
            <a:off x="1143000" y="571680"/>
            <a:ext cx="1066680" cy="93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"/>
          <p:cNvSpPr/>
          <p:nvPr/>
        </p:nvSpPr>
        <p:spPr>
          <a:xfrm>
            <a:off x="357120" y="130320"/>
            <a:ext cx="7715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тобы быть счастливым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ужно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629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винни"/>
          <p:cNvPicPr/>
          <p:nvPr/>
        </p:nvPicPr>
        <p:blipFill>
          <a:blip r:embed="rId1"/>
          <a:stretch/>
        </p:blipFill>
        <p:spPr>
          <a:xfrm>
            <a:off x="4786200" y="2786040"/>
            <a:ext cx="4357800" cy="3873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4" descr="AN535"/>
          <p:cNvPicPr/>
          <p:nvPr/>
        </p:nvPicPr>
        <p:blipFill>
          <a:blip r:embed="rId2"/>
          <a:stretch/>
        </p:blipFill>
        <p:spPr>
          <a:xfrm>
            <a:off x="500040" y="2857680"/>
            <a:ext cx="1584360" cy="3600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Рисунок15"/>
          <p:cNvPicPr/>
          <p:nvPr/>
        </p:nvPicPr>
        <p:blipFill>
          <a:blip r:embed="rId3"/>
          <a:stretch/>
        </p:blipFill>
        <p:spPr>
          <a:xfrm>
            <a:off x="2857680" y="4857840"/>
            <a:ext cx="152388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http://www.scorcher.ru/art/happiness/happiness1/2.jpg"/>
          <p:cNvPicPr/>
          <p:nvPr/>
        </p:nvPicPr>
        <p:blipFill>
          <a:blip r:embed="rId1"/>
          <a:stretch/>
        </p:blipFill>
        <p:spPr>
          <a:xfrm>
            <a:off x="2571840" y="1928880"/>
            <a:ext cx="4103640" cy="4000320"/>
          </a:xfrm>
          <a:prstGeom prst="rect">
            <a:avLst/>
          </a:prstGeom>
          <a:ln w="0">
            <a:noFill/>
          </a:ln>
        </p:spPr>
      </p:pic>
      <p:pic>
        <p:nvPicPr>
          <p:cNvPr id="558" name="Прямоугольник 2" descr=""/>
          <p:cNvPicPr/>
          <p:nvPr/>
        </p:nvPicPr>
        <p:blipFill>
          <a:blip r:embed="rId2"/>
          <a:stretch/>
        </p:blipFill>
        <p:spPr>
          <a:xfrm>
            <a:off x="853920" y="822240"/>
            <a:ext cx="7436160" cy="10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285840" y="641520"/>
            <a:ext cx="8558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меть делить радости с другим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http://www.scorcher.ru/art/happiness/happiness1/3.jpg"/>
          <p:cNvPicPr/>
          <p:nvPr/>
        </p:nvPicPr>
        <p:blipFill>
          <a:blip r:embed="rId1"/>
          <a:stretch/>
        </p:blipFill>
        <p:spPr>
          <a:xfrm>
            <a:off x="1563840" y="1989000"/>
            <a:ext cx="600228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5"/>
          <p:cNvSpPr/>
          <p:nvPr/>
        </p:nvSpPr>
        <p:spPr>
          <a:xfrm>
            <a:off x="285840" y="47376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меть много друзе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http://www.scorcher.ru/art/happiness/happiness1/6.jpg"/>
          <p:cNvPicPr/>
          <p:nvPr/>
        </p:nvPicPr>
        <p:blipFill>
          <a:blip r:embed="rId1"/>
          <a:stretch/>
        </p:blipFill>
        <p:spPr>
          <a:xfrm>
            <a:off x="1428840" y="1428840"/>
            <a:ext cx="6514920" cy="49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5"/>
          <p:cNvSpPr/>
          <p:nvPr/>
        </p:nvSpPr>
        <p:spPr>
          <a:xfrm>
            <a:off x="971640" y="18360"/>
            <a:ext cx="710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Быть уверенным в себе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http://www.scorcher.ru/art/happiness/happiness1/13.jpg"/>
          <p:cNvPicPr/>
          <p:nvPr/>
        </p:nvPicPr>
        <p:blipFill>
          <a:blip r:embed="rId1"/>
          <a:stretch/>
        </p:blipFill>
        <p:spPr>
          <a:xfrm>
            <a:off x="2571840" y="1714680"/>
            <a:ext cx="3181320" cy="45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4:30:30Z</dcterms:created>
  <dc:creator>ЮЛИЯ</dc:creator>
  <dc:description/>
  <dc:language>en-US</dc:language>
  <cp:lastModifiedBy>user</cp:lastModifiedBy>
  <dcterms:modified xsi:type="dcterms:W3CDTF">2023-04-24T09:01:21Z</dcterms:modified>
  <cp:revision>184</cp:revision>
  <dc:subject/>
  <dc:title>Заполни таблиц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юлия">
    <vt:lpwstr>юлия</vt:lpwstr>
  </property>
</Properties>
</file>