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8BA-4A9B-4A64-8D83-FE7A0706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C8F-52EF-4B1D-B44A-81569EA9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CA7-CF87-472B-8FE1-67603B35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1D4-0608-4FAB-8A08-716263F1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B1E-D3A4-41D1-BF23-FFF4B89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45D-368F-4754-BB4C-CD0F621B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7E6-1239-4A64-B4F2-C1751255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C71-BB96-4AFC-9DA3-AEEAADD4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BFE-DFD6-49CD-8EE3-299D1886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E2D-145B-4663-8660-8E1125A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17A-8934-4945-937C-75F9CCF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256-EB9C-4581-8790-080DD67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E0A5-4537-4D86-A37A-2E362EB043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трудовой деятельности на психическое развитие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3284280"/>
            <a:ext cx="58248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кова Анна Виктор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г. Иркутска детский сад №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взрослых организовать труд так, чтобы он был интересен ребенку и помогал формировать у него активные, нравственные ориен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0360" y="2060280"/>
            <a:ext cx="775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лать всё за ребенка. У него должны быть свои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оит отказывать, если ребенок предлагает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учения должны быть посильными и не слишком прос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лоупотреблять отрицательной оце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30360" y="836280"/>
            <a:ext cx="430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оцессе трудовой деятельности формируется дисциплина, ответственнос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моциональная устойчив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Admin\Desktop\1.jpg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навязывайте ребёнку своё видение в решении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йте разрешения заняться с ним общим дел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хвалите ребёнка за труд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йте ребенку выполнить сложную работу совме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4000" y="274680"/>
            <a:ext cx="81356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тивируя детей, следует соблюдать следующие принципы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341280" y="2998800"/>
            <a:ext cx="8461440" cy="3743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агодарим за внимание!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2"/>
          <a:stretch/>
        </p:blipFill>
        <p:spPr>
          <a:xfrm>
            <a:off x="179280" y="1581120"/>
            <a:ext cx="404820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3"/>
          <a:stretch/>
        </p:blipFill>
        <p:spPr>
          <a:xfrm>
            <a:off x="4916520" y="1582560"/>
            <a:ext cx="40482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9423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оне об образовании РФ и ФГОС ДО отражена потребность государства в развитии социально-активной и ответственной личности ребенка, любящей труд и способной к преобразованию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ъезд по дошкольному воспитанию состоялся в 1919 год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м съезде было определено содержание труда и требование к нему.  Обязательный труд  включал: труд по самообслуживанию, работу в саду, огороде, ручной труд с различными материалами, привлечение детей к уборке стен. А также были сформулированы определенные требования, согласно которым труд должен был  учитывать возрастные особенности, быть посильным, понятым по цели , должен доставлять рад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я Я.З. Неверович экспериментально доказывают, что знания, несоединенные с практикой, не могут рождать мотивы собственной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льнейших исследованиях рассматривались вопросы о содержании, методах, средствах, формах организации труда и его роли в воспитании лич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ой трудового воспитания занимались такие педагоги, как Т. А. Маркова, А.С.Макаренко, К.Д.Ушинский, Р. С.Буре, А.Н.Леонтьев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80661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Руси трудовое воспитание было главным. Дети каждого сословия с малых лет выполняли трудовые поручения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4319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ичие трудовых обязанностей не зависело о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а семьи. Все дети должны были труд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816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7775640" cy="23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детство очень изменилось. Профессии родителей детям непонятны, домашний же труд значительно упростил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2565000"/>
            <a:ext cx="70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загруженности на работе, взрослые выполняют домашние дела в спешке, не привлекая к ним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уд влияет на ребенка следующим образ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шает самооценку. Если ребенок что-то умеет, растет его значимость в глазах окружающих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ь дети оценивают себя через мнение авторитетных взрос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т умственные способности, творческие нав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5280" y="188640"/>
            <a:ext cx="727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учшает показатели внимания, растет его концентрация, объё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ирует более сложные формы мыш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ияет на восприят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но развивает мнестические проце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т вообра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нирует мотор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8459640" cy="386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8209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ько труд активно формирует волю. Именно умение заниматься деятельностью и доводить её до конца, даже если она неинтересна, является базой, необходимой для успешной учебной деятельности, и становления успешной, преобразующей лич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3-04-25T08:05:44Z</dcterms:modified>
  <cp:revision>523</cp:revision>
  <dc:subject/>
  <dc:title>Diapositiva 1</dc:title>
</cp:coreProperties>
</file>