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1EB-2873-4287-B51D-CB3A1E22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D53-F495-47E7-89F2-FAEB7D76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5EF-583F-4B76-921E-9195D70C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504-D13A-4BEE-8610-01652FB5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966-E8D3-4220-A45E-5316642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312-403C-4C74-80A3-A3E3169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361-A169-4CCD-942F-A24EDD21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203-11C4-4C06-B208-72A6D3F9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CE8-971C-42DA-90C9-E28E6F4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2FE-6856-4938-9843-A410BC5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9D5-2AA7-4D78-9113-002813E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1E2-B037-4E82-9B6F-3E6347F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0141-73AA-484C-8276-7C285C4484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трудовой деятельности на психическое развит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3284280"/>
            <a:ext cx="58248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кова Анна Виктор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г. Иркутска детский сад №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взрослых организовать труд так, чтобы он был интересен ребенку и помогал формировать у него активные, нравственные ориен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360" y="2060280"/>
            <a:ext cx="775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лать всё за ребенка. У него должны быть свои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оит отказывать, если ребенок предлагает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учения должны быть посильными и не слишком прос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лоупотреблять отрицательной оце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30360" y="836280"/>
            <a:ext cx="430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формируется дисциплина, ответственно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моциональная устойчив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Admin\Desktop\1.jpg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навязывайте ребёнку своё видение в решении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йте разрешения заняться с ним общим дел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хвалите ребёнка за труд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йте ребенку выполнить сложную работу совме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4000" y="274680"/>
            <a:ext cx="81356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тивируя детей, следует соблюдать следующие принципы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341280" y="2998800"/>
            <a:ext cx="8461440" cy="3743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агодарим за внимание!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2"/>
          <a:stretch/>
        </p:blipFill>
        <p:spPr>
          <a:xfrm>
            <a:off x="179280" y="1581120"/>
            <a:ext cx="404820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3"/>
          <a:stretch/>
        </p:blipFill>
        <p:spPr>
          <a:xfrm>
            <a:off x="4916520" y="1582560"/>
            <a:ext cx="40482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9423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оне об образовании РФ и ФГОС ДО отражена потребность государства в развитии социально-активной и ответственной личности ребенка, любящей труд и способной к преобразованию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ъезд по дошкольному воспитанию состоялся в 1919 год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м съезде было определено содержание труда и требование к нему.  Обязательный труд  включал: труд по самообслуживанию, работу в саду, огороде, ручной труд с различными материалами, привлечение детей к уборке стен. А также были сформулированы определенные требования, согласно которым труд должен был  учитывать возрастные особенности, быть посильным, понятым по цели , должен доставлять рад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Я.З. Неверович экспериментально доказывают, что знания, несоединенные с практикой, не могут рождать мотивы собственной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льнейших исследованиях рассматривались вопросы о содержании, методах, средствах, формах организации труда и его роли в воспитании лич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ой трудового воспитания занимались такие педагоги, как Т. А. Маркова, А.С.Макаренко, К.Д.Ушинский, Р. С.Буре, А.Н.Леонтьев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80661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Руси трудовое воспитание было главным. Дети каждого сословия с малых лет выполняли трудовые поручения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4319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ичие трудовых обязанностей не зависело о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а семьи. Все дети должны были труд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7775640" cy="23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детство очень изменилось. Профессии родителей детям непонятны, домашний же труд значительно упрост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2565000"/>
            <a:ext cx="70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загруженности на работе, взрослые выполняют домашние дела в спешке, не привлекая к ним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уд влияет на ребенка следующим образ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ает самооценку. Если ребенок что-то умеет, растет его значимость в глазах окружающи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ь дети оценивают себя через мнение авторитетных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т умственные способности, творческие нав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5280" y="188640"/>
            <a:ext cx="727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учшает показатели внимания, растет его концентрация, объё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ует более сложные формы мыш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ияет на восприят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 развивает мнестические проце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т вообра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нирует мотор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8459640" cy="386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8209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ько труд активно формирует волю. Именно умение заниматься деятельностью и доводить её до конца, даже если она неинтересна, является базой, необходимой для успешной учебной деятельности, и становления успешной, преобразующей лич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3-04-25T08:05:44Z</dcterms:modified>
  <cp:revision>523</cp:revision>
  <dc:subject/>
  <dc:title>Diapositiva 1</dc:title>
</cp:coreProperties>
</file>