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C766-A0ED-4C22-B07E-F9BABD26B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06A0-5EA1-4849-92CC-44AFDD88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E4B7-9FB7-4B79-9F7D-0E5F571B0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3E6D-224E-4EA1-88F1-FD9F4DA72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5636-98C6-4A16-B1B1-A1C6371F3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2781-3FB0-4DC6-BA5F-66554801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F8E6-6A4E-4B09-9614-6DC7DEF7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1B14-9CAA-440F-9A15-003B1121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E041-58B8-4E89-BC3C-5E39AD2C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E1C78-861D-4915-9E7B-0556FA27F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6A52-8F14-4180-8D35-B8DF8E6A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0B48-61F9-43D6-9357-7377C750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0E1D-19EB-4F4F-A0C9-F208D601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DAC1-1CEF-4FB8-8863-79CB2E66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A9DB-7833-42CC-9A96-45DD9DE7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D03A-99E7-49D4-A0AF-A0E7F7B93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B592-7E3B-4F9B-943C-5FB68CCE4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59F4-B5A1-4CE8-AA04-B4226FDA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348B-838A-4DB3-995B-75A05BCA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AE25-5336-4BBB-B771-5DB2D55C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49BA-47AC-4497-9F84-CE19CD7C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8102-56D2-445A-90CB-FB2AF5D7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6A6D-F57B-446E-8C1D-C21A910D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E760-EB6F-4079-8B07-040A2A70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FE91-B366-4D98-8FCE-255A5C4A72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C:\WINNT\Profiles\rebeccal\Personal\pics\strtegic1.jpg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411F-EB17-4694-BDC0-D2C3D847DC76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598644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d54f41"/>
                </a:solidFill>
                <a:latin typeface="Times New Roman"/>
              </a:rPr>
              <a:t>«Обязательная и добровольная подготовка граждан к военной службе » </a:t>
            </a:r>
            <a:endParaRPr b="0" lang="en-US" sz="60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84" name="Picture 4" descr="C:\Program Files\Common Files\Microsoft Shared\Clipart\cagcat50\TN01329_.WMF"/>
          <p:cNvPicPr/>
          <p:nvPr/>
        </p:nvPicPr>
        <p:blipFill>
          <a:blip r:embed="rId2"/>
          <a:stretch/>
        </p:blipFill>
        <p:spPr>
          <a:xfrm>
            <a:off x="4572000" y="4800600"/>
            <a:ext cx="342900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599840" y="99036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 по  программам  подготовки  офицеров  запаса  в  военных  кафедра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 по  основам  военной  службы  в  образовательных  учреждениях  граждан  женского  пола,  годных  по  состоянию  здоровья  к  военной  служб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анятие  военно-прикладными  видами  спорта</a:t>
            </a: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водятся:</a:t>
            </a: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енных  объединениях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х  учреждениях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ивных  клубах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ронно  спортивно-технических  организациях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Наиболее  массовые  военно-прикладные  виды  спорта:</a:t>
            </a: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ьный  (мотоциклетный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бно-парус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вание  приклад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енно-спортивное  ориентиро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шютный  спор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льба  пулева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Распространены  в   нашей  армии  и  успешно  развиваются  и  некоторые  другие  виды  спорта</a:t>
            </a: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енно-спортивное  многоборь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ревой  спор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ая  атлет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ыжный  спор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доление  полосы  препятствий  и  др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3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59920"/>
            <a:ext cx="7543800" cy="210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Обучение  по  дополнительным  образовательным  программам  по  военной  подготовке</a:t>
            </a:r>
            <a:br>
              <a:rPr sz="3200"/>
            </a:b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п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роводят:</a:t>
            </a: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240" y="2361960"/>
            <a:ext cx="7620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воровское  военное  училище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имовское  военно-морское  училищ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етские  корпу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енно-музыкальное  училищ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бучение  по  программе  подготовки  офицеров  запаса  на  военных  кафедрах</a:t>
            </a:r>
            <a:r>
              <a:rPr b="0" lang="ru-RU" sz="44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240" y="228564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узы заключают  с  Министерством  обороны  контракт  об  обучении  и  о  прохождении  военной  службы  по  призыв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еся получ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ю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оинск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зван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офицер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Что  дает  гражданам  такая  подготовка?</a:t>
            </a: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олнительная  стипенд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ицерское  звание – лейтенан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 работу  в  Вооруженных  Сила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1403280" y="189000"/>
            <a:ext cx="7561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оенная служб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ид государственной службы, представляющий собой профессиональную служебную деятельность граждан государств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лиц без гражданства: Россия, США, Франция и другие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) на воинских должностях в вооруженных силах, других войсках, воинских (специальных) формированиях и органах, осуществляющих функции по обеспечению обороны и безопасности государства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. Главная задача -  защита и оборона стра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5438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4800" spc="-1" strike="noStrike">
                <a:solidFill>
                  <a:srgbClr val="ff3300"/>
                </a:solidFill>
                <a:latin typeface="Times New Roman"/>
              </a:rPr>
              <a:t>П</a:t>
            </a:r>
            <a:r>
              <a:rPr b="0" i="1" lang="ru-RU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дготовк</a:t>
            </a:r>
            <a:r>
              <a:rPr b="0" i="1" lang="ru-RU" sz="48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0" i="1" lang="ru-RU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граждан  к  военной  службе </a:t>
            </a:r>
            <a:r>
              <a:rPr b="0" i="1" lang="ru-RU" sz="4800" spc="-1" strike="noStrike">
                <a:solidFill>
                  <a:srgbClr val="ff3300"/>
                </a:solidFill>
                <a:latin typeface="Times New Roman"/>
              </a:rPr>
              <a:t>предусматривает: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3520" y="274320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язательную  подготовку граждан к  военной  служб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обровольную  подготовку граждан к  военной  служб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739152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Обязательная  подготовка  граждан  к  военной  службе предусматривает: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09400" y="2424240"/>
            <a:ext cx="76201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Получение  начальных  знаний  в  области  оборон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у  по  основам  военной службы  в  государственном,   муниципальном  или  негосударственном  образовательном  учреждении  среднего  (полного)  общего  образования,  образовательном  учреждении  начального  профессионального  и  среднего  профессионального  образования  и  в  учебных  пунктах  организаций  независимо  от  формы  собствен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енно-патриотическое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;</a:t>
            </a: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240" y="2205000"/>
            <a:ext cx="762012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готовку  по  военно-учетным  специальностям  солдат,  матросов,  сержантов  и  старшин  по  направлению  военного  комиссариа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ое   освидетельствование  и  медицинское  обследовани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 лечебно-оздоровительных  мероприят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1" descr=""/>
          <p:cNvPicPr/>
          <p:nvPr/>
        </p:nvPicPr>
        <p:blipFill>
          <a:blip r:embed="rId1"/>
          <a:stretch/>
        </p:blipFill>
        <p:spPr>
          <a:xfrm>
            <a:off x="1247760" y="0"/>
            <a:ext cx="7645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4674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  ходе  подготовки  по  основам  военной  службы  в  соответствии   с  государственным  общеобразовательным  стандартом  получают  следующие  знания:</a:t>
            </a: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762012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е  содержание  статей  Конституции  и  Законов  РФ  «Об  обороне»  и  «О воинской  обязанности и военной службе»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ятся с  основными  требованиями  воинских  уставов  ВС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ятся  с  образцами  вооружений и  военной  техники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ятся с размещением  и  бытом  личного  состава  воинских  частей,  их  боевыми  традициям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одготовка  по  военно-учетным  специальностям  солдат,  матросов,  сержантов  и  старшин  по  направлению  военного  комиссариата.</a:t>
            </a:r>
            <a:r>
              <a:rPr b="1" lang="ru-RU" sz="44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 в  юношах,  подлежащих  призыву  на  военную  службу,  готовность  защищать  Отечество,  безупречно  выполнять  воинский  долг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ить  их  с  вооружением,  военной  техникой  и  прививать  практические  навыки  в  самостоятельной  работе  с  ним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ть  знания  по  основам  военной  службы,  полученные  в  общеобразовательных  учреждения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Добровольная  подготовка  к  военной  службе  предусматривает:</a:t>
            </a: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ие  военно-прикладными  видами  спорта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 по  дополнительным  образовательным  программа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3-04-21T13:09:50Z</dcterms:modified>
  <cp:revision>31</cp:revision>
  <dc:subject/>
  <dc:title>PowerPoint Presentation</dc:title>
</cp:coreProperties>
</file>