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C82-197F-4339-A136-5CC0C26D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4F8-C147-4103-AD1D-FFA00998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EB6-F7C3-4E17-9BDC-C2A92C82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660-5EC9-45B9-9CA4-6EB20CD8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61BA-47ED-4127-AC37-1B13B9CF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527D-EE2E-4DE0-AE8A-7BE2E76E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AF1-4746-40C4-A00B-2F3745DE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B222-60FE-4159-975F-4A49B25D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5731-3915-466A-88C1-E6F06459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9F9A-AB54-4831-BB91-A0717FD4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E768-87C6-4AD2-BE82-2BE7D6C9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E65-E38C-4131-8F02-F61CEA4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E023-6F1F-4590-A820-0F4BD53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F64C-B31F-4E5D-A611-8A77BD6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FB4-C89D-46EB-9A04-F7CD9AF6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D0E-5E7E-47C8-8A74-868AED4E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D6D2-872B-420D-AE11-1ADCAF57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A1A-238E-4C45-9A60-82DFFA1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663-657D-4B54-B750-26F311A1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CE9-CFDB-4718-89B7-78C4F262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EF4-CED7-4332-AAA3-B16ADD2F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4FC-A932-4D8D-B9E3-6D5CCAB6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DBD-B18A-4405-A7E5-1255F84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055-05A4-48C6-8D61-EC1C150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323-09BE-4600-88F4-7F9310EA2A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369F-853C-4315-8C3A-6E15A3F7580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598644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54f41"/>
                </a:solidFill>
                <a:latin typeface="Times New Roman"/>
              </a:rPr>
              <a:t>«Обязательная и добровольная подготовка граждан к военной службе » 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4" name="Picture 4" descr="C:\Program Files\Common Files\Microsoft Shared\Clipart\cagcat50\TN01329_.WMF"/>
          <p:cNvPicPr/>
          <p:nvPr/>
        </p:nvPicPr>
        <p:blipFill>
          <a:blip r:embed="rId2"/>
          <a:stretch/>
        </p:blipFill>
        <p:spPr>
          <a:xfrm>
            <a:off x="4572000" y="4800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99840" y="9903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по  программам  подготовки  офицеров  запаса  в  военных  кафед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по  основам  военной  службы  в  образовательных  учреждениях  граждан  женского  пола,  годных  по  состоянию  здоровья  к  военной  служб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нятие  военно-прикладными  видами  спорта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водятся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 объединениях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 учреждениях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х  клубах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но  спортивно-технических  организация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иболее  массовые  военно-прикладные  виды  спорта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ый  (мотоциклетны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но-парус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ние  приклад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спортивное  ориен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шютный 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ьба  пулев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спространены  в   нашей  армии  и  успешно  развиваются  и  некоторые  другие  виды  спорта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спортивное  многобор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ревой 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ая  атл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ый 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ние  полосы  препятствий  и  д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59920"/>
            <a:ext cx="7543800" cy="21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бучение  по  дополнительным  образовательным  программам  по  военной  подготовке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оводят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оровское  военное  училищ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имовское  военно-морское  учил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етские  корпу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музыкальное  училищ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учение  по  программе  подготовки  офицеров  запаса  на  военных  кафедрах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зы заключают  с  Министерством  обороны  контракт  об  обучении  и  о  прохождении  военной  службы  по  призыв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полу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инс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ва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фиц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то  дает  гражданам  такая  подготовка?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лнительная  стипенд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ское  звание – лейтена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работу  в  Вооруженных  Сил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403280" y="189000"/>
            <a:ext cx="75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енная служб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 государственной службы, представляющий собой профессиональную служебную деятельность граждан государст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лиц без гражданства: Россия, США, Франция и други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на воинских должностях в вооруженных силах, других войсках, воинских (специальных) формированиях и органах, осуществляющих функции по обеспечению обороны и безопасности государств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Главная задача -  защита и оборона стр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</a:rPr>
              <a:t>П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дготовк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граждан  к  военной  службе </a:t>
            </a:r>
            <a:r>
              <a:rPr b="0" i="1" lang="ru-RU" sz="4800" spc="-1" strike="noStrike">
                <a:solidFill>
                  <a:srgbClr val="ff3300"/>
                </a:solidFill>
                <a:latin typeface="Times New Roman"/>
              </a:rPr>
              <a:t>предусматривает: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язательную  подготовку граждан к  военной 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бровольную  подготовку граждан к  военной 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бязательная  подготовка  граждан  к  военной  службе предусматривает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9400" y="2424240"/>
            <a:ext cx="7620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олучение  начальных  знаний  в  области  оборо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 по  основам  военной службы  в  государственном,   муниципальном  или  негосударственном  образовательном  учреждении  среднего  (полного)  общего  образования,  образовательном  учреждении  начального  профессионального  и  среднего  профессионального  образования  и  в  учебных  пунктах  организаций  независимо  от  формы  соб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патриотическо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;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2205000"/>
            <a:ext cx="76201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ку  по  военно-учетным  специальностям  солдат,  матросов,  сержантов  и  старшин  по  направлению  военного  комиссари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  освидетельствование  и  медицинское  обслед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 лечебно-оздоровительных 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1247760" y="0"/>
            <a:ext cx="7645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  ходе  подготовки  по  основам  военной  службы  в  соответствии   с  государственным  общеобразовательным  стандартом  получают  следующие  знания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6201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 содержание  статей  Конституции  и  Законов  РФ  «Об  обороне»  и  «О воинской  обязанности и военной службе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  основными  требованиями  воинских  уставов  В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 с  образцами  вооружений и  военной  техн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размещением  и  бытом  личного  состава  воинских  частей,  их  боевыми  традициям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готовка  по  военно-учетным  специальностям  солдат,  матросов,  сержантов  и  старшин  по  направлению  военного  комиссариата.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 в  юношах,  подлежащих  призыву  на  военную  службу,  готовность  защищать  Отечество,  безупречно  выполнять  воинский  дол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 их  с  вооружением,  военной  техникой  и  прививать  практические  навыки  в  самостоятельной  работе  с  ни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 знания  по  основам  военной  службы,  полученные  в  общеобразовательных  учреждени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бровольная  подготовка  к  военной  службе  предусматривает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 военно-прикладными  видами  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по  дополнительным  образовательным  программ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4-21T13:09:50Z</dcterms:modified>
  <cp:revision>31</cp:revision>
  <dc:subject/>
  <dc:title>PowerPoint Presentation</dc:title>
</cp:coreProperties>
</file>