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522-1315-4FA5-A73E-3AFB040B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A87-F920-4145-AAB9-20B564D4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ABCAB9-C29B-4D02-984A-8A3AA0FE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98748A-4875-4B98-B7EA-523358A5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3B64E6-A25C-476E-876A-A2840A7C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EB0DE2-C368-4F37-9C35-5B4E561D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921D74-C959-4D61-BCDF-A704EA9B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B144AC-8C36-41B8-87D9-E2B02742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BE54F6-B7FB-4A9D-A5EA-4EB58405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097B57-E6CF-4B35-BDF7-6B0D6C59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B8E3EE-A1E5-4DF5-BA57-4428A04A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B44F35-CFA3-45A2-BEA3-679DA9F2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895-DE03-4F40-B111-CF1016FA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98A4C1-1B29-4AB8-93F1-FB026F43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CD1FA4-2158-41DD-9C51-743095CA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4455D5-B2CF-4201-A0A4-848E6458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80BB1B-80F9-4452-B6D7-F0EACF7D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9B1F66-7B10-4124-87CF-1B50A6BF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03C5AA-406C-4516-BFC1-8E6623AF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CAAFCE-807A-481D-99DB-0E315170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26067A-96D3-4DAF-A45C-AA58F208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14AD0C-C439-4D28-98A4-B240FC99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67B656-B28D-4734-B73F-AC57FDD3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F18-C73B-46CC-A43C-42A4396E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0F04FB-8A55-40A0-B77E-ADAE71CD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4D558C-B2BE-44D5-9EB2-43DED3EA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613F46-E733-42ED-A91C-DC9218B2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29B1C8-9183-4621-8F37-00E0ECF5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170D9E-BE9C-43DF-8398-441F35CC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213DD5-69F7-4C8C-A4E7-02488795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F7D781-692C-4CB6-B4DF-496B81DE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5C5549-F89F-4233-BE07-DEE4CDB0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C8C57B-95D6-4148-82B6-6E32D9B0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3337A3-D8D6-4C06-873D-FCB3881B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450D2-4975-4B30-96C7-7D7A9F34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9BACCB-B382-48FA-8F1A-4ECC1B6D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59D7F1-CFC1-46CA-8837-EFABE9D8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14595C-293A-447A-91C8-EA53E2A8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E942F6-16F7-421E-8BB3-7A969A25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256195-3B68-41F8-A50E-1257CD94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0A6792-E3A5-43BC-9C32-E9E9D868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EC4107-1793-49E7-823F-C524A8A5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57A854-6C96-4B12-8EDB-C34F5D11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0DEDC7-26F6-4AF8-B89E-24874C1B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463D18-9CA5-4DCB-A036-DCF2854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96BDC-708F-428F-887E-F1A3C940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C4668E-47C0-4A4E-B58E-7B7A8747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5BA00E-41B1-4217-8B90-CD4F5AFF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236167-D5B5-4F7B-8A2A-8C07520F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60D207-1884-4109-A1F8-165CE39B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FF14D7-F5BC-40C4-A597-40AF661D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B7F94C-2351-4CDF-953F-0C5DBEEE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01C1C4-364A-4B38-BCA8-0A749EEC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1E20B2-7B4B-4BC4-BE2F-DB96FD2B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FCA732-9E90-438F-9953-64796C7E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E62E75-0299-4CC3-82AA-D02BCAE5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2A83F-ED5F-44B8-823F-28D2E016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D2FC93-B02E-43C2-ADD7-7943EC27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9D3C23-3152-48D5-AEAD-A5B80B93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D858AE-F68B-4375-9949-1046CB77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AFBE00-815B-43C2-83A0-06C8B673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094731-20EA-4DDB-A924-40C4074A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8C32D3-DF69-4340-9556-265261EB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35A2C1-7D7E-48C1-9994-140661AB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12A13B-07E6-403A-8D0C-5D341FC2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CBA0A4-2E4A-40B7-98AB-199CF90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D6C46D-F6D0-4809-A1B7-8C64611D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9FDC4-2BD0-4469-849B-CE811B7E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654275-B01B-4A8C-A157-2989BE4E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BEC933-77F4-4115-ADF9-43863562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0035BF-5621-41CA-928A-CB2ECF47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30AFCD-A3B1-4F04-ACFA-F2A2C240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398EC2-C0D0-41A6-B568-1E85D4B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503585-20E4-41DB-AD3E-74143EC0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5CC73C-0DB3-4589-9406-FFF6CA06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6407FB-13D7-4010-87F5-D336BFED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B5C7B0-E907-4CCD-9A2F-E4EB2093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7D7A50-BCAE-48CA-A619-3890BD32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B7322-DC3C-4B60-A446-6B576948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CEF54E-3E10-4230-BDFD-46ED85DB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57FC80-82AD-4E25-89C1-10D1A730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AB4E65-88DF-4D11-9B4F-C49A5464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E079C1-8535-4542-9975-45545F30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59A386-AF65-402C-8B3D-A680AC64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E8F765-FCDE-4A26-A8EA-1B3C3413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180823-B62A-46E4-B43E-995EC45E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4C7F7C-93EE-46AF-9B53-5C6B22A2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687CA4-3E06-436A-BA4F-0613A24E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ACE1AF-F58F-417D-9179-3FD1D6E8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C5506-0A31-4B5E-B7AC-75DE1C83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06D524-A67F-4D5C-BF3E-2EB62E99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23EF10-8697-4E1D-B0FD-45C81456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4AF32E-5BBD-42F8-9496-9F253C8F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DB0D99-13CC-4485-8AB6-244E9CF2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EEDA2B-3827-40EA-AC56-D8DAC657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92D4CB-EF6B-4404-8D28-A4F17EF7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4E7256-9250-4C62-875C-A613C11C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6849E0-7565-494F-832E-32580345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2B403A-3299-477D-B9E0-0C9D4D97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7DE15D-CA27-4208-9095-C08E8D4D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87835-372C-46D3-BAD0-0068E807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3DD4FE-C2D3-4122-B259-693776A7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D7A377-58AA-438B-A37C-38246EAA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C17662-A40F-4198-B530-9336E6A5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1C8B3F-F18D-4B6D-BDA5-6FCEF8BC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01E70C-4F51-43DB-9810-44A0B6E2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CDDD99-6CBC-4621-A9CA-892B44D4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7C09EB-A094-43C4-B910-747FA8D1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252624-454E-45F9-B200-7D6D38C2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61997C-EC71-43C7-9160-8443F519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76887F-A742-4D2F-90F2-A9EBBD3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AE5-D125-4D4E-A38F-01C3551C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E8581-1464-4684-BDCA-EB8A62FD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7F346A-7AB9-4ABF-805B-7AB1A4B1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FE0CE9-74A1-4CB5-9035-D23EAC3F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D30820-D3B1-4582-A23C-605D2E95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836413-6D3A-4BB9-8E02-CCDED845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8D3FB2-6940-43DA-AAF7-717FBCD3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EB2585-80B5-49E4-B367-6FF91C35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D9A5F2-BB8A-4C17-8261-631A0095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BCAFB6-0B5B-4265-BF56-014CEC1A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05F537-55CD-4D3C-BFF0-463D5FC7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F48180-3F9D-4873-A183-2235097F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E62E8-0114-49C3-95D7-E4C158A2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B48585-81D9-4366-988B-F26E07E5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26822D-FF97-4A3F-BB0E-3F5048E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B13A23-E8D4-4770-8E15-5F6C0396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441ECA-CDFB-475E-964E-5832F396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8EB104-B306-4B6C-B7ED-E9AF93AF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C4E2EC-6B51-497B-AA4A-D3D74EE5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764D5B-556F-45DD-B566-FE1BC04B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6D0B6-151C-4C22-A956-523F96F6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DCCC3-560E-44C1-97C5-FA8AC794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7BA45-D4F6-4D4C-9EE7-4B267ED0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F384-1160-45B0-A464-7F1CE1A0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EA75-EDD3-4952-AE7D-620EE222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3014-B2C1-4C38-9534-7EF4EDDC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AF94-E4D1-4AA1-AF62-F2823D44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EC87F-EE57-4CFA-83CB-8440D08B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0B5-1680-4047-93BB-5809A19E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6D06-57B0-490D-AE02-C09C5732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CD02-BAF7-4A67-BFC6-8E78ADF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4F52-6C61-4078-A5D8-0ECB554D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E526-8B66-4D8F-861E-6B2291E2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FD64-F13C-4266-9A52-4010AA8A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D60E-6CCC-44F2-8F65-ECB87BB1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905F-CB49-4652-84FA-C186CAFF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3C9B4-CE87-4620-84F5-C03B1780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5045C-5402-474C-AA87-F0D95BF2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C69A7E-E33C-4F8A-BD3C-B7C839CF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983-E700-4D16-9483-2ABD38A9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895A8-4A14-45B7-997B-58BE2121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A94F1-1E58-42A4-B73D-450BDCD2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0594D-AC77-4736-9DEA-D9083E87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4B791-D324-4F8F-A914-A2890A69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CEC64-77E9-40E1-B10A-5BAEEF10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9EF67-81D5-47FC-9C30-16B546CC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866B65-F9B5-4E11-8CEF-25565674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2DF78-2318-4461-B5E3-A3238EEC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418E1-C2E7-46D7-8A6D-697CA9D5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D370A-3411-453B-A480-9DBA78A3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85D-170C-4D20-97C7-CE429707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91507-39E8-457A-9A5C-C0E437A8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59C28-224D-4176-B3A9-2F1A75C6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3DDC0-4F6E-4745-AAF5-7C36D91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821B1-F1E7-4E40-AEEE-E47BEBC3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0FB64-228F-480D-AF8B-6379613B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80D63-40DE-4A6C-A20C-B1D5FB6F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5EA54-6DA4-4E96-974C-82CD212E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54E04-2D27-4AD7-A615-31D9BBF5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3734B-A344-4B3A-BF5D-2D38A3AB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C7D46-D502-4C7D-A9B1-E73FFBB1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D65-E021-4155-8F7B-80F344E4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BE362-4CA7-489E-AF5E-A6803FEE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2EC25-A82A-4F62-B9DE-6222A2C1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65BE0-3C01-44FF-85DA-D4F3A768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E5978-0E8D-48A0-98EF-3ABAF0D6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A1FC8-2C08-44FF-87CD-64EA7D23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2EDB5-DF30-4EA3-AF56-4F415E57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293D9-2DF1-4284-B40B-11908FE9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6365B-7826-400B-A25F-57DF5771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0A697-0B0D-436B-9987-8C8E0C0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B7A5E-771A-45FF-8095-C079C85F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98E-4276-4234-9E96-9888C528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F33F9-5DA4-469E-BF04-E63BA968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71BB5-CC42-40E0-8B6E-5FA8C9FF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0CD85-9FEF-4809-AE23-6AC6734B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10A5F-FCE1-4897-B9F5-5FD3BF92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61E9F-774B-4EC4-BB4E-7F57CC29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083F0-9E3D-4181-BB30-D30CA3D9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81FE0-144F-4DCE-ABA9-C8E23B41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F8664F-40EB-4D1F-9296-1DA405A8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A42B4-9AA4-4E23-B314-E7864A96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097BE-2089-409F-88B9-FB07785A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2D9-E536-42E7-A391-8826A117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E5BC9-A54F-4602-8EB1-EBF2F74E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3A9E6-B8C4-42DC-B2C1-E969A2D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1D3E8-EC98-41A6-BD01-39362B2A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FAB86-666B-4397-A27C-D7560A05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FD0D0-4F80-4E3C-9DDB-FA995C06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5F3F01-7715-4ABF-8738-5455BE57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FD277B-BB93-48ED-A36B-7D084ED6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3B06D2-FD64-405F-9FA2-0EE20668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2FF843-08F7-48EA-91D5-B61C0DA1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8169C9-4F7A-48A7-9CC2-28BA5719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A0F-8DFF-4872-B9EF-4F5A6340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0DC3B-0467-4E51-8D00-B6EB81A8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96DE2D-03A3-4DB6-B674-E8761E6E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148256-C246-4E81-977A-D8C91377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43ECB9-E69A-4750-906E-7EB5501E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B6A986-9E5E-4564-9C74-16E31FF2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1269F8-E301-4A51-85FB-244266EA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D86762-EBCC-47EA-8D75-3F39D95E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102338-A354-426B-AB7D-B21BF69E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DF0BA-195D-481C-952A-F532A7F1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DE3086-A23E-4B3B-9548-6BE7FD9F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oogle Shape;6;p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Google Shape;7;p1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Google Shape;8;p1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oogle Shape;9;p1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Google Shape;10;p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Google Shape;11;p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Google Shape;12;p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Google Shape;13;p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Google Shape;14;p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Google Shape;15;p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Google Shape;16;p1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Google Shape;17;p1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Google Shape;18;p1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Google Shape;19;p1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E39A-0075-401C-8020-AB57C3DC1BB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8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1B71-1B86-42C1-ADD8-9D59D1094696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9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4BF1-9180-47CA-8E8E-3F56AFD2F537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0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F7C6-43D3-40B7-9167-6326F9BA907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3A8B-07E2-4AC5-91BF-360169A34D82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2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C9C0-3BE2-4312-987E-67DC1E806C5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3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9FCD-C646-49A2-ADE2-63160F0AC8C3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4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CD81-840B-4849-805F-570BC10E567C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5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5470-EE9D-4D94-BD4A-D9C3343606CA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6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507A-58D9-44E8-9461-5CC6AA90C7D9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F335-D0EF-480F-9B1E-BECA4E647F7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oogle Shape;6;p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Google Shape;7;p1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Google Shape;8;p1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oogle Shape;9;p1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Google Shape;10;p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Google Shape;11;p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Google Shape;12;p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Google Shape;13;p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Google Shape;14;p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Google Shape;15;p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Google Shape;16;p1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Google Shape;17;p1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Google Shape;18;p1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Google Shape;19;p1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36E5-AF06-443E-98BE-88A06D96287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1A0C-7F4A-4887-AC00-822B90604CCB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ACAE-AE30-463E-AEBA-E3AEC4479A0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6940-DCC4-4BE6-9E71-C74271A9C2B7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5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7197-19D9-49D7-A90A-35332CD4C412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6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BA2B-0179-4055-AAE6-E0DEDBAC8A0C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oogle Shape;34;p3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7" name="Google Shape;35;p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Google Shape;36;p3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Google Shape;37;p3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Google Shape;38;p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Google Shape;39;p3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Google Shape;40;p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Google Shape;41;p3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Google Shape;42;p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Google Shape;43;p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D681-2220-4072-9B60-B0AF0DAF2127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Основы здорового образа жизн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002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Как влияют физические упражнения и занятия спортом на развитие растущего организ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Физические упражнения благотворно влияют на становление и развитие всех функций ЦНС : на силу, подвижность, уравновешенность нерв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Под влиянием  мышечных нагрузок увеличивается частота сердцебиений, мышца сердца сокращается сильнее, становится оптимальным артериальное давле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Во время мышечной работы улучшается вентиляция лёгких. Происходит расправление лёгки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Физические упражнения способствуют увеличению массы скелетной мускулатуры, укреплению суставов, связок, росту и развитию к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У крепкого, закалённого человека увеличивается умственная и физическая работоспособность и сопротивляемость к заболе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Влияние занятий спортом на физические качеств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1547640" y="1413000"/>
          <a:ext cx="6077160" cy="5256000"/>
        </p:xfrm>
        <a:graphic>
          <a:graphicData uri="http://schemas.openxmlformats.org/drawingml/2006/table">
            <a:tbl>
              <a:tblPr/>
              <a:tblGrid>
                <a:gridCol w="1519560"/>
                <a:gridCol w="1519200"/>
                <a:gridCol w="1519200"/>
                <a:gridCol w="1519200"/>
              </a:tblGrid>
              <a:tr h="312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лияние занятий на развитие  физических кач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ыносл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ибк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лаван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еб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зю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елоси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имна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Ходь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Бе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Бадмин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ен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днятие тяже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٭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Отличный эффект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٭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Очень хороший эффект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٭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Некоторый эфф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٭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Без ощутимого эфф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31" name="Google Shape;177;p23"/>
          <p:cNvSpPr/>
          <p:nvPr/>
        </p:nvSpPr>
        <p:spPr>
          <a:xfrm>
            <a:off x="971640" y="612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6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Какие физические качества надо иметь для обеспечения хорошего уровня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4000680"/>
            <a:ext cx="8218440" cy="21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Силовые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Вынослив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Гибк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Скоростные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Google Shape;184;p24" descr="G3459i"/>
          <p:cNvPicPr/>
          <p:nvPr/>
        </p:nvPicPr>
        <p:blipFill>
          <a:blip r:embed="rId1"/>
          <a:stretch/>
        </p:blipFill>
        <p:spPr>
          <a:xfrm>
            <a:off x="1332000" y="1643040"/>
            <a:ext cx="2574720" cy="2357640"/>
          </a:xfrm>
          <a:prstGeom prst="rect">
            <a:avLst/>
          </a:prstGeom>
          <a:ln w="0">
            <a:noFill/>
          </a:ln>
        </p:spPr>
      </p:pic>
      <p:pic>
        <p:nvPicPr>
          <p:cNvPr id="935" name="Google Shape;185;p24" descr="футбол"/>
          <p:cNvPicPr/>
          <p:nvPr/>
        </p:nvPicPr>
        <p:blipFill>
          <a:blip r:embed="rId2"/>
          <a:stretch/>
        </p:blipFill>
        <p:spPr>
          <a:xfrm>
            <a:off x="4786200" y="2714760"/>
            <a:ext cx="2308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Скоростные качества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Способы развития быстроты  - упражнения , требующие энергичных двигательных  реакций, большой скорости и частоты выполнения дви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Google Shape;192;p25" descr="бег"/>
          <p:cNvPicPr/>
          <p:nvPr/>
        </p:nvPicPr>
        <p:blipFill>
          <a:blip r:embed="rId1"/>
          <a:stretch/>
        </p:blipFill>
        <p:spPr>
          <a:xfrm>
            <a:off x="2857680" y="3286080"/>
            <a:ext cx="3447720" cy="3183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Силовые качества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336600"/>
              </a:buClr>
              <a:buSzPct val="77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Сила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– способность человека преодолевать внешнее сопротивление или противодействовать ему благодаря мышечным усилия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Разновидности силовых качеств: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статическ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жимовая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скоростная динамическая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«взрывная»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амортизационная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00"/>
                </a:solidFill>
                <a:uFillTx/>
                <a:latin typeface="Arial"/>
              </a:rPr>
              <a:t>Силовые упр. с внешним сопротивлением: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с тяжестями, с сопротивлением упругих предметов(эспандеров), с преодолением сопротивления внеш.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63"/>
              </a:spcBef>
              <a:buClr>
                <a:srgbClr val="336600"/>
              </a:buClr>
              <a:buSzPct val="77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00"/>
                </a:solidFill>
                <a:uFillTx/>
                <a:latin typeface="Arial"/>
              </a:rPr>
              <a:t>Упр. с преодолением массы собственного тела:</a:t>
            </a:r>
            <a:r>
              <a:rPr b="0" i="1" lang="en-US" sz="1800" spc="-1" strike="noStrike" u="sng">
                <a:solidFill>
                  <a:srgbClr val="003300"/>
                </a:solidFill>
                <a:uFillTx/>
                <a:latin typeface="Arial"/>
              </a:rPr>
              <a:t> гимнастическими, легкоатлетическим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822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22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322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22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322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822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322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822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322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822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Вынос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Выносливость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способность поддерживать заданную необходимую  для обеспечения жизнедеятельности нагрузку и противостоять утомлению, возникающему в процессе выполнения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Для ее развития наиболее полезны ходьба, бег, лыжи, плавань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Google Shape;205;p27" descr="D3460i"/>
          <p:cNvPicPr/>
          <p:nvPr/>
        </p:nvPicPr>
        <p:blipFill>
          <a:blip r:embed="rId1"/>
          <a:stretch/>
        </p:blipFill>
        <p:spPr>
          <a:xfrm>
            <a:off x="5508720" y="1484280"/>
            <a:ext cx="2448000" cy="2305080"/>
          </a:xfrm>
          <a:prstGeom prst="rect">
            <a:avLst/>
          </a:prstGeom>
          <a:ln w="0">
            <a:noFill/>
          </a:ln>
        </p:spPr>
      </p:pic>
      <p:pic>
        <p:nvPicPr>
          <p:cNvPr id="944" name="Google Shape;206;p27" descr="A3450i"/>
          <p:cNvPicPr/>
          <p:nvPr/>
        </p:nvPicPr>
        <p:blipFill>
          <a:blip r:embed="rId2"/>
          <a:stretch/>
        </p:blipFill>
        <p:spPr>
          <a:xfrm>
            <a:off x="5508720" y="4000680"/>
            <a:ext cx="2519280" cy="2020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23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23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23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Развитие гибкости – развитие св-в опорно-двигательного аппарата чел-ка по расширению пределов движения отдельных звеньев орга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00"/>
              </a:buClr>
              <a:buSzPct val="75000"/>
              <a:buFont typeface="Noto Sans Symbol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Упр., направленные на развитие гибкости,  основаны на выполнении разнообразных движений: сгибания-разгибания, вращений, махов, наклонов и повор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Google Shape;213;p28" descr="s03011i"/>
          <p:cNvPicPr/>
          <p:nvPr/>
        </p:nvPicPr>
        <p:blipFill>
          <a:blip r:embed="rId1"/>
          <a:stretch/>
        </p:blipFill>
        <p:spPr>
          <a:xfrm>
            <a:off x="1116000" y="3716280"/>
            <a:ext cx="2160720" cy="2570400"/>
          </a:xfrm>
          <a:prstGeom prst="rect">
            <a:avLst/>
          </a:prstGeom>
          <a:ln w="0">
            <a:noFill/>
          </a:ln>
        </p:spPr>
      </p:pic>
      <p:pic>
        <p:nvPicPr>
          <p:cNvPr id="948" name="Google Shape;214;p28" descr="художественная гимнастика"/>
          <p:cNvPicPr/>
          <p:nvPr/>
        </p:nvPicPr>
        <p:blipFill>
          <a:blip r:embed="rId2"/>
          <a:stretch/>
        </p:blipFill>
        <p:spPr>
          <a:xfrm>
            <a:off x="1042920" y="1000080"/>
            <a:ext cx="2233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4-21T13:30:36Z</dcterms:modified>
  <cp:revision>1</cp:revision>
  <dc:subject/>
  <dc:title>Основы здорового образа жизни</dc:title>
</cp:coreProperties>
</file>