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BE0-4E75-4C87-AB01-8746CFDE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B8E-364A-4EF1-B0ED-C2F2EB04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B539DE-A8D9-44D7-BF5B-CFCAA463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6FECEC-8701-4CCD-B588-C93B6C68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950C72-11A8-40F5-8111-E0DD6D5B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2A4790-E6A7-4643-8596-A969EF5B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5F8B04-76B5-4B7C-A47D-29CC2FF9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4AA948-D141-4C26-918C-1049679A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68B9B4-B795-4264-97AC-4BA86B2D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4D7968-FDF5-4554-97B6-1F051BEB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C0A7D0-19FC-44AC-B4CC-922700C9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3588FE-1779-460D-AD8B-39CBB75C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988-18F3-43D4-B120-A34D9514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AFB478-85AF-41A7-A7CA-EB22DC7F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2422EB-F64E-48C8-B8E8-059904A5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554076-A162-4A59-A417-39313D20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E29DF2-1390-41B1-9556-CA15CA60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0D18F3-6003-403D-8090-5949DBDD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F7F7AD-0204-41EB-8E50-E9FA95D6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4336C3-899C-40FB-ADBA-EE1D0403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DFEAAB-CA8B-4BE9-82C3-6BB484E5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14FACE-3016-4C08-969C-D9795C89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9D85E6-1240-415A-B2E5-655BF93E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D88-3D75-4D50-9D69-45DC9C51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7584F8-F5A2-4D46-9199-A9C4E467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E35AC3-6FA5-460B-A9F6-F196AD19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CF9131-3EF1-42CC-A354-ECBE7A4D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492FD4-9A03-43BB-87EF-CBFC1EAA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3F4D3D-9B2D-4D26-A5D6-837AFC1D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CA38A9-976E-4D93-9D8E-EBD4D423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EF8642-6BEB-47C6-A4A6-8630B051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A82949-A46D-4E87-A897-AA0C5B64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F0046A-CF7A-42E6-900F-2E6439EB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DCC190-6949-44A6-A4D0-78F7DEE7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DBB4C-4D3A-4738-B10F-CFC8AE34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BF23A6-690A-4820-A2B0-EA1CA71B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03270C-5ACB-43DA-9196-2B323B1F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672FC3-CDB0-4AFD-B111-24284A7B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8EA444-1590-40FC-9017-99076436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4D8915-6D2B-43B7-B80D-8DC9C38B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355E8E-ED64-4958-8CD1-A93CEACC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1CD43E-A4BE-49BC-AE19-2A1C5AD1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D8A18E-E6DC-48D2-B548-CA61D78E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B65E72-F1DF-46A0-A17F-6D5BE272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BD7432-8A37-44A3-B926-716D86E8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7E887-B712-447B-A8A5-204CD06F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85E8C2-8A55-4953-A4E2-B21137B4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F52D45-2612-4EE1-97B9-9B6095D2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0E7B6F-D5D7-4402-8DCA-B1B9A497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606005-647D-4ED4-9C77-1627C7A4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EA17D3-5182-435C-9950-9973AD38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8DB26D-ECF7-4C28-8237-3BF6E0E3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122E85-608B-4639-BA5F-D7E70E98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428188-FFBD-41BC-AC5C-EC0E9C5F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FFD236-9E19-4808-9228-383772C9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66FD8A-E570-4873-9EF7-2D6A9672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A5D39-6525-4BD4-A6D2-95B1C27C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201793-6639-4126-AA05-1327EE0E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51BA73-1018-482C-B0C4-8B4B235D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DA82BB-1C24-47DD-AF50-C2DA8E1E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DAEEA0-3EE8-48CD-AF90-5EA6D9DC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D6813B-91B2-41AB-805D-A8CFDC26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B86BE7-73E8-489F-B5D2-32A5DCC5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AAD49E-2CA3-4E75-821C-BD765777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DC45AC-7D46-41C9-A8C2-EF839217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FC8F7E-79F3-41BB-AADB-DDD88F60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DD35A1-F37C-4E90-ADFF-169CDC93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45321-E3D3-489D-A74E-53180DFA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1D5084-32F8-4770-B79E-20C978DB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8268FB-CACF-4F60-87DE-D4DF22A5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016D28-94A3-447E-8CB4-61FC0B89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2F9B9A-3D4A-4010-A2E0-9B83E51C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289160-1F69-4E30-A9B4-5346BFC7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2621B7-72FB-450B-A0DC-93D5A2C2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B74435-69C4-4669-B1C6-BE56A4D0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CA01AC-375D-4575-91AF-F85847D7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D56823-BE7A-46CF-8B71-19D29309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073737-4EED-45AD-B26B-6499987B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F9E30-339A-4652-9D8C-4D074AEB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5619A6-81B0-47C8-ABFD-DA9CAAA6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E88F7F-01F1-45E6-BC16-E81D8CC3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F7B96F-A0FF-4DF5-A41F-9D76E68E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80E538-92A1-4EE6-876B-4409C646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D31F48-DD34-45A0-BD1D-AD56CD06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962669-A168-4EDA-9C24-A9CB00C9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D835AB-BDD0-42F3-9C8F-4F57A6B0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B4FDA1-FEA3-48BE-A66C-A9D32321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BFCCC0-4120-4B85-9F67-20A0A6F8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7FE6D2-00BC-4D86-A463-4CC424DD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DC63B-02D5-4A24-A947-3456B4D1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F40EE4-E4F3-4DEC-A7E7-55646BCD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5504FE-A738-4027-8DB3-F3349845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4AC7CA-9744-415B-B043-04BA6E90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2D716A-BB7C-44DB-A607-2689D6E3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738121F-A198-4056-A7D3-9CE00302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B08D98-CD18-4B93-AA46-C67DD579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8D4812-B460-40FA-9815-243E5D6D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E64EBE-AE54-47ED-88A1-E57602BD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132F47-BFBA-4FB2-AA94-80913C5A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A1F9A5-C20D-4F3C-BD67-B1703ABA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A17A6-1CFF-475B-BAF6-1CB9D95B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129AD2-FF89-47D3-96DF-17240BC6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C1C5B2-A3FE-480D-B9C3-4F6E1457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C80B70-24D1-4D1A-8DAF-EBF0D434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F81904B-1C57-49BA-B753-A892FA2E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120A1ED-2CE3-4EFC-911D-FC27EAC7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051D5C5-8A9C-4BC0-89EF-042C29B0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245E3F-157D-4DA9-B28A-3555DBF6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5BC6023-C646-4952-B7D8-F6828B4D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DBF658-8F17-4557-BA0C-7359B177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4B243F-951E-458B-B6DB-5EF521BD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A38-8864-426B-82DD-EF2D5DCE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89357-76B1-4902-8710-A483B1A1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A04C10-BA58-4253-8084-E4FF4F69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1C865D-7DB1-4DA2-A611-3D123E1B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72F001-6423-4173-A271-36390A4D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BA2DED-8B62-4A27-A255-89864FDF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3594EB1-4E1D-459A-A5E5-1E776B68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9E24A5D-E14C-4404-9ADE-A2747C89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09430D-F87C-4FB9-8D1A-C9233754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3C29E2-8A27-44CD-9DE9-4F1925AA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E64C01-7F6A-49BF-AF54-CE3BF8F9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041A425-EBEC-4758-B638-0AF82B93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FE563-E5CD-4079-8E06-423FB36A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DDB5094-328B-403B-ABFD-DF2B7850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798D06F-49D2-4670-A9A9-C8030D67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BD46034-279B-4719-8ABC-16BD27CA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1DB091-D0BE-41BF-B60E-96BDF601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82054CB-1A71-4BDD-AD82-BA41D109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942DE7-9F69-4964-8B2B-9B902AF3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E2314EC-FD6B-4F61-92DB-2E0A4D92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57773-32D4-4581-A6BB-B7B9FAE9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26953-29C7-4721-85E9-383A220C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D7DF5-599F-45D5-AF97-BC610A83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C009C-76FC-41A0-A8DE-A9AC57E8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72EDC-3DD1-4EBE-9C7D-3F31FA2D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5FB6-C7B5-4B9F-8DA0-EF92BDC1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CE71C-8DD2-4850-AE61-B90FD36E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B8C81-4476-44A9-8745-1EC932EC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5F7-0E2C-4841-8826-4F35F332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EA6B8-8075-42E6-A3C3-D626FE9D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B3ED7-ABD4-4F48-9780-2CFBD41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B484-49E9-4A52-9B66-DD2501EC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C19EA-C2C8-4CF1-B547-82D43F1A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4E71A-12E6-492D-AF44-26ACEB7A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DD92-058E-4C73-B886-3559B6D5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34636-624A-40D7-9604-2E2187B5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20253C-4579-48E7-8E57-B6CC01C4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DFEC77-EA17-4879-BB7B-F37BA7DD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C01F5-6620-4929-BFC9-F567ED06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E55-E4F0-49A6-9153-126C9FDC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B2A70-758A-4AF3-A6D7-50FD02E4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8A37D-83E6-42B7-941F-E41E42C6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C2A2A5-45F2-4C3A-8C10-91C4EE91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7A322-AD2E-4B37-9E4C-EA4CBF18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35F65-887C-45CF-94E5-C8A492AB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9978E-7CFC-417C-9256-8DF4A994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60F8C-BFE0-419C-9C2B-AEABD165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DDDDAF-3AF4-4B7F-95AA-44A3C565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1B601-51CA-464F-B227-F66E0F6A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9F16A-20C0-4C13-9E90-D5D23363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9E1-E045-4F88-B0EF-A02A1601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81F42-3C21-43D7-A151-44287CDE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6EBDF-A78A-4423-8DA1-6403781D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6F0328-AFA4-4B3A-AA78-ECC0117E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D7598-8FEE-417E-A681-D77344B4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ED38BC-CB95-445D-ACF3-CA571813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3F403-6152-4716-BFDF-34B18F97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F24FA8-5D99-4693-A338-54838308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37A67-4C7D-44E8-BA13-CF4F99ED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641AC-93F9-4820-973A-710B0896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7DF6C-76E3-47D5-8EB4-35D72DCB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B8A-74F6-4518-851D-689985C3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FC4066-EEC9-4D68-B26F-9F72DB56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3DD364-C3AE-425E-96E5-9DA04AFC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0668D-9578-44BA-B119-C989CDB5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5FBD4-E9B3-4479-8996-ABE1ED17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03EAF-4D56-4762-B9D9-70BEAE02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70008-7F21-42BD-81AB-BB8289ED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EA0EF-BFA1-4A8C-BC39-6EF43A4E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5BD49C-686D-498C-8BF6-D25B401A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4ECF14-411D-4471-94FA-0C1E0518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D2FC49-9C3A-472A-A8E9-D9D69BE3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C91-D886-45F3-BE7C-8CDB9317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1C25DF-FCB6-4172-A174-04C73ECC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3BE35D-365A-4B24-8192-6B6BEB3E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BF6281-AE02-454B-B691-2E9F122F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E03DC4-0CEA-48DB-AA5E-BE6674A5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0CCF47-2A6D-4FFB-8D56-60AB085E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B2A713-18BF-41A5-A190-061B90F5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6450F-16A7-4AF9-B5E4-89FB213A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DE41BA-B0EC-4704-BDE3-7572E2EE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82947-75E9-49EF-94A6-3EBD8A38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F1D795-9DFF-49A9-8075-37EA0116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1AD-9FE0-4E2D-991B-CA597E5C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83622E-44A7-4386-9D11-1F5E3D4A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5BC20-FA69-44D9-8841-15D90468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1541F9-F5E4-44A9-8118-9150623D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24ED68-FD52-449B-90DD-1C3B33FD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1D319-1250-4A56-9602-37BCB005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65F036-2DBB-4F76-85C6-EE24DDCE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F8FBA9-9B5F-4E24-8C56-9504B351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B55879-3D01-473A-8DD7-00541C9C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96F55B-64E3-4144-9683-F81A14E8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12A752-D9E8-449E-9098-6D3883EA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3E1-B6D7-4BEA-91EC-174BEB97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831630-8D14-4D44-A158-3AEECCF4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6F4D56-0718-48BB-B616-3AE10A8B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627F1C-8BB9-4B68-95BA-8E2F91EA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3EE74B-5723-4C21-983E-D38EA987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8BF003-2CCF-4AFF-97E7-4ABD6D69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97ABF5-2BD1-4584-A17B-8E913421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74865A-E0BD-4ACE-A5A7-F991543E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13D812-1989-41EA-940D-756B0B85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A8C4BC-5981-4E7C-88EB-ACC14B27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890C74-47C2-4608-8BE7-464236C1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oogle Shape;6;p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Google Shape;7;p1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Google Shape;8;p1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oogle Shape;9;p1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Google Shape;10;p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Google Shape;11;p1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Google Shape;12;p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Google Shape;13;p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Google Shape;14;p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Google Shape;15;p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Google Shape;16;p1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Google Shape;17;p1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Google Shape;18;p1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Google Shape;19;p1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4DF6-C1EA-430C-8DDF-AAB427A5B923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8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BF72-29D2-4EA1-9B07-C87017E25FF8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9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B026-8779-4DF3-B64A-A66E14FDFF35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0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A3B0-6332-4FBF-943C-176C9D68FAB8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D833-D5DD-49C0-98C3-3D59747D03E8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2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26C4-1FDE-4516-A260-B1B4FD1DF2AF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3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1A32-7F5E-49D2-A5D6-667627C493EF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4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71FC-FD6E-4BAB-9E51-B9C69129944A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5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7693-7EF5-4172-B22B-21EA76CDB563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6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D29A-0721-42CE-8A28-A0D7796926C5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27CA-5641-4E55-8E3B-DC0FBF27C5B8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oogle Shape;6;p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Google Shape;7;p1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Google Shape;8;p1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oogle Shape;9;p1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Google Shape;10;p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Google Shape;11;p1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Google Shape;12;p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Google Shape;13;p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Google Shape;14;p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Google Shape;15;p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Google Shape;16;p1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Google Shape;17;p1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Google Shape;18;p1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Google Shape;19;p1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D7B8-BF0F-47E8-8122-32A242ED6EBA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5272-C008-4D05-A094-5C1D4737192B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839A-C0D9-48D9-B5B7-0917DAD689CC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E59E-B05C-45D9-9878-CC1DE4165CC9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5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AE59-85A8-416F-A054-5F35B5184799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6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83A7-AA99-4ECA-99CF-62EE6E901751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7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1E57-FE29-4932-97E8-39706EE0F232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Основы здорового образа жизн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0024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Как влияют физические упражнения и занятия спортом на развитие растущего организ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Физические упражнения благотворно влияют на становление и развитие всех функций ЦНС : на силу, подвижность, уравновешенность нервны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Под влиянием  мышечных нагрузок увеличивается частота сердцебиений, мышца сердца сокращается сильнее, становится оптимальным артериальное давлен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Во время мышечной работы улучшается вентиляция лёгких. Происходит расправление лёгки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Физические упражнения способствуют увеличению массы скелетной мускулатуры, укреплению суставов, связок, росту и развитию к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У крепкого, закалённого человека увеличивается умственная и физическая работоспособность и сопротивляемость к заболе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Влияние занятий спортом на физические качеств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1547640" y="1413000"/>
          <a:ext cx="6077160" cy="5256000"/>
        </p:xfrm>
        <a:graphic>
          <a:graphicData uri="http://schemas.openxmlformats.org/drawingml/2006/table">
            <a:tbl>
              <a:tblPr/>
              <a:tblGrid>
                <a:gridCol w="1519560"/>
                <a:gridCol w="1519200"/>
                <a:gridCol w="1519200"/>
                <a:gridCol w="1519200"/>
              </a:tblGrid>
              <a:tr h="312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лияние занятий на развитие  физических кач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ынослив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ибк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лаван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еб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зю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елосип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имна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Ходь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Бе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Бадмин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Тен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днятие тяже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Отличный эффект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Очень хороший эффект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Некоторый эфф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Без ощутимого эфф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31" name="Google Shape;177;p23"/>
          <p:cNvSpPr/>
          <p:nvPr/>
        </p:nvSpPr>
        <p:spPr>
          <a:xfrm>
            <a:off x="971640" y="612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6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Какие физические качества надо иметь для обеспечения хорошего уровня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4000680"/>
            <a:ext cx="8218440" cy="21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Силовые 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Вынослив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Гибк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Скоростные 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Google Shape;184;p24" descr="G3459i"/>
          <p:cNvPicPr/>
          <p:nvPr/>
        </p:nvPicPr>
        <p:blipFill>
          <a:blip r:embed="rId1"/>
          <a:stretch/>
        </p:blipFill>
        <p:spPr>
          <a:xfrm>
            <a:off x="1332000" y="1643040"/>
            <a:ext cx="2574720" cy="2357640"/>
          </a:xfrm>
          <a:prstGeom prst="rect">
            <a:avLst/>
          </a:prstGeom>
          <a:ln w="0">
            <a:noFill/>
          </a:ln>
        </p:spPr>
      </p:pic>
      <p:pic>
        <p:nvPicPr>
          <p:cNvPr id="935" name="Google Shape;185;p24" descr="футбол"/>
          <p:cNvPicPr/>
          <p:nvPr/>
        </p:nvPicPr>
        <p:blipFill>
          <a:blip r:embed="rId2"/>
          <a:stretch/>
        </p:blipFill>
        <p:spPr>
          <a:xfrm>
            <a:off x="4786200" y="2714760"/>
            <a:ext cx="2308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Скоростные качества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Способы развития быстроты  - упражнения , требующие энергичных двигательных  реакций, большой скорости и частоты выполнения дви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Google Shape;192;p25" descr="бег"/>
          <p:cNvPicPr/>
          <p:nvPr/>
        </p:nvPicPr>
        <p:blipFill>
          <a:blip r:embed="rId1"/>
          <a:stretch/>
        </p:blipFill>
        <p:spPr>
          <a:xfrm>
            <a:off x="2857680" y="3286080"/>
            <a:ext cx="3447720" cy="3183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Силовые качества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buClr>
                <a:srgbClr val="336600"/>
              </a:buClr>
              <a:buSzPct val="77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Сила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– способность человека преодолевать внешнее сопротивление или противодействовать ему благодаря мышечным усилия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63"/>
              </a:spcBef>
              <a:buClr>
                <a:srgbClr val="336600"/>
              </a:buClr>
              <a:buSzPct val="77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Разновидности силовых качеств: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63"/>
              </a:spcBef>
              <a:buClr>
                <a:srgbClr val="336600"/>
              </a:buClr>
              <a:buSzPct val="77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статическ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63"/>
              </a:spcBef>
              <a:buClr>
                <a:srgbClr val="336600"/>
              </a:buClr>
              <a:buSzPct val="77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жимовая с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63"/>
              </a:spcBef>
              <a:buClr>
                <a:srgbClr val="336600"/>
              </a:buClr>
              <a:buSzPct val="77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скоростная динамическая с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63"/>
              </a:spcBef>
              <a:buClr>
                <a:srgbClr val="336600"/>
              </a:buClr>
              <a:buSzPct val="77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«взрывная» с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63"/>
              </a:spcBef>
              <a:buClr>
                <a:srgbClr val="336600"/>
              </a:buClr>
              <a:buSzPct val="77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амортизационная с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63"/>
              </a:spcBef>
              <a:buClr>
                <a:srgbClr val="336600"/>
              </a:buClr>
              <a:buSzPct val="77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00"/>
                </a:solidFill>
                <a:uFillTx/>
                <a:latin typeface="Arial"/>
              </a:rPr>
              <a:t>Силовые упр. с внешним сопротивлением: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с тяжестями, с сопротивлением упругих предметов(эспандеров), с преодолением сопротивления внеш.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63"/>
              </a:spcBef>
              <a:buClr>
                <a:srgbClr val="336600"/>
              </a:buClr>
              <a:buSzPct val="77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00"/>
                </a:solidFill>
                <a:uFillTx/>
                <a:latin typeface="Arial"/>
              </a:rPr>
              <a:t>Упр. с преодолением массы собственного тела:</a:t>
            </a:r>
            <a:r>
              <a:rPr b="0" i="1" lang="en-US" sz="1800" spc="-1" strike="noStrike" u="sng">
                <a:solidFill>
                  <a:srgbClr val="003300"/>
                </a:solidFill>
                <a:uFillTx/>
                <a:latin typeface="Arial"/>
              </a:rPr>
              <a:t> гимнастическими, легкоатлетическим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822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22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322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822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322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822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322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822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322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822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Вынос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Выносливость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способность поддерживать заданную необходимую  для обеспечения жизнедеятельности нагрузку и противостоять утомлению, возникающему в процессе выполнения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Для ее развития наиболее полезны ходьба, бег, лыжи, плаванье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Google Shape;205;p27" descr="D3460i"/>
          <p:cNvPicPr/>
          <p:nvPr/>
        </p:nvPicPr>
        <p:blipFill>
          <a:blip r:embed="rId1"/>
          <a:stretch/>
        </p:blipFill>
        <p:spPr>
          <a:xfrm>
            <a:off x="5508720" y="1484280"/>
            <a:ext cx="2448000" cy="2305080"/>
          </a:xfrm>
          <a:prstGeom prst="rect">
            <a:avLst/>
          </a:prstGeom>
          <a:ln w="0">
            <a:noFill/>
          </a:ln>
        </p:spPr>
      </p:pic>
      <p:pic>
        <p:nvPicPr>
          <p:cNvPr id="944" name="Google Shape;206;p27" descr="A3450i"/>
          <p:cNvPicPr/>
          <p:nvPr/>
        </p:nvPicPr>
        <p:blipFill>
          <a:blip r:embed="rId2"/>
          <a:stretch/>
        </p:blipFill>
        <p:spPr>
          <a:xfrm>
            <a:off x="5508720" y="4000680"/>
            <a:ext cx="2519280" cy="2020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23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23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23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Гиб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648320" y="98064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Развитие гибкости – развитие св-в опорно-двигательного аппарата чел-ка по расширению пределов движения отдельных звеньев орган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Упр., направленные на развитие гибкости,  основаны на выполнении разнообразных движений: сгибания-разгибания, вращений, махов, наклонов и повор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Google Shape;213;p28" descr="s03011i"/>
          <p:cNvPicPr/>
          <p:nvPr/>
        </p:nvPicPr>
        <p:blipFill>
          <a:blip r:embed="rId1"/>
          <a:stretch/>
        </p:blipFill>
        <p:spPr>
          <a:xfrm>
            <a:off x="1116000" y="3716280"/>
            <a:ext cx="2160720" cy="2570400"/>
          </a:xfrm>
          <a:prstGeom prst="rect">
            <a:avLst/>
          </a:prstGeom>
          <a:ln w="0">
            <a:noFill/>
          </a:ln>
        </p:spPr>
      </p:pic>
      <p:pic>
        <p:nvPicPr>
          <p:cNvPr id="948" name="Google Shape;214;p28" descr="художественная гимнастика"/>
          <p:cNvPicPr/>
          <p:nvPr/>
        </p:nvPicPr>
        <p:blipFill>
          <a:blip r:embed="rId2"/>
          <a:stretch/>
        </p:blipFill>
        <p:spPr>
          <a:xfrm>
            <a:off x="1042920" y="1000080"/>
            <a:ext cx="2233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0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4-21T13:30:36Z</dcterms:modified>
  <cp:revision>1</cp:revision>
  <dc:subject/>
  <dc:title>Основы здорового образа жизни</dc:title>
</cp:coreProperties>
</file>