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5.wmf" ContentType="image/x-wmf"/>
  <Override PartName="/ppt/media/image5.jpeg" ContentType="image/jpeg"/>
  <Override PartName="/ppt/media/image32.gif" ContentType="image/gif"/>
  <Override PartName="/ppt/media/image28.gif" ContentType="image/gif"/>
  <Override PartName="/ppt/media/image14.jpeg" ContentType="image/jpeg"/>
  <Override PartName="/ppt/media/image8.png" ContentType="image/png"/>
  <Override PartName="/ppt/media/image30.gif" ContentType="image/gif"/>
  <Override PartName="/ppt/media/image6.jpeg" ContentType="image/jpeg"/>
  <Override PartName="/ppt/media/image13.jpeg" ContentType="image/jpeg"/>
  <Override PartName="/ppt/media/image20.gif" ContentType="image/gif"/>
  <Override PartName="/ppt/media/image7.jpeg" ContentType="image/jpeg"/>
  <Override PartName="/ppt/media/image11.png" ContentType="image/png"/>
  <Override PartName="/ppt/media/image31.gif" ContentType="image/gif"/>
  <Override PartName="/ppt/media/image12.png" ContentType="image/png"/>
  <Override PartName="/ppt/media/image4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26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27.gif" ContentType="image/gif"/>
  <Override PartName="/ppt/media/image9.gif" ContentType="image/gif"/>
  <Override PartName="/ppt/media/image16.jpeg" ContentType="image/jpeg"/>
  <Override PartName="/ppt/media/image18.jpeg" ContentType="image/jpeg"/>
  <Override PartName="/ppt/media/image19.png" ContentType="image/png"/>
  <Override PartName="/ppt/media/image21.gif" ContentType="image/gif"/>
  <Override PartName="/ppt/media/image22.png" ContentType="image/png"/>
  <Override PartName="/ppt/media/image2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DE3-C24F-48F5-980A-BA21DC76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810-E514-457F-96B2-8C0EB0E0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C6A-29F5-4373-92E9-171B49CE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6FF-D14D-4860-82E1-97DEA756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D52F-63A0-4BDC-9EA6-1FF22533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0608-5870-4D21-9899-6E7AB28D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35E7-51EB-4997-A7E3-9DDF9194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49C3-826B-4466-9CE9-C8D5C7C7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8DD6-4BFC-492B-9B96-C31B50BB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B130-2745-4053-BBFB-A682C778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D11E-5CE2-489C-9678-30A2BC61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D34-1290-470B-BE28-2E76EA98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AB51-7280-4383-922A-246CDF8D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9AF1-5744-44FD-8D5B-30313087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6C54-8797-44A4-A6B4-5C378CF6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8765-F4DC-4F79-87DB-0F6B2317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1702-8F2D-4563-BB04-15CA676B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E814-24AB-41ED-B7D8-A10C66C2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7D4B-FD08-42F1-AA1E-D9006DE3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633-F89B-4A6C-AE18-ACBB51CB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7ED-F443-4E08-8A5E-862C5924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95B-CC08-4CF9-B746-E476EE42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DBD-DBEC-4869-A499-16F8143F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9890-24B2-4919-8E81-371E0536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CAF6-2B70-44C0-862D-5E9722C8C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CEED-3653-4149-BF4E-C61BC3E260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2"/>
          <a:stretch/>
        </p:blipFill>
        <p:spPr>
          <a:xfrm>
            <a:off x="-19080" y="103320"/>
            <a:ext cx="5780160" cy="2530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6"/>
          <p:cNvSpPr/>
          <p:nvPr/>
        </p:nvSpPr>
        <p:spPr>
          <a:xfrm flipH="1">
            <a:off x="1928880" y="3357720"/>
            <a:ext cx="1295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57120" y="442908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мертельная доза для годовалого ребёнка – 100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5500800" y="3357720"/>
            <a:ext cx="17287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929120" y="4357800"/>
            <a:ext cx="378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мертельная доза для подростка 12-13 ле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50 – 500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7" descr=""/>
          <p:cNvPicPr/>
          <p:nvPr/>
        </p:nvPicPr>
        <p:blipFill>
          <a:blip r:embed="rId2"/>
          <a:stretch/>
        </p:blipFill>
        <p:spPr>
          <a:xfrm>
            <a:off x="103320" y="317520"/>
            <a:ext cx="8991360" cy="1219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школьные работы\классный час\для презентаций\люди\дети\baby2401.gif"/>
          <p:cNvPicPr/>
          <p:nvPr/>
        </p:nvPicPr>
        <p:blipFill>
          <a:blip r:embed="rId3"/>
          <a:stretch/>
        </p:blipFill>
        <p:spPr>
          <a:xfrm>
            <a:off x="4714920" y="2071800"/>
            <a:ext cx="84780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D:\школьные работы\классный час\для презентаций\люди\дети\baby23.gif"/>
          <p:cNvPicPr/>
          <p:nvPr/>
        </p:nvPicPr>
        <p:blipFill>
          <a:blip r:embed="rId4"/>
          <a:stretch/>
        </p:blipFill>
        <p:spPr>
          <a:xfrm>
            <a:off x="3500280" y="2214720"/>
            <a:ext cx="1000440" cy="1957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6840" y="928440"/>
            <a:ext cx="76150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ая потеря памяти (от нескольких минут до нескольких дне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еское воздейств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оз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рдц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чен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джелудочную желез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желудочно –  кишечный трак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Утяжеляется течением различных заболеваний, снижается сопротивление орган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Прямоугольник 3" descr=""/>
          <p:cNvPicPr/>
          <p:nvPr/>
        </p:nvPicPr>
        <p:blipFill>
          <a:blip r:embed="rId2"/>
          <a:stretch/>
        </p:blipFill>
        <p:spPr>
          <a:xfrm>
            <a:off x="1000080" y="92160"/>
            <a:ext cx="7631280" cy="80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школьные работы\классный час\для презентаций\разное\101иии.gif"/>
          <p:cNvPicPr/>
          <p:nvPr/>
        </p:nvPicPr>
        <p:blipFill>
          <a:blip r:embed="rId3"/>
          <a:stretch/>
        </p:blipFill>
        <p:spPr>
          <a:xfrm>
            <a:off x="2500200" y="1928880"/>
            <a:ext cx="2286000" cy="1646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:\школьные работы\классный час\для презентаций\brain.gif"/>
          <p:cNvPicPr/>
          <p:nvPr/>
        </p:nvPicPr>
        <p:blipFill>
          <a:blip r:embed="rId4"/>
          <a:stretch/>
        </p:blipFill>
        <p:spPr>
          <a:xfrm>
            <a:off x="6286680" y="1571760"/>
            <a:ext cx="195228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:\школьные работы\классный час\для презентаций\HM00307_.WMF"/>
          <p:cNvPicPr/>
          <p:nvPr/>
        </p:nvPicPr>
        <p:blipFill>
          <a:blip r:embed="rId5"/>
          <a:stretch/>
        </p:blipFill>
        <p:spPr>
          <a:xfrm>
            <a:off x="6786720" y="4786200"/>
            <a:ext cx="2120760" cy="19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9000"/>
                            </p:stCondLst>
                            <p:childTnLst>
                              <p:par>
                                <p:cTn id="2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07172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е (от 2 лет) и чрезмерное употребление алкоголя вызывает физическую и психическую зависим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(возникает уже на ранних стадиях алкоголизма) – это потребность, характеризующаяся употреблением алкоголя. О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ет нормальное повед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проявлению безответственного отношения к семье, окружающим, учебе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Прямоугольник 3" descr=""/>
          <p:cNvPicPr/>
          <p:nvPr/>
        </p:nvPicPr>
        <p:blipFill>
          <a:blip r:embed="rId2"/>
          <a:stretch/>
        </p:blipFill>
        <p:spPr>
          <a:xfrm>
            <a:off x="2627280" y="158760"/>
            <a:ext cx="4048200" cy="81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D:\школьные работы\классный час\для презентаций\171.gif"/>
          <p:cNvPicPr/>
          <p:nvPr/>
        </p:nvPicPr>
        <p:blipFill>
          <a:blip r:embed="rId3"/>
          <a:stretch/>
        </p:blipFill>
        <p:spPr>
          <a:xfrm>
            <a:off x="714240" y="3143160"/>
            <a:ext cx="914400" cy="22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D:\школьные работы\классный час\для презентаций\171.gif"/>
          <p:cNvPicPr/>
          <p:nvPr/>
        </p:nvPicPr>
        <p:blipFill>
          <a:blip r:embed="rId4"/>
          <a:stretch/>
        </p:blipFill>
        <p:spPr>
          <a:xfrm>
            <a:off x="714240" y="3571920"/>
            <a:ext cx="914400" cy="22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D:\школьные работы\классный час\для презентаций\люди\51.gif"/>
          <p:cNvPicPr/>
          <p:nvPr/>
        </p:nvPicPr>
        <p:blipFill>
          <a:blip r:embed="rId5"/>
          <a:stretch/>
        </p:blipFill>
        <p:spPr>
          <a:xfrm>
            <a:off x="500040" y="4857840"/>
            <a:ext cx="2786040" cy="155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D:\школьные работы\классный час\для презентаций\люди\55.gif"/>
          <p:cNvPicPr/>
          <p:nvPr/>
        </p:nvPicPr>
        <p:blipFill>
          <a:blip r:embed="rId6"/>
          <a:stretch/>
        </p:blipFill>
        <p:spPr>
          <a:xfrm>
            <a:off x="5286240" y="4395960"/>
            <a:ext cx="3033720" cy="196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56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избежать  ситуаций, способствующих употреблению алкоголя, необходим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организовать свой досу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ься творчеством, физической культур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«духовные»потреб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отказу от употребления алкоголя в вежливой форме, которая не обидит окружающих, в т. ч. друз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D:\школьные работы\классный час\для презентаций\170.gif"/>
          <p:cNvPicPr/>
          <p:nvPr/>
        </p:nvPicPr>
        <p:blipFill>
          <a:blip r:embed="rId2"/>
          <a:stretch/>
        </p:blipFill>
        <p:spPr>
          <a:xfrm>
            <a:off x="642960" y="2643120"/>
            <a:ext cx="952560" cy="23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школьные работы\классный час\для презентаций\170.gif"/>
          <p:cNvPicPr/>
          <p:nvPr/>
        </p:nvPicPr>
        <p:blipFill>
          <a:blip r:embed="rId3"/>
          <a:stretch/>
        </p:blipFill>
        <p:spPr>
          <a:xfrm>
            <a:off x="642960" y="2214720"/>
            <a:ext cx="952560" cy="237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D:\школьные работы\классный час\для презентаций\170.gif"/>
          <p:cNvPicPr/>
          <p:nvPr/>
        </p:nvPicPr>
        <p:blipFill>
          <a:blip r:embed="rId4"/>
          <a:stretch/>
        </p:blipFill>
        <p:spPr>
          <a:xfrm>
            <a:off x="642960" y="1785960"/>
            <a:ext cx="952560" cy="237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D:\школьные работы\классный час\для презентаций\170.gif"/>
          <p:cNvPicPr/>
          <p:nvPr/>
        </p:nvPicPr>
        <p:blipFill>
          <a:blip r:embed="rId5"/>
          <a:stretch/>
        </p:blipFill>
        <p:spPr>
          <a:xfrm>
            <a:off x="642960" y="1357200"/>
            <a:ext cx="952560" cy="238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D:\школьные работы\классный час\для презентаций\Sport\24.gif"/>
          <p:cNvPicPr/>
          <p:nvPr/>
        </p:nvPicPr>
        <p:blipFill>
          <a:blip r:embed="rId6"/>
          <a:stretch/>
        </p:blipFill>
        <p:spPr>
          <a:xfrm>
            <a:off x="5072040" y="3559320"/>
            <a:ext cx="3738600" cy="3036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D:\школьные работы\классный час\для презентаций\люди\68.gif"/>
          <p:cNvPicPr/>
          <p:nvPr/>
        </p:nvPicPr>
        <p:blipFill>
          <a:blip r:embed="rId7"/>
          <a:stretch/>
        </p:blipFill>
        <p:spPr>
          <a:xfrm>
            <a:off x="2357280" y="3571920"/>
            <a:ext cx="2000520" cy="292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429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Пьянство есть упражн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в безум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Пифаг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D:\школьные работы\классный час\для презентаций\882c665b64effdc059f7945889f17b74-2-1.jpg"/>
          <p:cNvPicPr/>
          <p:nvPr/>
        </p:nvPicPr>
        <p:blipFill>
          <a:blip r:embed="rId2"/>
          <a:stretch/>
        </p:blipFill>
        <p:spPr>
          <a:xfrm>
            <a:off x="357120" y="1822320"/>
            <a:ext cx="6357960" cy="478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9"/>
          <p:cNvSpPr/>
          <p:nvPr/>
        </p:nvSpPr>
        <p:spPr>
          <a:xfrm>
            <a:off x="2895480" y="525780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e4"/>
                </a:solidFill>
                <a:latin typeface="Times New Roman"/>
              </a:rPr>
              <a:t>Человеческ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8a"/>
                </a:solidFill>
                <a:latin typeface="Times New Roman"/>
              </a:rPr>
              <a:t>по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 flipV="1">
            <a:off x="4648320" y="4643280"/>
            <a:ext cx="66600" cy="76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 flipV="1">
            <a:off x="6400800" y="5572080"/>
            <a:ext cx="67140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 flipH="1" flipV="1">
            <a:off x="2214360" y="5500800"/>
            <a:ext cx="680760" cy="519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80880" y="4800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200400" y="3962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Алк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6400800" y="4648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D:\классный час\здоровое питание\ЛЮДИ\11853384584589215409084.jpg"/>
          <p:cNvPicPr/>
          <p:nvPr/>
        </p:nvPicPr>
        <p:blipFill>
          <a:blip r:embed="rId2"/>
          <a:stretch/>
        </p:blipFill>
        <p:spPr>
          <a:xfrm>
            <a:off x="3357720" y="1571760"/>
            <a:ext cx="2428560" cy="242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D:\классный час\здоровое питание\1196534202_fa08f8e992305d9290392d87aa276419_full.jpg"/>
          <p:cNvPicPr/>
          <p:nvPr/>
        </p:nvPicPr>
        <p:blipFill>
          <a:blip r:embed="rId3"/>
          <a:stretch/>
        </p:blipFill>
        <p:spPr>
          <a:xfrm>
            <a:off x="5929200" y="2610000"/>
            <a:ext cx="3000600" cy="1995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D:\школьные работы\классный час\курение\картинки\news477e2408c3450.jpg"/>
          <p:cNvPicPr/>
          <p:nvPr/>
        </p:nvPicPr>
        <p:blipFill>
          <a:blip r:embed="rId4"/>
          <a:stretch/>
        </p:blipFill>
        <p:spPr>
          <a:xfrm>
            <a:off x="285840" y="2786040"/>
            <a:ext cx="2587680" cy="1919160"/>
          </a:xfrm>
          <a:prstGeom prst="rect">
            <a:avLst/>
          </a:prstGeom>
          <a:ln w="0">
            <a:noFill/>
          </a:ln>
        </p:spPr>
      </p:pic>
      <p:sp>
        <p:nvSpPr>
          <p:cNvPr id="95" name="Содержимое 2"/>
          <p:cNvSpPr/>
          <p:nvPr/>
        </p:nvSpPr>
        <p:spPr>
          <a:xfrm>
            <a:off x="285840" y="214200"/>
            <a:ext cx="82296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Здоровье – это бесценный дар. Берегите здоровье смол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мни, что для здоровья вред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57120" y="35676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Алкоголь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– это этиловый спирт (бесцветная, летучая жидкость с характерным запахом и вкусом). Он используется в качестве растворителя, антифриза, дезинфицирующего  средства, а также для поднятия настроения, обладает наркотическим действием, но официально не относится к наркоти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D:\Мои рисунки\tn_gallery_2__67917.png"/>
          <p:cNvPicPr/>
          <p:nvPr/>
        </p:nvPicPr>
        <p:blipFill>
          <a:blip r:embed="rId2"/>
          <a:stretch/>
        </p:blipFill>
        <p:spPr>
          <a:xfrm>
            <a:off x="5786280" y="2693880"/>
            <a:ext cx="3138480" cy="3997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школьные работы\классный час\для презентаций\chel36.gif"/>
          <p:cNvPicPr/>
          <p:nvPr/>
        </p:nvPicPr>
        <p:blipFill>
          <a:blip r:embed="rId3"/>
          <a:stretch/>
        </p:blipFill>
        <p:spPr>
          <a:xfrm>
            <a:off x="357120" y="3786120"/>
            <a:ext cx="4818240" cy="2855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100008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и употреблении спиртных напитков (пива, вина, водки, коньяка, джина, рома, ликера и др.) содержащийся в них алкоголь начинает всасываться в кровь уже в ротовой полости. Однако большая его часть всасывается в тонком кишечнике. Алкоголь влияет на все системы организма, прежде всего на мозг.  «Сжиганием» алкоголя «занимается» печень. У печени есть так называемая «разрешающая способность» – она  окисляет всего  6 – 8 г алкоголя в 1 ч (20 г водки или кружку пива), преобразуя его в чрезвычайно опасный яд – ацетальдегид, который, в сою очередь, в организме здоровых людей моментально преобразуется в слабую уксусную кислоту и выводятся из н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152280" y="92160"/>
            <a:ext cx="8736120" cy="80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760" y="49968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Алкогольное опьянение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– состояние, возникающее в результате приема алкоголя и накопления его в организме.  Накопление происходит в тех случаях, когда печень не справляется  с окислением этилового спирта до уксусной кислоты и в организме накапливается большое количество яда (ацетальдегид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пьяница"/>
          <p:cNvPicPr/>
          <p:nvPr/>
        </p:nvPicPr>
        <p:blipFill>
          <a:blip r:embed="rId2"/>
          <a:stretch/>
        </p:blipFill>
        <p:spPr>
          <a:xfrm>
            <a:off x="3214800" y="2957400"/>
            <a:ext cx="5676840" cy="3676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1426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чальная стадия опьянения характеризуется легким возбуждением, повышенным  настроением, ощущением благополучия, радости. Человек испытывает легкое головокружение, ощущением тепла в теле, появляется самоуверенность, обидчив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2200320" y="231840"/>
            <a:ext cx="5376960" cy="81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2U45CA6RXE4ZCAPZPO67CAJ00IG7CAEPWB2BCAVFR9W3CAPLKXH1CA54O037CA05RX6ACAT673EDCAFKJJQHCA2M7U3SCACJ2M5TCA7ZSMPGCAM1JAYGCA1PROMXCA749ESWCA6ACVP7CA4EH4PKCAGV4GTO"/>
          <p:cNvPicPr/>
          <p:nvPr/>
        </p:nvPicPr>
        <p:blipFill>
          <a:blip r:embed="rId3"/>
          <a:stretch/>
        </p:blipFill>
        <p:spPr>
          <a:xfrm>
            <a:off x="5143680" y="3286080"/>
            <a:ext cx="3786120" cy="3357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D:\школьные работы\классный час\для презентаций\L32p04p01.jpg"/>
          <p:cNvPicPr/>
          <p:nvPr/>
        </p:nvPicPr>
        <p:blipFill>
          <a:blip r:embed="rId4"/>
          <a:stretch/>
        </p:blipFill>
        <p:spPr>
          <a:xfrm>
            <a:off x="357120" y="3286080"/>
            <a:ext cx="4429080" cy="3322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2840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мере  усиления опьянения психическое возбуждение  увеличивается: человек теряет чувство меры, такт, речь его становится  громкой. Опьяневший легко раздражается, проявляет агрессивность к окружающим, совершает антиобщественные поступки. Мышление его утрачивает последовательность, становится бессвязным. Наблюдается излишняя подвижность, пьяный поет слишком громко и бранится. Походка его становится шаткой, он плохо ориентируется в окружающем пространст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D:\школьные работы\классный час\для презентаций\L12p06p02.jpg"/>
          <p:cNvPicPr/>
          <p:nvPr/>
        </p:nvPicPr>
        <p:blipFill>
          <a:blip r:embed="rId2"/>
          <a:stretch/>
        </p:blipFill>
        <p:spPr>
          <a:xfrm>
            <a:off x="5286240" y="3929040"/>
            <a:ext cx="3524400" cy="264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S3IYCA4OXH2OCAPXZT8VCA0H8WA0CAQI278HCATGT1JRCAEW5DD7CARHJV8DCAESOU3ZCA2DGSF3CA6QCT8OCA6RMOCDCAU1XWRNCAU4AQS8CA2BKWV3CA2KU9P1CA7R7VMWCALFJLEQCAKPKY05CA0EXRC2"/>
          <p:cNvPicPr/>
          <p:nvPr/>
        </p:nvPicPr>
        <p:blipFill>
          <a:blip r:embed="rId3"/>
          <a:stretch/>
        </p:blipFill>
        <p:spPr>
          <a:xfrm>
            <a:off x="785880" y="4000680"/>
            <a:ext cx="3714840" cy="258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428760"/>
            <a:ext cx="82296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 сильном опьянении возникает рвота, непроизвольное мочеиспускание, слюнотечение, сонливость, сменяющаяся глубоким сном.  Человек засыпает в любом месте, в любой позе. Сон настолько глубок, что приближается к состоянию наркоза. Поэтому такое состояние рассматривается уже не как опьянение, а как начало острого алкогольного отравления, которое может закончиться смертельным исходом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D:\школьные работы\классный час\для презентаций\L32p07p01.jpg"/>
          <p:cNvPicPr/>
          <p:nvPr/>
        </p:nvPicPr>
        <p:blipFill>
          <a:blip r:embed="rId2"/>
          <a:stretch/>
        </p:blipFill>
        <p:spPr>
          <a:xfrm>
            <a:off x="4286160" y="3160800"/>
            <a:ext cx="4595760" cy="3448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D:\школьные работы\классный час\для презентаций\люди\5.1218470965.jpg"/>
          <p:cNvPicPr/>
          <p:nvPr/>
        </p:nvPicPr>
        <p:blipFill>
          <a:blip r:embed="rId3"/>
          <a:stretch/>
        </p:blipFill>
        <p:spPr>
          <a:xfrm>
            <a:off x="285840" y="3571920"/>
            <a:ext cx="3929040" cy="301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16:24Z</dcterms:created>
  <dc:creator>жежик</dc:creator>
  <dc:description/>
  <dc:language>en-US</dc:language>
  <cp:lastModifiedBy>User</cp:lastModifiedBy>
  <dcterms:modified xsi:type="dcterms:W3CDTF">2023-04-25T19:26:41Z</dcterms:modified>
  <cp:revision>112</cp:revision>
  <dc:subject/>
  <dc:title>Слайд 1</dc:title>
</cp:coreProperties>
</file>