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5.wmf" ContentType="image/x-wmf"/>
  <Override PartName="/ppt/media/image5.jpeg" ContentType="image/jpeg"/>
  <Override PartName="/ppt/media/image32.gif" ContentType="image/gif"/>
  <Override PartName="/ppt/media/image28.gif" ContentType="image/gif"/>
  <Override PartName="/ppt/media/image14.jpeg" ContentType="image/jpeg"/>
  <Override PartName="/ppt/media/image8.png" ContentType="image/png"/>
  <Override PartName="/ppt/media/image30.gif" ContentType="image/gif"/>
  <Override PartName="/ppt/media/image6.jpeg" ContentType="image/jpeg"/>
  <Override PartName="/ppt/media/image13.jpeg" ContentType="image/jpeg"/>
  <Override PartName="/ppt/media/image20.gif" ContentType="image/gif"/>
  <Override PartName="/ppt/media/image7.jpeg" ContentType="image/jpeg"/>
  <Override PartName="/ppt/media/image11.png" ContentType="image/png"/>
  <Override PartName="/ppt/media/image31.gif" ContentType="image/gif"/>
  <Override PartName="/ppt/media/image12.png" ContentType="image/png"/>
  <Override PartName="/ppt/media/image4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9.gif" ContentType="image/gif"/>
  <Override PartName="/ppt/media/image16.jpeg" ContentType="image/jpeg"/>
  <Override PartName="/ppt/media/image18.jpeg" ContentType="image/jpeg"/>
  <Override PartName="/ppt/media/image19.png" ContentType="image/png"/>
  <Override PartName="/ppt/media/image21.gif" ContentType="image/gif"/>
  <Override PartName="/ppt/media/image22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976-FDE6-4BD5-B60C-381E89DA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1E5-4D27-4CEA-8AE6-B7C864D4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B1F-56F2-40A9-9858-107DD6B9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D11-8246-4A94-BC87-E757338B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6A3C-01E1-4E25-8871-B812641C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F40F-8417-482D-8030-42426B52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C694-5412-4CB7-81E4-B0F8D134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5135-B0AD-4891-8B10-99AB0CE2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15EA-1806-4862-8D01-FE93BE54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5FA4-72CD-446C-95D2-9F285168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0653-D7A4-4F26-80BF-07BB1959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515-B448-4362-9B54-8DA52457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A981-F0F7-4C42-B767-40111F08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637B-302C-40A9-A293-5C71251F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0D99-7A04-4D05-88DC-6694306F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7FF7-CFCE-46B5-B991-BFF93702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04FF-78EA-429B-BFB2-6A1F0848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490-E2EB-4BB9-BAB3-F72CE552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DB7-293E-4B10-B17D-9B5E2F25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2C4-299E-4C66-BC9A-3A8D4231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E8B-CD6F-4FDA-B10F-BF58991A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577-CC0E-4C8F-878F-9C854F5F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36E-6465-49D4-B18F-25B54C37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EE7-A1B6-4649-992B-9E9FF9BC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D25D-5165-4F30-A28E-63747D02E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19E5-C643-431F-B6E2-A3F10FEFC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2"/>
          <a:stretch/>
        </p:blipFill>
        <p:spPr>
          <a:xfrm>
            <a:off x="-19080" y="103320"/>
            <a:ext cx="5780160" cy="2530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6"/>
          <p:cNvSpPr/>
          <p:nvPr/>
        </p:nvSpPr>
        <p:spPr>
          <a:xfrm flipH="1">
            <a:off x="1928880" y="3357720"/>
            <a:ext cx="1295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57120" y="442908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мертельная доза для годовалого ребёнка – 100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5500800" y="3357720"/>
            <a:ext cx="17287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929120" y="4357800"/>
            <a:ext cx="378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мертельная доза для подростка 12-13 ле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50 – 500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7" descr=""/>
          <p:cNvPicPr/>
          <p:nvPr/>
        </p:nvPicPr>
        <p:blipFill>
          <a:blip r:embed="rId2"/>
          <a:stretch/>
        </p:blipFill>
        <p:spPr>
          <a:xfrm>
            <a:off x="103320" y="317520"/>
            <a:ext cx="8991360" cy="1219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школьные работы\классный час\для презентаций\люди\дети\baby2401.gif"/>
          <p:cNvPicPr/>
          <p:nvPr/>
        </p:nvPicPr>
        <p:blipFill>
          <a:blip r:embed="rId3"/>
          <a:stretch/>
        </p:blipFill>
        <p:spPr>
          <a:xfrm>
            <a:off x="4714920" y="2071800"/>
            <a:ext cx="84780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D:\школьные работы\классный час\для презентаций\люди\дети\baby23.gif"/>
          <p:cNvPicPr/>
          <p:nvPr/>
        </p:nvPicPr>
        <p:blipFill>
          <a:blip r:embed="rId4"/>
          <a:stretch/>
        </p:blipFill>
        <p:spPr>
          <a:xfrm>
            <a:off x="3500280" y="2214720"/>
            <a:ext cx="1000440" cy="1957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6840" y="928440"/>
            <a:ext cx="7615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ая потеря памяти (от нескольких минут до нескольких дне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еское воздейств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оз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рдц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чен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желудочную желез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желудочно –  кишечный трак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Утяжеляется течением различных заболеваний, снижается сопротивление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Прямоугольник 3" descr=""/>
          <p:cNvPicPr/>
          <p:nvPr/>
        </p:nvPicPr>
        <p:blipFill>
          <a:blip r:embed="rId2"/>
          <a:stretch/>
        </p:blipFill>
        <p:spPr>
          <a:xfrm>
            <a:off x="1000080" y="92160"/>
            <a:ext cx="7631280" cy="80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школьные работы\классный час\для презентаций\разное\101иии.gif"/>
          <p:cNvPicPr/>
          <p:nvPr/>
        </p:nvPicPr>
        <p:blipFill>
          <a:blip r:embed="rId3"/>
          <a:stretch/>
        </p:blipFill>
        <p:spPr>
          <a:xfrm>
            <a:off x="2500200" y="1928880"/>
            <a:ext cx="2286000" cy="164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школьные работы\классный час\для презентаций\brain.gif"/>
          <p:cNvPicPr/>
          <p:nvPr/>
        </p:nvPicPr>
        <p:blipFill>
          <a:blip r:embed="rId4"/>
          <a:stretch/>
        </p:blipFill>
        <p:spPr>
          <a:xfrm>
            <a:off x="6286680" y="1571760"/>
            <a:ext cx="195228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:\школьные работы\классный час\для презентаций\HM00307_.WMF"/>
          <p:cNvPicPr/>
          <p:nvPr/>
        </p:nvPicPr>
        <p:blipFill>
          <a:blip r:embed="rId5"/>
          <a:stretch/>
        </p:blipFill>
        <p:spPr>
          <a:xfrm>
            <a:off x="6786720" y="4786200"/>
            <a:ext cx="2120760" cy="19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9000"/>
                            </p:stCondLst>
                            <p:childTnLst>
                              <p:par>
                                <p:cTn id="2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0717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е (от 2 лет) и чрезмерное употребление алкоголя вызывает физическую и психическую зависим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(возникает уже на ранних стадиях алкоголизма) – это потребность, характеризующаяся употреблением алкоголя. 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ет нормальное повед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роявлению безответственного отношения к семье, окружающим, учебе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Прямоугольник 3" descr=""/>
          <p:cNvPicPr/>
          <p:nvPr/>
        </p:nvPicPr>
        <p:blipFill>
          <a:blip r:embed="rId2"/>
          <a:stretch/>
        </p:blipFill>
        <p:spPr>
          <a:xfrm>
            <a:off x="2627280" y="158760"/>
            <a:ext cx="4048200" cy="81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D:\школьные работы\классный час\для презентаций\171.gif"/>
          <p:cNvPicPr/>
          <p:nvPr/>
        </p:nvPicPr>
        <p:blipFill>
          <a:blip r:embed="rId3"/>
          <a:stretch/>
        </p:blipFill>
        <p:spPr>
          <a:xfrm>
            <a:off x="714240" y="3143160"/>
            <a:ext cx="91440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D:\школьные работы\классный час\для презентаций\171.gif"/>
          <p:cNvPicPr/>
          <p:nvPr/>
        </p:nvPicPr>
        <p:blipFill>
          <a:blip r:embed="rId4"/>
          <a:stretch/>
        </p:blipFill>
        <p:spPr>
          <a:xfrm>
            <a:off x="714240" y="3571920"/>
            <a:ext cx="91440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D:\школьные работы\классный час\для презентаций\люди\51.gif"/>
          <p:cNvPicPr/>
          <p:nvPr/>
        </p:nvPicPr>
        <p:blipFill>
          <a:blip r:embed="rId5"/>
          <a:stretch/>
        </p:blipFill>
        <p:spPr>
          <a:xfrm>
            <a:off x="500040" y="4857840"/>
            <a:ext cx="2786040" cy="155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D:\школьные работы\классный час\для презентаций\люди\55.gif"/>
          <p:cNvPicPr/>
          <p:nvPr/>
        </p:nvPicPr>
        <p:blipFill>
          <a:blip r:embed="rId6"/>
          <a:stretch/>
        </p:blipFill>
        <p:spPr>
          <a:xfrm>
            <a:off x="5286240" y="4395960"/>
            <a:ext cx="3033720" cy="196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избежать  ситуаций, способствующих употреблению алкоголя, необходим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организовать свой досу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ся творчеством, физической культур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«духовные»потреб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отказу от употребления алкоголя в вежливой форме, которая не обидит окружающих, в т. ч. друз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D:\школьные работы\классный час\для презентаций\170.gif"/>
          <p:cNvPicPr/>
          <p:nvPr/>
        </p:nvPicPr>
        <p:blipFill>
          <a:blip r:embed="rId2"/>
          <a:stretch/>
        </p:blipFill>
        <p:spPr>
          <a:xfrm>
            <a:off x="642960" y="2643120"/>
            <a:ext cx="952560" cy="23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школьные работы\классный час\для презентаций\170.gif"/>
          <p:cNvPicPr/>
          <p:nvPr/>
        </p:nvPicPr>
        <p:blipFill>
          <a:blip r:embed="rId3"/>
          <a:stretch/>
        </p:blipFill>
        <p:spPr>
          <a:xfrm>
            <a:off x="642960" y="2214720"/>
            <a:ext cx="952560" cy="237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D:\школьные работы\классный час\для презентаций\170.gif"/>
          <p:cNvPicPr/>
          <p:nvPr/>
        </p:nvPicPr>
        <p:blipFill>
          <a:blip r:embed="rId4"/>
          <a:stretch/>
        </p:blipFill>
        <p:spPr>
          <a:xfrm>
            <a:off x="642960" y="1785960"/>
            <a:ext cx="952560" cy="237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:\школьные работы\классный час\для презентаций\170.gif"/>
          <p:cNvPicPr/>
          <p:nvPr/>
        </p:nvPicPr>
        <p:blipFill>
          <a:blip r:embed="rId5"/>
          <a:stretch/>
        </p:blipFill>
        <p:spPr>
          <a:xfrm>
            <a:off x="642960" y="1357200"/>
            <a:ext cx="952560" cy="238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D:\школьные работы\классный час\для презентаций\Sport\24.gif"/>
          <p:cNvPicPr/>
          <p:nvPr/>
        </p:nvPicPr>
        <p:blipFill>
          <a:blip r:embed="rId6"/>
          <a:stretch/>
        </p:blipFill>
        <p:spPr>
          <a:xfrm>
            <a:off x="5072040" y="3559320"/>
            <a:ext cx="3738600" cy="3036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D:\школьные работы\классный час\для презентаций\люди\68.gif"/>
          <p:cNvPicPr/>
          <p:nvPr/>
        </p:nvPicPr>
        <p:blipFill>
          <a:blip r:embed="rId7"/>
          <a:stretch/>
        </p:blipFill>
        <p:spPr>
          <a:xfrm>
            <a:off x="2357280" y="3571920"/>
            <a:ext cx="2000520" cy="292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429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Пьянство есть упражн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в безум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Пифаг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D:\школьные работы\классный час\для презентаций\882c665b64effdc059f7945889f17b74-2-1.jpg"/>
          <p:cNvPicPr/>
          <p:nvPr/>
        </p:nvPicPr>
        <p:blipFill>
          <a:blip r:embed="rId2"/>
          <a:stretch/>
        </p:blipFill>
        <p:spPr>
          <a:xfrm>
            <a:off x="357120" y="1822320"/>
            <a:ext cx="6357960" cy="47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2895480" y="525780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e4"/>
                </a:solidFill>
                <a:latin typeface="Times New Roman"/>
              </a:rPr>
              <a:t>Человеческ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8a"/>
                </a:solidFill>
                <a:latin typeface="Times New Roman"/>
              </a:rPr>
              <a:t>по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V="1">
            <a:off x="4648320" y="4643280"/>
            <a:ext cx="66600" cy="76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V="1">
            <a:off x="6400800" y="5572080"/>
            <a:ext cx="67140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H="1" flipV="1">
            <a:off x="2214360" y="5500800"/>
            <a:ext cx="680760" cy="51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80880" y="4800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200400" y="3962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Алк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40080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D:\классный час\здоровое питание\ЛЮДИ\11853384584589215409084.jpg"/>
          <p:cNvPicPr/>
          <p:nvPr/>
        </p:nvPicPr>
        <p:blipFill>
          <a:blip r:embed="rId2"/>
          <a:stretch/>
        </p:blipFill>
        <p:spPr>
          <a:xfrm>
            <a:off x="3357720" y="1571760"/>
            <a:ext cx="2428560" cy="242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D:\классный час\здоровое питание\1196534202_fa08f8e992305d9290392d87aa276419_full.jpg"/>
          <p:cNvPicPr/>
          <p:nvPr/>
        </p:nvPicPr>
        <p:blipFill>
          <a:blip r:embed="rId3"/>
          <a:stretch/>
        </p:blipFill>
        <p:spPr>
          <a:xfrm>
            <a:off x="5929200" y="2610000"/>
            <a:ext cx="3000600" cy="1995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школьные работы\классный час\курение\картинки\news477e2408c3450.jpg"/>
          <p:cNvPicPr/>
          <p:nvPr/>
        </p:nvPicPr>
        <p:blipFill>
          <a:blip r:embed="rId4"/>
          <a:stretch/>
        </p:blipFill>
        <p:spPr>
          <a:xfrm>
            <a:off x="285840" y="2786040"/>
            <a:ext cx="2587680" cy="1919160"/>
          </a:xfrm>
          <a:prstGeom prst="rect">
            <a:avLst/>
          </a:prstGeom>
          <a:ln w="0">
            <a:noFill/>
          </a:ln>
        </p:spPr>
      </p:pic>
      <p:sp>
        <p:nvSpPr>
          <p:cNvPr id="95" name="Содержимое 2"/>
          <p:cNvSpPr/>
          <p:nvPr/>
        </p:nvSpPr>
        <p:spPr>
          <a:xfrm>
            <a:off x="285840" y="214200"/>
            <a:ext cx="82296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Здоровье – это бесценный дар. Берегите здоровье смол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мни, что для здоровья вред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57120" y="35676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Алкоголь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– это этиловый спирт (бесцветная, летучая жидкость с характерным запахом и вкусом). Он используется в качестве растворителя, антифриза, дезинфицирующего  средства, а также для поднятия настроения, обладает наркотическим действием, но официально не относится к наркоти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Мои рисунки\tn_gallery_2__67917.png"/>
          <p:cNvPicPr/>
          <p:nvPr/>
        </p:nvPicPr>
        <p:blipFill>
          <a:blip r:embed="rId2"/>
          <a:stretch/>
        </p:blipFill>
        <p:spPr>
          <a:xfrm>
            <a:off x="5786280" y="2693880"/>
            <a:ext cx="3138480" cy="3997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школьные работы\классный час\для презентаций\chel36.gif"/>
          <p:cNvPicPr/>
          <p:nvPr/>
        </p:nvPicPr>
        <p:blipFill>
          <a:blip r:embed="rId3"/>
          <a:stretch/>
        </p:blipFill>
        <p:spPr>
          <a:xfrm>
            <a:off x="357120" y="3786120"/>
            <a:ext cx="4818240" cy="2855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100008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и употреблении спиртных напитков (пива, вина, водки, коньяка, джина, рома, ликера и др.) содержащийся в них алкоголь начинает всасываться в кровь уже в ротовой полости. Однако большая его часть всасывается в тонком кишечнике. Алкоголь влияет на все системы организма, прежде всего на мозг.  «Сжиганием» алкоголя «занимается» печень. У печени есть так называемая «разрешающая способность» – она  окисляет всего  6 – 8 г алкоголя в 1 ч (20 г водки или кружку пива), преобразуя его в чрезвычайно опасный яд – ацетальдегид, который, в сою очередь, в организме здоровых людей моментально преобразуется в слабую уксусную кислоту и выводятся из н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152280" y="92160"/>
            <a:ext cx="8736120" cy="80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760" y="49968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Алкогольное опьянение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– состояние, возникающее в результате приема алкоголя и накопления его в организме.  Накопление происходит в тех случаях, когда печень не справляется  с окислением этилового спирта до уксусной кислоты и в организме накапливается большое количество яда (ацетальдегид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пьяница"/>
          <p:cNvPicPr/>
          <p:nvPr/>
        </p:nvPicPr>
        <p:blipFill>
          <a:blip r:embed="rId2"/>
          <a:stretch/>
        </p:blipFill>
        <p:spPr>
          <a:xfrm>
            <a:off x="3214800" y="2957400"/>
            <a:ext cx="5676840" cy="367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1426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чальная стадия опьянения характеризуется легким возбуждением, повышенным  настроением, ощущением благополучия, радости. Человек испытывает легкое головокружение, ощущением тепла в теле, появляется самоуверенность, обидчив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200320" y="231840"/>
            <a:ext cx="5376960" cy="81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2U45CA6RXE4ZCAPZPO67CAJ00IG7CAEPWB2BCAVFR9W3CAPLKXH1CA54O037CA05RX6ACAT673EDCAFKJJQHCA2M7U3SCACJ2M5TCA7ZSMPGCAM1JAYGCA1PROMXCA749ESWCA6ACVP7CA4EH4PKCAGV4GTO"/>
          <p:cNvPicPr/>
          <p:nvPr/>
        </p:nvPicPr>
        <p:blipFill>
          <a:blip r:embed="rId3"/>
          <a:stretch/>
        </p:blipFill>
        <p:spPr>
          <a:xfrm>
            <a:off x="5143680" y="3286080"/>
            <a:ext cx="3786120" cy="3357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D:\школьные работы\классный час\для презентаций\L32p04p01.jpg"/>
          <p:cNvPicPr/>
          <p:nvPr/>
        </p:nvPicPr>
        <p:blipFill>
          <a:blip r:embed="rId4"/>
          <a:stretch/>
        </p:blipFill>
        <p:spPr>
          <a:xfrm>
            <a:off x="357120" y="3286080"/>
            <a:ext cx="4429080" cy="332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40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мере  усиления опьянения психическое возбуждение  увеличивается: человек теряет чувство меры, такт, речь его становится  громкой. Опьяневший легко раздражается, проявляет агрессивность к окружающим, совершает антиобщественные поступки. Мышление его утрачивает последовательность, становится бессвязным. Наблюдается излишняя подвижность, пьяный поет слишком громко и бранится. Походка его становится шаткой, он плохо ориентируется в окружающе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D:\школьные работы\классный час\для презентаций\L12p06p02.jpg"/>
          <p:cNvPicPr/>
          <p:nvPr/>
        </p:nvPicPr>
        <p:blipFill>
          <a:blip r:embed="rId2"/>
          <a:stretch/>
        </p:blipFill>
        <p:spPr>
          <a:xfrm>
            <a:off x="5286240" y="392904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S3IYCA4OXH2OCAPXZT8VCA0H8WA0CAQI278HCATGT1JRCAEW5DD7CARHJV8DCAESOU3ZCA2DGSF3CA6QCT8OCA6RMOCDCAU1XWRNCAU4AQS8CA2BKWV3CA2KU9P1CA7R7VMWCALFJLEQCAKPKY05CA0EXRC2"/>
          <p:cNvPicPr/>
          <p:nvPr/>
        </p:nvPicPr>
        <p:blipFill>
          <a:blip r:embed="rId3"/>
          <a:stretch/>
        </p:blipFill>
        <p:spPr>
          <a:xfrm>
            <a:off x="785880" y="4000680"/>
            <a:ext cx="3714840" cy="258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428760"/>
            <a:ext cx="82296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сильном опьянении возникает рвота, непроизвольное мочеиспускание, слюнотечение, сонливость, сменяющаяся глубоким сном.  Человек засыпает в любом месте, в любой позе. Сон настолько глубок, что приближается к состоянию наркоза. Поэтому такое состояние рассматривается уже не как опьянение, а как начало острого алкогольного отравления, которое может закончиться смертельным исходом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D:\школьные работы\классный час\для презентаций\L32p07p01.jpg"/>
          <p:cNvPicPr/>
          <p:nvPr/>
        </p:nvPicPr>
        <p:blipFill>
          <a:blip r:embed="rId2"/>
          <a:stretch/>
        </p:blipFill>
        <p:spPr>
          <a:xfrm>
            <a:off x="4286160" y="3160800"/>
            <a:ext cx="4595760" cy="3448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школьные работы\классный час\для презентаций\люди\5.1218470965.jpg"/>
          <p:cNvPicPr/>
          <p:nvPr/>
        </p:nvPicPr>
        <p:blipFill>
          <a:blip r:embed="rId3"/>
          <a:stretch/>
        </p:blipFill>
        <p:spPr>
          <a:xfrm>
            <a:off x="285840" y="3571920"/>
            <a:ext cx="3929040" cy="301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16:24Z</dcterms:created>
  <dc:creator>жежик</dc:creator>
  <dc:description/>
  <dc:language>en-US</dc:language>
  <cp:lastModifiedBy>User</cp:lastModifiedBy>
  <dcterms:modified xsi:type="dcterms:W3CDTF">2023-04-25T19:26:41Z</dcterms:modified>
  <cp:revision>112</cp:revision>
  <dc:subject/>
  <dc:title>Слайд 1</dc:title>
</cp:coreProperties>
</file>