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410-F2B0-4931-9E24-2F930C6B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E86-61DE-480A-8579-6E46E85F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F41-190E-4DC0-88F1-4B16588D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56C-352B-43C8-AC4E-96A4DA0C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1946-4627-4D24-AA19-EB45E6B7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042C-8DE5-4587-BAF4-D40A132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A5DE-609D-489D-9BCE-26433E2E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031A-EB92-47F9-A5AB-DCDC48C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15F-7312-41B7-8D5E-C9B3A98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9F4-6BD2-4D5B-B3E5-C66E43A3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3A93-F085-4B4A-A5A4-08D34084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205-A6A7-4E3E-A676-5D0480D1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45F2-8522-4E3B-9201-AD7295D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AF10-3B4E-49FB-9CE6-ED6DFC0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FD8-86C4-484F-80F0-5DCBF973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387E-A17E-451B-8F31-14D138E6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0731-6A8E-41CD-ADA5-7AD93DF4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A799-DEE3-4D96-8398-6AE8539D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0F45-B05B-4798-BAFA-697762B7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3A06-D474-4B71-A1C4-438BA505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BC42-0E76-49CD-98A7-A4769F3F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4BBA-7AC0-452D-BB56-B6CB3298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F5F-DE67-4C96-B40C-A439CC1A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4189-8BCA-4082-B682-7AFEBA1A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8871-D359-4101-8048-C1565E5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699F-EED3-40FA-AF31-76608B6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9CB7-8653-4D5E-8FEB-24DB3A0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260E-D175-4D5B-8B3A-E721944A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12CE-E6D0-4938-B5EB-E1986124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148F-2CF8-4020-B10C-0167A66B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5AE7-BCD5-4249-87C7-97B03057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7624-E841-4D3F-B0B8-3E2D7500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7476-8A51-4B56-AF17-E7C7AA2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EEA-4DC2-4FB9-A8C5-15000A96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EF84-2F33-4535-9C07-021656AE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1D17-5E14-4D48-997A-A69F074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83B2-67EB-45B3-A73E-D0D1657F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781F-85BC-4170-A18B-F9CC043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FB75-B1EE-4CFA-B5FD-09A3C178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53D3-8C6B-4E21-B33C-E8AD6C5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31BE-2B93-4785-AAE9-4A520EA1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AE76-7115-49C6-97E3-6F5CE711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5841C-3CF2-4ADE-8B2D-4C50BB8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D1A-5A13-4020-836C-B6FF8C8C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2CD-D30D-4BA2-81E8-CE06DFE8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5DF-A2ED-4724-844C-71100FCF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94D-1B23-46CD-A94E-C006A05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3AE-4B98-4411-8CCC-4B8B445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6B47-11B2-42B6-848C-D77A77436A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EB2F-2675-4D3D-A4E4-82647E31EB9A}" type="slidenum"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988-8CDE-4F1C-A7E4-5BCD36E59D4F}" type="slidenum"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618-C687-412F-BC04-4717807280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311040" y="493560"/>
            <a:ext cx="8278920" cy="156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s://s1.1zoom.ru/big3/180/Barrel_Drinks_Beer_Wine_463680.jpg"/>
          <p:cNvPicPr/>
          <p:nvPr/>
        </p:nvPicPr>
        <p:blipFill>
          <a:blip r:embed="rId3"/>
          <a:stretch/>
        </p:blipFill>
        <p:spPr>
          <a:xfrm>
            <a:off x="928800" y="3105000"/>
            <a:ext cx="3929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ПРИЧИНЫ УПОТРЕБЛЕНИЯ АЛКОГОЛЯ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читается в обиходе, что спирт является хорошим средством для согревания организма Бытующее среди людей убеждение: алкоголь возбуждает, взбадривает, улучшает настроение, самочувствие, делает беседу более оживленной и интересной Существует мнение, что алкоголь является высококалорийным продуктом, быстро обеспечивающим энергетические потребности организм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psorium.ru/wp-content/uploads/2018/09/1460106038_alkogol-posle-insulta-zapreschen.jpg"/>
          <p:cNvPicPr/>
          <p:nvPr/>
        </p:nvPicPr>
        <p:blipFill>
          <a:blip r:embed="rId2"/>
          <a:stretch/>
        </p:blipFill>
        <p:spPr>
          <a:xfrm>
            <a:off x="714240" y="4286160"/>
            <a:ext cx="2256120" cy="230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catalog.mista.ru/upload/iblock/975/97502b72f9d3bd66e5ab72557515ad97.jpeg"/>
          <p:cNvPicPr/>
          <p:nvPr/>
        </p:nvPicPr>
        <p:blipFill>
          <a:blip r:embed="rId3"/>
          <a:stretch/>
        </p:blipFill>
        <p:spPr>
          <a:xfrm>
            <a:off x="3357720" y="4429080"/>
            <a:ext cx="2608200" cy="1959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s://shock.ee/upload/news/9f5/9f51d9e5dd76097283ab06fb282218be.jpg"/>
          <p:cNvPicPr/>
          <p:nvPr/>
        </p:nvPicPr>
        <p:blipFill>
          <a:blip r:embed="rId4"/>
          <a:stretch/>
        </p:blipFill>
        <p:spPr>
          <a:xfrm>
            <a:off x="6357960" y="4572000"/>
            <a:ext cx="23446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Мотивы употребления алкоголя подростками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рвая группа - желание следовать традициям, испытывать новые ощущения, любопытство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торая группа - формируют пьянство как тип поведения правонарушителей. В число этих мотивов входит стремление избавиться от скуки. Наконец, некоторые подростки потребляют спиртное, чтобы снять с себя напряжение, освободиться от неприятных пережива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s://cs9.pikabu.ru/post_img/2017/03/11/5/og_og_1489213432290991476.jpg"/>
          <p:cNvPicPr/>
          <p:nvPr/>
        </p:nvPicPr>
        <p:blipFill>
          <a:blip r:embed="rId2"/>
          <a:stretch/>
        </p:blipFill>
        <p:spPr>
          <a:xfrm>
            <a:off x="500040" y="4572000"/>
            <a:ext cx="3273480" cy="1712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s://avatars.mds.yandex.net/get-pdb/881477/8da43b74-3ff4-40f4-8b80-c4e4e79858e5/s1200?webp=false"/>
          <p:cNvPicPr/>
          <p:nvPr/>
        </p:nvPicPr>
        <p:blipFill>
          <a:blip r:embed="rId3"/>
          <a:stretch/>
        </p:blipFill>
        <p:spPr>
          <a:xfrm>
            <a:off x="5429160" y="4214880"/>
            <a:ext cx="307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ВЛИЯНИЕ АЛКОГОЛЯ НА ОРГАНИЗМ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5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Нет ни одного органа в человеческом теле, который бы не подвергался разрушительному действию алкого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Алкоголь пагубно влияет на: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Центральную нервную сис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ечен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ердечно-сосудистую сис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Репродуктивную систему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s://i1.wp.com/interesnosti.info/wp-content/uploads/2016/02/Alkogol-ne-razrushaem-mozgovyie-kletki.jpg?resize=600%2C400"/>
          <p:cNvPicPr/>
          <p:nvPr/>
        </p:nvPicPr>
        <p:blipFill>
          <a:blip r:embed="rId2"/>
          <a:stretch/>
        </p:blipFill>
        <p:spPr>
          <a:xfrm>
            <a:off x="500040" y="4714920"/>
            <a:ext cx="2606760" cy="1738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fb.ru/misc/i/gallery/18979/2480388.jpg"/>
          <p:cNvPicPr/>
          <p:nvPr/>
        </p:nvPicPr>
        <p:blipFill>
          <a:blip r:embed="rId3"/>
          <a:stretch/>
        </p:blipFill>
        <p:spPr>
          <a:xfrm>
            <a:off x="3214800" y="4572000"/>
            <a:ext cx="2512800" cy="1962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https://www.amethystrecovery.org/wp-content/uploads/2018/03/shutterstock_653222047-960x640.jpg"/>
          <p:cNvPicPr/>
          <p:nvPr/>
        </p:nvPicPr>
        <p:blipFill>
          <a:blip r:embed="rId4"/>
          <a:stretch/>
        </p:blipFill>
        <p:spPr>
          <a:xfrm>
            <a:off x="6072120" y="4572000"/>
            <a:ext cx="28209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57120" y="21420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Нарушается белковый и углеродный обмен, синтез витаминов и ферментов. Спиртные напитки"разъедают" слизистую оболочку пищевода, желудка, нарушают секрецию и состав желудочного сока , что затрудняет процесс пищеварения и, в конечном счете, неблагоприятно сказывается на росте и развитии подрост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Таким образом, алкоголь ослабляет организм, тормозит формирование и созревание его органов и систем, а в некоторых случаях, и вовсе останавливает развитие некоторых функций высшей нервной систем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роме того, употребление алкогольных напитков подростками значительно быстрее, чем у взрослых, ведет к формированию у них алкоголиз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slovo-nashe.ru/wp-content/uploads/2017/11/70832481.png"/>
          <p:cNvPicPr/>
          <p:nvPr/>
        </p:nvPicPr>
        <p:blipFill>
          <a:blip r:embed="rId2"/>
          <a:stretch/>
        </p:blipFill>
        <p:spPr>
          <a:xfrm>
            <a:off x="857160" y="32148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www.dokshicy.info/doska/jpg/1486758341.jpeg"/>
          <p:cNvPicPr/>
          <p:nvPr/>
        </p:nvPicPr>
        <p:blipFill>
          <a:blip r:embed="rId3"/>
          <a:stretch/>
        </p:blipFill>
        <p:spPr>
          <a:xfrm>
            <a:off x="4071960" y="3714840"/>
            <a:ext cx="43578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85840"/>
            <a:ext cx="8643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опав в организм, он достаточно медленно (со скоростью 0,1 г на 1 кг массы тела в час) расщепляется в печени. И только 10 процентов от общего количества принятого алкоголя выводится из организма в неизменном вид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Токсическое воздействие алкоголя прежде всего сказывается на деятельности нервной системы. Если содержание алкоголя в крови принять за 1 (единицу), то в печени оно будет равно 1,45 , а в головном мозге - 1,7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аже небольшие дозы алкоголя влияют на обмен в нервной ткани, передачу нервных импульсов В подростковом возрасте мозговая ткань беднее фосфором, богаче водой, находится в стадии структурного и функционального совершенствования, поэтому алкоголь особенно опасен для не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http://socmedia.enisey.tv/static/uploaded/images/publications/image_single/base/Trezvie_pyatnici3.jpg"/>
          <p:cNvPicPr/>
          <p:nvPr/>
        </p:nvPicPr>
        <p:blipFill>
          <a:blip r:embed="rId2"/>
          <a:stretch/>
        </p:blipFill>
        <p:spPr>
          <a:xfrm>
            <a:off x="285840" y="3286080"/>
            <a:ext cx="5943600" cy="185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itd2.mycdn.me/image?id=837939083426&amp;t=20&amp;plc=WEB&amp;tkn=*kJY5-7IQq3OhyGi7irM9MDSlKzo"/>
          <p:cNvPicPr/>
          <p:nvPr/>
        </p:nvPicPr>
        <p:blipFill>
          <a:blip r:embed="rId3"/>
          <a:stretch/>
        </p:blipFill>
        <p:spPr>
          <a:xfrm>
            <a:off x="6429240" y="4286160"/>
            <a:ext cx="25005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АЛКОГОЛИЗМ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85480" y="1785600"/>
            <a:ext cx="378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чальная фаза: опьянение с выпадением памяти, «затмени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ритическая фаза: утрата контроля над собой после первого же глотка алкогол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Хроническая фаза: ежедневное похмелье, распад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s://imhoreview.com/wp-content/uploads/2018/07/alconex_2-1120x680.jpg"/>
          <p:cNvPicPr/>
          <p:nvPr/>
        </p:nvPicPr>
        <p:blipFill>
          <a:blip r:embed="rId2"/>
          <a:stretch/>
        </p:blipFill>
        <p:spPr>
          <a:xfrm>
            <a:off x="4786200" y="1714680"/>
            <a:ext cx="3571920" cy="216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s://media.elitsy.ru/wp-content/uploads/2017/09/138176329.jpg"/>
          <p:cNvPicPr/>
          <p:nvPr/>
        </p:nvPicPr>
        <p:blipFill>
          <a:blip r:embed="rId3"/>
          <a:stretch/>
        </p:blipFill>
        <p:spPr>
          <a:xfrm>
            <a:off x="5214960" y="4214880"/>
            <a:ext cx="27860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Каждый подросток должен знать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357440" y="1935000"/>
            <a:ext cx="43290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аже однократные употребления спиртного могут иметь самые серьезные последств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Употребление алкоголя оказывает буквально опустошающее воздействие на психику подростка. При этом задерживается не только развитие высших форм мышления, но и утрачиваются уже развившиеся способ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торой "мишенью" алкоголя является печень. Если скорость поступления алкоголя в клетки печени выше скорости его распада, то происходит накопление алкоголя, ведущее к поражению клеток печени. развивается цирроз печен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https://pp.userapi.com/c844216/v844216301/12120e/kaZrhtGv3CA.jpg"/>
          <p:cNvPicPr/>
          <p:nvPr/>
        </p:nvPicPr>
        <p:blipFill>
          <a:blip r:embed="rId2"/>
          <a:stretch/>
        </p:blipFill>
        <p:spPr>
          <a:xfrm>
            <a:off x="928800" y="1928880"/>
            <a:ext cx="2982960" cy="199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s://image.freepik.com/free-photo/a-drunk-woman-with-a-bottle-of-wine-depressive-girl-alcoholics_8119-1258.jpg"/>
          <p:cNvPicPr/>
          <p:nvPr/>
        </p:nvPicPr>
        <p:blipFill>
          <a:blip r:embed="rId3"/>
          <a:stretch/>
        </p:blipFill>
        <p:spPr>
          <a:xfrm>
            <a:off x="928800" y="4286160"/>
            <a:ext cx="29289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291960"/>
            <a:ext cx="8321760" cy="161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iknigi.net/books_files/online_html/96964/i_077.jpg"/>
          <p:cNvPicPr/>
          <p:nvPr/>
        </p:nvPicPr>
        <p:blipFill>
          <a:blip r:embed="rId3"/>
          <a:stretch/>
        </p:blipFill>
        <p:spPr>
          <a:xfrm>
            <a:off x="1214280" y="1928880"/>
            <a:ext cx="7000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5T17:06:50Z</dcterms:created>
  <dc:creator>777</dc:creator>
  <dc:description/>
  <dc:language>en-US</dc:language>
  <cp:lastModifiedBy>User</cp:lastModifiedBy>
  <dcterms:modified xsi:type="dcterms:W3CDTF">2023-04-25T19:32:23Z</dcterms:modified>
  <cp:revision>13</cp:revision>
  <dc:subject/>
  <dc:title>УПОТРЕБЛЕНИЕ АЛКОГОЛЯ</dc:title>
</cp:coreProperties>
</file>