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30A-2B7C-4ACC-A9D1-3A6BE642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0DD-102C-480B-891D-670BD79F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48C-112D-461B-9624-07986507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BF1-6D01-4618-A381-83E5BDF6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FC4F-8155-4BD5-9A92-C1B2E3F1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B5C-66D2-4EA8-8090-172536A0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1998-84BF-4870-9632-6596190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1CB0-2F9E-4BC6-9D19-F847C38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70CD-9A23-44BF-8132-569E873F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ACAC-D94B-4698-8377-4EA4B95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86A5-6C94-44AD-8DB6-5811CDA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7B6-A920-4C4A-A1D5-1F9DDFD1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F93-7D1D-46CD-8328-3E5D3FA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2528-6C46-4F15-AE63-6122CDB3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4877-E8B9-4BC0-A203-3651353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B5B6-EDCC-41A6-B9F5-5D981C27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677A-D672-4639-BE00-7A714F7B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20F9-B4FB-4A81-AC55-E059DAF9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449D-888F-46A9-81E7-EBFEC20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6E12-BA08-4AF3-83B4-867FAD08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D642-2908-461A-808E-D278BF7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E52D-FC27-4358-AF1F-D9CB28C8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70C-11C1-49B4-85A7-7A9CE076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1041-1E51-4278-8142-028BB76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E700-5D5F-4686-9ED0-99823C3B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9306-A724-4CE0-91F4-10759CB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1A47-447B-49A9-B994-7E67E62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11D4-57D7-47D6-9EEA-B432D6D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250C-D85A-43C5-9A4F-1BECDCCE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456E-F480-4721-BCFD-194FCDC8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CAE9-1B39-4D81-929F-33EB9BD3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8C0F-66C8-4326-AEF0-4F13179B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DC0D-E4F7-4F4A-AF0B-E71AA9F2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C57-4C2A-4427-AC7D-45C23A3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93DA-E0E2-4478-90F1-CA93C3D0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CE98-3C7B-4D84-B7F8-0B2FABCA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AD0E6-4541-4F7A-AF27-C386C883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C2EF-30F5-469C-99D5-8A1B190A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FF13-C5CF-4679-A4BC-96B42DB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F9AA-8264-4E6B-81E6-422DF274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65111-ACA4-49C1-BE51-4ED9570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01A8-974B-45D1-8689-CF161A79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96F4-7E64-437C-893C-51C4D182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0C2-5E23-45DE-B202-A7E89970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70D-B239-4623-86E9-1A3AC90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011-1F32-4C1A-B945-789541EF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002-1231-4DBF-861F-576E3C8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B28-7765-47FB-80B5-7214771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DE4-2E05-4443-A528-F7819DFFD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8E2F-9B1A-47FB-A75D-DE0C065E6395}" type="slidenum"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ded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4D9E-BAC9-409F-BA17-F023E1FF2F5D}" type="slidenum">
              <a:rPr b="0" lang="ru-RU" sz="1200" spc="-1" strike="noStrike">
                <a:solidFill>
                  <a:srgbClr val="eded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F91-63E0-4A6C-A127-4EEBC8EA43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311040" y="493560"/>
            <a:ext cx="8278920" cy="156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s://s1.1zoom.ru/big3/180/Barrel_Drinks_Beer_Wine_463680.jpg"/>
          <p:cNvPicPr/>
          <p:nvPr/>
        </p:nvPicPr>
        <p:blipFill>
          <a:blip r:embed="rId3"/>
          <a:stretch/>
        </p:blipFill>
        <p:spPr>
          <a:xfrm>
            <a:off x="928800" y="3105000"/>
            <a:ext cx="3929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ПРИЧИНЫ УПОТРЕБЛЕНИЯ АЛКОГОЛЯ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читается в обиходе, что спирт является хорошим средством для согревания организма Бытующее среди людей убеждение: алкоголь возбуждает, взбадривает, улучшает настроение, самочувствие, делает беседу более оживленной и интересной Существует мнение, что алкоголь является высококалорийным продуктом, быстро обеспечивающим энергетические потребности организм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psorium.ru/wp-content/uploads/2018/09/1460106038_alkogol-posle-insulta-zapreschen.jpg"/>
          <p:cNvPicPr/>
          <p:nvPr/>
        </p:nvPicPr>
        <p:blipFill>
          <a:blip r:embed="rId2"/>
          <a:stretch/>
        </p:blipFill>
        <p:spPr>
          <a:xfrm>
            <a:off x="714240" y="4286160"/>
            <a:ext cx="2256120" cy="230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catalog.mista.ru/upload/iblock/975/97502b72f9d3bd66e5ab72557515ad97.jpeg"/>
          <p:cNvPicPr/>
          <p:nvPr/>
        </p:nvPicPr>
        <p:blipFill>
          <a:blip r:embed="rId3"/>
          <a:stretch/>
        </p:blipFill>
        <p:spPr>
          <a:xfrm>
            <a:off x="3357720" y="4429080"/>
            <a:ext cx="2608200" cy="1959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s://shock.ee/upload/news/9f5/9f51d9e5dd76097283ab06fb282218be.jpg"/>
          <p:cNvPicPr/>
          <p:nvPr/>
        </p:nvPicPr>
        <p:blipFill>
          <a:blip r:embed="rId4"/>
          <a:stretch/>
        </p:blipFill>
        <p:spPr>
          <a:xfrm>
            <a:off x="6357960" y="4572000"/>
            <a:ext cx="23446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Мотивы употребления алкоголя подростками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рвая группа - желание следовать традициям, испытывать новые ощущения, любопытство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торая группа - формируют пьянство как тип поведения правонарушителей. В число этих мотивов входит стремление избавиться от скуки. Наконец, некоторые подростки потребляют спиртное, чтобы снять с себя напряжение, освободиться от неприятных пережива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s://cs9.pikabu.ru/post_img/2017/03/11/5/og_og_1489213432290991476.jpg"/>
          <p:cNvPicPr/>
          <p:nvPr/>
        </p:nvPicPr>
        <p:blipFill>
          <a:blip r:embed="rId2"/>
          <a:stretch/>
        </p:blipFill>
        <p:spPr>
          <a:xfrm>
            <a:off x="500040" y="4572000"/>
            <a:ext cx="3273480" cy="1712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s://avatars.mds.yandex.net/get-pdb/881477/8da43b74-3ff4-40f4-8b80-c4e4e79858e5/s1200?webp=false"/>
          <p:cNvPicPr/>
          <p:nvPr/>
        </p:nvPicPr>
        <p:blipFill>
          <a:blip r:embed="rId3"/>
          <a:stretch/>
        </p:blipFill>
        <p:spPr>
          <a:xfrm>
            <a:off x="5429160" y="4214880"/>
            <a:ext cx="307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ВЛИЯНИЕ АЛКОГОЛЯ НА ОРГАНИЗМ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5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Нет ни одного органа в человеческом теле, который бы не подвергался разрушительному действию алкого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Алкоголь пагубно влияет на: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Центральную нервную сис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ечен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ердечно-сосудистую сис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Репродуктивную систему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s://i1.wp.com/interesnosti.info/wp-content/uploads/2016/02/Alkogol-ne-razrushaem-mozgovyie-kletki.jpg?resize=600%2C400"/>
          <p:cNvPicPr/>
          <p:nvPr/>
        </p:nvPicPr>
        <p:blipFill>
          <a:blip r:embed="rId2"/>
          <a:stretch/>
        </p:blipFill>
        <p:spPr>
          <a:xfrm>
            <a:off x="500040" y="4714920"/>
            <a:ext cx="2606760" cy="1738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fb.ru/misc/i/gallery/18979/2480388.jpg"/>
          <p:cNvPicPr/>
          <p:nvPr/>
        </p:nvPicPr>
        <p:blipFill>
          <a:blip r:embed="rId3"/>
          <a:stretch/>
        </p:blipFill>
        <p:spPr>
          <a:xfrm>
            <a:off x="3214800" y="4572000"/>
            <a:ext cx="2512800" cy="1962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https://www.amethystrecovery.org/wp-content/uploads/2018/03/shutterstock_653222047-960x640.jpg"/>
          <p:cNvPicPr/>
          <p:nvPr/>
        </p:nvPicPr>
        <p:blipFill>
          <a:blip r:embed="rId4"/>
          <a:stretch/>
        </p:blipFill>
        <p:spPr>
          <a:xfrm>
            <a:off x="6072120" y="4572000"/>
            <a:ext cx="28209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57120" y="21420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Нарушается белковый и углеродный обмен, синтез витаминов и ферментов. Спиртные напитки"разъедают" слизистую оболочку пищевода, желудка, нарушают секрецию и состав желудочного сока , что затрудняет процесс пищеварения и, в конечном счете, неблагоприятно сказывается на росте и развитии подрост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Таким образом, алкоголь ослабляет организм, тормозит формирование и созревание его органов и систем, а в некоторых случаях, и вовсе останавливает развитие некоторых функций высшей нервной систем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роме того, употребление алкогольных напитков подростками значительно быстрее, чем у взрослых, ведет к формированию у них алкоголиз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slovo-nashe.ru/wp-content/uploads/2017/11/70832481.png"/>
          <p:cNvPicPr/>
          <p:nvPr/>
        </p:nvPicPr>
        <p:blipFill>
          <a:blip r:embed="rId2"/>
          <a:stretch/>
        </p:blipFill>
        <p:spPr>
          <a:xfrm>
            <a:off x="857160" y="32148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www.dokshicy.info/doska/jpg/1486758341.jpeg"/>
          <p:cNvPicPr/>
          <p:nvPr/>
        </p:nvPicPr>
        <p:blipFill>
          <a:blip r:embed="rId3"/>
          <a:stretch/>
        </p:blipFill>
        <p:spPr>
          <a:xfrm>
            <a:off x="4071960" y="3714840"/>
            <a:ext cx="43578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85840"/>
            <a:ext cx="8643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опав в организм, он достаточно медленно (со скоростью 0,1 г на 1 кг массы тела в час) расщепляется в печени. И только 10 процентов от общего количества принятого алкоголя выводится из организма в неизменном вид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Токсическое воздействие алкоголя прежде всего сказывается на деятельности нервной системы. Если содержание алкоголя в крови принять за 1 (единицу), то в печени оно будет равно 1,45 , а в головном мозге - 1,7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аже небольшие дозы алкоголя влияют на обмен в нервной ткани, передачу нервных импульсов В подростковом возрасте мозговая ткань беднее фосфором, богаче водой, находится в стадии структурного и функционального совершенствования, поэтому алкоголь особенно опасен для не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http://socmedia.enisey.tv/static/uploaded/images/publications/image_single/base/Trezvie_pyatnici3.jpg"/>
          <p:cNvPicPr/>
          <p:nvPr/>
        </p:nvPicPr>
        <p:blipFill>
          <a:blip r:embed="rId2"/>
          <a:stretch/>
        </p:blipFill>
        <p:spPr>
          <a:xfrm>
            <a:off x="285840" y="3286080"/>
            <a:ext cx="5943600" cy="185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itd2.mycdn.me/image?id=837939083426&amp;t=20&amp;plc=WEB&amp;tkn=*kJY5-7IQq3OhyGi7irM9MDSlKzo"/>
          <p:cNvPicPr/>
          <p:nvPr/>
        </p:nvPicPr>
        <p:blipFill>
          <a:blip r:embed="rId3"/>
          <a:stretch/>
        </p:blipFill>
        <p:spPr>
          <a:xfrm>
            <a:off x="6429240" y="4286160"/>
            <a:ext cx="25005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АЛКОГОЛИЗМ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85480" y="1785600"/>
            <a:ext cx="378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чальная фаза: опьянение с выпадением памяти, «затмени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ритическая фаза: утрата контроля над собой после первого же глотка алкогол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Хроническая фаза: ежедневное похмелье, распад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s://imhoreview.com/wp-content/uploads/2018/07/alconex_2-1120x680.jpg"/>
          <p:cNvPicPr/>
          <p:nvPr/>
        </p:nvPicPr>
        <p:blipFill>
          <a:blip r:embed="rId2"/>
          <a:stretch/>
        </p:blipFill>
        <p:spPr>
          <a:xfrm>
            <a:off x="4786200" y="1714680"/>
            <a:ext cx="3571920" cy="216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s://media.elitsy.ru/wp-content/uploads/2017/09/138176329.jpg"/>
          <p:cNvPicPr/>
          <p:nvPr/>
        </p:nvPicPr>
        <p:blipFill>
          <a:blip r:embed="rId3"/>
          <a:stretch/>
        </p:blipFill>
        <p:spPr>
          <a:xfrm>
            <a:off x="5214960" y="4214880"/>
            <a:ext cx="27860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Каждый подросток должен знать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357440" y="1935000"/>
            <a:ext cx="43290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аже однократные употребления спиртного могут иметь самые серьезные последств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Употребление алкоголя оказывает буквально опустошающее воздействие на психику подростка. При этом задерживается не только развитие высших форм мышления, но и утрачиваются уже развившиеся способ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торой "мишенью" алкоголя является печень. Если скорость поступления алкоголя в клетки печени выше скорости его распада, то происходит накопление алкоголя, ведущее к поражению клеток печени. развивается цирроз печен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https://pp.userapi.com/c844216/v844216301/12120e/kaZrhtGv3CA.jpg"/>
          <p:cNvPicPr/>
          <p:nvPr/>
        </p:nvPicPr>
        <p:blipFill>
          <a:blip r:embed="rId2"/>
          <a:stretch/>
        </p:blipFill>
        <p:spPr>
          <a:xfrm>
            <a:off x="928800" y="1928880"/>
            <a:ext cx="2982960" cy="199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s://image.freepik.com/free-photo/a-drunk-woman-with-a-bottle-of-wine-depressive-girl-alcoholics_8119-1258.jpg"/>
          <p:cNvPicPr/>
          <p:nvPr/>
        </p:nvPicPr>
        <p:blipFill>
          <a:blip r:embed="rId3"/>
          <a:stretch/>
        </p:blipFill>
        <p:spPr>
          <a:xfrm>
            <a:off x="928800" y="4286160"/>
            <a:ext cx="29289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291960"/>
            <a:ext cx="8321760" cy="161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iknigi.net/books_files/online_html/96964/i_077.jpg"/>
          <p:cNvPicPr/>
          <p:nvPr/>
        </p:nvPicPr>
        <p:blipFill>
          <a:blip r:embed="rId3"/>
          <a:stretch/>
        </p:blipFill>
        <p:spPr>
          <a:xfrm>
            <a:off x="1214280" y="1928880"/>
            <a:ext cx="7000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5T17:06:50Z</dcterms:created>
  <dc:creator>777</dc:creator>
  <dc:description/>
  <dc:language>en-US</dc:language>
  <cp:lastModifiedBy>User</cp:lastModifiedBy>
  <dcterms:modified xsi:type="dcterms:W3CDTF">2023-04-25T19:32:23Z</dcterms:modified>
  <cp:revision>13</cp:revision>
  <dc:subject/>
  <dc:title>УПОТРЕБЛЕНИЕ АЛКОГОЛЯ</dc:title>
</cp:coreProperties>
</file>